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7.jpeg" ContentType="image/jpeg"/>
  <Override PartName="/ppt/media/image51.jpeg" ContentType="image/jpeg"/>
  <Override PartName="/ppt/media/image62.png" ContentType="image/png"/>
  <Override PartName="/ppt/media/image6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50.jpeg" ContentType="image/jpeg"/>
  <Override PartName="/ppt/media/image37.jpeg" ContentType="image/jpeg"/>
  <Override PartName="/ppt/media/image24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2.jpeg" ContentType="image/jpeg"/>
  <Override PartName="/ppt/media/image17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46.jpeg" ContentType="image/jpeg"/>
  <Override PartName="/ppt/media/image6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.jpeg" ContentType="image/jpeg"/>
  <Override PartName="/ppt/media/image41.png" ContentType="image/png"/>
  <Override PartName="/ppt/media/image6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348-4EE4-47EE-83B9-703408D6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590-5D8E-4FA4-B964-6686B71D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A89-B6D0-4E57-B9F4-8E6EF09B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0A3-8833-49DA-8964-F956ED65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3A8-9B7D-44FA-AFC1-8E53C247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172-378B-421F-B0C4-A24BCFE8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1D1-F905-483D-9140-1B4B55EC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87A-8FC2-44F7-ACE8-3E758477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68E-6888-4E5A-B832-4504E2B1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B48-B7F2-4C29-A870-FA64A773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E02-50C6-46A7-9ED2-C9009CF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158-05DC-42BF-AC5A-7838D7A5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3B1-4EF4-4501-9212-912765E344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2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.jpeg"/><Relationship Id="rId5" Type="http://schemas.openxmlformats.org/officeDocument/2006/relationships/image" Target="../media/image65.png"/><Relationship Id="rId6" Type="http://schemas.openxmlformats.org/officeDocument/2006/relationships/image" Target="../media/image20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rame29P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814400" y="152280"/>
            <a:ext cx="551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школа №1 имени Виктора Но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5029200" y="4840200"/>
            <a:ext cx="3760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2 «В» класса – Тришин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мамой – Тришиной Юлией Юрьевной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 Мамонова Мария Александро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667320" y="624528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 Тольятти, 2017г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2"/>
          <a:stretch/>
        </p:blipFill>
        <p:spPr>
          <a:xfrm>
            <a:off x="533520" y="2658960"/>
            <a:ext cx="3935160" cy="35863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3809880" y="3260880"/>
            <a:ext cx="517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Хороший повар – это много характера,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нтазии и чувств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иль Юн, шеф-повар страсбургского ресторана «Au Crocodil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Выноска-облако 2"/>
          <p:cNvSpPr/>
          <p:nvPr/>
        </p:nvSpPr>
        <p:spPr>
          <a:xfrm>
            <a:off x="1239840" y="1490760"/>
            <a:ext cx="5902200" cy="1441440"/>
          </a:xfrm>
          <a:prstGeom prst="cloudCallout">
            <a:avLst>
              <a:gd name="adj1" fmla="val -21824"/>
              <a:gd name="adj2" fmla="val 159712"/>
            </a:avLst>
          </a:prstGeom>
          <a:solidFill>
            <a:srgbClr val="e5fc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2068560" y="1752480"/>
            <a:ext cx="45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MS Mincho"/>
              </a:rPr>
              <a:t>Профессия «ПОВА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192320" y="76824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экономический конкурс «Я б в рабочие пошел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rame29P"/>
          <p:cNvPicPr/>
          <p:nvPr/>
        </p:nvPicPr>
        <p:blipFill>
          <a:blip r:embed="rId1"/>
          <a:stretch/>
        </p:blipFill>
        <p:spPr>
          <a:xfrm>
            <a:off x="-648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639720" y="8244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ФУНКЦИОНАЛЬНЫЕ ОБЯЗАННОСТИ ПОВАР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34800" y="343080"/>
            <a:ext cx="8458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ая обязанность повара – приготовление различных блюд, их оформление, разработка новых собственных рецептов</a:t>
            </a: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составление рационального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расчет нужного для приготовления блюд количества сырья и получаемой на выходе готовой проду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контроль качества сырья и приготовленных блю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формирует заказы на продукты и полуфабрик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порционирование, декорирование и отпуск готовых издел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содержание кухонного оборудования и инструментов в рабочем состоянии и чисто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организация  хранения продуктов в соответствии с санитарно-гигиеническими нормами, умея при этом отличить качественные от испорченны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умение  пользоваться и быстро разбираться в технических новинках, помогающих увеличить скорость и комфорт работы на кух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2"/>
          <a:stretch/>
        </p:blipFill>
        <p:spPr>
          <a:xfrm>
            <a:off x="347760" y="3828960"/>
            <a:ext cx="3614760" cy="2667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3"/>
          <a:stretch/>
        </p:blipFill>
        <p:spPr>
          <a:xfrm>
            <a:off x="8294760" y="179280"/>
            <a:ext cx="669960" cy="9907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4542840" y="351936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фика профессии 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ВА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3657600" y="3773520"/>
            <a:ext cx="5307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Работа повара состоит из нескольких этап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получение исходных продук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поддержание технологии и рецептуры приготовле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блю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обеспечение процесса приготовления блюд: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подготовка необходимого оборудования, за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полуфабрика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правильная эксплуатация кухонного оборуд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обеспечение должного учета и хранения продуктов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соответствии с санитарно–гигиеническими норм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реализация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rame29P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7"/>
          <p:cNvSpPr/>
          <p:nvPr/>
        </p:nvSpPr>
        <p:spPr>
          <a:xfrm>
            <a:off x="1623600" y="763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ЮСЫ»  и «МИНУСЫ» ПРОФЕССИИ «ПОВА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"/>
          <p:cNvPicPr/>
          <p:nvPr/>
        </p:nvPicPr>
        <p:blipFill>
          <a:blip r:embed="rId2"/>
          <a:stretch/>
        </p:blipFill>
        <p:spPr>
          <a:xfrm>
            <a:off x="6912000" y="557280"/>
            <a:ext cx="728640" cy="372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"/>
          <p:cNvPicPr/>
          <p:nvPr/>
        </p:nvPicPr>
        <p:blipFill>
          <a:blip r:embed="rId3"/>
          <a:stretch/>
        </p:blipFill>
        <p:spPr>
          <a:xfrm>
            <a:off x="868320" y="439560"/>
            <a:ext cx="722520" cy="7383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304920" y="1239840"/>
            <a:ext cx="277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Профессия повара востребованная и творческая, в ней есть место фантазии и изобретательности.  У хороших поваров высокий уровень оплаты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5567400" y="936720"/>
            <a:ext cx="3416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Работа требует большой физической выносливости и ответственности. Стоять у горячей плиты полный рабочий день выдержит не каждый человек. При этом постоянное напряжение внимания, когда надо следить за приготовлением многих блюд и нет возможности расслабиться или отвлеч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13" descr=""/>
          <p:cNvPicPr/>
          <p:nvPr/>
        </p:nvPicPr>
        <p:blipFill>
          <a:blip r:embed="rId4"/>
          <a:stretch/>
        </p:blipFill>
        <p:spPr>
          <a:xfrm>
            <a:off x="2973240" y="446040"/>
            <a:ext cx="2664000" cy="2243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4" descr=""/>
          <p:cNvPicPr/>
          <p:nvPr/>
        </p:nvPicPr>
        <p:blipFill>
          <a:blip r:embed="rId5"/>
          <a:stretch/>
        </p:blipFill>
        <p:spPr>
          <a:xfrm>
            <a:off x="8305920" y="87480"/>
            <a:ext cx="56664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6"/>
          <p:cNvSpPr/>
          <p:nvPr/>
        </p:nvSpPr>
        <p:spPr>
          <a:xfrm>
            <a:off x="1371600" y="3089160"/>
            <a:ext cx="44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АСНОСТИ ПРОФЕССИИ «ПОВА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304920" y="3349800"/>
            <a:ext cx="8459640" cy="26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поваром требуется санитарная книж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е рекомендуется людям, страдающим следующими заболевания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дых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о-сосудист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пищевар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к и мочевыводящих пу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о-двигательного аппар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кожи с локализацией на кистях ру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носительство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8" descr=""/>
          <p:cNvPicPr/>
          <p:nvPr/>
        </p:nvPicPr>
        <p:blipFill>
          <a:blip r:embed="rId6"/>
          <a:stretch/>
        </p:blipFill>
        <p:spPr>
          <a:xfrm>
            <a:off x="5446800" y="3876840"/>
            <a:ext cx="3278160" cy="23065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0"/>
          <p:cNvSpPr/>
          <p:nvPr/>
        </p:nvSpPr>
        <p:spPr>
          <a:xfrm>
            <a:off x="304920" y="5935680"/>
            <a:ext cx="850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Times New Roman"/>
              </a:rPr>
              <a:t>При наличии этих заболеваний работа по профессии повара может приводить к ухудшению здоровья, а также создавать непреодолимые препятствия для освоения и роста в рамках этой профе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7" descr=""/>
          <p:cNvPicPr/>
          <p:nvPr/>
        </p:nvPicPr>
        <p:blipFill>
          <a:blip r:embed="rId1"/>
          <a:stretch/>
        </p:blipFill>
        <p:spPr>
          <a:xfrm>
            <a:off x="7005600" y="3276720"/>
            <a:ext cx="191124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rame29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3"/>
          <a:stretch/>
        </p:blipFill>
        <p:spPr>
          <a:xfrm>
            <a:off x="8275680" y="96840"/>
            <a:ext cx="61740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311040" y="87480"/>
            <a:ext cx="7837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ные личностные  характеристики (личные качества ) повар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63520" y="380880"/>
            <a:ext cx="86868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 должен быть физически выносливый, энергичный, амбициозный, оперативный, ответственный ,  честный , предусмотрительный, пунктуальный и педантичный, любя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ою работу , умеющий работать в команде человек, импровизировать, способный к выполнению мелких точных движений  и переключениям с одной деятельности на другую име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онятельную и тактильную чувствительность, обонятельную памя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ее вкусовое и цветовое восприятие, вкусовую памя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ий объемный и линейный глазомер , скрупулезная точность, умение  концентрировать внимание, динамичность мыш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ысканный  эстетический вкус, богатая творческая фантазия, склонность к творчеству  и высокая креативность воспроизводящее воображение (способность глядя на рецепт, представить внешний вид и вкус блюд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к распознаванию небольших отклонений параметров технологических процессов от заданных значений по визуальным призна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одновременно воспринимать несколько объектов;          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о развитое чувство хронометраж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мер, умение быстро и точно на глаз определять нужное колич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дкости, сыпучих продуктов, спе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разбираться в качестве и свежести мяса, рыбы, овощей и фр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технологий быстрого приготовления блюд, того, как рациона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ределить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ую координацию движений обеих рук, твердость ру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ь кистей; способность к выполнению мелких точных движ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главное должен иметь желание и  стремление к профессиональному совершенст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266760" y="76320"/>
            <a:ext cx="86104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 в профессии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вар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в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во внешнем виде повара является общий опрятный ви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ы обязательно должны быть прибраны и закрыты колпаком или косын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и руки непременно должны быть чисты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ти короткими (у женщин не накрашенным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бочем месте повар не может носить ювелирные украшения (и даже наручные час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 на каблуках, а подошва обуви должна быть резинов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бочем месте не допускается наличие у повара открытых ран, царапин, ссадин на руках. Любые нарушения целостности кожного покрова должны быть соответствующим образом обработаны, перевязаны и закрыты перчатка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4021200" y="2738520"/>
            <a:ext cx="464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ние о том, что лучшие повара - мужчины не утратило в представлении работодателей своей истин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не менее, повара-женщины тоже пользуются своим спросом и имеют немало шансов на рынке тру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266760" y="4724280"/>
            <a:ext cx="59054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ая категория и национальнос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повара практически не оказывает влияния на трудоустройство при условии, что кандидат имеет не менее года стажа и легко справляется с современной бытовой техникой (этот факт немаловажен, когда претендент старше 50 лет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принадлежность (равно как и возраст) имеет небольшое значение и интересует только некоторых работодателей, имеющих какие-то личные убеждения на этот сч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2743200" cy="21333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"/>
          <p:cNvPicPr/>
          <p:nvPr/>
        </p:nvPicPr>
        <p:blipFill>
          <a:blip r:embed="rId3"/>
          <a:stretch/>
        </p:blipFill>
        <p:spPr>
          <a:xfrm>
            <a:off x="6637320" y="4014720"/>
            <a:ext cx="2041560" cy="2556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4"/>
          <a:srcRect l="0" t="0" r="0" b="-1100"/>
          <a:stretch/>
        </p:blipFill>
        <p:spPr>
          <a:xfrm>
            <a:off x="7543800" y="228600"/>
            <a:ext cx="1076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frame29P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1756080" y="228600"/>
            <a:ext cx="51001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и как  можно получить профессию пова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304920" y="579600"/>
            <a:ext cx="845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ю повара можно приобрести в средних специальных  образовательных учреждениях ПТУ и колледжах,    лицеях, техникумах, заканчивая курсы пова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ФГОС федеральному  государственному образовательному стандарту (ФГОС) -  профессия 260807.01 Повар, кондит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грамме подготовки к профессии повара на курсах : 16675 – Пова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олучения профессии повара-технолога по специальности «Технология продукции общественного питания» -  квалификация «Технолог»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4114800" y="2666880"/>
            <a:ext cx="4800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е знания по естествозн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ыми предметами - химия и биолог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 по специальности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нар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ондитерских издел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а,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ия при работе с продук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учения будущие повара должны будут выполнять разнообразные работы, в том числе по профессиональным модулям. Неотъемлемой частью образования станут так называемые КОСы  (контрольно-оценочные средст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бучения студентов ожидает практика в различных кафе и столов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9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2376360" y="122400"/>
            <a:ext cx="2683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Категории 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460440" y="479520"/>
            <a:ext cx="27432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ассификация в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ф-пова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-кондитер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-технолог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-кулина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степенная рабо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онный работ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4292640" y="401760"/>
            <a:ext cx="4591080" cy="59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рубежная классификац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ая кухня чаще использует собственную систему именования участников процесса. Система именования берет свое начало от «бригадной системы» (brigade de cuisine) авторства Дж. Огюста Эскоф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ve chef (начальник производ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de Cuis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шеф-повар) иног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 of the Kitche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de Cuis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у-шеф; помощник шеф-повара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di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yeu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экспедитор, разносчик заказов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de Parti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ар; ше́ф-де-парти́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ci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тэ́-шеф, соусье́) - отвечает за соусы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 Chef, Poissonier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ный пова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ассонн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н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st Chef, Rotisseur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ной пова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исс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 Chef, Grillardin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льярд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грил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)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y Chef, Friturier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по обжар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тюр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ble Chef, Entremetier (овощной повар, энтреметье́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p Chef, Potager (повар первых блюд, потажэ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ble dishes cook, Legumier (повар овощных блюд, лежемье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try Chef, Garde Manger (повар холодных закусок(салаты), гардманже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ry Chef, Pâtissier (повар выпечки, патиссье́. Не кондитер!)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степенные долж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sman, Tournant (сменный повар, повар-турне́)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cher, Boucher (мясник; буше́) - отвечает за первичную разделку мяса   и рыбы,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entice, commis (ученик повара; коми́)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ard (внутренний повар, «домашний повар») - готовит блюда для самих работников производства, в том числе и для поваров кухн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hwasher, escuelerie (мойщик посуды; эскулери́, эскулерье́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7" descr=""/>
          <p:cNvPicPr/>
          <p:nvPr/>
        </p:nvPicPr>
        <p:blipFill>
          <a:blip r:embed="rId2"/>
          <a:stretch/>
        </p:blipFill>
        <p:spPr>
          <a:xfrm>
            <a:off x="439560" y="2286000"/>
            <a:ext cx="31417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228600" y="428760"/>
            <a:ext cx="8686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можно сказать, что профессия «Повар» - очень востребована и освоить её сможет каждый человек. Профессия «Повар» - настоящее искусство, требующее творчества, фантазии, изобретательности, выносливости и один из немногих видов профессиональной деятельности, дающий навыки, которые пригодятся в повседнев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профессии - это очень важное событие в жизни каждого человека, русская пословица говорит: «Все работы хороши- выбирай на вкус!». Но для этого, чтобы в дальнейшем  детям было легко определиться с выбором профессии всегда пригодятся знания, полученные в детском саду и  школе. И чтобы определить область своих интересов нужно больше читать, набираться опыта и знаний  в самых разных областях и о разных професс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 одном из интервью известный в Америке шеф-повар Эндрю Доренбург сказал: «Это не ты выбираешь профессию, а профессия выбирает тебя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ногие  опытные повара говорят: «Работа у нас такая – доставлять людям радость. А иначе, зачем в повара идти?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, ребята, учитесь, пробуйте готовить сами и возможно кто-то из вас станет когда-то  шеф-поваром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356280" y="15228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клю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"/>
          <p:cNvPicPr/>
          <p:nvPr/>
        </p:nvPicPr>
        <p:blipFill>
          <a:blip r:embed="rId2"/>
          <a:srcRect l="0" t="-954" r="0" b="0"/>
          <a:stretch/>
        </p:blipFill>
        <p:spPr>
          <a:xfrm>
            <a:off x="2819520" y="3697200"/>
            <a:ext cx="3352680" cy="30085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8"/>
          <p:cNvSpPr/>
          <p:nvPr/>
        </p:nvSpPr>
        <p:spPr>
          <a:xfrm>
            <a:off x="2798280" y="601992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Times New Roman"/>
                <a:ea typeface="Calibri"/>
              </a:rPr>
              <a:t>Спасибо  за  внимани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1780920" y="228600"/>
            <a:ext cx="55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Дополнительный матери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 презен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MS Mincho"/>
              </a:rPr>
              <a:t>Профессия «ПОВА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5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2479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1755360" y="73080"/>
            <a:ext cx="59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тча о профессии повара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чему ученик вернулся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446040"/>
            <a:ext cx="8686800" cy="55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рались однажды философы и заспорили, какая профессия важн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ин сказал: «Учитель – нужнее всего без образования прогресс остановитс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философ заявил: «Без строителей человеку негде будет укрыться, и человечество лишится прекрасных зданий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ий философ воскликнул: «Музыканты, художники и поэты делают нашу жизнь особенной. Искусство отличает человека от животных.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т в разговор вмешался ученик и одновременно слуга хозяина дома: «Многоуважаемые ученые, вы забыли о профессии повара…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зяин рассердился: «Тебе не положено вмешиваться в нашу беседу иди готовь обед, а поварское дело – не искусство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 молча вышел из комнаты и в этот день обеда философы не дождались, ученик исчез и хозяину пришлось самому готовить обед. К сожалению, после еды философы почувствовали себя плохо и разошлись по домам. Хозяин нашел другого слугу. Прошло время, и философ – хозяин дома, заметил, что друзья перестали его посещать, а сам он после еды не способен был размышлять. Подумал философ, а потом уволил нового повара и послал бывшему ученику записку с одной фразой: «Поварское дело – не ремесло, а искусство 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коре ученые мужи снова стали собираться в доме философа,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обсуждение прерывалось только вкусным обедом, котор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товил ученик. А хозяин после обеда всегда говорил: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«Поварское дело – не ремесло, а искусство»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7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30481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rame29P"/>
          <p:cNvPicPr/>
          <p:nvPr/>
        </p:nvPicPr>
        <p:blipFill>
          <a:blip r:embed="rId1"/>
          <a:stretch/>
        </p:blipFill>
        <p:spPr>
          <a:xfrm>
            <a:off x="-302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"/>
          <p:cNvPicPr/>
          <p:nvPr/>
        </p:nvPicPr>
        <p:blipFill>
          <a:blip r:embed="rId2"/>
          <a:stretch/>
        </p:blipFill>
        <p:spPr>
          <a:xfrm>
            <a:off x="1295280" y="2811600"/>
            <a:ext cx="2468520" cy="3444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3"/>
          <a:stretch/>
        </p:blipFill>
        <p:spPr>
          <a:xfrm>
            <a:off x="4202280" y="2811600"/>
            <a:ext cx="3570120" cy="33192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6"/>
          <p:cNvSpPr/>
          <p:nvPr/>
        </p:nvSpPr>
        <p:spPr>
          <a:xfrm>
            <a:off x="304920" y="18252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ара-робо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дном из ресторанов японского города Нагойя повар приступил к работе необычный повар - робот Fua-Men, который может выполнять как второстепенные кухонные работы, так и исполнять роль шеф-повара. Скорость работы Fua-Men такова, что необычный повар может приготовить до 80 комплексных обедов в сутки. Робот Motoman SDA10, созданный компанией Toyo Riki из Осаки, умеет жарить национальные японские лепешки окономияки,  пользуется парой механических ру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женеры японской компании Suzumo Machinery представили своего нового робота Shari, который занимается приготовлением, причем делает это крайне быстро. Во время часовой демонстрации он приготовил 3,6 тысячи классических роллов и его производительность  труда составляет 1 ролл в секу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212760" y="160200"/>
            <a:ext cx="7102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 CYR"/>
                <a:ea typeface="Calibri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еть и   определить значение профессии «Повар», изучить истории возникновения профессии, социальную значимость профессии в обществе, уникальность проф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8" descr="http://farishta.uz/wp-content/uploads/2012/09/30-glavnykh-veshchej-farishta.uz.jpg"/>
          <p:cNvPicPr/>
          <p:nvPr/>
        </p:nvPicPr>
        <p:blipFill>
          <a:blip r:embed="rId2"/>
          <a:stretch/>
        </p:blipFill>
        <p:spPr>
          <a:xfrm>
            <a:off x="7694640" y="318960"/>
            <a:ext cx="1069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304920" y="3216240"/>
            <a:ext cx="8550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пределить значение слова повар в словар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 процессе изучения различной литературы и ресурсов Интернета узнать о профессии пова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  должен быть повар, где он работает, где учат на повара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Выяснить все плюсы и минусы данной профе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вести анкетирование и обработку данных  исследования среди  одноклассников на т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то знают одноклассники о профессии «Повар»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Составить доклад и презентацию, оформить буклет  по теме «Профессия «Повар»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Рассказать одноклассникам о данной професс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 убедить их в том, что профессия «Повар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, востребована, нужная и формир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ажение   и  бережному отношению к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ям этой профессии  и их тру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"/>
          <p:cNvPicPr/>
          <p:nvPr/>
        </p:nvPicPr>
        <p:blipFill>
          <a:blip r:embed="rId3"/>
          <a:stretch/>
        </p:blipFill>
        <p:spPr>
          <a:xfrm>
            <a:off x="1893960" y="1081080"/>
            <a:ext cx="2819160" cy="1752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660240" y="2867040"/>
            <a:ext cx="80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 CYR"/>
                <a:ea typeface="Calibri"/>
              </a:rPr>
              <a:t>ЗАДАЧИ </a:t>
            </a:r>
            <a:r>
              <a:rPr b="1" lang="ru-RU" sz="1800" spc="-1" strike="noStrike">
                <a:solidFill>
                  <a:srgbClr val="c00000"/>
                </a:solidFill>
                <a:latin typeface="Times New Roman CYR"/>
                <a:ea typeface="Calibri"/>
              </a:rPr>
              <a:t>для исследования и реализации поставленной ц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https://knigamir.com/upload/iblock/a1d/a1d215cc67a3299101c4b8a6061857da.jpg"/>
          <p:cNvPicPr/>
          <p:nvPr/>
        </p:nvPicPr>
        <p:blipFill>
          <a:blip r:embed="rId4"/>
          <a:stretch/>
        </p:blipFill>
        <p:spPr>
          <a:xfrm>
            <a:off x="6248520" y="4948200"/>
            <a:ext cx="246528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"/>
          <p:cNvSpPr/>
          <p:nvPr/>
        </p:nvSpPr>
        <p:spPr>
          <a:xfrm>
            <a:off x="3424320" y="763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635040" y="2651040"/>
            <a:ext cx="2590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сторане их найду я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и люди в колпа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 кастрюлями колду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арешками в ру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508640" y="746280"/>
            <a:ext cx="5029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 всего  что сделал сам – он снимает пробы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аждый ремеслом его хоть чуть-чуть владеет,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олько так как может он, вряд ли кто умеет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ез лосьонов и духов пахнет вкусно очень,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уки чистые готов мыть с утра до ночи!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н умеет отличать третье от второго,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то он просто угадать, это дет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1689120" y="749160"/>
            <a:ext cx="2425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, кто так вкусн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 щи капустны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учие котлеты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ты, винегреты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втраки, обе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0"/>
          <p:cNvSpPr/>
          <p:nvPr/>
        </p:nvSpPr>
        <p:spPr>
          <a:xfrm>
            <a:off x="528480" y="4551480"/>
            <a:ext cx="2895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, жарит, солит, туш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ит, режет,  лепит, суши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иты его р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и слушает он гов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ает  много п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рячей печки 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       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1"/>
          <p:cNvSpPr/>
          <p:nvPr/>
        </p:nvSpPr>
        <p:spPr>
          <a:xfrm>
            <a:off x="4114800" y="2449440"/>
            <a:ext cx="4876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8" descr="http://farishta.uz/wp-content/uploads/2012/09/30-glavnykh-veshchej-farishta.uz.jpg"/>
          <p:cNvPicPr/>
          <p:nvPr/>
        </p:nvPicPr>
        <p:blipFill>
          <a:blip r:embed="rId2"/>
          <a:stretch/>
        </p:blipFill>
        <p:spPr>
          <a:xfrm>
            <a:off x="393840" y="152280"/>
            <a:ext cx="106992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" descr=""/>
          <p:cNvPicPr/>
          <p:nvPr/>
        </p:nvPicPr>
        <p:blipFill>
          <a:blip r:embed="rId3"/>
          <a:stretch/>
        </p:blipFill>
        <p:spPr>
          <a:xfrm>
            <a:off x="6202440" y="2903400"/>
            <a:ext cx="2355840" cy="35006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"/>
          <p:cNvPicPr/>
          <p:nvPr/>
        </p:nvPicPr>
        <p:blipFill>
          <a:blip r:embed="rId4"/>
          <a:stretch/>
        </p:blipFill>
        <p:spPr>
          <a:xfrm>
            <a:off x="3225960" y="4373640"/>
            <a:ext cx="769680" cy="12826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"/>
          <p:cNvSpPr/>
          <p:nvPr/>
        </p:nvSpPr>
        <p:spPr>
          <a:xfrm>
            <a:off x="3995640" y="43419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вет: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"/>
          <p:cNvSpPr/>
          <p:nvPr/>
        </p:nvSpPr>
        <p:spPr>
          <a:xfrm>
            <a:off x="4114800" y="1351080"/>
            <a:ext cx="4572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(хороший) повар стоит док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еришь повару, сам ступай по в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с голода не умир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и духом сыт быв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 те повара, у кого ножи долг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кус не ручаюсь, а горячо буд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й повар любое кушанье испорт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и нюхая наес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у — первый кус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й повар и в бою кашу свар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3224160" y="30492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словицы и погово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2"/>
          <a:stretch/>
        </p:blipFill>
        <p:spPr>
          <a:xfrm>
            <a:off x="609480" y="704880"/>
            <a:ext cx="261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"/>
          <p:cNvSpPr/>
          <p:nvPr/>
        </p:nvSpPr>
        <p:spPr>
          <a:xfrm>
            <a:off x="2895120" y="15228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тихотворения о пова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304920" y="55260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ротивне котлеты купаются в жир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ольник ароматный кипит в большом бач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ковородке в масле зажарился луч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 повар, тётя Галя, кладёт его в бач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Шумит овощерезка - готовится сал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 повар очень любит готовить для реб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гда в халате белом, крахмальном колпа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товит детям кашу на свежем моло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.И. Миряс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5486400" y="552600"/>
            <a:ext cx="3075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вар - белоснежная гор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больших кастрюл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как марш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ворит решительно: «Пора!…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я вижу у плиты великой,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ренного, с черпаком в рук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агадочною, доброю улыбк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пременно - в белом колпа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Рождестве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76320" y="2967120"/>
            <a:ext cx="28954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детского с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звёздочка искр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т клубком усатый ко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повару не спится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затемно вста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а булькает легонь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ичница шип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 вкусный шум и гом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альни входит аппе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столовой дружно сяде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громная сем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поваром в столовой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сама решила 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 неизвест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5789520" y="2819520"/>
            <a:ext cx="2733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у плиты твори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крыльях он пари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урлит вокруг не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ня – кузница его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его творенье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сказка, объе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, творчества по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пробовал, пой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 неизвест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9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2843280" cy="3670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5970600" y="510840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повару продук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о птицы, сухофрук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, картофель... И тог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вас вкусная е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Чер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"/>
          <p:cNvSpPr/>
          <p:nvPr/>
        </p:nvSpPr>
        <p:spPr>
          <a:xfrm>
            <a:off x="4476600" y="3389400"/>
            <a:ext cx="487692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у нас сегодня в группе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дет новая иг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 девчонки – поварихи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а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чишки – повар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 халатики надели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к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лпаки на голов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кастрюльки с черпаками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р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зложили на стол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ши кубики – картошка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а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ковка – каранда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же мячик станет луком –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б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дет вкусным супчик на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ё посолим, помешаем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п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тарелкам разоль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кол весело посадим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и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акормим перед с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 сегодня поварихи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 сегодня пова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 тарелочки помоем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в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дь закончилась иг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втор неизвесте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"/>
          <p:cNvSpPr/>
          <p:nvPr/>
        </p:nvSpPr>
        <p:spPr>
          <a:xfrm>
            <a:off x="1296360" y="93600"/>
            <a:ext cx="63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южетно-ролевые игры «Повар», «Кафе(столовая)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"/>
          <p:cNvSpPr/>
          <p:nvPr/>
        </p:nvSpPr>
        <p:spPr>
          <a:xfrm>
            <a:off x="304920" y="403200"/>
            <a:ext cx="8534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 задач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интерес и уважение к профессии повара. Воспитывать внимательное отношение к посетителям, культуру об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л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вар, повар-кондитер, посудомойщик, официант, посетители стол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овые действ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готовит блюда» (накладывает  на тарелочки игровые предметы), «наливает» напитки в чашечки, передаёт официан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ел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ходят в столовую, внимательно рассматривают меню, спрашивают у повара (или официанта), что входит в состав блюд и делают заказ, кушают, выражают своё мнение по поводу блюд, вежливо общаются. Просят у официанта принести счёт и оплачивают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н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вируют столы, предлагают меню, протирают столы после ухода посет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омойщиц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ет посуду, вытирает её салфеткой и складывает на мест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2" descr=""/>
          <p:cNvPicPr/>
          <p:nvPr/>
        </p:nvPicPr>
        <p:blipFill>
          <a:blip r:embed="rId2"/>
          <a:stretch/>
        </p:blipFill>
        <p:spPr>
          <a:xfrm>
            <a:off x="320760" y="3079800"/>
            <a:ext cx="40226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"/>
          <p:cNvSpPr/>
          <p:nvPr/>
        </p:nvSpPr>
        <p:spPr>
          <a:xfrm>
            <a:off x="1307880" y="93600"/>
            <a:ext cx="69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Дидактические игры на тему  «Повар», «Кафе(столовая)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6" descr=""/>
          <p:cNvPicPr/>
          <p:nvPr/>
        </p:nvPicPr>
        <p:blipFill>
          <a:blip r:embed="rId2"/>
          <a:stretch/>
        </p:blipFill>
        <p:spPr>
          <a:xfrm>
            <a:off x="316080" y="5126040"/>
            <a:ext cx="1969920" cy="14907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8" descr=""/>
          <p:cNvPicPr/>
          <p:nvPr/>
        </p:nvPicPr>
        <p:blipFill>
          <a:blip r:embed="rId3"/>
          <a:stretch/>
        </p:blipFill>
        <p:spPr>
          <a:xfrm>
            <a:off x="347760" y="3435480"/>
            <a:ext cx="1938240" cy="141120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0"/>
          <p:cNvSpPr/>
          <p:nvPr/>
        </p:nvSpPr>
        <p:spPr>
          <a:xfrm>
            <a:off x="347760" y="493560"/>
            <a:ext cx="85644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и 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нимания, речи,  активизация употребления прилагательных и существительных, глаголов в разговорной речи, расширение словарного запаса у детей, закрепление знаний о продуктах питания, посуде и о профессии повар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: «Варим суп(борщ)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готовим компот из красных, желтых, зеленых и пр. фруктов и ягод)» ,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готовим салат(овощной или фруктовый) и пр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ложи по корзинкам (кастрюлям)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акое варение? (Из чего приготовлено варение?)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для чего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какую посуду нужно положить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 чего сделано?» и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1" descr=""/>
          <p:cNvPicPr/>
          <p:nvPr/>
        </p:nvPicPr>
        <p:blipFill>
          <a:blip r:embed="rId4"/>
          <a:stretch/>
        </p:blipFill>
        <p:spPr>
          <a:xfrm>
            <a:off x="4626000" y="5132520"/>
            <a:ext cx="1905120" cy="14922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2" descr=""/>
          <p:cNvPicPr/>
          <p:nvPr/>
        </p:nvPicPr>
        <p:blipFill>
          <a:blip r:embed="rId5"/>
          <a:stretch/>
        </p:blipFill>
        <p:spPr>
          <a:xfrm>
            <a:off x="6770520" y="5132520"/>
            <a:ext cx="1992600" cy="14922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3" descr=""/>
          <p:cNvPicPr/>
          <p:nvPr/>
        </p:nvPicPr>
        <p:blipFill>
          <a:blip r:embed="rId6"/>
          <a:stretch/>
        </p:blipFill>
        <p:spPr>
          <a:xfrm>
            <a:off x="2646360" y="3527280"/>
            <a:ext cx="1768320" cy="1389240"/>
          </a:xfrm>
          <a:prstGeom prst="rect">
            <a:avLst/>
          </a:prstGeom>
          <a:ln w="0">
            <a:noFill/>
          </a:ln>
        </p:spPr>
      </p:pic>
      <p:pic>
        <p:nvPicPr>
          <p:cNvPr id="190" name="Объект 3" descr=""/>
          <p:cNvPicPr/>
          <p:nvPr/>
        </p:nvPicPr>
        <p:blipFill>
          <a:blip r:embed="rId7"/>
          <a:stretch/>
        </p:blipFill>
        <p:spPr>
          <a:xfrm>
            <a:off x="2587680" y="5151600"/>
            <a:ext cx="1758960" cy="1473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5" descr=""/>
          <p:cNvPicPr/>
          <p:nvPr/>
        </p:nvPicPr>
        <p:blipFill>
          <a:blip r:embed="rId8"/>
          <a:stretch/>
        </p:blipFill>
        <p:spPr>
          <a:xfrm>
            <a:off x="4541760" y="3500280"/>
            <a:ext cx="2057400" cy="14162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6" descr=""/>
          <p:cNvPicPr/>
          <p:nvPr/>
        </p:nvPicPr>
        <p:blipFill>
          <a:blip r:embed="rId9"/>
          <a:stretch/>
        </p:blipFill>
        <p:spPr>
          <a:xfrm>
            <a:off x="6754680" y="3495600"/>
            <a:ext cx="2001960" cy="15001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7"/>
          <p:cNvSpPr/>
          <p:nvPr/>
        </p:nvSpPr>
        <p:spPr>
          <a:xfrm>
            <a:off x="2440080" y="32446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и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клу Дашу готовить об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frame29P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4"/>
          <p:cNvSpPr/>
          <p:nvPr/>
        </p:nvSpPr>
        <p:spPr>
          <a:xfrm>
            <a:off x="4267080" y="4525920"/>
            <a:ext cx="5043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апустку рубим — руби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апустку солим — соли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апустку трем — тре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апустку жмем — жмем. (Имитация движений.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Лариски – две редиски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ариски – две редиски. (по очереди разгибать пальчики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лешки – две картош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режки-сорванца – два зеленых огурц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Вовки – две морков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еще у Петьки две хвостатых редьк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257040" y="1179360"/>
            <a:ext cx="52596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готовил обед, (Ребром ладони дети стучат по столу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ут отключили св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леща берет (Загибают большие пальцы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пускает в компо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ает в котел поленья, (Загибают средние пальцы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и бьет поварёшкой. (Загибают безымянные пальцы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 сыплет в бульон. (Загибают мизинец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чень доволен он. (Разводят рука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8" descr=""/>
          <p:cNvPicPr/>
          <p:nvPr/>
        </p:nvPicPr>
        <p:blipFill>
          <a:blip r:embed="rId2"/>
          <a:srcRect l="0" t="-4041" r="48090" b="-6921"/>
          <a:stretch/>
        </p:blipFill>
        <p:spPr>
          <a:xfrm>
            <a:off x="6095880" y="917640"/>
            <a:ext cx="1981440" cy="209376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"/>
          <p:cNvSpPr/>
          <p:nvPr/>
        </p:nvSpPr>
        <p:spPr>
          <a:xfrm>
            <a:off x="2430720" y="168120"/>
            <a:ext cx="52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альчиковые гимнастика  на тему «Пова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1"/>
          <p:cNvSpPr/>
          <p:nvPr/>
        </p:nvSpPr>
        <p:spPr>
          <a:xfrm>
            <a:off x="380880" y="40176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и 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рук внимания, речи умения соотносить действия со сло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2"/>
          <p:cNvSpPr/>
          <p:nvPr/>
        </p:nvSpPr>
        <p:spPr>
          <a:xfrm>
            <a:off x="257040" y="3089160"/>
            <a:ext cx="8553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морковку чистим- чистим,(Энергично проводят кулачком правой руки по ладони левой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морковку трём-трём, (Прижимают кулачки к груди и делают ими резкие движения вперёд-назад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ком её посыплем («Посыпают сахарком», мелко перебирая пальчиками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танкою польём. (Кулачком делают движения сверху вниз, как бы поливая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ой у нас салат, Протягивают ладони вперёд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ми богат! (Поглаживают ладошкой живо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13" descr=""/>
          <p:cNvPicPr/>
          <p:nvPr/>
        </p:nvPicPr>
        <p:blipFill>
          <a:blip r:embed="rId3"/>
          <a:srcRect l="39999" t="63339" r="31253" b="5000"/>
          <a:stretch/>
        </p:blipFill>
        <p:spPr>
          <a:xfrm>
            <a:off x="679320" y="4486320"/>
            <a:ext cx="25210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frame29P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Объект 3" descr=""/>
          <p:cNvPicPr/>
          <p:nvPr/>
        </p:nvPicPr>
        <p:blipFill>
          <a:blip r:embed="rId2"/>
          <a:stretch/>
        </p:blipFill>
        <p:spPr>
          <a:xfrm>
            <a:off x="5295960" y="152280"/>
            <a:ext cx="3714840" cy="129384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1004760" y="162000"/>
            <a:ext cx="45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Детские творческие работы на тему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6" descr=""/>
          <p:cNvPicPr/>
          <p:nvPr/>
        </p:nvPicPr>
        <p:blipFill>
          <a:blip r:embed="rId3"/>
          <a:srcRect l="0" t="0" r="-206" b="7687"/>
          <a:stretch/>
        </p:blipFill>
        <p:spPr>
          <a:xfrm>
            <a:off x="304920" y="990720"/>
            <a:ext cx="2361960" cy="1752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ttp://www.playing-field.ru/img/2015/052219/2306359"/>
          <p:cNvPicPr/>
          <p:nvPr/>
        </p:nvPicPr>
        <p:blipFill>
          <a:blip r:embed="rId4"/>
          <a:srcRect l="18462" t="0" r="23077" b="3595"/>
          <a:stretch/>
        </p:blipFill>
        <p:spPr>
          <a:xfrm>
            <a:off x="422280" y="2971800"/>
            <a:ext cx="1971720" cy="2438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8" descr=""/>
          <p:cNvPicPr/>
          <p:nvPr/>
        </p:nvPicPr>
        <p:blipFill>
          <a:blip r:embed="rId5"/>
          <a:stretch/>
        </p:blipFill>
        <p:spPr>
          <a:xfrm>
            <a:off x="2878200" y="990720"/>
            <a:ext cx="2417760" cy="17524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9" descr=""/>
          <p:cNvPicPr/>
          <p:nvPr/>
        </p:nvPicPr>
        <p:blipFill>
          <a:blip r:embed="rId6"/>
          <a:stretch/>
        </p:blipFill>
        <p:spPr>
          <a:xfrm>
            <a:off x="2546280" y="2971800"/>
            <a:ext cx="1758960" cy="24382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0" descr=""/>
          <p:cNvPicPr/>
          <p:nvPr/>
        </p:nvPicPr>
        <p:blipFill>
          <a:blip r:embed="rId7"/>
          <a:stretch/>
        </p:blipFill>
        <p:spPr>
          <a:xfrm>
            <a:off x="395280" y="5529240"/>
            <a:ext cx="1971720" cy="11764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1" descr=""/>
          <p:cNvPicPr/>
          <p:nvPr/>
        </p:nvPicPr>
        <p:blipFill>
          <a:blip r:embed="rId8"/>
          <a:srcRect l="4758" t="7146" r="16670" b="3569"/>
          <a:stretch/>
        </p:blipFill>
        <p:spPr>
          <a:xfrm>
            <a:off x="4552920" y="2971800"/>
            <a:ext cx="1795320" cy="2438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2" descr=""/>
          <p:cNvPicPr/>
          <p:nvPr/>
        </p:nvPicPr>
        <p:blipFill>
          <a:blip r:embed="rId9"/>
          <a:stretch/>
        </p:blipFill>
        <p:spPr>
          <a:xfrm>
            <a:off x="6643800" y="3219480"/>
            <a:ext cx="2205000" cy="209376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3" descr=""/>
          <p:cNvPicPr/>
          <p:nvPr/>
        </p:nvPicPr>
        <p:blipFill>
          <a:blip r:embed="rId10"/>
          <a:srcRect l="5386" t="6919" r="6927" b="8974"/>
          <a:stretch/>
        </p:blipFill>
        <p:spPr>
          <a:xfrm>
            <a:off x="6467400" y="1295280"/>
            <a:ext cx="2543400" cy="18288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4" descr=""/>
          <p:cNvPicPr/>
          <p:nvPr/>
        </p:nvPicPr>
        <p:blipFill>
          <a:blip r:embed="rId11"/>
          <a:stretch/>
        </p:blipFill>
        <p:spPr>
          <a:xfrm>
            <a:off x="2747880" y="5533920"/>
            <a:ext cx="1758960" cy="11764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5" descr=""/>
          <p:cNvPicPr/>
          <p:nvPr/>
        </p:nvPicPr>
        <p:blipFill>
          <a:blip r:embed="rId12"/>
          <a:stretch/>
        </p:blipFill>
        <p:spPr>
          <a:xfrm>
            <a:off x="5010120" y="54975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6" descr=""/>
          <p:cNvPicPr/>
          <p:nvPr/>
        </p:nvPicPr>
        <p:blipFill>
          <a:blip r:embed="rId13"/>
          <a:stretch/>
        </p:blipFill>
        <p:spPr>
          <a:xfrm>
            <a:off x="6672240" y="5529240"/>
            <a:ext cx="170964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"/>
          <p:cNvSpPr/>
          <p:nvPr/>
        </p:nvSpPr>
        <p:spPr>
          <a:xfrm>
            <a:off x="2056680" y="457200"/>
            <a:ext cx="462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здаточ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 презен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MS Mincho"/>
              </a:rPr>
              <a:t>Профессия «ПОВА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5" descr=""/>
          <p:cNvPicPr/>
          <p:nvPr/>
        </p:nvPicPr>
        <p:blipFill>
          <a:blip r:embed="rId2"/>
          <a:stretch/>
        </p:blipFill>
        <p:spPr>
          <a:xfrm>
            <a:off x="2666880" y="2668680"/>
            <a:ext cx="32482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frame29P"/>
          <p:cNvPicPr/>
          <p:nvPr/>
        </p:nvPicPr>
        <p:blipFill>
          <a:blip r:embed="rId1"/>
          <a:stretch/>
        </p:blipFill>
        <p:spPr>
          <a:xfrm>
            <a:off x="42840" y="-19080"/>
            <a:ext cx="32004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frame29P"/>
          <p:cNvPicPr/>
          <p:nvPr/>
        </p:nvPicPr>
        <p:blipFill>
          <a:blip r:embed="rId2"/>
          <a:stretch/>
        </p:blipFill>
        <p:spPr>
          <a:xfrm>
            <a:off x="3200400" y="-23760"/>
            <a:ext cx="297504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frame29P"/>
          <p:cNvPicPr/>
          <p:nvPr/>
        </p:nvPicPr>
        <p:blipFill>
          <a:blip r:embed="rId3"/>
          <a:stretch/>
        </p:blipFill>
        <p:spPr>
          <a:xfrm>
            <a:off x="6175440" y="23760"/>
            <a:ext cx="296856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 flipH="1">
            <a:off x="6324480" y="152280"/>
            <a:ext cx="291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школа №1 им. В. 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5" descr=""/>
          <p:cNvPicPr/>
          <p:nvPr/>
        </p:nvPicPr>
        <p:blipFill>
          <a:blip r:embed="rId4"/>
          <a:stretch/>
        </p:blipFill>
        <p:spPr>
          <a:xfrm>
            <a:off x="6276960" y="2855880"/>
            <a:ext cx="2517840" cy="2293920"/>
          </a:xfrm>
          <a:prstGeom prst="rect">
            <a:avLst/>
          </a:prstGeom>
          <a:ln w="0">
            <a:noFill/>
          </a:ln>
        </p:spPr>
      </p:pic>
      <p:sp>
        <p:nvSpPr>
          <p:cNvPr id="224" name="Выноска-облако 7"/>
          <p:cNvSpPr/>
          <p:nvPr/>
        </p:nvSpPr>
        <p:spPr>
          <a:xfrm>
            <a:off x="6400800" y="1042920"/>
            <a:ext cx="2573280" cy="1401840"/>
          </a:xfrm>
          <a:prstGeom prst="cloudCallout">
            <a:avLst>
              <a:gd name="adj1" fmla="val -23240"/>
              <a:gd name="adj2" fmla="val 138236"/>
            </a:avLst>
          </a:prstGeom>
          <a:solidFill>
            <a:srgbClr val="e5fc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6593400" y="1371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MS Mincho"/>
              </a:rPr>
              <a:t>Профессия «ПОВА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6286680" y="5764320"/>
            <a:ext cx="2743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2 «В» класса – Тришина Дарья (с  мамой – Тришиной Юлией Юрьевной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 Мамонова Мария Александровна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3295800" y="125280"/>
            <a:ext cx="275904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можно сказать, что профессия «Повар» - очень востребована и освоить её сможет каждый человек. Профессия «Повар» - настоящее искусство, требующее творчества, фантазии, изобретательности, выносливости и один из немногих видов профессиональной деятельности, дающий навыки, которые пригодятс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профессии - это очень важное событие в жизни каждого человека, русская пословица говорит: «Все работы хороши- выбирай на вкус!». Но для этого, чтобы в дальнейшем  детям было легко определиться с выбором профессии всегда пригодятся знания, полученные в детском саду и  школе. И чтобы определить область своих интересов нужно больше читать, набираться опыта и знаний  в самых разных областях и о разных професс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 одном из интервью известный в Америке шеф-повар Эндрю Доренбург сказал: «Это не ты выбираешь профессию, а профессия выбирает тебя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ногие  опытные повара говорят: «Работа у нас такая – доставлять людям радость. А иначе, зачем в повара идти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, ребята, учитесь, пробуйте готовить сами и возможно кто-то из вас станет когда-то  шеф-повар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7"/>
          <p:cNvSpPr/>
          <p:nvPr/>
        </p:nvSpPr>
        <p:spPr>
          <a:xfrm>
            <a:off x="95400" y="166680"/>
            <a:ext cx="3200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 должен быть физически выносливый, энергичный, амбициозный, оперативный, ответственный ,  честный , предусмотрительный, пунктуальный и педантичный, любящий свою работу , умеющий работать в команде человек, импровизировать, способный к выполнению мелких точных движений  и переключениям с одной деятельности на другую и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8" descr=""/>
          <p:cNvPicPr/>
          <p:nvPr/>
        </p:nvPicPr>
        <p:blipFill>
          <a:blip r:embed="rId5"/>
          <a:stretch/>
        </p:blipFill>
        <p:spPr>
          <a:xfrm>
            <a:off x="941400" y="1968480"/>
            <a:ext cx="1039680" cy="16984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9"/>
          <p:cNvSpPr/>
          <p:nvPr/>
        </p:nvSpPr>
        <p:spPr>
          <a:xfrm>
            <a:off x="196920" y="3581280"/>
            <a:ext cx="27352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у плиты твор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крыльях он пар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урлит вокруг н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ня – кузница его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его творень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сказка, объедень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, творчества по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пробовал, пойм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 неизвесте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0"/>
          <p:cNvSpPr/>
          <p:nvPr/>
        </p:nvSpPr>
        <p:spPr>
          <a:xfrm>
            <a:off x="169920" y="5316480"/>
            <a:ext cx="2895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, жарит, солит, туш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ит, режет,  лепит, суши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иты его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и слушает он гов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ает  много п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рячей печки ….. (ПОВА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frame29P"/>
          <p:cNvPicPr/>
          <p:nvPr/>
        </p:nvPicPr>
        <p:blipFill>
          <a:blip r:embed="rId1"/>
          <a:stretch/>
        </p:blipFill>
        <p:spPr>
          <a:xfrm>
            <a:off x="0" y="23760"/>
            <a:ext cx="32004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frame29P"/>
          <p:cNvPicPr/>
          <p:nvPr/>
        </p:nvPicPr>
        <p:blipFill>
          <a:blip r:embed="rId2"/>
          <a:stretch/>
        </p:blipFill>
        <p:spPr>
          <a:xfrm>
            <a:off x="3200400" y="23760"/>
            <a:ext cx="297504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frame29P"/>
          <p:cNvPicPr/>
          <p:nvPr/>
        </p:nvPicPr>
        <p:blipFill>
          <a:blip r:embed="rId3"/>
          <a:stretch/>
        </p:blipFill>
        <p:spPr>
          <a:xfrm>
            <a:off x="6175440" y="23760"/>
            <a:ext cx="296856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6"/>
          <p:cNvSpPr/>
          <p:nvPr/>
        </p:nvSpPr>
        <p:spPr>
          <a:xfrm>
            <a:off x="192240" y="152280"/>
            <a:ext cx="28018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а кормят нас почти всю нашу жизнь, начиная с детского сада и школьной столовой. Став взрослыми, мы питаемся в кафе, ресторанах и других заведениях общественного питания, где царит на кухне волшебник вкусов и ароматов – пова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профессии – это один из самых важных вопросов в жизни каждого человека, ведь от того чем он будет заниматься, где он будет трудиться будет зависеть весь уклад его жизни, как говорится: «К чему душа лежит, к тому и руки приложатс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 в жизни человека занимает большое место, веками народ слагал  пословицы и поговорки о труде: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 Дело мастера бо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Каков мастер, такова и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Кто мастер на все руки, у того нет ск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який человек на деле познаё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эти пословицы хорошо отражают труд пов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8" descr=""/>
          <p:cNvPicPr/>
          <p:nvPr/>
        </p:nvPicPr>
        <p:blipFill>
          <a:blip r:embed="rId4"/>
          <a:stretch/>
        </p:blipFill>
        <p:spPr>
          <a:xfrm>
            <a:off x="1219320" y="4419720"/>
            <a:ext cx="1447560" cy="23158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8"/>
          <p:cNvSpPr/>
          <p:nvPr/>
        </p:nvSpPr>
        <p:spPr>
          <a:xfrm>
            <a:off x="3225960" y="152280"/>
            <a:ext cx="2954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 и востребованность профессии «Повар» доказана тысячелетней историей, так как профессия «Повар» одна из древнейших в мире и одна из самых востребованных сейчас. Она - одна из немногих, которые будут нужны человечеству всегда, так как всегда и всюду люди  будут нуждаться в еде, а также пользоваться   результатами труда поваров. Каждый может что-нибудь съестное  приготовить и сам, но только повар превратит результат своей работы в искусство. Нам иногда хочется сходить в  кафе или ресторан, заказать  там вкусное и красиво оформленное блюдо и просто наслаждаться 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9" descr=""/>
          <p:cNvPicPr/>
          <p:nvPr/>
        </p:nvPicPr>
        <p:blipFill>
          <a:blip r:embed="rId5"/>
          <a:stretch/>
        </p:blipFill>
        <p:spPr>
          <a:xfrm>
            <a:off x="4419720" y="2971800"/>
            <a:ext cx="954000" cy="12319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10"/>
          <p:cNvSpPr/>
          <p:nvPr/>
        </p:nvSpPr>
        <p:spPr>
          <a:xfrm>
            <a:off x="3225960" y="4145040"/>
            <a:ext cx="29890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поколения к поколению передавали люди опыт приготовления пищи и  бережно хранили все традиции, связанные с едой.  Пища - основа жизни и благополучия, а от того, что человек ест, зависит  его здоровье,  настроение  и качество работы.  Приготовление пищи - это настоящая наука, которая развивалась вместе с человечеством, поэтому у каждого народа есть своя национальная кухня с особенными рецептами и поэтому профессия «Повар» - настоящее искусство, требующее творчества, фантазии, изобрет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7"/>
          <p:cNvSpPr/>
          <p:nvPr/>
        </p:nvSpPr>
        <p:spPr>
          <a:xfrm>
            <a:off x="6487920" y="152280"/>
            <a:ext cx="214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ЮСЫ»  и «МИНУС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И «ПОВА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3" descr=""/>
          <p:cNvPicPr/>
          <p:nvPr/>
        </p:nvPicPr>
        <p:blipFill>
          <a:blip r:embed="rId6"/>
          <a:stretch/>
        </p:blipFill>
        <p:spPr>
          <a:xfrm>
            <a:off x="6757920" y="641520"/>
            <a:ext cx="1603440" cy="13492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1"/>
          <p:cNvSpPr/>
          <p:nvPr/>
        </p:nvSpPr>
        <p:spPr>
          <a:xfrm>
            <a:off x="6267600" y="3079800"/>
            <a:ext cx="277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Профессия повара востребованная и творческая, в ней есть место фантазии и изобретательности.  У хороших поваров высокий уровень оплаты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9" descr=""/>
          <p:cNvPicPr/>
          <p:nvPr/>
        </p:nvPicPr>
        <p:blipFill>
          <a:blip r:embed="rId7"/>
          <a:stretch/>
        </p:blipFill>
        <p:spPr>
          <a:xfrm>
            <a:off x="7068960" y="4145040"/>
            <a:ext cx="729000" cy="3729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0" descr=""/>
          <p:cNvPicPr/>
          <p:nvPr/>
        </p:nvPicPr>
        <p:blipFill>
          <a:blip r:embed="rId8"/>
          <a:stretch/>
        </p:blipFill>
        <p:spPr>
          <a:xfrm>
            <a:off x="7197840" y="2139840"/>
            <a:ext cx="722160" cy="7383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2"/>
          <p:cNvSpPr/>
          <p:nvPr/>
        </p:nvSpPr>
        <p:spPr>
          <a:xfrm>
            <a:off x="6305400" y="4822920"/>
            <a:ext cx="27482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Работа требует большой физической выносливости и ответственности. Стоять у горячей плиты полный рабочий день выдержит не каждый человек. При этом постоянное напряжение внимания, когда надо следить за приготовлением многих блюд и нет возможности расслабиться или отвлеч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rame29P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317520" y="144360"/>
            <a:ext cx="85978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а кормят нас почти всю нашу жизнь, начиная с детского сада и школьной столовой. Став взрослыми, мы питаемся в кафе, ресторанах и других заведениях общественного питания, где царит на кухне волшебник вкусов и ароматов – повар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профессии – это один из самых важных вопросов в жизни каждого человека, ведь от того чем он будет заниматься, где он будет трудиться будет зависеть весь уклад его жизни, как говорится: «К чему душа лежит, к тому и руки приложатс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 в жизни человека занимает большое место, веками народ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агал  пословицы и поговорки о труде: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 Дело мастера бо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Каков мастер, такова и 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Кто мастер на все руки, у того нет ску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 Всякий человек на деле познаё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эти пословицы хорошо отражают труд пова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898160" y="4724280"/>
            <a:ext cx="36388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…Земля еще и потому щедра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в мире существуют пов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лагословенны их простые судьб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руки- будто помыслы чис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фессия у них добра по су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лой человек не встанет у плиты!...»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. Рождественс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8" descr=""/>
          <p:cNvPicPr/>
          <p:nvPr/>
        </p:nvPicPr>
        <p:blipFill>
          <a:blip r:embed="rId2"/>
          <a:stretch/>
        </p:blipFill>
        <p:spPr>
          <a:xfrm>
            <a:off x="290520" y="2095560"/>
            <a:ext cx="28335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304920" y="1522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Актуальность  и востребованность профессии «ПОВАР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 и востребованность профессии «Повар» доказана тысячелетней историей, так как профессия «Повар» одна из древнейших в мире и одна из самых востребованных сейчас. Она - одна из немногих, которые будут нужны человечеству всегда, так как всегда и всюду люди  будут нуждаться в еде, а также пользоваться   результатами труда поваров. Каждый может что-нибудь съестное  приготовить и сам, но только повар превратит результат своей работы в искусство. Нам иногда хочется сходить в  кафе или ресторан, заказать  там вкусное и красиво оформленное блюдо и просто наслаждаться 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2"/>
          <a:srcRect l="-840" t="0" r="0" b="0"/>
          <a:stretch/>
        </p:blipFill>
        <p:spPr>
          <a:xfrm>
            <a:off x="522360" y="2674800"/>
            <a:ext cx="3058920" cy="27752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9"/>
          <p:cNvSpPr/>
          <p:nvPr/>
        </p:nvSpPr>
        <p:spPr>
          <a:xfrm>
            <a:off x="1295280" y="572292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 октября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праздник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ь повара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 конгрессом Всемирной ассоциации кулинарных сообще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4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3733920" y="252252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От поколения к поколению передавали люди опыт приготовления пищи и  бережно хранили все традиции, связанные с едой.  Пища - основа жизни и благополучия, а от того, что человек ест, зависит  его здоровье,  настроение  и качество работы.  Приготовление пищи - это настоящая наука, которая развивалась вместе с человечеством, поэтому у каждого народа есть своя национальная кухня с особенными рецептами и поэтому профессия «Повар» - настоящее искусство, требующее творчества, фантазии, изобрета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rame29P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2487600" y="1000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Характеристика </a:t>
            </a:r>
            <a:r>
              <a:rPr b="1" lang="ru-RU" sz="1800" spc="-1" strike="noStrike">
                <a:solidFill>
                  <a:srgbClr val="d34817"/>
                </a:solidFill>
                <a:latin typeface="Times New Roman"/>
                <a:ea typeface="Calibri"/>
              </a:rPr>
              <a:t>профессии </a:t>
            </a:r>
            <a:r>
              <a:rPr b="1" i="1" lang="ru-RU" sz="1800" spc="-1" strike="noStrike">
                <a:solidFill>
                  <a:srgbClr val="d34817"/>
                </a:solidFill>
                <a:latin typeface="Times New Roman"/>
                <a:ea typeface="Calibri"/>
              </a:rPr>
              <a:t>«Пова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2"/>
          <a:srcRect l="0" t="0" r="0" b="-803"/>
          <a:stretch/>
        </p:blipFill>
        <p:spPr>
          <a:xfrm>
            <a:off x="318960" y="984240"/>
            <a:ext cx="2341800" cy="2174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304920" y="338040"/>
            <a:ext cx="873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ее всего, слово 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повар»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ошло от восточнославянского 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ар», означавшего кипящую воду и жар</a:t>
            </a:r>
            <a:r>
              <a:rPr b="1" i="1" lang="ru-RU" sz="16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2709720" y="1046160"/>
            <a:ext cx="61722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́ва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—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к, профессией-  специальностью, которого является приготовление пищи,  в настоящее время, как правило, на предприятиях общественного питания (кафе, ресторан , бар , столовая, пиццерия , детский сад , школа, больница и пр.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ейчас появилась тенденция нанимать поваров в офисы, для приготовления обедов своим сотрудникам. Повар работает в помещении и в условиях повышенной темпера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я «Повар»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легкая  так как во многих компаниях приходится работать посменно, по 10-12 часов в сутки пару дней подря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231840" y="3486240"/>
            <a:ext cx="8570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ециальности профессии «Повар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повар, кулинар -кондитер  и пр. , а на флоте должность повара называется «кок»,  но каждый специалист этой профессии мечтает «дорасти»  до звания шеф-пов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204840" y="4110120"/>
            <a:ext cx="634824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я «Повар»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я увлекательная  для тех людей, которые  любят готовить пищу,  экспериментировать с ингредиент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 знают  как правильно хранить продукты, готовят   блюда по  разным рецептам,  а также  могут  вносить в них изменения в зависимости от качества сырья и  контингента потребителей,  умеют оформлять приготовленное, любят свою работу, получают от неё искреннее удовольствие и рады, когда результаты их труда восхищают клие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я «Повар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 тем, что это один из немногих видов профессиональной деятельности, дающий навыки, которые пригодятся в повседневной жиз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9" descr=""/>
          <p:cNvPicPr/>
          <p:nvPr/>
        </p:nvPicPr>
        <p:blipFill>
          <a:blip r:embed="rId3"/>
          <a:stretch/>
        </p:blipFill>
        <p:spPr>
          <a:xfrm>
            <a:off x="6410160" y="4111560"/>
            <a:ext cx="26337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981080" y="176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МНОГО ИЗ ИСТОРИИ ПРОФЕССИИ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ПОВАР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81160" y="3967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Эта профессия имеет свою многовековую историю и обширное географическое разнообрази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"/>
          <p:cNvPicPr/>
          <p:nvPr/>
        </p:nvPicPr>
        <p:blipFill>
          <a:blip r:embed="rId2"/>
          <a:stretch/>
        </p:blipFill>
        <p:spPr>
          <a:xfrm>
            <a:off x="5357880" y="797040"/>
            <a:ext cx="3429000" cy="20494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206280" y="847800"/>
            <a:ext cx="49453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е повара появились среди наших первобытных предков — когда человек понял, что жарить мясо на костре гораздо вкуснее чем есть его сырым. Возможно, именно тогда в племени появился специальный человек, которому его собратья доверяли приготовление добытых на охоте живот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3473280" y="2909880"/>
            <a:ext cx="5562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ревнейших письменных памятниках Вавилона, Египта, Китая и арабского Востока уже содержатся записи отдельных кулинарных рецептов. Отметки греческой цивилизации на острове Крит 2600-го года до н. э. изображают первых поваров. В Древней Греции возник культ Акслепия, мифического врача-целителя, получившего в Риме имя Эскулап. Его дочь Гигея считалась покровительницей науки о здоровье, а верной помощницей  у них была кухарка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ли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ая стала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ровительницей поварского де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, получившего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улинария» (от лат. culina - кухн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"/>
          <p:cNvPicPr/>
          <p:nvPr/>
        </p:nvPicPr>
        <p:blipFill>
          <a:blip r:embed="rId3"/>
          <a:stretch/>
        </p:blipFill>
        <p:spPr>
          <a:xfrm>
            <a:off x="281160" y="2751120"/>
            <a:ext cx="308448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1"/>
          <p:cNvSpPr/>
          <p:nvPr/>
        </p:nvSpPr>
        <p:spPr>
          <a:xfrm>
            <a:off x="255600" y="5732640"/>
            <a:ext cx="87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ревнем Риме даже происходили  восстания поваров , подчинивших себе некоторые города.   При императорах Августе и Тиберии (около 400 года н.э.) были организованы первые школы поварского искусства, во главе которых великий повар Апи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0"/>
          <p:cNvSpPr/>
          <p:nvPr/>
        </p:nvSpPr>
        <p:spPr>
          <a:xfrm>
            <a:off x="380880" y="244440"/>
            <a:ext cx="8686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гущественная средневековая Европа высоко ценила своих повар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при дворе многих монархов должность повара оставалась од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наиболее уважаемых и почитаемых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1291 года шеф-повар был одним из четырех самых важ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гур при дворе. 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гл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XIX веке появилась первая поварск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Европе,  затем кулинарные школы начали появляться и в других стран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анц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 короле Людовике XIV испытала подъем повар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кусства, там считалось, что обучаться поварскому делу надо с 6-7 л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аче повар не сможет быть по-настоящему искусным, а  повар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их рангов становились лишь знатные люди. Должность главного винодела Франции была третьей по значимости, затем следовал управляющий выпечкой хлеба, главный виночерпий, шеф-повар, наиболее приближенные ко двору управляющие ресторанов и лишь потом маршалы и адмиралы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тех пор эти европейские страны ведут непрестанное соперничество по кулинарной части. Колыбелью изысканной кухни стала Италия, особенно юг и Сиц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210960" y="4076640"/>
            <a:ext cx="5105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В развитии поварского искусства участвовали не только профессиональные кулинары, но и многие ученые, философы, государственные деятели. Известно, что изобретателями новых блюд были Ришелье, Мазарини, Мишель Монтень написал книгу «Наука еды». До сих пор в итальянских ресторанах в ходу блюда, изобретенные композитором Россини. Франция гордится, что вклад в национальную кулинарию внесли Александр Дюма-отец, великий Бальз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Анна\Desktop\История повара\повара на средневековой кухне.jpg"/>
          <p:cNvPicPr/>
          <p:nvPr/>
        </p:nvPicPr>
        <p:blipFill>
          <a:blip r:embed="rId2"/>
          <a:stretch/>
        </p:blipFill>
        <p:spPr>
          <a:xfrm>
            <a:off x="304920" y="158760"/>
            <a:ext cx="2060280" cy="2736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2" descr=""/>
          <p:cNvPicPr/>
          <p:nvPr/>
        </p:nvPicPr>
        <p:blipFill>
          <a:blip r:embed="rId3"/>
          <a:stretch/>
        </p:blipFill>
        <p:spPr>
          <a:xfrm>
            <a:off x="5316480" y="4051440"/>
            <a:ext cx="3522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frame29P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092680" y="100080"/>
            <a:ext cx="55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много из истории о профессии 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Повар»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"/>
          <p:cNvPicPr/>
          <p:nvPr/>
        </p:nvPicPr>
        <p:blipFill>
          <a:blip r:embed="rId2"/>
          <a:stretch/>
        </p:blipFill>
        <p:spPr>
          <a:xfrm>
            <a:off x="5638680" y="2782800"/>
            <a:ext cx="3124440" cy="37702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8"/>
          <p:cNvSpPr/>
          <p:nvPr/>
        </p:nvSpPr>
        <p:spPr>
          <a:xfrm>
            <a:off x="260280" y="469800"/>
            <a:ext cx="8655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готовление пищи на Руси выделилось в особую специальность только в XI в., но упоминание о поварах  встречается в летописях  Х в. В Лаврентьевской летописи (1074 г.) говорится о том, что в Киево-Печерском монастыре была целая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варн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большим штатом монахов-поваров. Во времена Киевской Руси первые профессиональные повара находились в услужении княжеских дворов и богатых домов, а первым из известных русских поваров был «старейшина повар» по имени Торчин  у князя Глеба. В описании одного из домов богача XII в. упоминается множество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качий»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. е. поваров,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аботающие и делающе съ потьмъ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 XVII веке во время правления Петра I в Россию начинают привозить новые необычные продукты и умелых поваров из разных стран и лишь в конце XVIII возникла кулинария как наука век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272880" y="3621240"/>
            <a:ext cx="53215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рофессиональной кулинарии в Древней Руси связано с появлением предприятий внедомашнего питания: вначале это 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ч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т славянского корня «корм»), в которых путники могли найти приют и пищу, затем появились придорожны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акти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т лат. «trakt» - путь, поток) - гостиницы с обеденным залом и кухней, а крупных городах России стали появлятьс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стора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т фр. «restauration» - вос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rame29P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2"/>
          <a:stretch/>
        </p:blipFill>
        <p:spPr>
          <a:xfrm>
            <a:off x="533520" y="1727280"/>
            <a:ext cx="353520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4191120" y="1962000"/>
            <a:ext cx="5075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не менее сильным было влияние на русскую кухню и наших восточных соседей — Индии. Китая, Персии. Афанасий Никитин в своей книги «Хождение за три моря» (1466—1472 гг.) писал о незнакомых на Руси продуктах  (финик, имбирь, кокосовый орех, перец , корица).  Василий Гагар  (1634—1637 гг.) рассказал в своей книге о  продуктах, которые употребляли жители Кавказа и Ближнего Вос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России первая кулинарная книга «Поваренные записки» была составлена С. Друковцовым в 177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257040" y="157320"/>
            <a:ext cx="862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сские повара свято хранили традиции народной кухни, которая служила основой их профессионального мастерства, об этом свидетельствуют древнейшие письменные памятники — «Домострой» (XVI в.), «Роспись к царским кушаньям» (1611—1613 гг.), столовые книги Патриарха Филарета и боярина Бориса Ивановича Морозова, расходные монастырские книги и др. В них часто упоминаются народные кушанья - щи, уха, каши, пироги, блины, кулебяки, расстегаи, кисели, квасы, медки и друг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522360" y="5994360"/>
            <a:ext cx="83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Первая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кулинарная школа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была открыта в Петербурге 25 марта 1888 г. по инициативе профессора И. Е. Андриевского и кулинара Д. В. Канш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01-13T15:09:10Z</dcterms:modified>
  <cp:revision>2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