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A3F-4CF6-4C23-9D11-CE4C55EC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9D8-C2DF-43EB-A5A0-0FF64342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126-A903-432C-B709-45DAB27F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A96-8820-4DDC-A129-410EA336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870E-A8CE-4AB8-A770-44CC4E16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9CDC-D797-446B-B716-98689940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A311-531A-4799-8CD6-B3883CD0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AAA9-882B-40B7-8E93-3D8BE426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17EF-5253-4879-A498-708472C8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843B-98D8-44FF-B9FD-D570F542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F3E7-3178-4327-8AF6-8452C7E6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29C-F9A7-46CC-9460-630BA0FD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1FFA-7B7B-40F6-B5E0-1ECC06B4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7C8B-519A-46B4-A4DB-878A3D4B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71A6-4BD2-4EFD-8945-14D59720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78CB-4D60-4841-83ED-922556C7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B3B4-0271-4C5D-AC03-2ECCB8E6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B16-A77A-439F-BEF2-338135E9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F1F-7363-4DF7-805E-8C032264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167-0E3E-4F9C-8C3F-3BAFE49B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B19-61CF-4196-8FBB-4A30EF5D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002-8275-4723-AA2B-4B11C5A0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6A3-F54F-406A-AF81-0F5C5E20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F20E-0AFC-4DFE-A5DF-C3BB0F26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CC0C-9B85-4BBF-BA8F-1E99E19234D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AB04-A248-4F3F-9DB0-41253CD30573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Творческий проект</a:t>
            </a:r>
            <a:br>
              <a:rPr sz="4400"/>
            </a:b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Тема : Салат «Новогодний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ученица 10 класс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Галиева Сюмбель 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Гимназия №4» г.Бавл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56000" y="28800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Фото готового блюд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6912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Контроль качества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Готовое блюдо отвечает следующим требования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Блюдо «кыстыбый» приготовлено из экологически чистых и натуральных продуктов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но выполнено аккуратно в соответствии с выше указанной технологи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нешний вид блюда навивает аппети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риятного аппетита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Экономическое обоснование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9200" y="475920"/>
            <a:ext cx="8704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Расчет затрат на продукты для моего блюда я представила в виде таблиц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826920" y="1844640"/>
          <a:ext cx="8055000" cy="4719600"/>
        </p:xfrm>
        <a:graphic>
          <a:graphicData uri="http://schemas.openxmlformats.org/drawingml/2006/table">
            <a:tbl>
              <a:tblPr/>
              <a:tblGrid>
                <a:gridCol w="1932120"/>
                <a:gridCol w="1862280"/>
                <a:gridCol w="1912680"/>
                <a:gridCol w="1255680"/>
                <a:gridCol w="10922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ду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е 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1 к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ит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г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 варе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сли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к репчат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 грец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г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оне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227 руб.50 коп. - на 10 порц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Самооценка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476280"/>
            <a:ext cx="777240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Блюдо приготовленное собственными руками ,очень вкусное , намного дешевле, чем в магазин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Радует гостей и родителей. Все операции доступн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Стих «Кулинарные секреты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Ах, как люблю, я хорошо поес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Вкус, аромат, душистые приправы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Но главное- секрет в готовке ес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Запомните который без труда в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Щепоточку радости, щепоточку счасть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И чуть-чуть добра, любви и св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Добавьте в завтрак свой, и даст вам эт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Надежный зонтик в самое ненастье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050920" y="188640"/>
            <a:ext cx="6904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Иду по жизни я, то вверх , то вниз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Вниз так не хочется, -вот незадача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Не в силах изменить судьбы капри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Я изменю свой взгляд на неудач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Щепоточку радости, щепоточку счасть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И чуть-чуть добра, любви и св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Добавлю в завтрак свой, и даст мне эт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Надежный зонтик в самое ненастье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 rot="268200">
            <a:off x="393480" y="2489040"/>
            <a:ext cx="842472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Обоснование выбора проекта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981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Главное в этом проекте то, что это блюдо можно приготовить как на праздник, так и в будни.. При выборе данного проекта были учтены следующие момент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Первая идея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- приготовить открытый сладкий пирог, но у меня оставалось мало времен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57052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834920" y="404280"/>
            <a:ext cx="7119720" cy="57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Вторая идея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-  испечь блины. Показалось мне не очень удачной, простой, а  душа просила что то другое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Искала я свою идею долго. И наконец нашла, то что меня заинтересовал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Я решила приготовить салат «Новогодний 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50920" y="2492280"/>
            <a:ext cx="50198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Схема обдумывани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258920" y="1125360"/>
            <a:ext cx="6994440" cy="5239440"/>
            <a:chOff x="1258920" y="1125360"/>
            <a:chExt cx="6994440" cy="5239440"/>
          </a:xfrm>
        </p:grpSpPr>
        <p:sp>
          <p:nvSpPr>
            <p:cNvPr id="108" name=""/>
            <p:cNvSpPr/>
            <p:nvPr/>
          </p:nvSpPr>
          <p:spPr>
            <a:xfrm>
              <a:off x="3411360" y="2766960"/>
              <a:ext cx="3092040" cy="15152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алат «Новогодний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8920" y="1125360"/>
              <a:ext cx="1748520" cy="757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блема, потреб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4560" y="1125360"/>
              <a:ext cx="1479240" cy="631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езопасность тру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67000" y="1251720"/>
              <a:ext cx="1748520" cy="378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ебестоим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58920" y="2766960"/>
              <a:ext cx="1748520" cy="63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изделия или блю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39480" y="2766960"/>
              <a:ext cx="1613880" cy="63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хнология пригот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58920" y="4534920"/>
              <a:ext cx="2017800" cy="378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продук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49200" y="5545080"/>
              <a:ext cx="2152440" cy="505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нвентарь и посуд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39480" y="4408560"/>
              <a:ext cx="1613160" cy="505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стетич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3800" y="1377720"/>
              <a:ext cx="673200" cy="126000"/>
            </a:xfrm>
            <a:custGeom>
              <a:avLst/>
              <a:gdLst>
                <a:gd name="textAreaLeft" fmla="*/ 117720 w 673200"/>
                <a:gd name="textAreaRight" fmla="*/ 488160 w 673200"/>
                <a:gd name="textAreaTop" fmla="*/ 16920 h 126000"/>
                <a:gd name="textAreaBottom" fmla="*/ 109080 h 12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46600" y="1630440"/>
              <a:ext cx="537480" cy="1010160"/>
            </a:xfrm>
            <a:custGeom>
              <a:avLst/>
              <a:gdLst>
                <a:gd name="textAreaLeft" fmla="*/ 72000 w 537480"/>
                <a:gd name="textAreaRight" fmla="*/ 465480 w 537480"/>
                <a:gd name="textAreaTop" fmla="*/ 176760 h 1010160"/>
                <a:gd name="textAreaBottom" fmla="*/ 732600 h 101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15880" y="3398400"/>
              <a:ext cx="268200" cy="1010160"/>
            </a:xfrm>
            <a:custGeom>
              <a:avLst/>
              <a:gdLst>
                <a:gd name="textAreaLeft" fmla="*/ 35640 w 268200"/>
                <a:gd name="textAreaRight" fmla="*/ 232560 w 268200"/>
                <a:gd name="textAreaTop" fmla="*/ 176760 h 1010160"/>
                <a:gd name="textAreaBottom" fmla="*/ 732600 h 101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606400">
              <a:off x="6504840" y="5040000"/>
              <a:ext cx="538560" cy="883800"/>
            </a:xfrm>
            <a:custGeom>
              <a:avLst/>
              <a:gdLst>
                <a:gd name="textAreaLeft" fmla="*/ 72000 w 538560"/>
                <a:gd name="textAreaRight" fmla="*/ 466560 w 538560"/>
                <a:gd name="textAreaTop" fmla="*/ 154440 h 883800"/>
                <a:gd name="textAreaBottom" fmla="*/ 640800 h 88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6112800">
              <a:off x="2452320" y="5059800"/>
              <a:ext cx="1010160" cy="1344600"/>
            </a:xfrm>
            <a:custGeom>
              <a:avLst/>
              <a:gdLst>
                <a:gd name="textAreaLeft" fmla="*/ 135360 w 1010160"/>
                <a:gd name="textAreaRight" fmla="*/ 874800 w 1010160"/>
                <a:gd name="textAreaTop" fmla="*/ 235080 h 1344600"/>
                <a:gd name="textAreaBottom" fmla="*/ 974880 h 134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8728800">
              <a:off x="2141280" y="3375000"/>
              <a:ext cx="537480" cy="1136520"/>
            </a:xfrm>
            <a:custGeom>
              <a:avLst/>
              <a:gdLst>
                <a:gd name="textAreaLeft" fmla="*/ 72000 w 537480"/>
                <a:gd name="textAreaRight" fmla="*/ 465480 w 537480"/>
                <a:gd name="textAreaTop" fmla="*/ 198720 h 1136520"/>
                <a:gd name="textAreaBottom" fmla="*/ 824040 h 11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524000">
              <a:off x="2200320" y="1882800"/>
              <a:ext cx="402840" cy="757440"/>
            </a:xfrm>
            <a:custGeom>
              <a:avLst/>
              <a:gdLst>
                <a:gd name="textAreaLeft" fmla="*/ 54000 w 402840"/>
                <a:gd name="textAreaRight" fmla="*/ 348840 w 402840"/>
                <a:gd name="textAreaTop" fmla="*/ 132480 h 757440"/>
                <a:gd name="textAreaBottom" fmla="*/ 549360 h 7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07440" y="1377720"/>
              <a:ext cx="806760" cy="126000"/>
            </a:xfrm>
            <a:custGeom>
              <a:avLst/>
              <a:gdLst>
                <a:gd name="textAreaLeft" fmla="*/ 141120 w 806760"/>
                <a:gd name="textAreaRight" fmla="*/ 585000 w 806760"/>
                <a:gd name="textAreaTop" fmla="*/ 16920 h 126000"/>
                <a:gd name="textAreaBottom" fmla="*/ 109080 h 12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Цели проекта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Работать над совершенствованием технологии своих возможностей при изготовлении кулинарных блю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Развивать творческую инициатив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Разработка и выполнение творческого прое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Оценка проделанной рабо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Требования к салату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9280" y="692280"/>
          <a:ext cx="8775720" cy="6097320"/>
        </p:xfrm>
        <a:graphic>
          <a:graphicData uri="http://schemas.openxmlformats.org/drawingml/2006/table">
            <a:tbl>
              <a:tblPr/>
              <a:tblGrid>
                <a:gridCol w="2925720"/>
                <a:gridCol w="2924280"/>
                <a:gridCol w="292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показателя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дегуста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, консисте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ат «Новогодн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й формы с ровными краями, нарезка соответствующая рецепту (кубками мясные продукты, вареные овощи можно на крупной терке) , красиво украшенный сверх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й формы с ровными краями, нарезка соответствующая рецепту (кубками мясные продукты, вареные овощи можно на крупной терке) , красиво украшенный сверх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салата, без посторонних запах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салата, без посторонних запах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салата без посторонних привкусов, сочетание продуктов вкус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салата без посторонних привкусов, сочетание продуктов вкус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Технологическая кар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476280"/>
          <a:ext cx="9144000" cy="6584400"/>
        </p:xfrm>
        <a:graphic>
          <a:graphicData uri="http://schemas.openxmlformats.org/drawingml/2006/table">
            <a:tbl>
              <a:tblPr/>
              <a:tblGrid>
                <a:gridCol w="2246400"/>
                <a:gridCol w="2217600"/>
                <a:gridCol w="2819520"/>
                <a:gridCol w="1860480"/>
              </a:tblGrid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сть пригото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уда и инвен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к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 варен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сли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к репчат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 грец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онез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средня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г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г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г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г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ощи моем холодной водо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адываем в кастрюлю с холодной водой овощи (картофель, свеклу) и варим до гото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ца также отвариваем до готов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-10 мин.). Остывшие продукты чистим и на крупной терка натираем. Мясо вареное нарезаем кубиками.  Лук репчатый чистим, моем и нарезаем мелкими кубиками. После мясо и лук репчатый соединяем, перемешиваем с майонезом.  Чернослив моем и нарезаем куби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ат укладываем слоями, каждый слой намазываем  майонезом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векла отв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артофель отвар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ясо отвар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рнос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я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рехи грецкие сверх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ки,  тарелки, столовая ложка,  доски разделочные, нож, кастрю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744720" cy="2373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16360" y="260280"/>
            <a:ext cx="3457800" cy="2603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50920" y="3332160"/>
            <a:ext cx="4033800" cy="2733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643280" y="3284640"/>
            <a:ext cx="39610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643280" y="333360"/>
            <a:ext cx="4032360" cy="2664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3960720" cy="297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716360" y="33577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0T19:05:37Z</dcterms:created>
  <dc:creator>Ганиевы</dc:creator>
  <dc:description/>
  <dc:language>en-US</dc:language>
  <cp:lastModifiedBy>Ганиевы</cp:lastModifiedBy>
  <dcterms:modified xsi:type="dcterms:W3CDTF">2017-01-13T06:22:29Z</dcterms:modified>
  <cp:revision>4</cp:revision>
  <dc:subject/>
  <dc:title>Творческий проект Тема : Салат «Новогодний»</dc:title>
</cp:coreProperties>
</file>