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EDD-E93F-4B27-8F11-7A3DDB9D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BD1-469D-4DFB-AE7B-4317C002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499-BFD2-4E5A-95AF-BCFB5B17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B914-CBAE-49E3-82CC-15E1C4832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3000-7310-40D9-94DD-3E8C3CDF4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281B-12E6-49BC-8057-6E1103A3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CCA5-CBA8-4132-B921-48EF45D5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1E76-BC40-42EA-B7D4-57B657FF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FCE9-6571-4AC3-A1AC-9D4E18CA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EB61-FF84-48A9-B715-397316DF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8BAC-494E-4ADC-8529-497C8B4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0B5-3B1F-4F80-894A-24B6863A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FB16-E235-4BFA-A081-F67EAA6B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C332-62BE-4563-B0D8-E03DE76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1983-E082-4637-A116-FE406BB0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A953-9E16-48AA-B5E9-BDC8FB9D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6F11-B671-4C12-AC51-F3D2B529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279-9878-4801-A662-9BAEDDAA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08F-2C47-4A0C-A5DE-27EC1D44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0C9-0B5B-42FF-84D1-69D95422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DD5-B25A-47B4-90CE-E0152654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16D3-FC27-4502-9331-9E8AF006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0BD-A249-453A-82C5-2CCB965E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6F2F-40D4-46DF-B979-E301C906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729F-B993-4368-A8F9-41DB8ACF06A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F221-F08F-426C-AA44-6D5D5E67144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Творческий проект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Тема : Салат «Новогодни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ченица 10 кла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Галиева Сюмбель 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Гимназия №4» г.Бавл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56000" y="288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Фото готового блюд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912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rebuchet MS"/>
              </a:rPr>
              <a:t>Контроль качеств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Готовое блюдо отвечает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людо «кыстыбый» приготовлено из экологически чистых и натуральных продуктов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но выполнено аккуратно в соответствии с выше указанной технологи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нешний вид блюда навивает аппети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иятного аппетита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Экономическое обоснова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9200" y="475920"/>
            <a:ext cx="8704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Расчет затрат на продукты для моего блюда я представила в виде таблиц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26920" y="1844640"/>
          <a:ext cx="8055000" cy="4719600"/>
        </p:xfrm>
        <a:graphic>
          <a:graphicData uri="http://schemas.openxmlformats.org/drawingml/2006/table">
            <a:tbl>
              <a:tblPr/>
              <a:tblGrid>
                <a:gridCol w="1932120"/>
                <a:gridCol w="1862280"/>
                <a:gridCol w="1912680"/>
                <a:gridCol w="1255680"/>
                <a:gridCol w="109224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1 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уб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итог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к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г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варе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сли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к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 грецк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не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227 руб.50 коп. - на 10 порц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Самооценка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476280"/>
            <a:ext cx="77724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Блюдо приготовленное собственными руками ,очень вкусное , намного дешевле, чем в магазин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Радует гостей и родителей. Все операции доступн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екла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Стих «Кулинарные секреты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Ах, как люблю, я хорошо пое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Вкус, аромат, душистые приправы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о главное- секрет в готовке ес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Запомните который без труда в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Щепоточку радости, щепоточку счасть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 чуть-чуть добра, любви и с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обавьте в завтрак свой, и даст вам э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адежный зонтик в самое ненастье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050920" y="188640"/>
            <a:ext cx="690408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ду по жизни я, то вверх , то вниз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Вниз так не хочется, -вот незадача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е в силах изменить судьбы капри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Я изменю свой взгляд на неуда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Щепоточку радости, щепоточку счасть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 чуть-чуть добра, любви и св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Добавлю в завтрак свой, и даст мне эт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Надежный зонтик в самое ненастье</a:t>
            </a: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 rot="268200">
            <a:off x="393480" y="2489040"/>
            <a:ext cx="842472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Обоснование выбора проект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981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Главное в этом проекте то, что это блюдо можно приготовить как на праздник, так и в будни.. При выборе данного проекта были учтены следующие момент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Times New Roman"/>
              </a:rPr>
              <a:t>Первая идея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- приготовить открытый сладкий пирог, но у меня оставалось мало времен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57052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834920" y="404280"/>
            <a:ext cx="711972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Вторая идея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-  испечь блины. Показалось мне не очень удачной, простой, а  душа просила что то другое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Искала я свою идею долго. И наконец нашла, то что меня заинтересовал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Я решила приготовить салат «Новогодний 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050920" y="2492280"/>
            <a:ext cx="50198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Схема обдумыва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58920" y="1125360"/>
            <a:ext cx="6994440" cy="5239440"/>
            <a:chOff x="1258920" y="1125360"/>
            <a:chExt cx="6994440" cy="5239440"/>
          </a:xfrm>
        </p:grpSpPr>
        <p:sp>
          <p:nvSpPr>
            <p:cNvPr id="108" name=""/>
            <p:cNvSpPr/>
            <p:nvPr/>
          </p:nvSpPr>
          <p:spPr>
            <a:xfrm>
              <a:off x="3411360" y="2766960"/>
              <a:ext cx="3092040" cy="151524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алат «Новогодний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58920" y="1125360"/>
              <a:ext cx="1748520" cy="757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, потр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4560" y="1125360"/>
              <a:ext cx="1479240" cy="6314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ь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67000" y="1251720"/>
              <a:ext cx="1748520" cy="3783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ебесто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8920" y="2766960"/>
              <a:ext cx="1748520" cy="63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изделия или блю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39480" y="2766960"/>
              <a:ext cx="1613880" cy="63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я при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58920" y="4534920"/>
              <a:ext cx="2017800" cy="378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49200" y="5545080"/>
              <a:ext cx="2152440" cy="50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вентарь и посу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39480" y="4408560"/>
              <a:ext cx="1613160" cy="5050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те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3800" y="1377720"/>
              <a:ext cx="673200" cy="126000"/>
            </a:xfrm>
            <a:custGeom>
              <a:avLst/>
              <a:gdLst>
                <a:gd name="textAreaLeft" fmla="*/ 117720 w 673200"/>
                <a:gd name="textAreaRight" fmla="*/ 488160 w 673200"/>
                <a:gd name="textAreaTop" fmla="*/ 16920 h 126000"/>
                <a:gd name="textAreaBottom" fmla="*/ 109080 h 1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46600" y="1630440"/>
              <a:ext cx="537480" cy="1010160"/>
            </a:xfrm>
            <a:custGeom>
              <a:avLst/>
              <a:gdLst>
                <a:gd name="textAreaLeft" fmla="*/ 72000 w 537480"/>
                <a:gd name="textAreaRight" fmla="*/ 465480 w 537480"/>
                <a:gd name="textAreaTop" fmla="*/ 176760 h 1010160"/>
                <a:gd name="textAreaBottom" fmla="*/ 732600 h 101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15880" y="3398400"/>
              <a:ext cx="268200" cy="1010160"/>
            </a:xfrm>
            <a:custGeom>
              <a:avLst/>
              <a:gdLst>
                <a:gd name="textAreaLeft" fmla="*/ 35640 w 268200"/>
                <a:gd name="textAreaRight" fmla="*/ 232560 w 268200"/>
                <a:gd name="textAreaTop" fmla="*/ 176760 h 1010160"/>
                <a:gd name="textAreaBottom" fmla="*/ 732600 h 101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2606400">
              <a:off x="6504840" y="5040000"/>
              <a:ext cx="538560" cy="883800"/>
            </a:xfrm>
            <a:custGeom>
              <a:avLst/>
              <a:gdLst>
                <a:gd name="textAreaLeft" fmla="*/ 72000 w 538560"/>
                <a:gd name="textAreaRight" fmla="*/ 466560 w 538560"/>
                <a:gd name="textAreaTop" fmla="*/ 154440 h 883800"/>
                <a:gd name="textAreaBottom" fmla="*/ 640800 h 883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6112800">
              <a:off x="2452320" y="5059800"/>
              <a:ext cx="1010160" cy="1344600"/>
            </a:xfrm>
            <a:custGeom>
              <a:avLst/>
              <a:gdLst>
                <a:gd name="textAreaLeft" fmla="*/ 135360 w 1010160"/>
                <a:gd name="textAreaRight" fmla="*/ 874800 w 1010160"/>
                <a:gd name="textAreaTop" fmla="*/ 235080 h 1344600"/>
                <a:gd name="textAreaBottom" fmla="*/ 974880 h 1344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8728800">
              <a:off x="2141280" y="3375000"/>
              <a:ext cx="537480" cy="1136520"/>
            </a:xfrm>
            <a:custGeom>
              <a:avLst/>
              <a:gdLst>
                <a:gd name="textAreaLeft" fmla="*/ 72000 w 537480"/>
                <a:gd name="textAreaRight" fmla="*/ 465480 w 537480"/>
                <a:gd name="textAreaTop" fmla="*/ 198720 h 1136520"/>
                <a:gd name="textAreaBottom" fmla="*/ 8240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524000">
              <a:off x="2200320" y="1882800"/>
              <a:ext cx="402840" cy="757440"/>
            </a:xfrm>
            <a:custGeom>
              <a:avLst/>
              <a:gdLst>
                <a:gd name="textAreaLeft" fmla="*/ 54000 w 402840"/>
                <a:gd name="textAreaRight" fmla="*/ 348840 w 402840"/>
                <a:gd name="textAreaTop" fmla="*/ 132480 h 757440"/>
                <a:gd name="textAreaBottom" fmla="*/ 549360 h 75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07440" y="1377720"/>
              <a:ext cx="806760" cy="126000"/>
            </a:xfrm>
            <a:custGeom>
              <a:avLst/>
              <a:gdLst>
                <a:gd name="textAreaLeft" fmla="*/ 141120 w 806760"/>
                <a:gd name="textAreaRight" fmla="*/ 585000 w 806760"/>
                <a:gd name="textAreaTop" fmla="*/ 16920 h 126000"/>
                <a:gd name="textAreaBottom" fmla="*/ 109080 h 12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Цели проекта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052280"/>
            <a:ext cx="77724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ботать над совершенствованием технологии своих возможностей при изготовлении кулинарных блю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звивать творческую инициатив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Разработка и выполнение творческого проек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Оценка проделанной работ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ребования к салату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692280"/>
          <a:ext cx="8775720" cy="6097320"/>
        </p:xfrm>
        <a:graphic>
          <a:graphicData uri="http://schemas.openxmlformats.org/drawingml/2006/table">
            <a:tbl>
              <a:tblPr/>
              <a:tblGrid>
                <a:gridCol w="2925720"/>
                <a:gridCol w="2924280"/>
                <a:gridCol w="2925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показателя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дегуста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т «Новогодн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нарезка соответствующая рецепту (кубками мясные продукты, вареные овощи можно на крупной терке) , красиво украшенный свер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нарезка соответствующая рецепту (кубками мясные продукты, вареные овощи можно на крупной терке) , красиво украшенный сверх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 без посторонних привкусов, сочетание продуктов вку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салата без посторонних привкусов, сочетание продуктов вкус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Технологическая кар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476280"/>
          <a:ext cx="9144000" cy="6584400"/>
        </p:xfrm>
        <a:graphic>
          <a:graphicData uri="http://schemas.openxmlformats.org/drawingml/2006/table">
            <a:tbl>
              <a:tblPr/>
              <a:tblGrid>
                <a:gridCol w="2246400"/>
                <a:gridCol w="2217600"/>
                <a:gridCol w="2819520"/>
                <a:gridCol w="1860480"/>
              </a:tblGrid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пригот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и инвен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кл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 варе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носли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 грец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йонез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ощи моем холодной водой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адываем в кастрюлю с холодной водой овощи (картофель, свеклу) и варим до готов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 также отвариваем до готов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-10 мин.). Остывшие продукты чистим и на крупной терка натираем. Мясо вареное нарезаем кубиками.  Лук репчатый чистим, моем и нарезаем мелкими кубиками. После мясо и лук репчатый соединяем, перемешиваем с майонезом.  Чернослив моем и нарезаем кубик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лат укладываем слоями, каждый слой намазываем  майонезом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свекла отвар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артофель отва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мясо отвар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рносли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я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рехи грецкие сверх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ки,  тарелки, столовая ложка,  доски разделочные, нож, кастрю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744720" cy="2373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3457800" cy="26035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0920" y="3332160"/>
            <a:ext cx="4033800" cy="2733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43280" y="3284640"/>
            <a:ext cx="396108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643280" y="333360"/>
            <a:ext cx="4032360" cy="2664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3960720" cy="2970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4716360" y="33577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0T19:05:37Z</dcterms:created>
  <dc:creator>Ганиевы</dc:creator>
  <dc:description/>
  <dc:language>en-US</dc:language>
  <cp:lastModifiedBy>Ганиевы</cp:lastModifiedBy>
  <dcterms:modified xsi:type="dcterms:W3CDTF">2017-01-13T06:22:29Z</dcterms:modified>
  <cp:revision>4</cp:revision>
  <dc:subject/>
  <dc:title>Творческий проект Тема : Салат «Новогодний»</dc:title>
</cp:coreProperties>
</file>