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F8A-2690-47A8-994B-C66D800C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9D57-0B0D-4815-8E2D-BBAFA5D1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20C8-11AC-4C44-8876-53161889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542-DBEC-4122-A767-CFD223BE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1911-0174-4EF6-9DEF-8C7321CC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396D-4BA3-467A-A2BA-210D1C6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4CD3-8D22-4B0A-A700-31D4F462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27DD-1A84-4ADA-9B71-4C436AA9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8209D-A14A-474D-8489-CAD4BA9E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5A6B-9CCD-4D5C-910A-0A36D8D4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0BD0-18EC-4C98-A341-4A062F88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4DAC-5C08-40D5-93D8-10E17A69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8739-BC62-4FE8-BF94-5616A781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3A9-0966-4D15-B2D5-026C58F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F35A-2AD1-4434-9F0B-213AC214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34BC-9E1A-47DE-82C4-BD951CAE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4140-62EF-44E5-97CD-D0861AD2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77567-FE81-49EC-897A-114F9FF68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7241F-1DB0-4B67-BCC0-E7D4D38E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9D22-71B8-4ADD-8C60-262E6D25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3A0E-A24D-4DCB-BF1B-9732AE40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BEDB8-2D43-4EBB-BA4B-1D6A4E98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6EB-AA4C-48EE-94C8-F6D29F1C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571EE-89E7-4737-8A90-29B6F079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E4441-C4C7-4CC6-A957-22C4B5E4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2D7C6-FACB-420C-A0A9-B3420D34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9F2EF-7B64-4701-AAC6-4777196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38F44-0F9B-4CDC-A27D-E0EF61A1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DF60C-BD69-48B4-B0CC-FA0C8C71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4294A-15F4-4C12-BBDF-9AD327BC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08CE5-F642-413C-AFCF-65CEFE43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ABDB1-DC90-4044-9564-6F6A9297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A15A3-1F5F-4F3E-95E4-18C658AD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A1A-A4F6-43F1-BDCA-926AF74A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C551D-6216-4E29-A55F-43AC0A0B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CE2EF-E93E-477E-9D8E-FE5A0034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4587-BC88-47BC-99BB-744148B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AB7B3-612B-4DF4-8F36-14896D38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8EC6-8D54-47F4-9878-5BD831F2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2DD98-B7B3-4C2E-86CC-C335468D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6B189-B75F-4215-A042-00C14471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55E84-B1ED-4A0C-875D-AFEB605B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1351-7DA7-4A72-AA7E-5C0A558C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9E89-5170-41AD-ACEA-90C9E812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AF3C-ECFA-429D-AF33-98D5882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8A8-EA30-441E-9CCD-EF91B058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A35-B4CE-4D04-89F7-ADA827AA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ED9A-516E-45F3-890E-E10240F1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435-805F-42C3-AF98-B1456F896D6D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24CC-2154-4F01-BB78-ABF100691965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D402-2CFB-41C8-BEF3-417B79A7BBE9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DC49-B422-4570-80C9-D7A7244B23B5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8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611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00720" y="691920"/>
            <a:ext cx="41860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0059"/>
                </a:solidFill>
                <a:latin typeface="Calibri"/>
              </a:rPr>
              <a:t>Развитие художественно-творческих способностей детей младшего дошкольного возраста посредством использования нетрадиционных техник в художественно-продуктивной деятельности.</a:t>
            </a: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   Часть 2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полнила воспитатель Лобанцова Е.Е.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98" name="Содержимое 6" descr="178098.jpg"/>
          <p:cNvPicPr/>
          <p:nvPr/>
        </p:nvPicPr>
        <p:blipFill>
          <a:blip r:embed="rId2"/>
          <a:stretch/>
        </p:blipFill>
        <p:spPr>
          <a:xfrm>
            <a:off x="684360" y="1125360"/>
            <a:ext cx="32907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643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Выставка </a:t>
            </a:r>
            <a:br>
              <a:rPr sz="2800"/>
            </a:b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« Новогодняя открытка»</a:t>
            </a: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4" name="Picture 8" descr="P1120488"/>
          <p:cNvPicPr/>
          <p:nvPr/>
        </p:nvPicPr>
        <p:blipFill>
          <a:blip r:embed="rId2"/>
          <a:stretch/>
        </p:blipFill>
        <p:spPr>
          <a:xfrm>
            <a:off x="395280" y="1700280"/>
            <a:ext cx="3660840" cy="4968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P1120485"/>
          <p:cNvPicPr/>
          <p:nvPr/>
        </p:nvPicPr>
        <p:blipFill>
          <a:blip r:embed="rId3"/>
          <a:stretch/>
        </p:blipFill>
        <p:spPr>
          <a:xfrm>
            <a:off x="6012000" y="189000"/>
            <a:ext cx="2808000" cy="374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P1120486"/>
          <p:cNvPicPr/>
          <p:nvPr/>
        </p:nvPicPr>
        <p:blipFill>
          <a:blip r:embed="rId4"/>
          <a:stretch/>
        </p:blipFill>
        <p:spPr>
          <a:xfrm>
            <a:off x="4578480" y="2708280"/>
            <a:ext cx="30891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72000" y="333360"/>
            <a:ext cx="231444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e40059"/>
                </a:solidFill>
                <a:latin typeface="Arial"/>
              </a:rPr>
              <a:t>9 мая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9" name="Picture 10" descr="P1130025"/>
          <p:cNvPicPr/>
          <p:nvPr/>
        </p:nvPicPr>
        <p:blipFill>
          <a:blip r:embed="rId2"/>
          <a:stretch/>
        </p:blipFill>
        <p:spPr>
          <a:xfrm>
            <a:off x="272880" y="0"/>
            <a:ext cx="2627640" cy="3860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P1130026"/>
          <p:cNvPicPr/>
          <p:nvPr/>
        </p:nvPicPr>
        <p:blipFill>
          <a:blip r:embed="rId3"/>
          <a:stretch/>
        </p:blipFill>
        <p:spPr>
          <a:xfrm>
            <a:off x="2987640" y="0"/>
            <a:ext cx="2827440" cy="3768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P1130028"/>
          <p:cNvPicPr/>
          <p:nvPr/>
        </p:nvPicPr>
        <p:blipFill>
          <a:blip r:embed="rId4"/>
          <a:stretch/>
        </p:blipFill>
        <p:spPr>
          <a:xfrm>
            <a:off x="900000" y="400536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P1130036"/>
          <p:cNvPicPr/>
          <p:nvPr/>
        </p:nvPicPr>
        <p:blipFill>
          <a:blip r:embed="rId5"/>
          <a:stretch/>
        </p:blipFill>
        <p:spPr>
          <a:xfrm>
            <a:off x="5364000" y="1628640"/>
            <a:ext cx="3780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6666"/>
                </a:solidFill>
                <a:latin typeface="Calibri"/>
              </a:rPr>
              <a:t>      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Мастер-класс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5" name="Picture 5" descr="IMG_2786"/>
          <p:cNvPicPr/>
          <p:nvPr/>
        </p:nvPicPr>
        <p:blipFill>
          <a:blip r:embed="rId2"/>
          <a:stretch/>
        </p:blipFill>
        <p:spPr>
          <a:xfrm>
            <a:off x="539640" y="765000"/>
            <a:ext cx="7775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8" name="Picture 7" descr="IMG_2788"/>
          <p:cNvPicPr/>
          <p:nvPr/>
        </p:nvPicPr>
        <p:blipFill>
          <a:blip r:embed="rId2"/>
          <a:stretch/>
        </p:blipFill>
        <p:spPr>
          <a:xfrm>
            <a:off x="179280" y="18900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IMG_2789"/>
          <p:cNvPicPr/>
          <p:nvPr/>
        </p:nvPicPr>
        <p:blipFill>
          <a:blip r:embed="rId3"/>
          <a:stretch/>
        </p:blipFill>
        <p:spPr>
          <a:xfrm>
            <a:off x="4643280" y="189000"/>
            <a:ext cx="4284720" cy="3213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IMG_2790"/>
          <p:cNvPicPr/>
          <p:nvPr/>
        </p:nvPicPr>
        <p:blipFill>
          <a:blip r:embed="rId4"/>
          <a:stretch/>
        </p:blipFill>
        <p:spPr>
          <a:xfrm>
            <a:off x="179280" y="3573360"/>
            <a:ext cx="4319640" cy="30974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3" descr="IMG_2791"/>
          <p:cNvPicPr/>
          <p:nvPr/>
        </p:nvPicPr>
        <p:blipFill>
          <a:blip r:embed="rId5"/>
          <a:stretch/>
        </p:blipFill>
        <p:spPr>
          <a:xfrm>
            <a:off x="4716360" y="3532320"/>
            <a:ext cx="424836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4" name="Picture 11" descr="P1130047"/>
          <p:cNvPicPr/>
          <p:nvPr/>
        </p:nvPicPr>
        <p:blipFill>
          <a:blip r:embed="rId2"/>
          <a:stretch/>
        </p:blipFill>
        <p:spPr>
          <a:xfrm>
            <a:off x="324000" y="189000"/>
            <a:ext cx="8577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68508720" y="69937200"/>
            <a:ext cx="9429480" cy="7143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Documents and Settings\саша\Рабочий стол\сканированное для конкурса\7e1dbcd2ca5a.jpg"/>
          <p:cNvPicPr/>
          <p:nvPr/>
        </p:nvPicPr>
        <p:blipFill>
          <a:blip r:embed="rId2"/>
          <a:stretch/>
        </p:blipFill>
        <p:spPr>
          <a:xfrm>
            <a:off x="68661000" y="70089840"/>
            <a:ext cx="9429840" cy="71434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4"/>
          <a:stretch/>
        </p:blipFill>
        <p:spPr>
          <a:xfrm>
            <a:off x="142920" y="142920"/>
            <a:ext cx="8858160" cy="65721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1"/>
          <p:cNvSpPr/>
          <p:nvPr/>
        </p:nvSpPr>
        <p:spPr>
          <a:xfrm>
            <a:off x="3429000" y="3214800"/>
            <a:ext cx="6000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Итог обыденной работы-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осторг волшебного полёта!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Всё это – дивное явленье –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Constantia"/>
              </a:rPr>
              <a:t>Занятие, рождённое вдохновеньем…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            </a:t>
            </a: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Пластилинография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1" name="Picture 6" descr="P1120829"/>
          <p:cNvPicPr/>
          <p:nvPr/>
        </p:nvPicPr>
        <p:blipFill>
          <a:blip r:embed="rId2"/>
          <a:stretch/>
        </p:blipFill>
        <p:spPr>
          <a:xfrm>
            <a:off x="971640" y="1628640"/>
            <a:ext cx="659772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e40059"/>
                </a:solidFill>
                <a:latin typeface="Calibri"/>
              </a:rPr>
              <a:t>            </a:t>
            </a:r>
            <a:r>
              <a:rPr b="0" i="1" lang="ru-RU" sz="5000" spc="-1" strike="noStrike">
                <a:solidFill>
                  <a:srgbClr val="e40059"/>
                </a:solidFill>
                <a:latin typeface="Calibri"/>
              </a:rPr>
              <a:t>Цветы для мамы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4" name="Picture 11" descr="P1120931"/>
          <p:cNvPicPr/>
          <p:nvPr/>
        </p:nvPicPr>
        <p:blipFill>
          <a:blip r:embed="rId2"/>
          <a:stretch/>
        </p:blipFill>
        <p:spPr>
          <a:xfrm>
            <a:off x="755640" y="1197000"/>
            <a:ext cx="78487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66666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200585"/>
                </a:solidFill>
                <a:latin typeface="Calibri"/>
              </a:rPr>
              <a:t>Наши папы молодцы, поздравляем от души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07" name="Picture 9" descr="P1120932"/>
          <p:cNvPicPr/>
          <p:nvPr/>
        </p:nvPicPr>
        <p:blipFill>
          <a:blip r:embed="rId2"/>
          <a:stretch/>
        </p:blipFill>
        <p:spPr>
          <a:xfrm>
            <a:off x="1063800" y="1935000"/>
            <a:ext cx="2823840" cy="2117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P1120933"/>
          <p:cNvPicPr/>
          <p:nvPr/>
        </p:nvPicPr>
        <p:blipFill>
          <a:blip r:embed="rId3"/>
          <a:stretch/>
        </p:blipFill>
        <p:spPr>
          <a:xfrm>
            <a:off x="5254560" y="1935000"/>
            <a:ext cx="2824200" cy="2117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P1120934"/>
          <p:cNvPicPr/>
          <p:nvPr/>
        </p:nvPicPr>
        <p:blipFill>
          <a:blip r:embed="rId4"/>
          <a:stretch/>
        </p:blipFill>
        <p:spPr>
          <a:xfrm>
            <a:off x="1063800" y="4205160"/>
            <a:ext cx="2825640" cy="2119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P1120935"/>
          <p:cNvPicPr/>
          <p:nvPr/>
        </p:nvPicPr>
        <p:blipFill>
          <a:blip r:embed="rId5"/>
          <a:stretch/>
        </p:blipFill>
        <p:spPr>
          <a:xfrm>
            <a:off x="5254560" y="4205160"/>
            <a:ext cx="282564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Calibri"/>
              </a:rPr>
              <a:t>Дымковский козлик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3" name="Picture 9" descr="P1120956"/>
          <p:cNvPicPr/>
          <p:nvPr/>
        </p:nvPicPr>
        <p:blipFill>
          <a:blip r:embed="rId2"/>
          <a:stretch/>
        </p:blipFill>
        <p:spPr>
          <a:xfrm>
            <a:off x="250920" y="2133720"/>
            <a:ext cx="4506840" cy="360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P1120958"/>
          <p:cNvPicPr/>
          <p:nvPr/>
        </p:nvPicPr>
        <p:blipFill>
          <a:blip r:embed="rId3"/>
          <a:stretch/>
        </p:blipFill>
        <p:spPr>
          <a:xfrm>
            <a:off x="4859280" y="620640"/>
            <a:ext cx="4049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17" name="Picture 10" descr="P1120964"/>
          <p:cNvPicPr/>
          <p:nvPr/>
        </p:nvPicPr>
        <p:blipFill>
          <a:blip r:embed="rId2"/>
          <a:stretch/>
        </p:blipFill>
        <p:spPr>
          <a:xfrm>
            <a:off x="250920" y="620640"/>
            <a:ext cx="4324320" cy="5765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1" descr="P1120965"/>
          <p:cNvPicPr/>
          <p:nvPr/>
        </p:nvPicPr>
        <p:blipFill>
          <a:blip r:embed="rId3"/>
          <a:stretch/>
        </p:blipFill>
        <p:spPr>
          <a:xfrm>
            <a:off x="4716360" y="620640"/>
            <a:ext cx="4284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1" name="Picture 6" descr="P1120982"/>
          <p:cNvPicPr/>
          <p:nvPr/>
        </p:nvPicPr>
        <p:blipFill>
          <a:blip r:embed="rId2"/>
          <a:stretch/>
        </p:blipFill>
        <p:spPr>
          <a:xfrm>
            <a:off x="250920" y="620640"/>
            <a:ext cx="3997080" cy="5329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P1120997"/>
          <p:cNvPicPr/>
          <p:nvPr/>
        </p:nvPicPr>
        <p:blipFill>
          <a:blip r:embed="rId3"/>
          <a:stretch/>
        </p:blipFill>
        <p:spPr>
          <a:xfrm>
            <a:off x="4284720" y="1916280"/>
            <a:ext cx="4643280" cy="34826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5"/>
          <p:cNvSpPr/>
          <p:nvPr/>
        </p:nvSpPr>
        <p:spPr>
          <a:xfrm>
            <a:off x="4155840" y="836640"/>
            <a:ext cx="473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Рисование штампами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Заключительный этап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585"/>
                </a:solidFill>
                <a:latin typeface="Times New Roman"/>
              </a:rPr>
              <a:t>Выставки работ: «Новогодняя открытка», «Весенняя капель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00585"/>
                </a:solidFill>
                <a:latin typeface="Times New Roman"/>
              </a:rPr>
              <a:t>Презентация книги « Колобок», иллюстрированной в совместной деятельности родителей и де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01360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Выставка </a:t>
            </a:r>
            <a:br>
              <a:rPr sz="3200"/>
            </a:br>
            <a:r>
              <a:rPr b="1" i="1" lang="ru-RU" sz="3200" spc="-1" strike="noStrike">
                <a:solidFill>
                  <a:srgbClr val="0000ff"/>
                </a:solidFill>
                <a:latin typeface="Times New Roman"/>
              </a:rPr>
              <a:t>«Весенняя капель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9" name="Picture 8" descr="P1120945"/>
          <p:cNvPicPr/>
          <p:nvPr/>
        </p:nvPicPr>
        <p:blipFill>
          <a:blip r:embed="rId2"/>
          <a:stretch/>
        </p:blipFill>
        <p:spPr>
          <a:xfrm>
            <a:off x="539640" y="2060640"/>
            <a:ext cx="3311640" cy="45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P1120940"/>
          <p:cNvPicPr/>
          <p:nvPr/>
        </p:nvPicPr>
        <p:blipFill>
          <a:blip r:embed="rId3"/>
          <a:stretch/>
        </p:blipFill>
        <p:spPr>
          <a:xfrm>
            <a:off x="4500720" y="260280"/>
            <a:ext cx="4192560" cy="35751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1120941"/>
          <p:cNvPicPr/>
          <p:nvPr/>
        </p:nvPicPr>
        <p:blipFill>
          <a:blip r:embed="rId4"/>
          <a:stretch/>
        </p:blipFill>
        <p:spPr>
          <a:xfrm>
            <a:off x="4859280" y="3933720"/>
            <a:ext cx="367344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4:32Z</dcterms:created>
  <dc:creator>Саша</dc:creator>
  <dc:description/>
  <dc:language>en-US</dc:language>
  <cp:lastModifiedBy>USER</cp:lastModifiedBy>
  <dcterms:modified xsi:type="dcterms:W3CDTF">2017-01-11T17:32:45Z</dcterms:modified>
  <cp:revision>86</cp:revision>
  <dc:subject/>
  <dc:title>Слайд 1</dc:title>
</cp:coreProperties>
</file>