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304-9E1F-4228-9BCC-67B54AA9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A7E-468E-4302-84E8-9A2E235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F22-09B2-4B9F-A38C-327868AE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08B-68FB-4AC1-9878-5D8B8ABE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B392-A699-4752-9E94-2247B6BA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77E0-A2A0-4849-BD41-1D28DB5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F2EE-793E-4A11-80D5-D275A442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201E-7202-4059-99A1-471F85EA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9399-A770-4912-9DBC-0CD5E41F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293A-2AC1-4884-961B-18C55BD8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17E1-D4FB-45EE-BB7A-3F67815A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1B4-7A80-47D6-A6FC-1E8C3941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AFE8-8D3C-4B61-872A-BB5A620C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1ED4-694F-452D-9D58-FEBD97F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EA9A-23A3-48D1-B45A-583F075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D87A-7BB3-4D51-9FBD-18CCB638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BDB1-C12A-4A21-A88B-B67C93CC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D30E-F573-4999-888D-568939D8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A1D52-D2E6-477A-8C78-FDE095A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73B3-245A-4F68-BBB8-C3DD0F02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77F8-684B-4B17-A301-CE4EF8B1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E16D-56D1-4931-AD1B-140B5733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071-50FA-49A7-844C-DCE231EB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22E4-4B0E-4D06-BE25-ADE5A03E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F488-7017-41E8-8C02-00DCB1CE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3AE9-5BCF-47F7-9D31-D91239E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17B2-538F-41D2-841C-F177C9E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E8BA-4925-470D-8CA0-97BA8C4D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7A95-6530-41CC-B6DB-46E34FE5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F5E6-EAC5-422F-991D-0FD580E2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8547-1216-498D-8C3B-D6F03A55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36FF-34BB-4A39-BDED-41541DEB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F0B8-3785-42D1-A5D9-814EB7F2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5F4-7D83-426C-9AB6-FD6F97D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7B481-ECE2-4E29-913C-77F24C7B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3702-E355-496B-A6BB-564BC36B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82335-BF19-4C80-8661-04E036F8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D14F-DEF8-4AFF-A9EB-93CB72E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8650-5CE5-434D-B4F3-A1918950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3ABE-4B8C-4F9A-AE87-67472CE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2824-E4CC-4E88-BF11-3E29144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F4054-C193-4D83-A54F-9ED2B15B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84ECF-1986-4106-A3E0-E1D6E5A8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234-211C-4745-9E37-2FB94DE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708-8DE6-4130-AE3A-AA4BCCDD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B36-1A7A-4B5A-A957-5826684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435-169A-4DE9-A1B9-5D8F1C5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802-50EF-48B9-935F-A421412C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5DC4-9EEB-421F-9DB9-DACED5E74FDE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B118-8D49-4ECC-93EB-6D02CC2F90D8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437A-8BB0-4584-84DF-E48D6C311CB6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49E2-8907-4BFE-B926-48C78D60A951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8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61128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00720" y="691920"/>
            <a:ext cx="41860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0059"/>
                </a:solidFill>
                <a:latin typeface="Calibri"/>
              </a:rPr>
              <a:t>Развитие художественно-творческих способностей детей младшего дошкольного возраста посредством использования нетрадиционных техник в художественно-продуктивной деятельности.</a:t>
            </a: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   Часть 2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полнила воспитатель Лобанцова Е.Е.</a:t>
            </a:r>
            <a:endParaRPr b="0" lang="en-US" sz="2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98" name="Содержимое 6" descr="178098.jpg"/>
          <p:cNvPicPr/>
          <p:nvPr/>
        </p:nvPicPr>
        <p:blipFill>
          <a:blip r:embed="rId2"/>
          <a:stretch/>
        </p:blipFill>
        <p:spPr>
          <a:xfrm>
            <a:off x="684360" y="1125360"/>
            <a:ext cx="32907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Выставка </a:t>
            </a:r>
            <a:br>
              <a:rPr sz="2800"/>
            </a:b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« Новогодняя открытка»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4" name="Picture 8" descr="P1120488"/>
          <p:cNvPicPr/>
          <p:nvPr/>
        </p:nvPicPr>
        <p:blipFill>
          <a:blip r:embed="rId2"/>
          <a:stretch/>
        </p:blipFill>
        <p:spPr>
          <a:xfrm>
            <a:off x="395280" y="1700280"/>
            <a:ext cx="3660840" cy="496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P1120485"/>
          <p:cNvPicPr/>
          <p:nvPr/>
        </p:nvPicPr>
        <p:blipFill>
          <a:blip r:embed="rId3"/>
          <a:stretch/>
        </p:blipFill>
        <p:spPr>
          <a:xfrm>
            <a:off x="6012000" y="189000"/>
            <a:ext cx="2808000" cy="374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P1120486"/>
          <p:cNvPicPr/>
          <p:nvPr/>
        </p:nvPicPr>
        <p:blipFill>
          <a:blip r:embed="rId4"/>
          <a:stretch/>
        </p:blipFill>
        <p:spPr>
          <a:xfrm>
            <a:off x="4578480" y="2708280"/>
            <a:ext cx="3089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72000" y="333360"/>
            <a:ext cx="231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e40059"/>
                </a:solidFill>
                <a:latin typeface="Arial"/>
              </a:rPr>
              <a:t>9 мая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9" name="Picture 10" descr="P1130025"/>
          <p:cNvPicPr/>
          <p:nvPr/>
        </p:nvPicPr>
        <p:blipFill>
          <a:blip r:embed="rId2"/>
          <a:stretch/>
        </p:blipFill>
        <p:spPr>
          <a:xfrm>
            <a:off x="272880" y="0"/>
            <a:ext cx="2627640" cy="3860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P1130026"/>
          <p:cNvPicPr/>
          <p:nvPr/>
        </p:nvPicPr>
        <p:blipFill>
          <a:blip r:embed="rId3"/>
          <a:stretch/>
        </p:blipFill>
        <p:spPr>
          <a:xfrm>
            <a:off x="2987640" y="0"/>
            <a:ext cx="2827440" cy="3768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P1130028"/>
          <p:cNvPicPr/>
          <p:nvPr/>
        </p:nvPicPr>
        <p:blipFill>
          <a:blip r:embed="rId4"/>
          <a:stretch/>
        </p:blipFill>
        <p:spPr>
          <a:xfrm>
            <a:off x="900000" y="4005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P1130036"/>
          <p:cNvPicPr/>
          <p:nvPr/>
        </p:nvPicPr>
        <p:blipFill>
          <a:blip r:embed="rId5"/>
          <a:stretch/>
        </p:blipFill>
        <p:spPr>
          <a:xfrm>
            <a:off x="5364000" y="1628640"/>
            <a:ext cx="3780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66666"/>
                </a:solidFill>
                <a:latin typeface="Calibri"/>
              </a:rPr>
              <a:t>                </a:t>
            </a: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Мастер-класс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5" name="Picture 5" descr="IMG_2786"/>
          <p:cNvPicPr/>
          <p:nvPr/>
        </p:nvPicPr>
        <p:blipFill>
          <a:blip r:embed="rId2"/>
          <a:stretch/>
        </p:blipFill>
        <p:spPr>
          <a:xfrm>
            <a:off x="539640" y="765000"/>
            <a:ext cx="7775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8" name="Picture 7" descr="IMG_2788"/>
          <p:cNvPicPr/>
          <p:nvPr/>
        </p:nvPicPr>
        <p:blipFill>
          <a:blip r:embed="rId2"/>
          <a:stretch/>
        </p:blipFill>
        <p:spPr>
          <a:xfrm>
            <a:off x="179280" y="189000"/>
            <a:ext cx="4335480" cy="3251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IMG_2789"/>
          <p:cNvPicPr/>
          <p:nvPr/>
        </p:nvPicPr>
        <p:blipFill>
          <a:blip r:embed="rId3"/>
          <a:stretch/>
        </p:blipFill>
        <p:spPr>
          <a:xfrm>
            <a:off x="4643280" y="1890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IMG_2790"/>
          <p:cNvPicPr/>
          <p:nvPr/>
        </p:nvPicPr>
        <p:blipFill>
          <a:blip r:embed="rId4"/>
          <a:stretch/>
        </p:blipFill>
        <p:spPr>
          <a:xfrm>
            <a:off x="179280" y="3573360"/>
            <a:ext cx="4319640" cy="3097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IMG_2791"/>
          <p:cNvPicPr/>
          <p:nvPr/>
        </p:nvPicPr>
        <p:blipFill>
          <a:blip r:embed="rId5"/>
          <a:stretch/>
        </p:blipFill>
        <p:spPr>
          <a:xfrm>
            <a:off x="4716360" y="353232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54" name="Picture 11" descr="P1130047"/>
          <p:cNvPicPr/>
          <p:nvPr/>
        </p:nvPicPr>
        <p:blipFill>
          <a:blip r:embed="rId2"/>
          <a:stretch/>
        </p:blipFill>
        <p:spPr>
          <a:xfrm>
            <a:off x="324000" y="189000"/>
            <a:ext cx="8577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68508720" y="69937200"/>
            <a:ext cx="9429480" cy="714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Documents and Settings\саша\Рабочий стол\сканированное для конкурса\7e1dbcd2ca5a.jpg"/>
          <p:cNvPicPr/>
          <p:nvPr/>
        </p:nvPicPr>
        <p:blipFill>
          <a:blip r:embed="rId2"/>
          <a:stretch/>
        </p:blipFill>
        <p:spPr>
          <a:xfrm>
            <a:off x="68661000" y="70089840"/>
            <a:ext cx="9429840" cy="71434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C:\Documents and Settings\саша\Рабочий стол\сканированное для конкурса\7e1dbcd2ca5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1"/>
          <p:cNvSpPr/>
          <p:nvPr/>
        </p:nvSpPr>
        <p:spPr>
          <a:xfrm>
            <a:off x="3429000" y="32148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Итог обыденной работы-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Восторг волшебного полёта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Всё это – дивное явленье –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Занятие, рождённое вдохновеньем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Arial"/>
              </a:rPr>
              <a:t>            </a:t>
            </a:r>
            <a:r>
              <a:rPr b="0" i="1" lang="ru-RU" sz="3600" spc="-1" strike="noStrike">
                <a:solidFill>
                  <a:srgbClr val="e40059"/>
                </a:solidFill>
                <a:latin typeface="Arial"/>
              </a:rPr>
              <a:t>Пластилинография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1" name="Picture 6" descr="P1120829"/>
          <p:cNvPicPr/>
          <p:nvPr/>
        </p:nvPicPr>
        <p:blipFill>
          <a:blip r:embed="rId2"/>
          <a:stretch/>
        </p:blipFill>
        <p:spPr>
          <a:xfrm>
            <a:off x="971640" y="1628640"/>
            <a:ext cx="6597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e40059"/>
                </a:solidFill>
                <a:latin typeface="Calibri"/>
              </a:rPr>
              <a:t>            </a:t>
            </a:r>
            <a:r>
              <a:rPr b="0" i="1" lang="ru-RU" sz="5000" spc="-1" strike="noStrike">
                <a:solidFill>
                  <a:srgbClr val="e40059"/>
                </a:solidFill>
                <a:latin typeface="Calibri"/>
              </a:rPr>
              <a:t>Цветы для мамы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4" name="Picture 11" descr="P1120931"/>
          <p:cNvPicPr/>
          <p:nvPr/>
        </p:nvPicPr>
        <p:blipFill>
          <a:blip r:embed="rId2"/>
          <a:stretch/>
        </p:blipFill>
        <p:spPr>
          <a:xfrm>
            <a:off x="755640" y="1197000"/>
            <a:ext cx="784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66666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200585"/>
                </a:solidFill>
                <a:latin typeface="Calibri"/>
              </a:rPr>
              <a:t>Наши папы молодцы, поздравляем от души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7" name="Picture 9" descr="P1120932"/>
          <p:cNvPicPr/>
          <p:nvPr/>
        </p:nvPicPr>
        <p:blipFill>
          <a:blip r:embed="rId2"/>
          <a:stretch/>
        </p:blipFill>
        <p:spPr>
          <a:xfrm>
            <a:off x="1063800" y="1935000"/>
            <a:ext cx="2823840" cy="2117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P1120933"/>
          <p:cNvPicPr/>
          <p:nvPr/>
        </p:nvPicPr>
        <p:blipFill>
          <a:blip r:embed="rId3"/>
          <a:stretch/>
        </p:blipFill>
        <p:spPr>
          <a:xfrm>
            <a:off x="5254560" y="1935000"/>
            <a:ext cx="2824200" cy="2117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P1120934"/>
          <p:cNvPicPr/>
          <p:nvPr/>
        </p:nvPicPr>
        <p:blipFill>
          <a:blip r:embed="rId4"/>
          <a:stretch/>
        </p:blipFill>
        <p:spPr>
          <a:xfrm>
            <a:off x="1063800" y="4205160"/>
            <a:ext cx="2825640" cy="211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P1120935"/>
          <p:cNvPicPr/>
          <p:nvPr/>
        </p:nvPicPr>
        <p:blipFill>
          <a:blip r:embed="rId5"/>
          <a:stretch/>
        </p:blipFill>
        <p:spPr>
          <a:xfrm>
            <a:off x="5254560" y="4205160"/>
            <a:ext cx="28256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Дымковский козлик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3" name="Picture 9" descr="P1120956"/>
          <p:cNvPicPr/>
          <p:nvPr/>
        </p:nvPicPr>
        <p:blipFill>
          <a:blip r:embed="rId2"/>
          <a:stretch/>
        </p:blipFill>
        <p:spPr>
          <a:xfrm>
            <a:off x="250920" y="2133720"/>
            <a:ext cx="4506840" cy="360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P1120958"/>
          <p:cNvPicPr/>
          <p:nvPr/>
        </p:nvPicPr>
        <p:blipFill>
          <a:blip r:embed="rId3"/>
          <a:stretch/>
        </p:blipFill>
        <p:spPr>
          <a:xfrm>
            <a:off x="4859280" y="620640"/>
            <a:ext cx="404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7" name="Picture 10" descr="P1120964"/>
          <p:cNvPicPr/>
          <p:nvPr/>
        </p:nvPicPr>
        <p:blipFill>
          <a:blip r:embed="rId2"/>
          <a:stretch/>
        </p:blipFill>
        <p:spPr>
          <a:xfrm>
            <a:off x="250920" y="620640"/>
            <a:ext cx="4324320" cy="5765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P1120965"/>
          <p:cNvPicPr/>
          <p:nvPr/>
        </p:nvPicPr>
        <p:blipFill>
          <a:blip r:embed="rId3"/>
          <a:stretch/>
        </p:blipFill>
        <p:spPr>
          <a:xfrm>
            <a:off x="4716360" y="620640"/>
            <a:ext cx="428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1" name="Picture 6" descr="P1120982"/>
          <p:cNvPicPr/>
          <p:nvPr/>
        </p:nvPicPr>
        <p:blipFill>
          <a:blip r:embed="rId2"/>
          <a:stretch/>
        </p:blipFill>
        <p:spPr>
          <a:xfrm>
            <a:off x="250920" y="620640"/>
            <a:ext cx="3997080" cy="5329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P1120997"/>
          <p:cNvPicPr/>
          <p:nvPr/>
        </p:nvPicPr>
        <p:blipFill>
          <a:blip r:embed="rId3"/>
          <a:stretch/>
        </p:blipFill>
        <p:spPr>
          <a:xfrm>
            <a:off x="4284720" y="1916280"/>
            <a:ext cx="4643280" cy="34826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5"/>
          <p:cNvSpPr/>
          <p:nvPr/>
        </p:nvSpPr>
        <p:spPr>
          <a:xfrm>
            <a:off x="4155840" y="836640"/>
            <a:ext cx="47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40059"/>
                </a:solidFill>
                <a:latin typeface="Times New Roman"/>
              </a:rPr>
              <a:t>Рисование штампами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          </a:t>
            </a: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Заключительный этап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0585"/>
                </a:solidFill>
                <a:latin typeface="Times New Roman"/>
              </a:rPr>
              <a:t>Выставки работ: «Новогодняя открытка», «Весенняя капел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0585"/>
                </a:solidFill>
                <a:latin typeface="Times New Roman"/>
              </a:rPr>
              <a:t>Презентация книги « Колобок», иллюстрированной в совместной деятельности родителей и де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13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Выставка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Весенняя капель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9" name="Picture 8" descr="P1120945"/>
          <p:cNvPicPr/>
          <p:nvPr/>
        </p:nvPicPr>
        <p:blipFill>
          <a:blip r:embed="rId2"/>
          <a:stretch/>
        </p:blipFill>
        <p:spPr>
          <a:xfrm>
            <a:off x="539640" y="2060640"/>
            <a:ext cx="3311640" cy="453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P1120940"/>
          <p:cNvPicPr/>
          <p:nvPr/>
        </p:nvPicPr>
        <p:blipFill>
          <a:blip r:embed="rId3"/>
          <a:stretch/>
        </p:blipFill>
        <p:spPr>
          <a:xfrm>
            <a:off x="4500720" y="260280"/>
            <a:ext cx="4192560" cy="3575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1120941"/>
          <p:cNvPicPr/>
          <p:nvPr/>
        </p:nvPicPr>
        <p:blipFill>
          <a:blip r:embed="rId4"/>
          <a:stretch/>
        </p:blipFill>
        <p:spPr>
          <a:xfrm>
            <a:off x="4859280" y="393372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4:32Z</dcterms:created>
  <dc:creator>Саша</dc:creator>
  <dc:description/>
  <dc:language>en-US</dc:language>
  <cp:lastModifiedBy>USER</cp:lastModifiedBy>
  <dcterms:modified xsi:type="dcterms:W3CDTF">2017-01-11T17:32:45Z</dcterms:modified>
  <cp:revision>86</cp:revision>
  <dc:subject/>
  <dc:title>Слайд 1</dc:title>
</cp:coreProperties>
</file>