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A97-FF3C-4D73-B4F6-B3122036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B2A-DFA3-4B29-A4A3-5BD9E692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E854-55C8-4FE0-AB78-8161D2D2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CE4-B9A2-459D-BBBC-2E26FD24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10A4-836C-458F-A32A-285EBF5E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52C9-6380-4167-872C-4F3F2FC2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0C55-800F-4954-B887-A7C43B90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07F7-DF33-4D96-AC51-C6312DCD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E792-3850-4964-9467-D2E6A246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94CD-C355-48D3-A4FD-AED3172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4A18-6F34-4DCB-8B9C-92B23AE2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E86-E8F0-4CFD-A38F-4503DFD9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57C8-1C09-48B6-865E-3AF4F694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A819-792C-425B-840C-A67D2B25A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281B-D61B-41C1-A9C4-621E11A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CFE-31F3-4BE7-8478-D41E02A6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409C8-BF9D-4882-B64F-B8B7FF05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28E5-7CC1-4259-9FEA-8065E1BA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9CAF-5509-4735-A249-4AF1AC8A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24E5-0506-4B40-8CF9-46614F08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6DD3-34A2-404E-B5DD-167B266B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19096-90A3-47A7-BD66-45C900902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E83-1CB6-482E-9242-E250CCE7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194A6-8CBC-4257-BB3A-46451B12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A52C-36E0-479D-ADBC-C2BE931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3F9CA-406B-4E60-B357-CCF4926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F099D-CD97-4775-8D7E-E72246DA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3D0D6-532F-4BBA-90BA-4892C9F9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BC6B-3BF9-4C75-8B50-2A569594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DBC5-662B-4E4D-98AA-5BA3AFF0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43BBE-B6D0-4BD2-B989-EEF2C2A7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346FE-3269-47F6-833D-2A8A0D6C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E3ED6-3E78-4D93-BB45-0336EE46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664-D4C3-43A9-93E1-2353A27C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0A015-0B1B-40B9-AFEB-4FF15AB9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C9A52-8310-4B52-9605-103100F0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9F4F-6FCD-4E32-A46A-D352BA0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082C-197A-4E69-8EA4-91926804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38FF-48EF-4518-B178-469ECCD9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44E5-713E-4AAC-9AD3-0F840E20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BFF3E-EEF3-4DFF-B387-860AB979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FFB3-A536-44F8-BB44-83F0A104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DE9D-86C2-44E3-9B8B-300A3D57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490F-83E8-410F-A134-E8A7E8AA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636E-4F56-4490-8FD4-AFE96BE3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4CB-FC82-42F1-9367-2CEDA481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EE4-5274-49A7-B573-BDDA4694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D7A4-F897-4506-B3E3-7E226230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3FE4-5075-49BB-B0F5-2527ABD38D90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1873-B430-495F-B08F-641F7DC1E103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042D-5664-4A90-ABC4-E35355FCA4E7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64CD-9980-4931-B3D3-A1C1362EC168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611280" y="83664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00720" y="691920"/>
            <a:ext cx="4186080" cy="51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40059"/>
                </a:solidFill>
                <a:latin typeface="Calibri"/>
              </a:rPr>
              <a:t>Развитие художественно-творческих способностей детей младшего дошкольного возраста посредством использования нетрадиционных техник в художественно-продуктивной деятельности.</a:t>
            </a: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666666"/>
                </a:solidFill>
                <a:latin typeface="Calibri"/>
              </a:rPr>
              <a:t>         часть 1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ыполнила воспитатель Лобанцова Е.Е.</a:t>
            </a:r>
            <a:endParaRPr b="0" lang="en-US" sz="2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198" name="Содержимое 6" descr="178098.jpg"/>
          <p:cNvPicPr/>
          <p:nvPr/>
        </p:nvPicPr>
        <p:blipFill>
          <a:blip r:embed="rId2"/>
          <a:stretch/>
        </p:blipFill>
        <p:spPr>
          <a:xfrm>
            <a:off x="684360" y="1125360"/>
            <a:ext cx="329076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Нетрадиционные техник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альчик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ладош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ватной палочк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ттиск листья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ттиск поролон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восковыми мелк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Тычок жёсткой кистью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мокром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шабло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солью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исование по манной круп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ластилинографи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катывание бумаг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Рисование пальчикам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5" name="Picture 7" descr="P1120824"/>
          <p:cNvPicPr/>
          <p:nvPr/>
        </p:nvPicPr>
        <p:blipFill>
          <a:blip r:embed="rId2"/>
          <a:stretch/>
        </p:blipFill>
        <p:spPr>
          <a:xfrm>
            <a:off x="324000" y="2133720"/>
            <a:ext cx="4254480" cy="3460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P1120826"/>
          <p:cNvPicPr/>
          <p:nvPr/>
        </p:nvPicPr>
        <p:blipFill>
          <a:blip r:embed="rId3"/>
          <a:stretch/>
        </p:blipFill>
        <p:spPr>
          <a:xfrm>
            <a:off x="5076720" y="2060640"/>
            <a:ext cx="3311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29" name="Picture 12" descr="P1120979"/>
          <p:cNvPicPr/>
          <p:nvPr/>
        </p:nvPicPr>
        <p:blipFill>
          <a:blip r:embed="rId2"/>
          <a:stretch/>
        </p:blipFill>
        <p:spPr>
          <a:xfrm>
            <a:off x="5940360" y="333360"/>
            <a:ext cx="2916360" cy="3886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P1120976"/>
          <p:cNvPicPr/>
          <p:nvPr/>
        </p:nvPicPr>
        <p:blipFill>
          <a:blip r:embed="rId3"/>
          <a:stretch/>
        </p:blipFill>
        <p:spPr>
          <a:xfrm>
            <a:off x="179280" y="260280"/>
            <a:ext cx="4268880" cy="5689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5" descr="P1120977"/>
          <p:cNvPicPr/>
          <p:nvPr/>
        </p:nvPicPr>
        <p:blipFill>
          <a:blip r:embed="rId4"/>
          <a:stretch/>
        </p:blipFill>
        <p:spPr>
          <a:xfrm>
            <a:off x="4643280" y="3645000"/>
            <a:ext cx="2237040" cy="29829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6"/>
          <p:cNvSpPr/>
          <p:nvPr/>
        </p:nvSpPr>
        <p:spPr>
          <a:xfrm>
            <a:off x="611280" y="544500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Рисование ладошкой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6021000"/>
            <a:ext cx="7221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Снежок порхает ,кружится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5" name="Picture 6" descr="P1120814"/>
          <p:cNvPicPr/>
          <p:nvPr/>
        </p:nvPicPr>
        <p:blipFill>
          <a:blip r:embed="rId2"/>
          <a:stretch/>
        </p:blipFill>
        <p:spPr>
          <a:xfrm>
            <a:off x="1116000" y="1197000"/>
            <a:ext cx="6842160" cy="51307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4"/>
          <p:cNvSpPr/>
          <p:nvPr/>
        </p:nvSpPr>
        <p:spPr>
          <a:xfrm>
            <a:off x="1787760" y="333360"/>
            <a:ext cx="59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00585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Рисование ватными палочкам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43588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Arial"/>
              </a:rPr>
              <a:t>Родное село зимой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39" name="Picture 7" descr="P1120631"/>
          <p:cNvPicPr/>
          <p:nvPr/>
        </p:nvPicPr>
        <p:blipFill>
          <a:blip r:embed="rId2"/>
          <a:stretch/>
        </p:blipFill>
        <p:spPr>
          <a:xfrm>
            <a:off x="250920" y="2133720"/>
            <a:ext cx="4038480" cy="3892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P1120634"/>
          <p:cNvPicPr/>
          <p:nvPr/>
        </p:nvPicPr>
        <p:blipFill>
          <a:blip r:embed="rId3"/>
          <a:stretch/>
        </p:blipFill>
        <p:spPr>
          <a:xfrm>
            <a:off x="4500720" y="836640"/>
            <a:ext cx="446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Деревья в снегу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3" name="Picture 7" descr="P1120633"/>
          <p:cNvPicPr/>
          <p:nvPr/>
        </p:nvPicPr>
        <p:blipFill>
          <a:blip r:embed="rId2"/>
          <a:stretch/>
        </p:blipFill>
        <p:spPr>
          <a:xfrm>
            <a:off x="250920" y="765000"/>
            <a:ext cx="3960720" cy="5334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P1120628"/>
          <p:cNvPicPr/>
          <p:nvPr/>
        </p:nvPicPr>
        <p:blipFill>
          <a:blip r:embed="rId3"/>
          <a:stretch/>
        </p:blipFill>
        <p:spPr>
          <a:xfrm>
            <a:off x="4356000" y="1916280"/>
            <a:ext cx="4608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Arial"/>
              </a:rPr>
              <a:t>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Оттиск листьями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47" name="Picture 4" descr="P1090403"/>
          <p:cNvPicPr/>
          <p:nvPr/>
        </p:nvPicPr>
        <p:blipFill>
          <a:blip r:embed="rId2"/>
          <a:stretch/>
        </p:blipFill>
        <p:spPr>
          <a:xfrm>
            <a:off x="324000" y="90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980640"/>
            <a:ext cx="403848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00585"/>
                </a:solidFill>
                <a:latin typeface="Constantia"/>
              </a:rPr>
              <a:t>     </a:t>
            </a:r>
            <a:r>
              <a:rPr b="0" i="1" lang="ru-RU" sz="2000" spc="-1" strike="noStrike">
                <a:solidFill>
                  <a:srgbClr val="200585"/>
                </a:solidFill>
                <a:latin typeface="Constantia"/>
              </a:rPr>
              <a:t>Осенью, гуляя с ребёнком в парке, можно собрать листья с различных деревьев, их покрывают гуашью, затем окрашенной стороной кладут на лист бумаги, прижимают и снимают, получается отпечаток растения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P1090401"/>
          <p:cNvPicPr/>
          <p:nvPr/>
        </p:nvPicPr>
        <p:blipFill>
          <a:blip r:embed="rId3"/>
          <a:stretch/>
        </p:blipFill>
        <p:spPr>
          <a:xfrm>
            <a:off x="4572000" y="3573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Рисование восковыми мелками 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2" name="Picture 10" descr="P1120830"/>
          <p:cNvPicPr/>
          <p:nvPr/>
        </p:nvPicPr>
        <p:blipFill>
          <a:blip r:embed="rId2"/>
          <a:stretch/>
        </p:blipFill>
        <p:spPr>
          <a:xfrm>
            <a:off x="250920" y="25653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3" descr="P1120647"/>
          <p:cNvPicPr/>
          <p:nvPr/>
        </p:nvPicPr>
        <p:blipFill>
          <a:blip r:embed="rId3"/>
          <a:stretch/>
        </p:blipFill>
        <p:spPr>
          <a:xfrm>
            <a:off x="4427640" y="2133720"/>
            <a:ext cx="4572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56" name="Picture 13" descr="P1120736"/>
          <p:cNvPicPr/>
          <p:nvPr/>
        </p:nvPicPr>
        <p:blipFill>
          <a:blip r:embed="rId2"/>
          <a:stretch/>
        </p:blipFill>
        <p:spPr>
          <a:xfrm>
            <a:off x="250920" y="404640"/>
            <a:ext cx="4159080" cy="5545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P1120741"/>
          <p:cNvPicPr/>
          <p:nvPr/>
        </p:nvPicPr>
        <p:blipFill>
          <a:blip r:embed="rId3"/>
          <a:stretch/>
        </p:blipFill>
        <p:spPr>
          <a:xfrm>
            <a:off x="4572000" y="260280"/>
            <a:ext cx="4264200" cy="31258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P1120742"/>
          <p:cNvPicPr/>
          <p:nvPr/>
        </p:nvPicPr>
        <p:blipFill>
          <a:blip r:embed="rId4"/>
          <a:stretch/>
        </p:blipFill>
        <p:spPr>
          <a:xfrm>
            <a:off x="4572000" y="3537000"/>
            <a:ext cx="4248000" cy="3132000"/>
          </a:xfrm>
          <a:prstGeom prst="rect">
            <a:avLst/>
          </a:prstGeom>
          <a:ln w="0">
            <a:noFill/>
          </a:ln>
        </p:spPr>
      </p:pic>
      <p:sp>
        <p:nvSpPr>
          <p:cNvPr id="259" name="Прямоугольник 6"/>
          <p:cNvSpPr/>
          <p:nvPr/>
        </p:nvSpPr>
        <p:spPr>
          <a:xfrm>
            <a:off x="325080" y="616572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Оттиск поролоном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           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Picture 5" descr="P1120827"/>
          <p:cNvPicPr/>
          <p:nvPr/>
        </p:nvPicPr>
        <p:blipFill>
          <a:blip r:embed="rId2"/>
          <a:stretch/>
        </p:blipFill>
        <p:spPr>
          <a:xfrm>
            <a:off x="539640" y="307800"/>
            <a:ext cx="8353440" cy="605952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2634480" y="476280"/>
            <a:ext cx="37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Рисование по мокрому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611280" y="836640"/>
            <a:ext cx="79930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r>
              <a:rPr b="1" i="1" lang="ru-RU" sz="3200" spc="-1" strike="noStrike">
                <a:solidFill>
                  <a:srgbClr val="e40059"/>
                </a:solidFill>
                <a:latin typeface="Arial"/>
              </a:rPr>
              <a:t>Визитная карточка проекта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Место проведени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МКОУ «Великогубская СОШ» Дошкольные группы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Срок проведения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сентябрь 2013 – май 2015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Автор проекта: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оспитатель 1  квалификационной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категории   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Лобанцова Е.Е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40059"/>
                </a:solidFill>
                <a:latin typeface="Arial"/>
              </a:rPr>
              <a:t>Участники проекта: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оспитатели и дети младшей и средней  группы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Родители воспитанни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67" name="Picture 7" descr="P1120983"/>
          <p:cNvPicPr/>
          <p:nvPr/>
        </p:nvPicPr>
        <p:blipFill>
          <a:blip r:embed="rId2"/>
          <a:stretch/>
        </p:blipFill>
        <p:spPr>
          <a:xfrm>
            <a:off x="324000" y="260280"/>
            <a:ext cx="2755800" cy="36720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P1120988"/>
          <p:cNvPicPr/>
          <p:nvPr/>
        </p:nvPicPr>
        <p:blipFill>
          <a:blip r:embed="rId3"/>
          <a:stretch/>
        </p:blipFill>
        <p:spPr>
          <a:xfrm>
            <a:off x="4211640" y="260280"/>
            <a:ext cx="313380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P1120994"/>
          <p:cNvPicPr/>
          <p:nvPr/>
        </p:nvPicPr>
        <p:blipFill>
          <a:blip r:embed="rId4"/>
          <a:stretch/>
        </p:blipFill>
        <p:spPr>
          <a:xfrm>
            <a:off x="1544760" y="3357720"/>
            <a:ext cx="2625480" cy="35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6" descr="P1120996"/>
          <p:cNvPicPr/>
          <p:nvPr/>
        </p:nvPicPr>
        <p:blipFill>
          <a:blip r:embed="rId5"/>
          <a:stretch/>
        </p:blipFill>
        <p:spPr>
          <a:xfrm>
            <a:off x="6300720" y="2924280"/>
            <a:ext cx="2625840" cy="35002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7"/>
          <p:cNvSpPr/>
          <p:nvPr/>
        </p:nvSpPr>
        <p:spPr>
          <a:xfrm>
            <a:off x="4436640" y="6021360"/>
            <a:ext cx="44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Тычок  жесткой  кистью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. 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4" name="Picture 6" descr="P1120987"/>
          <p:cNvPicPr/>
          <p:nvPr/>
        </p:nvPicPr>
        <p:blipFill>
          <a:blip r:embed="rId2"/>
          <a:stretch/>
        </p:blipFill>
        <p:spPr>
          <a:xfrm>
            <a:off x="539640" y="314280"/>
            <a:ext cx="8280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Times New Roman"/>
              </a:rPr>
              <a:t>Рисование по манной крупе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77" name="Picture 7" descr="P1120450"/>
          <p:cNvPicPr/>
          <p:nvPr/>
        </p:nvPicPr>
        <p:blipFill>
          <a:blip r:embed="rId2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9" descr="P1120451"/>
          <p:cNvPicPr/>
          <p:nvPr/>
        </p:nvPicPr>
        <p:blipFill>
          <a:blip r:embed="rId3"/>
          <a:stretch/>
        </p:blipFill>
        <p:spPr>
          <a:xfrm>
            <a:off x="4788000" y="328464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Рисование солью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81" name="Picture 7" descr="P1120913"/>
          <p:cNvPicPr/>
          <p:nvPr/>
        </p:nvPicPr>
        <p:blipFill>
          <a:blip r:embed="rId2"/>
          <a:stretch/>
        </p:blipFill>
        <p:spPr>
          <a:xfrm>
            <a:off x="250920" y="333360"/>
            <a:ext cx="4335480" cy="3251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P1120918"/>
          <p:cNvPicPr/>
          <p:nvPr/>
        </p:nvPicPr>
        <p:blipFill>
          <a:blip r:embed="rId3"/>
          <a:stretch/>
        </p:blipFill>
        <p:spPr>
          <a:xfrm>
            <a:off x="4932360" y="3357720"/>
            <a:ext cx="2624040" cy="35002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0384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00585"/>
                </a:solidFill>
                <a:latin typeface="Times New Roman"/>
              </a:rPr>
              <a:t>На заранее нанесённый клей по контуру рисунка, ребёнок пальчиками посыпает соль, которая засыхает на клею, затем наносится краска.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20058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6666"/>
                </a:solidFill>
                <a:latin typeface="Calibri"/>
              </a:rPr>
              <a:t>      </a:t>
            </a:r>
            <a:r>
              <a:rPr b="0" i="1" lang="ru-RU" sz="4000" spc="-1" strike="noStrike">
                <a:solidFill>
                  <a:srgbClr val="e40059"/>
                </a:solidFill>
                <a:latin typeface="Calibri"/>
              </a:rPr>
              <a:t>Яйца-писанки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86" name="Picture 10" descr="P1120919"/>
          <p:cNvPicPr/>
          <p:nvPr/>
        </p:nvPicPr>
        <p:blipFill>
          <a:blip r:embed="rId2"/>
          <a:stretch/>
        </p:blipFill>
        <p:spPr>
          <a:xfrm>
            <a:off x="468360" y="1125360"/>
            <a:ext cx="3889440" cy="5256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1" descr="P1120917"/>
          <p:cNvPicPr/>
          <p:nvPr/>
        </p:nvPicPr>
        <p:blipFill>
          <a:blip r:embed="rId3"/>
          <a:stretch/>
        </p:blipFill>
        <p:spPr>
          <a:xfrm>
            <a:off x="4643280" y="3573360"/>
            <a:ext cx="4249800" cy="2951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5" descr="P1120907"/>
          <p:cNvPicPr/>
          <p:nvPr/>
        </p:nvPicPr>
        <p:blipFill>
          <a:blip r:embed="rId4"/>
          <a:stretch/>
        </p:blipFill>
        <p:spPr>
          <a:xfrm>
            <a:off x="4643280" y="260280"/>
            <a:ext cx="424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e40059"/>
                </a:solidFill>
                <a:latin typeface="Arial"/>
              </a:rPr>
              <a:t>                                    </a:t>
            </a:r>
            <a:r>
              <a:rPr b="0" i="1" lang="ru-RU" sz="4000" spc="-1" strike="noStrike">
                <a:solidFill>
                  <a:srgbClr val="e40059"/>
                </a:solidFill>
                <a:latin typeface="Times New Roman"/>
              </a:rPr>
              <a:t>Снеговик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91" name="Picture 8" descr="Фото0083"/>
          <p:cNvPicPr/>
          <p:nvPr/>
        </p:nvPicPr>
        <p:blipFill>
          <a:blip r:embed="rId2"/>
          <a:stretch/>
        </p:blipFill>
        <p:spPr>
          <a:xfrm>
            <a:off x="468360" y="765000"/>
            <a:ext cx="4105080" cy="54723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Фото0086"/>
          <p:cNvPicPr/>
          <p:nvPr/>
        </p:nvPicPr>
        <p:blipFill>
          <a:blip r:embed="rId3"/>
          <a:stretch/>
        </p:blipFill>
        <p:spPr>
          <a:xfrm>
            <a:off x="5219640" y="1484280"/>
            <a:ext cx="3562560" cy="47498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5"/>
          <p:cNvSpPr/>
          <p:nvPr/>
        </p:nvSpPr>
        <p:spPr>
          <a:xfrm>
            <a:off x="1261800" y="189000"/>
            <a:ext cx="38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Скатывание бумаги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             </a:t>
            </a:r>
            <a:r>
              <a:rPr b="1" i="1" lang="ru-RU" sz="4000" spc="-1" strike="noStrike">
                <a:solidFill>
                  <a:srgbClr val="e40059"/>
                </a:solidFill>
                <a:latin typeface="Times New Roman"/>
              </a:rPr>
              <a:t>Звёздочка для папы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296" name="Picture 7" descr="Фото0533"/>
          <p:cNvPicPr/>
          <p:nvPr/>
        </p:nvPicPr>
        <p:blipFill>
          <a:blip r:embed="rId2"/>
          <a:stretch/>
        </p:blipFill>
        <p:spPr>
          <a:xfrm>
            <a:off x="0" y="2060640"/>
            <a:ext cx="4392720" cy="37432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Фото0534"/>
          <p:cNvPicPr/>
          <p:nvPr/>
        </p:nvPicPr>
        <p:blipFill>
          <a:blip r:embed="rId3"/>
          <a:stretch/>
        </p:blipFill>
        <p:spPr>
          <a:xfrm>
            <a:off x="4643280" y="2997360"/>
            <a:ext cx="4321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Любимой бабушке сердечко подарю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0" name="Picture 7" descr="P1120761"/>
          <p:cNvPicPr/>
          <p:nvPr/>
        </p:nvPicPr>
        <p:blipFill>
          <a:blip r:embed="rId2"/>
          <a:stretch/>
        </p:blipFill>
        <p:spPr>
          <a:xfrm>
            <a:off x="539640" y="2276640"/>
            <a:ext cx="4399200" cy="38890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P1120763"/>
          <p:cNvPicPr/>
          <p:nvPr/>
        </p:nvPicPr>
        <p:blipFill>
          <a:blip r:embed="rId3"/>
          <a:stretch/>
        </p:blipFill>
        <p:spPr>
          <a:xfrm>
            <a:off x="5292720" y="1989000"/>
            <a:ext cx="33829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639432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Крокусы для мамочки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4" name="Picture 7" descr="P1120758"/>
          <p:cNvPicPr/>
          <p:nvPr/>
        </p:nvPicPr>
        <p:blipFill>
          <a:blip r:embed="rId2"/>
          <a:stretch/>
        </p:blipFill>
        <p:spPr>
          <a:xfrm>
            <a:off x="468360" y="1341360"/>
            <a:ext cx="3744720" cy="5112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1" descr="P1120760"/>
          <p:cNvPicPr/>
          <p:nvPr/>
        </p:nvPicPr>
        <p:blipFill>
          <a:blip r:embed="rId3"/>
          <a:stretch/>
        </p:blipFill>
        <p:spPr>
          <a:xfrm>
            <a:off x="4932360" y="1341360"/>
            <a:ext cx="36720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6666"/>
                </a:solidFill>
                <a:latin typeface="Arial"/>
              </a:rPr>
              <a:t>                                         </a:t>
            </a: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Цыплёнок в яйце</a:t>
            </a:r>
            <a:endParaRPr b="0" lang="en-US" sz="3200" spc="-1" strike="noStrike">
              <a:solidFill>
                <a:srgbClr val="666666"/>
              </a:solidFill>
              <a:latin typeface="Calibri"/>
            </a:endParaRPr>
          </a:p>
        </p:txBody>
      </p:sp>
      <p:pic>
        <p:nvPicPr>
          <p:cNvPr id="308" name="Picture 7" descr="IMG_2821"/>
          <p:cNvPicPr/>
          <p:nvPr/>
        </p:nvPicPr>
        <p:blipFill>
          <a:blip r:embed="rId2"/>
          <a:stretch/>
        </p:blipFill>
        <p:spPr>
          <a:xfrm>
            <a:off x="468360" y="333360"/>
            <a:ext cx="3887640" cy="3095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IMG_2833"/>
          <p:cNvPicPr/>
          <p:nvPr/>
        </p:nvPicPr>
        <p:blipFill>
          <a:blip r:embed="rId3"/>
          <a:stretch/>
        </p:blipFill>
        <p:spPr>
          <a:xfrm>
            <a:off x="468360" y="3500280"/>
            <a:ext cx="3887640" cy="3097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IMG_2842"/>
          <p:cNvPicPr/>
          <p:nvPr/>
        </p:nvPicPr>
        <p:blipFill>
          <a:blip r:embed="rId4"/>
          <a:stretch/>
        </p:blipFill>
        <p:spPr>
          <a:xfrm>
            <a:off x="4643280" y="981000"/>
            <a:ext cx="4340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468360" y="333360"/>
            <a:ext cx="826272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4652d"/>
                </a:solidFill>
                <a:latin typeface="Arial"/>
              </a:rPr>
              <a:t>                    </a:t>
            </a: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Паспорт проекта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Тип проекта: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0000cc"/>
                </a:solidFill>
                <a:latin typeface="Times New Roman"/>
              </a:rPr>
              <a:t>творчески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Основная цель проекта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ыяснить влияние нетрадиционных техник рисования на развитие художественно - творческих способностей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Проект проводится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: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внутри детского сада с детьми младшей и  средней группы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По продолжительности проект</a:t>
            </a:r>
            <a:r>
              <a:rPr b="1" i="1" lang="ru-RU" sz="2000" spc="-1" strike="noStrike" u="sng">
                <a:solidFill>
                  <a:srgbClr val="c4652d"/>
                </a:solidFill>
                <a:uFillTx/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Times New Roman"/>
              </a:rPr>
              <a:t>долгосрочный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P1130009"/>
          <p:cNvPicPr/>
          <p:nvPr/>
        </p:nvPicPr>
        <p:blipFill>
          <a:blip r:embed="rId2"/>
          <a:stretch/>
        </p:blipFill>
        <p:spPr>
          <a:xfrm>
            <a:off x="611280" y="549360"/>
            <a:ext cx="7993080" cy="580392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e40059"/>
                </a:solidFill>
                <a:latin typeface="Times New Roman"/>
              </a:rPr>
              <a:t>                                   </a:t>
            </a:r>
            <a:r>
              <a:rPr b="0" i="1" lang="ru-RU" sz="4400" spc="-1" strike="noStrike">
                <a:solidFill>
                  <a:srgbClr val="e40059"/>
                </a:solidFill>
                <a:latin typeface="Times New Roman"/>
              </a:rPr>
              <a:t>Поросёнок</a:t>
            </a:r>
            <a:endParaRPr b="0" lang="en-US" sz="44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692000" y="18900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40059"/>
                </a:solidFill>
                <a:latin typeface="Times New Roman"/>
              </a:rPr>
              <a:t>Шаблонография</a:t>
            </a:r>
            <a:r>
              <a:rPr b="1" i="1" lang="ru-RU" sz="2800" spc="-1" strike="noStrike">
                <a:solidFill>
                  <a:srgbClr val="e4005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468360" y="577800"/>
            <a:ext cx="8209080" cy="56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Ожидаемые результаты</a:t>
            </a:r>
            <a:r>
              <a:rPr b="1" i="1" lang="ru-RU" sz="2000" spc="-1" strike="noStrike">
                <a:solidFill>
                  <a:srgbClr val="e40059"/>
                </a:solidFill>
                <a:latin typeface="Times New Roman"/>
              </a:rPr>
              <a:t>: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Наличие у детей младшего дошкольного возраста знаний о нетрадиционных способах рисования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Владение дошкольниками простейшими техническими приемами работы  с различными изобразительными материалами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Умение воспитанников самостоятельно  применять нетрадиционные техники рисования;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Повышение компетентности родителей воспитанников в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вопросе рисования с использованием нетрадиционной техники, активное участие родителей в совместных творческих проектах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0059"/>
                </a:solidFill>
                <a:latin typeface="Times New Roman"/>
              </a:rPr>
              <a:t>Обобщение проектной деятельности: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4652d"/>
                </a:solidFill>
                <a:latin typeface="Times New Roman"/>
              </a:rPr>
              <a:t>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проведение выставок совместных работ детей и их родителей, создание книги иллюстрированной совместно с родителями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35280" y="691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 </a:t>
            </a:r>
            <a:r>
              <a:rPr b="0" i="1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проекта</a:t>
            </a:r>
            <a:r>
              <a:rPr b="0" lang="ru-RU" sz="38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:</a:t>
            </a:r>
            <a:endParaRPr b="0" lang="en-US" sz="3800" spc="-1" strike="noStrike">
              <a:solidFill>
                <a:srgbClr val="666666"/>
              </a:solidFill>
              <a:latin typeface="Calibri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68360" y="1125360"/>
          <a:ext cx="8254800" cy="5214960"/>
        </p:xfrm>
        <a:graphic>
          <a:graphicData uri="http://schemas.openxmlformats.org/drawingml/2006/table">
            <a:tbl>
              <a:tblPr/>
              <a:tblGrid>
                <a:gridCol w="218880"/>
                <a:gridCol w="8035920"/>
              </a:tblGrid>
              <a:tr h="5214960">
                <a:tc>
                  <a:txBody>
                    <a:bodyPr tIns="46800" bIns="46800" anchor="t">
                      <a:noAutofit/>
                    </a:bodyPr>
                    <a:p>
                      <a:pPr marL="272880" indent="-2728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накомить детей младшего дошкольного возраста с нетрадиционными способами рисования,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формировать интерес к изобразительной деятельности;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Способствовать овладению дошкольниками простейшими техническими приемами работы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с различными изобразительными материалами: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 Побуждать воспитанников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самостоятельно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применять нетрадиционные техники рисования (монотипия, печатание листьями, рисование пальчиками, тиснение, тычкование и т.д.)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2880" indent="-272880">
                        <a:lnSpc>
                          <a:spcPct val="100000"/>
                        </a:lnSpc>
                        <a:buClr>
                          <a:srgbClr val="0000cc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  Содействовать знакомству родителей с нетрадиционными техниками рисования; стимулировать их совместное творчество с детьми</a:t>
                      </a:r>
                      <a:endParaRPr b="1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e40059"/>
                </a:solidFill>
                <a:latin typeface="Arial"/>
              </a:rPr>
              <a:t>Формы взаимодействия педагогов с детьми</a:t>
            </a:r>
            <a:br>
              <a:rPr sz="2800"/>
            </a:br>
            <a:endParaRPr b="0" lang="en-US" sz="28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Непосредственная образовательная  деятельность педагога и дете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деятельность педагога и детей в индивидуальной фор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работа родителей и дете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000ff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Arial"/>
              </a:rPr>
              <a:t>Совместная деятельность педагога, родителей и детей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2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i="1" lang="en-US" sz="4000" spc="-1" strike="noStrike">
                <a:solidFill>
                  <a:srgbClr val="e40059"/>
                </a:solidFill>
                <a:latin typeface="Times New Roman"/>
              </a:rPr>
              <a:t>I</a:t>
            </a:r>
            <a:r>
              <a:rPr b="1" i="1" lang="ru-RU" sz="4000" spc="-1" strike="noStrike">
                <a:solidFill>
                  <a:srgbClr val="e40059"/>
                </a:solidFill>
                <a:latin typeface="Times New Roman"/>
              </a:rPr>
              <a:t> подготовительный этап</a:t>
            </a:r>
            <a:endParaRPr b="0" lang="en-US" sz="4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- Изучение и анализ научно-исследовательской,  методической литературы, интернет-ресурсов по данной проблеме; подбор программно-методического обеспечения по данной проблеме, наглядно-демонстрационного, раздаточного материал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Разработка содержания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Планирование предстоящей деятельности, направленной на  реализацию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e40059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e40059"/>
                </a:solidFill>
                <a:latin typeface="Times New Roman"/>
              </a:rPr>
              <a:t>Основной этап</a:t>
            </a:r>
            <a:r>
              <a:rPr b="1" i="1" lang="ru-RU" sz="36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1 младшая групп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Непосредственно-образовательная деятельность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9c007f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«Дождик, чаще, кап-кап-кап», «Красивая чашка в горошек», «Зёрнышки для уточек», «Зонтик», «Жёлтые комочки», «Ветерок, подуй слегка», «Снежок порхает, кружится», «Цветок для мамы», « Открытка для папы»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Совместная деятельность педагога и детей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Подарок маме на день матери - мимоз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- Новогодняя открытка- «Снеговик»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(аппликация из шариков скатанных из салфеток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Times New Roman"/>
              </a:rPr>
              <a:t>Консультация для родителей. «Рисуем вместе с детьми дома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7" descr="C:\Documents and Settings\саша\Рабочий стол\сканированное для конкурса\7e1dbcd2ca5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40059"/>
                </a:solidFill>
                <a:latin typeface="Arial"/>
              </a:rPr>
              <a:t>          </a:t>
            </a:r>
            <a:r>
              <a:rPr b="0" i="1" lang="ru-RU" sz="3600" spc="-1" strike="noStrike">
                <a:solidFill>
                  <a:srgbClr val="e40059"/>
                </a:solidFill>
                <a:latin typeface="Times New Roman"/>
              </a:rPr>
              <a:t>2 младшая, средняя группа</a:t>
            </a:r>
            <a:endParaRPr b="0" lang="en-US" sz="36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Непосредственно –образовательная деятельност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Золотая осень», «Разноцветный ковёр», «Осеннее дерево», «Семья трёх медведей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Поросята», «Ёжик», «Ёлочка- колючая иголочка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Родное село зимой», «Деревья зимой»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Яйцо- писанка». «Дымковский козлик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Совместная деятельность педагога и детей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«Звёздочка для папы», «Букет для мамы», «Любимой бабушке сердечко подарю», «Цыплёнок в яйце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ff"/>
                </a:solidFill>
                <a:latin typeface="Times New Roman"/>
              </a:rPr>
              <a:t>Консультация «Нетрадиционные способы рисования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16:14:32Z</dcterms:created>
  <dc:creator>Саша</dc:creator>
  <dc:description/>
  <dc:language>en-US</dc:language>
  <cp:lastModifiedBy>USER</cp:lastModifiedBy>
  <dcterms:modified xsi:type="dcterms:W3CDTF">2017-01-11T17:29:39Z</dcterms:modified>
  <cp:revision>84</cp:revision>
  <dc:subject/>
  <dc:title>Слайд 1</dc:title>
</cp:coreProperties>
</file>