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A59-3DD0-4C3B-9EA3-DFA8B146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1E1F-6C2D-4953-BA37-06E7007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5D59-026E-4E5A-8352-0C470D38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E058-6D21-4384-9545-2C1598A6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149E-779F-4C5A-882C-DFC756656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53821-1F26-4457-BEEE-96012F32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64A-C7B6-4250-8B29-326FB474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7178-AE89-411B-968A-7342E8269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61FE-9B04-48BD-8D6F-AE4CAED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02AF-D34D-47EA-8A90-9C0F0CF5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4FE8-607F-44E2-BBF6-5D926568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5AB-8771-411B-94BF-0121BD01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02C9-D0ED-4962-9F51-F77DE542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AFC3-FBD7-4631-9FEF-BF25709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5499-1140-4224-B651-54E611EA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5712-4C55-4ED8-AD72-26A08AEB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91B6-A694-4300-B2C3-C90411D7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96C2-82D4-4252-AFC5-03A423C6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94AE-6F4D-4294-957B-DEF932C7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4A3-5F49-4E5F-A66C-80589A51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FE0-A9FF-4530-90AA-B9294F5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F443-A4F5-4651-8C38-D8DD82F5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3CB-CC7E-4AAE-8146-F2D6DC0B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0015-23B7-4BC7-86F4-269A1D9F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F4A4-FCF0-456E-8E40-23D8B717065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64B4-432A-403F-B1C3-CAC5BEE7D14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7423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КРИПКА – КОРОЛЕВА  ОРКЕСТР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4"/>
          <p:cNvSpPr txBox="1"/>
          <p:nvPr/>
        </p:nvSpPr>
        <p:spPr>
          <a:xfrm>
            <a:off x="228600" y="457200"/>
            <a:ext cx="74232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музыкальных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   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струм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4724280"/>
            <a:ext cx="4695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  проекта Кузнецова Даша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014г. ДОУ № 163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238880" cy="32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Тембр певучий, нежный как трепетный человеческий голос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Чтобы скрипка заиграла, надо провести смычком по струнам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орпус изящный с тонкой «талией».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 корпусу прикреплен гриф, заканчивающийся завитком. Перед завитком в желобке - отверстия, в которые вставлены колки. Они натягивают струны. Смычок состоит из трости, на которую натянут конский волос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4" name="Picture 7" descr="violin04"/>
          <p:cNvPicPr/>
          <p:nvPr/>
        </p:nvPicPr>
        <p:blipFill>
          <a:blip r:embed="rId2"/>
          <a:stretch/>
        </p:blipFill>
        <p:spPr>
          <a:xfrm>
            <a:off x="1752480" y="3352680"/>
            <a:ext cx="3943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ервые скрипки. Смычком, на котором натянут конский волос, проводят по струнам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Picture 5" descr="File:San Zaccaria.jpg"/>
          <p:cNvPicPr/>
          <p:nvPr/>
        </p:nvPicPr>
        <p:blipFill>
          <a:blip r:embed="rId1"/>
          <a:stretch/>
        </p:blipFill>
        <p:spPr>
          <a:xfrm>
            <a:off x="152280" y="1447920"/>
            <a:ext cx="4972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Знаменитые скрипач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84232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иколо Паганини    Антонио Вивальди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Picture 5" descr="File:Niccolo Paganini01.jpg"/>
          <p:cNvPicPr/>
          <p:nvPr/>
        </p:nvPicPr>
        <p:blipFill>
          <a:blip r:embed="rId2"/>
          <a:stretch/>
        </p:blipFill>
        <p:spPr>
          <a:xfrm>
            <a:off x="304920" y="2286000"/>
            <a:ext cx="3657600" cy="4419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zagrujennoe"/>
          <p:cNvPicPr/>
          <p:nvPr/>
        </p:nvPicPr>
        <p:blipFill>
          <a:blip r:embed="rId3"/>
          <a:stretch/>
        </p:blipFill>
        <p:spPr>
          <a:xfrm>
            <a:off x="4191120" y="2286000"/>
            <a:ext cx="358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7781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Знаменитые мастера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традивари              Скрипка Амат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7" descr="File:PalacioReal Stradivarius1.jpg"/>
          <p:cNvPicPr/>
          <p:nvPr/>
        </p:nvPicPr>
        <p:blipFill>
          <a:blip r:embed="rId1"/>
          <a:stretch/>
        </p:blipFill>
        <p:spPr>
          <a:xfrm>
            <a:off x="0" y="137160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zagrujennoe_6"/>
          <p:cNvPicPr/>
          <p:nvPr/>
        </p:nvPicPr>
        <p:blipFill>
          <a:blip r:embed="rId2"/>
          <a:stretch/>
        </p:blipFill>
        <p:spPr>
          <a:xfrm>
            <a:off x="228600" y="4114800"/>
            <a:ext cx="3581280" cy="2543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1" descr="amati"/>
          <p:cNvPicPr/>
          <p:nvPr/>
        </p:nvPicPr>
        <p:blipFill>
          <a:blip r:embed="rId3"/>
          <a:stretch/>
        </p:blipFill>
        <p:spPr>
          <a:xfrm>
            <a:off x="4419720" y="2666880"/>
            <a:ext cx="47242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105520" y="1369800"/>
            <a:ext cx="4038480" cy="3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ей музыкальных инструментов им. М.И.Гли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Picture 4" descr="20140302_120711"/>
          <p:cNvPicPr/>
          <p:nvPr/>
        </p:nvPicPr>
        <p:blipFill>
          <a:blip r:embed="rId1"/>
          <a:stretch/>
        </p:blipFill>
        <p:spPr>
          <a:xfrm>
            <a:off x="0" y="152280"/>
            <a:ext cx="5105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3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Музыкальные инструменты 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                 народов мира             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Picture 4" descr="20140302_113138"/>
          <p:cNvPicPr/>
          <p:nvPr/>
        </p:nvPicPr>
        <p:blipFill>
          <a:blip r:embed="rId1"/>
          <a:stretch/>
        </p:blipFill>
        <p:spPr>
          <a:xfrm>
            <a:off x="228600" y="1371600"/>
            <a:ext cx="76201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                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Гитар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20140302_113930"/>
          <p:cNvPicPr/>
          <p:nvPr/>
        </p:nvPicPr>
        <p:blipFill>
          <a:blip r:embed="rId1"/>
          <a:stretch/>
        </p:blipFill>
        <p:spPr>
          <a:xfrm>
            <a:off x="0" y="1085760"/>
            <a:ext cx="777240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Старинные народны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20140302_113152"/>
          <p:cNvPicPr/>
          <p:nvPr/>
        </p:nvPicPr>
        <p:blipFill>
          <a:blip r:embed="rId1"/>
          <a:stretch/>
        </p:blipFill>
        <p:spPr>
          <a:xfrm>
            <a:off x="228600" y="1409760"/>
            <a:ext cx="754380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20140302_113308"/>
          <p:cNvPicPr/>
          <p:nvPr/>
        </p:nvPicPr>
        <p:blipFill>
          <a:blip r:embed="rId1"/>
          <a:stretch/>
        </p:blipFill>
        <p:spPr>
          <a:xfrm>
            <a:off x="304920" y="914400"/>
            <a:ext cx="758196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РФА                          ГУСЛИ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20140302_113435"/>
          <p:cNvPicPr/>
          <p:nvPr/>
        </p:nvPicPr>
        <p:blipFill>
          <a:blip r:embed="rId1"/>
          <a:stretch/>
        </p:blipFill>
        <p:spPr>
          <a:xfrm>
            <a:off x="0" y="1066680"/>
            <a:ext cx="4572000" cy="5791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20140302_114646"/>
          <p:cNvPicPr/>
          <p:nvPr/>
        </p:nvPicPr>
        <p:blipFill>
          <a:blip r:embed="rId2"/>
          <a:stretch/>
        </p:blipFill>
        <p:spPr>
          <a:xfrm>
            <a:off x="4572000" y="1066680"/>
            <a:ext cx="45720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Колокола                     Орг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20140302_114719"/>
          <p:cNvPicPr/>
          <p:nvPr/>
        </p:nvPicPr>
        <p:blipFill>
          <a:blip r:embed="rId1"/>
          <a:stretch/>
        </p:blipFill>
        <p:spPr>
          <a:xfrm>
            <a:off x="304920" y="1219320"/>
            <a:ext cx="3828960" cy="5105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20140302_114505"/>
          <p:cNvPicPr/>
          <p:nvPr/>
        </p:nvPicPr>
        <p:blipFill>
          <a:blip r:embed="rId2"/>
          <a:stretch/>
        </p:blipFill>
        <p:spPr>
          <a:xfrm>
            <a:off x="4191120" y="1219320"/>
            <a:ext cx="391464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Скрипка - струнный смычковый музыкальный инструмент. Королева оркестра. Родина – Италия.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1" name="Picture 4" descr="20140302_113551"/>
          <p:cNvPicPr/>
          <p:nvPr/>
        </p:nvPicPr>
        <p:blipFill>
          <a:blip r:embed="rId1"/>
          <a:stretch/>
        </p:blipFill>
        <p:spPr>
          <a:xfrm>
            <a:off x="0" y="167652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узыкальный зал</dc:creator>
  <dc:description/>
  <dc:language>en-US</dc:language>
  <cp:lastModifiedBy>Музыкальный зал</cp:lastModifiedBy>
  <dcterms:modified xsi:type="dcterms:W3CDTF">2017-01-13T10:52:3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