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01E-A8D3-4306-BFCD-4325825A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760-CDBF-4F4D-9CA1-3D3DA95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A6D-A248-4105-A583-5E08A351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AEF-6F38-4A45-A475-439B5F2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C0A-C741-4131-9643-BAFF8265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6863-FA14-4BDD-AC28-D8ECB57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6117-613E-4980-8613-82ECA806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1E49-3337-442F-B929-33D5E89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B114-AD7E-4E08-96D0-25AA556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459-22B1-4AD0-ABDD-A5883E5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6165-232B-40D4-874F-C90C616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D72-852B-418B-98F7-5299F53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68A-9ED4-4D86-849E-3895B14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B357-F5A4-4BEE-A242-547F18D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C570-BA81-49D8-A134-B4E1F480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E8E-CB0C-47C9-B95C-2B2389B2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B23-8DEB-4E72-A680-32C26D49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37D-B8D2-4735-9AA6-EE6482A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629-C149-4006-BB55-BC4853D2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B40-E794-4300-8C83-522C39BB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F9E-8E8C-4B93-91A6-5DA6A7FC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0A1-F17F-4BA0-B9D9-0C1A8B5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111-950A-42A3-A484-8D338DD1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426-41AB-4144-A614-D77CAB0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3CB-68A1-43A8-B7C4-72AED87E1B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A89-1D30-4299-8BA6-34416A31587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742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КРИПКА – КОРОЛЕВА  ОРКЕСТ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28600" y="457200"/>
            <a:ext cx="7423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музыкаль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струм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4724280"/>
            <a:ext cx="469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 проекта Кузнецова Даша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14г. ДОУ № 163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Тембр певучий, нежный как трепетный человеческий голос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Чтобы скрипка заиграла, надо провести смычком по струнам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орпус изящный с тонкой «талией»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 корпусу прикреплен гриф, заканчивающийся завитком. Перед завитком в желобке - отверстия, в которые вставлены колки. Они натягивают струны. Смычок состоит из трости, на которую натянут конский волос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7" descr="violin04"/>
          <p:cNvPicPr/>
          <p:nvPr/>
        </p:nvPicPr>
        <p:blipFill>
          <a:blip r:embed="rId2"/>
          <a:stretch/>
        </p:blipFill>
        <p:spPr>
          <a:xfrm>
            <a:off x="1752480" y="3352680"/>
            <a:ext cx="3943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ервые скрипки. Смычком, на котором натянут конский волос, проводят по струнам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File:San Zaccaria.jpg"/>
          <p:cNvPicPr/>
          <p:nvPr/>
        </p:nvPicPr>
        <p:blipFill>
          <a:blip r:embed="rId1"/>
          <a:stretch/>
        </p:blipFill>
        <p:spPr>
          <a:xfrm>
            <a:off x="152280" y="1447920"/>
            <a:ext cx="4972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наменитые скрип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иколо Паганини    Антонио Вивальд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File:Niccolo Paganini01.jpg"/>
          <p:cNvPicPr/>
          <p:nvPr/>
        </p:nvPicPr>
        <p:blipFill>
          <a:blip r:embed="rId2"/>
          <a:stretch/>
        </p:blipFill>
        <p:spPr>
          <a:xfrm>
            <a:off x="304920" y="228600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zagrujennoe"/>
          <p:cNvPicPr/>
          <p:nvPr/>
        </p:nvPicPr>
        <p:blipFill>
          <a:blip r:embed="rId3"/>
          <a:stretch/>
        </p:blipFill>
        <p:spPr>
          <a:xfrm>
            <a:off x="4191120" y="228600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мастер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адивари              Скрипка Ама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7" descr="File:PalacioReal Stradivarius1.jpg"/>
          <p:cNvPicPr/>
          <p:nvPr/>
        </p:nvPicPr>
        <p:blipFill>
          <a:blip r:embed="rId1"/>
          <a:stretch/>
        </p:blipFill>
        <p:spPr>
          <a:xfrm>
            <a:off x="0" y="1371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zagrujennoe_6"/>
          <p:cNvPicPr/>
          <p:nvPr/>
        </p:nvPicPr>
        <p:blipFill>
          <a:blip r:embed="rId2"/>
          <a:stretch/>
        </p:blipFill>
        <p:spPr>
          <a:xfrm>
            <a:off x="228600" y="4114800"/>
            <a:ext cx="3581280" cy="2543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amati"/>
          <p:cNvPicPr/>
          <p:nvPr/>
        </p:nvPicPr>
        <p:blipFill>
          <a:blip r:embed="rId3"/>
          <a:stretch/>
        </p:blipFill>
        <p:spPr>
          <a:xfrm>
            <a:off x="4419720" y="2666880"/>
            <a:ext cx="47242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05520" y="1369800"/>
            <a:ext cx="40384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ей музыкальных инструментов им. М.И.Гли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20140302_120711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ые инструмен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народов мира    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20140302_113138"/>
          <p:cNvPicPr/>
          <p:nvPr/>
        </p:nvPicPr>
        <p:blipFill>
          <a:blip r:embed="rId1"/>
          <a:stretch/>
        </p:blipFill>
        <p:spPr>
          <a:xfrm>
            <a:off x="228600" y="1371600"/>
            <a:ext cx="7620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ит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20140302_113930"/>
          <p:cNvPicPr/>
          <p:nvPr/>
        </p:nvPicPr>
        <p:blipFill>
          <a:blip r:embed="rId1"/>
          <a:stretch/>
        </p:blipFill>
        <p:spPr>
          <a:xfrm>
            <a:off x="0" y="1085760"/>
            <a:ext cx="77724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аринные народн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20140302_113152"/>
          <p:cNvPicPr/>
          <p:nvPr/>
        </p:nvPicPr>
        <p:blipFill>
          <a:blip r:embed="rId1"/>
          <a:stretch/>
        </p:blipFill>
        <p:spPr>
          <a:xfrm>
            <a:off x="228600" y="1409760"/>
            <a:ext cx="75438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20140302_113308"/>
          <p:cNvPicPr/>
          <p:nvPr/>
        </p:nvPicPr>
        <p:blipFill>
          <a:blip r:embed="rId1"/>
          <a:stretch/>
        </p:blipFill>
        <p:spPr>
          <a:xfrm>
            <a:off x="304920" y="914400"/>
            <a:ext cx="7581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РФА                          ГУС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20140302_113435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579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20140302_114646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локола                     Орг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20140302_114719"/>
          <p:cNvPicPr/>
          <p:nvPr/>
        </p:nvPicPr>
        <p:blipFill>
          <a:blip r:embed="rId1"/>
          <a:stretch/>
        </p:blipFill>
        <p:spPr>
          <a:xfrm>
            <a:off x="304920" y="1219320"/>
            <a:ext cx="3828960" cy="5105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20140302_114505"/>
          <p:cNvPicPr/>
          <p:nvPr/>
        </p:nvPicPr>
        <p:blipFill>
          <a:blip r:embed="rId2"/>
          <a:stretch/>
        </p:blipFill>
        <p:spPr>
          <a:xfrm>
            <a:off x="4191120" y="1219320"/>
            <a:ext cx="3914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рипка - струнный смычковый музыкальный инструмент. Королева оркестра. Родина – Итали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20140302_113551"/>
          <p:cNvPicPr/>
          <p:nvPr/>
        </p:nvPicPr>
        <p:blipFill>
          <a:blip r:embed="rId1"/>
          <a:stretch/>
        </p:blipFill>
        <p:spPr>
          <a:xfrm>
            <a:off x="0" y="16765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зыкальный зал</dc:creator>
  <dc:description/>
  <dc:language>en-US</dc:language>
  <cp:lastModifiedBy>Музыкальный зал</cp:lastModifiedBy>
  <dcterms:modified xsi:type="dcterms:W3CDTF">2017-01-13T10:52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