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E84-F583-4111-BEA0-7A317DFD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27F-85E9-48E2-880E-0E7F33AD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FD0-E3CB-466B-9187-0320E7BE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0CF-06ED-4A2B-9F9C-5FFEB042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D4D-4CAC-4E58-8665-442DC2F3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9AA-EEBB-4CAB-A571-39901BE8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19F-35CC-442C-869A-8FCCC311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986-49AF-4DEE-B5F8-1C5947AE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744-9F80-47AB-A3CD-8CD099CC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262-1A7E-4A1F-BB63-E88E2A1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528-7881-4403-8C2C-45E572D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728-14AC-4203-9A6B-FA81419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C4A9-19D1-4A7C-89CB-E6AC500EFA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K:/&#1040;&#1058;&#1058;&#1045;&#1057;&#1058;&#1040;&#1062;&#1048;&#1071;/&#1091;&#1088;&#1086;&#1082;%20&#1088;&#1091;&#1089;&#1089;&#1082;&#1086;&#1075;&#1086;%20&#1103;&#1079;&#1099;&#1082;&#1072;%203%20&#1082;&#1083;&#1072;&#1089;&#1089;.doc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картинки презентация 1 - 0001.jpg"/>
          <p:cNvPicPr/>
          <p:nvPr/>
        </p:nvPicPr>
        <p:blipFill>
          <a:blip r:embed="rId1"/>
          <a:stretch/>
        </p:blipFill>
        <p:spPr>
          <a:xfrm>
            <a:off x="214200" y="3071880"/>
            <a:ext cx="2286000" cy="2762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2000160" y="30718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русского языка,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кла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К «Школа 2100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152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ные слова и их правопис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762120" y="5111640"/>
            <a:ext cx="8001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Автор: Арсентьева Елена Олег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МАОУ СОШ №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г.Тюм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9"/>
          <p:cNvSpPr/>
          <p:nvPr/>
        </p:nvSpPr>
        <p:spPr>
          <a:xfrm>
            <a:off x="928800" y="535788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Звездоп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-113400" y="1190520"/>
            <a:ext cx="44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йте стихотв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285840" y="4929120"/>
            <a:ext cx="8572320" cy="164304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робуйте  догадаться, как называется э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с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ите, как вы рассуж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5214960" y="4143240"/>
            <a:ext cx="2286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stihi.ru/pics/2010/07/09/7409.jpg"/>
          <p:cNvPicPr/>
          <p:nvPr/>
        </p:nvPicPr>
        <p:blipFill>
          <a:blip r:embed="rId1"/>
          <a:stretch/>
        </p:blipFill>
        <p:spPr>
          <a:xfrm>
            <a:off x="4829040" y="1643040"/>
            <a:ext cx="4100760" cy="2928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42560" y="1885680"/>
            <a:ext cx="478620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неба лиловые падают звёз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же желанье придумать непро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небосклонах обычных кварти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загорится звезда Альтаи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вездопад, звездопа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Это к счастью», – друзья говоря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15" descr="значок новая тема.jpg"/>
          <p:cNvPicPr/>
          <p:nvPr/>
        </p:nvPicPr>
        <p:blipFill>
          <a:blip r:embed="rId2"/>
          <a:stretch/>
        </p:blipFill>
        <p:spPr>
          <a:xfrm>
            <a:off x="714240" y="357120"/>
            <a:ext cx="588960" cy="619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285920" y="428760"/>
            <a:ext cx="742932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4"/>
          <p:cNvSpPr/>
          <p:nvPr/>
        </p:nvSpPr>
        <p:spPr>
          <a:xfrm>
            <a:off x="285840" y="1928880"/>
            <a:ext cx="8572320" cy="8254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шите. Выделите корни. Подберите однокоренные слова. Как удобнее их запис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114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Рисунок 8" descr="значки-обратная связь.jpg"/>
          <p:cNvPicPr/>
          <p:nvPr/>
        </p:nvPicPr>
        <p:blipFill>
          <a:blip r:embed="rId2"/>
          <a:stretch/>
        </p:blipFill>
        <p:spPr>
          <a:xfrm>
            <a:off x="285840" y="114300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1143000" y="11430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аботайте в группах. Предложите свои версии. Обоснуй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285840" y="1928880"/>
            <a:ext cx="8501040" cy="8254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йте. Определите, что обозначают эти слова. Как вы это определ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28760" y="2786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"/>
              </a:rPr>
              <a:t>Садовод, луноход, волнорез, носорог, пустосл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www.outdoors.ru/foto/album/475.jpg"/>
          <p:cNvPicPr/>
          <p:nvPr/>
        </p:nvPicPr>
        <p:blipFill>
          <a:blip r:embed="rId3"/>
          <a:srcRect l="0" t="0" r="6916" b="0"/>
          <a:stretch/>
        </p:blipFill>
        <p:spPr>
          <a:xfrm>
            <a:off x="5143680" y="4857840"/>
            <a:ext cx="2717640" cy="183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klassnoetaxi.com.ua/img/lubimovkaplyaj.jpg"/>
          <p:cNvPicPr/>
          <p:nvPr/>
        </p:nvPicPr>
        <p:blipFill>
          <a:blip r:embed="rId4"/>
          <a:stretch/>
        </p:blipFill>
        <p:spPr>
          <a:xfrm>
            <a:off x="1000080" y="4878360"/>
            <a:ext cx="271476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22" name="Группа 28"/>
          <p:cNvGrpSpPr/>
          <p:nvPr/>
        </p:nvGrpSpPr>
        <p:grpSpPr>
          <a:xfrm>
            <a:off x="787320" y="3071160"/>
            <a:ext cx="7497720" cy="2249280"/>
            <a:chOff x="787320" y="3071160"/>
            <a:chExt cx="7497720" cy="2249280"/>
          </a:xfrm>
        </p:grpSpPr>
        <p:sp>
          <p:nvSpPr>
            <p:cNvPr id="123" name="TextBox 16"/>
            <p:cNvSpPr/>
            <p:nvPr/>
          </p:nvSpPr>
          <p:spPr>
            <a:xfrm>
              <a:off x="858960" y="3214800"/>
              <a:ext cx="300024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"/>
                </a:rPr>
                <a:t>волноре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"/>
                </a:rPr>
                <a:t>волна         рез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"/>
                </a:rPr>
                <a:t>волнение  порез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Дуга 21"/>
            <p:cNvSpPr/>
            <p:nvPr/>
          </p:nvSpPr>
          <p:spPr>
            <a:xfrm rot="18688200">
              <a:off x="2862720" y="4314240"/>
              <a:ext cx="449280" cy="40932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Дуга 25"/>
            <p:cNvSpPr/>
            <p:nvPr/>
          </p:nvSpPr>
          <p:spPr>
            <a:xfrm rot="18688200">
              <a:off x="1383120" y="3215160"/>
              <a:ext cx="736560" cy="77940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Дуга 26"/>
            <p:cNvSpPr/>
            <p:nvPr/>
          </p:nvSpPr>
          <p:spPr>
            <a:xfrm rot="18688200">
              <a:off x="954720" y="4215600"/>
              <a:ext cx="736560" cy="77940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Дуга 33"/>
            <p:cNvSpPr/>
            <p:nvPr/>
          </p:nvSpPr>
          <p:spPr>
            <a:xfrm rot="18688200">
              <a:off x="4724280" y="4365720"/>
              <a:ext cx="627120" cy="49356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Группа 36"/>
            <p:cNvGrpSpPr/>
            <p:nvPr/>
          </p:nvGrpSpPr>
          <p:grpSpPr>
            <a:xfrm>
              <a:off x="855720" y="3177000"/>
              <a:ext cx="7429320" cy="1665720"/>
              <a:chOff x="855720" y="3177000"/>
              <a:chExt cx="7429320" cy="1665720"/>
            </a:xfrm>
          </p:grpSpPr>
          <p:sp>
            <p:nvSpPr>
              <p:cNvPr id="129" name="TextBox 19"/>
              <p:cNvSpPr/>
              <p:nvPr/>
            </p:nvSpPr>
            <p:spPr>
              <a:xfrm>
                <a:off x="4714560" y="3285720"/>
                <a:ext cx="35704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Century"/>
                  </a:rPr>
                  <a:t>носоро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Century"/>
                  </a:rPr>
                  <a:t>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Century"/>
                  </a:rPr>
                  <a:t>нос               ро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Century"/>
                  </a:rPr>
                  <a:t>носовой        рогатый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Дуга 17"/>
              <p:cNvSpPr/>
              <p:nvPr/>
            </p:nvSpPr>
            <p:spPr>
              <a:xfrm rot="18688200">
                <a:off x="1023480" y="3643200"/>
                <a:ext cx="735120" cy="77940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Дуга 20"/>
              <p:cNvSpPr/>
              <p:nvPr/>
            </p:nvSpPr>
            <p:spPr>
              <a:xfrm rot="18688200">
                <a:off x="2221920" y="3276360"/>
                <a:ext cx="450720" cy="40932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Дуга 22"/>
              <p:cNvSpPr/>
              <p:nvPr/>
            </p:nvSpPr>
            <p:spPr>
              <a:xfrm rot="18688200">
                <a:off x="2579760" y="3742200"/>
                <a:ext cx="449280" cy="40932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Дуга 27"/>
              <p:cNvSpPr/>
              <p:nvPr/>
            </p:nvSpPr>
            <p:spPr>
              <a:xfrm rot="18688200">
                <a:off x="4793400" y="3864240"/>
                <a:ext cx="625320" cy="49356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Дуга 31"/>
              <p:cNvSpPr/>
              <p:nvPr/>
            </p:nvSpPr>
            <p:spPr>
              <a:xfrm rot="18688200">
                <a:off x="5506560" y="3365280"/>
                <a:ext cx="627120" cy="49356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Дуга 32"/>
              <p:cNvSpPr/>
              <p:nvPr/>
            </p:nvSpPr>
            <p:spPr>
              <a:xfrm rot="18688200">
                <a:off x="6149520" y="3365280"/>
                <a:ext cx="627120" cy="49356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Дуга 34"/>
              <p:cNvSpPr/>
              <p:nvPr/>
            </p:nvSpPr>
            <p:spPr>
              <a:xfrm rot="18688200">
                <a:off x="6508080" y="3864240"/>
                <a:ext cx="625320" cy="49356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Дуга 35"/>
            <p:cNvSpPr/>
            <p:nvPr/>
          </p:nvSpPr>
          <p:spPr>
            <a:xfrm rot="18688200">
              <a:off x="6510240" y="4354560"/>
              <a:ext cx="627120" cy="49356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72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dobrochan.ru/src/jpg/0909/125181591312438.jpg"/>
          <p:cNvPicPr/>
          <p:nvPr/>
        </p:nvPicPr>
        <p:blipFill>
          <a:blip r:embed="rId1"/>
          <a:stretch/>
        </p:blipFill>
        <p:spPr>
          <a:xfrm>
            <a:off x="214200" y="1928880"/>
            <a:ext cx="1643040" cy="2155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714240" y="107172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аких словах вы узнали сегод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785880" y="14288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слож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928880" y="21430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езнайка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се непонятные слова называются сложны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http://cs11154.userapi.com/u72672778/-6/x_c6104f55.jpg"/>
          <p:cNvPicPr/>
          <p:nvPr/>
        </p:nvPicPr>
        <p:blipFill>
          <a:blip r:embed="rId2"/>
          <a:stretch/>
        </p:blipFill>
        <p:spPr>
          <a:xfrm>
            <a:off x="7500960" y="2786040"/>
            <a:ext cx="1515960" cy="2000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1"/>
          <p:cNvSpPr/>
          <p:nvPr/>
        </p:nvSpPr>
        <p:spPr>
          <a:xfrm>
            <a:off x="2928960" y="3357720"/>
            <a:ext cx="50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уратин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Все длинные слова – это сложные сло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3" descr="картинки презентация 1 - 0001.jpg"/>
          <p:cNvPicPr/>
          <p:nvPr/>
        </p:nvPicPr>
        <p:blipFill>
          <a:blip r:embed="rId3"/>
          <a:srcRect l="10360" t="25715" r="55113" b="40002"/>
          <a:stretch/>
        </p:blipFill>
        <p:spPr>
          <a:xfrm>
            <a:off x="285840" y="4600440"/>
            <a:ext cx="1643040" cy="1971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4"/>
          <p:cNvSpPr/>
          <p:nvPr/>
        </p:nvSpPr>
        <p:spPr>
          <a:xfrm>
            <a:off x="2000160" y="485784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фанасий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лова, в которых два корня, называются сложными слов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www.myshared.ru/slide/402871/ http://nsportal.ru/sites/default/files/2013/11/09/urok_0.ppt http://school2100.com/pedagogam/lessons/beginners-subject.php?SECTION_ID=1974 http://school-collection.edu.ru/catalog/teacher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Равнобедренный треугольник 8"/>
          <p:cNvSpPr/>
          <p:nvPr/>
        </p:nvSpPr>
        <p:spPr>
          <a:xfrm>
            <a:off x="3071880" y="2714760"/>
            <a:ext cx="2786040" cy="1643040"/>
          </a:xfrm>
          <a:prstGeom prst="triangle">
            <a:avLst>
              <a:gd name="adj" fmla="val 500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л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овесное царство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рамматическое государ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57120" y="3571920"/>
            <a:ext cx="2357640" cy="2214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286080" y="4572000"/>
            <a:ext cx="2357640" cy="20718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6000840" y="3214800"/>
            <a:ext cx="2357280" cy="2214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5"/>
          <p:cNvSpPr/>
          <p:nvPr/>
        </p:nvSpPr>
        <p:spPr>
          <a:xfrm>
            <a:off x="-214200" y="1143000"/>
            <a:ext cx="3643200" cy="25002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ые в корн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6"/>
          <p:cNvSpPr/>
          <p:nvPr/>
        </p:nvSpPr>
        <p:spPr>
          <a:xfrm>
            <a:off x="5000760" y="1071720"/>
            <a:ext cx="4357440" cy="235728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произнос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гласные в корн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Равнобедренный треугольник 7"/>
          <p:cNvSpPr/>
          <p:nvPr/>
        </p:nvSpPr>
        <p:spPr>
          <a:xfrm>
            <a:off x="2571840" y="2143080"/>
            <a:ext cx="3714840" cy="2643120"/>
          </a:xfrm>
          <a:prstGeom prst="triangle">
            <a:avLst>
              <a:gd name="adj" fmla="val 50000"/>
            </a:avLst>
          </a:prstGeom>
          <a:solidFill>
            <a:srgbClr val="cf6868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Безударные гласные в корн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Улыбающееся лицо 9"/>
          <p:cNvSpPr/>
          <p:nvPr/>
        </p:nvSpPr>
        <p:spPr>
          <a:xfrm>
            <a:off x="1000080" y="42861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0"/>
          <p:cNvSpPr/>
          <p:nvPr/>
        </p:nvSpPr>
        <p:spPr>
          <a:xfrm>
            <a:off x="4000680" y="52149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1"/>
          <p:cNvSpPr/>
          <p:nvPr/>
        </p:nvSpPr>
        <p:spPr>
          <a:xfrm>
            <a:off x="6786720" y="38577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85560" y="785880"/>
            <a:ext cx="7467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рень слова – это общая часть родственных слов, в которой заключено их основное знач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ова с одним и тем же корнем называются однокоренными                               (родственными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"/>
          <p:cNvPicPr/>
          <p:nvPr/>
        </p:nvPicPr>
        <p:blipFill>
          <a:blip r:embed="rId1"/>
          <a:stretch/>
        </p:blipFill>
        <p:spPr>
          <a:xfrm>
            <a:off x="6143760" y="2643120"/>
            <a:ext cx="3000240" cy="4214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Picture 16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957400" cy="4214880"/>
          </a:xfrm>
          <a:prstGeom prst="rect">
            <a:avLst/>
          </a:prstGeom>
          <a:ln w="28440">
            <a:solidFill>
              <a:srgbClr val="0d0d0d"/>
            </a:solidFill>
            <a:miter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0" y="2643120"/>
            <a:ext cx="3000240" cy="4214880"/>
          </a:xfrm>
          <a:prstGeom prst="rect">
            <a:avLst/>
          </a:prstGeom>
          <a:ln w="28440">
            <a:solidFill>
              <a:srgbClr val="0d0d0d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85840" y="1785960"/>
            <a:ext cx="2428920" cy="785880"/>
          </a:xfrm>
          <a:prstGeom prst="rect">
            <a:avLst/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ударные гласные в корн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3429000" y="1785960"/>
            <a:ext cx="2428920" cy="785880"/>
          </a:xfrm>
          <a:prstGeom prst="rect">
            <a:avLst/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ные согласные в корн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6286680" y="1857240"/>
            <a:ext cx="2428560" cy="785880"/>
          </a:xfrm>
          <a:prstGeom prst="rect">
            <a:avLst/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произносимые согласные в корн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9"/>
          <p:cNvSpPr/>
          <p:nvPr/>
        </p:nvSpPr>
        <p:spPr>
          <a:xfrm>
            <a:off x="214200" y="214200"/>
            <a:ext cx="207180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1"/>
          <p:cNvSpPr/>
          <p:nvPr/>
        </p:nvSpPr>
        <p:spPr>
          <a:xfrm>
            <a:off x="3214800" y="214200"/>
            <a:ext cx="207144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2"/>
          <p:cNvSpPr/>
          <p:nvPr/>
        </p:nvSpPr>
        <p:spPr>
          <a:xfrm>
            <a:off x="5715000" y="214200"/>
            <a:ext cx="30718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тиш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3"/>
          <p:cNvSpPr/>
          <p:nvPr/>
        </p:nvSpPr>
        <p:spPr>
          <a:xfrm>
            <a:off x="1000080" y="928800"/>
            <a:ext cx="150012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5"/>
          <p:cNvSpPr/>
          <p:nvPr/>
        </p:nvSpPr>
        <p:spPr>
          <a:xfrm>
            <a:off x="2928960" y="928800"/>
            <a:ext cx="142884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6"/>
          <p:cNvSpPr/>
          <p:nvPr/>
        </p:nvSpPr>
        <p:spPr>
          <a:xfrm>
            <a:off x="4857840" y="1000080"/>
            <a:ext cx="32860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ревес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27553 0.27292 E">
                                      <p:cBhvr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0.0125 L -0.27969 0.51667 E">
                                      <p:cBhvr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261 -0.00857 L -0.65938 0.61111 E">
                                      <p:cBhvr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86 0.03356 L 0.38698 0.39074 E">
                                      <p:cBhvr>
                                        <p:cTn id="5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77 0.02384 L 0.29306 0.3912 E">
                                      <p:cBhvr>
                                        <p:cTn id="5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39 0.00301 L 0.18663 0.33889 E">
                                      <p:cBhvr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2714760"/>
            <a:ext cx="42861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е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3840" y="357120"/>
            <a:ext cx="4357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ише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9" descr="C:\Documents and Settings\Елена\Рабочий стол\2\j0254500.gif"/>
          <p:cNvPicPr/>
          <p:nvPr/>
        </p:nvPicPr>
        <p:blipFill>
          <a:blip r:embed="rId1"/>
          <a:stretch/>
        </p:blipFill>
        <p:spPr>
          <a:xfrm>
            <a:off x="4214880" y="228600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73" name="Дуга 13"/>
          <p:cNvSpPr/>
          <p:nvPr/>
        </p:nvSpPr>
        <p:spPr>
          <a:xfrm rot="18811800">
            <a:off x="1604880" y="3234960"/>
            <a:ext cx="1397160" cy="128268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Дуга 16"/>
          <p:cNvSpPr/>
          <p:nvPr/>
        </p:nvSpPr>
        <p:spPr>
          <a:xfrm rot="18811800">
            <a:off x="102240" y="1069200"/>
            <a:ext cx="2905200" cy="310680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Дуга 17"/>
          <p:cNvSpPr/>
          <p:nvPr/>
        </p:nvSpPr>
        <p:spPr>
          <a:xfrm rot="18985800">
            <a:off x="232920" y="3176280"/>
            <a:ext cx="1424160" cy="124596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http://www.kostyor.ru/deti/img/klad.jpg"/>
          <p:cNvPicPr/>
          <p:nvPr/>
        </p:nvPicPr>
        <p:blipFill>
          <a:blip r:embed="rId2"/>
          <a:stretch/>
        </p:blipFill>
        <p:spPr>
          <a:xfrm>
            <a:off x="6286680" y="3500280"/>
            <a:ext cx="238104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ухолов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Documents and Settings\Death\Рабочий стол\школа\картинки\мух.jpg"/>
          <p:cNvPicPr/>
          <p:nvPr/>
        </p:nvPicPr>
        <p:blipFill>
          <a:blip r:embed="rId1"/>
          <a:stretch/>
        </p:blipFill>
        <p:spPr>
          <a:xfrm>
            <a:off x="285840" y="1428840"/>
            <a:ext cx="357192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4071960" y="200016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929040" y="31050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28800" y="428760"/>
            <a:ext cx="778644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значки - сравниваем с автором.jpg"/>
          <p:cNvPicPr/>
          <p:nvPr/>
        </p:nvPicPr>
        <p:blipFill>
          <a:blip r:embed="rId1"/>
          <a:stretch/>
        </p:blipFill>
        <p:spPr>
          <a:xfrm>
            <a:off x="142920" y="2142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500040" y="3241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эти слова получили такое наз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15"/>
          <p:cNvGrpSpPr/>
          <p:nvPr/>
        </p:nvGrpSpPr>
        <p:grpSpPr>
          <a:xfrm>
            <a:off x="357120" y="1071720"/>
            <a:ext cx="9286920" cy="1837800"/>
            <a:chOff x="357120" y="1071720"/>
            <a:chExt cx="9286920" cy="1837800"/>
          </a:xfrm>
        </p:grpSpPr>
        <p:grpSp>
          <p:nvGrpSpPr>
            <p:cNvPr id="85" name="Группа 14"/>
            <p:cNvGrpSpPr/>
            <p:nvPr/>
          </p:nvGrpSpPr>
          <p:grpSpPr>
            <a:xfrm>
              <a:off x="357120" y="1071720"/>
              <a:ext cx="9286920" cy="1714320"/>
              <a:chOff x="357120" y="1071720"/>
              <a:chExt cx="9286920" cy="1714320"/>
            </a:xfrm>
          </p:grpSpPr>
          <p:sp>
            <p:nvSpPr>
              <p:cNvPr id="86" name="Скругленный прямоугольник 6"/>
              <p:cNvSpPr/>
              <p:nvPr/>
            </p:nvSpPr>
            <p:spPr>
              <a:xfrm>
                <a:off x="357120" y="1071720"/>
                <a:ext cx="835848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e6b3"/>
              </a:solidFill>
              <a:ln w="38160">
                <a:solidFill>
                  <a:srgbClr val="5277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Box 9"/>
              <p:cNvSpPr/>
              <p:nvPr/>
            </p:nvSpPr>
            <p:spPr>
              <a:xfrm>
                <a:off x="428400" y="1143000"/>
                <a:ext cx="9215640" cy="13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Слова, у которых два корня, называются сложными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Звездопад, луноход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Дуга 7"/>
            <p:cNvSpPr/>
            <p:nvPr/>
          </p:nvSpPr>
          <p:spPr>
            <a:xfrm rot="18688200">
              <a:off x="721080" y="1894320"/>
              <a:ext cx="698400" cy="90648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Дуга 11"/>
            <p:cNvSpPr/>
            <p:nvPr/>
          </p:nvSpPr>
          <p:spPr>
            <a:xfrm rot="18688200">
              <a:off x="1575720" y="2001960"/>
              <a:ext cx="704880" cy="71100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Дуга 12"/>
            <p:cNvSpPr/>
            <p:nvPr/>
          </p:nvSpPr>
          <p:spPr>
            <a:xfrm rot="18688200">
              <a:off x="2339280" y="1981440"/>
              <a:ext cx="606240" cy="60948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Дуга 13"/>
            <p:cNvSpPr/>
            <p:nvPr/>
          </p:nvSpPr>
          <p:spPr>
            <a:xfrm rot="18688200">
              <a:off x="3074400" y="1981080"/>
              <a:ext cx="636480" cy="67788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Documents and Settings\00000000\Рабочий стол\!!!\322657.jpg"/>
          <p:cNvPicPr/>
          <p:nvPr/>
        </p:nvPicPr>
        <p:blipFill>
          <a:blip r:embed="rId1"/>
          <a:stretch/>
        </p:blipFill>
        <p:spPr>
          <a:xfrm>
            <a:off x="2000160" y="71280"/>
            <a:ext cx="5857920" cy="585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2786040" y="5857920"/>
            <a:ext cx="3357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рт</a:t>
            </a: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1428840"/>
            <a:ext cx="2714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е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ля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71760" y="1428840"/>
            <a:ext cx="27147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й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эй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00040" y="4500720"/>
            <a:ext cx="8001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а, у которых два корня, называю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лож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42960" y="5929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ЕРТИТ + ШЕЙКА = ВЕРТ</a:t>
            </a:r>
            <a:r>
              <a:rPr b="0" lang="ru-RU" sz="3200" spc="-1" strike="noStrike" u="sng">
                <a:solidFill>
                  <a:srgbClr val="00b0f0"/>
                </a:solidFill>
                <a:uFillTx/>
                <a:latin typeface="Calibri"/>
              </a:rPr>
              <a:t>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Ш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Documents and Settings\Death\Рабочий стол\Jynx torquilla1.jpg"/>
          <p:cNvPicPr/>
          <p:nvPr/>
        </p:nvPicPr>
        <p:blipFill>
          <a:blip r:embed="rId1"/>
          <a:stretch/>
        </p:blipFill>
        <p:spPr>
          <a:xfrm>
            <a:off x="3286080" y="1285920"/>
            <a:ext cx="2386080" cy="3357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14400" y="428760"/>
            <a:ext cx="51433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ртит шей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Дуга 10"/>
          <p:cNvSpPr/>
          <p:nvPr/>
        </p:nvSpPr>
        <p:spPr>
          <a:xfrm rot="18811800">
            <a:off x="591120" y="5837760"/>
            <a:ext cx="1143000" cy="113508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Дуга 11"/>
          <p:cNvSpPr/>
          <p:nvPr/>
        </p:nvSpPr>
        <p:spPr>
          <a:xfrm rot="18811800">
            <a:off x="2309040" y="5763600"/>
            <a:ext cx="993600" cy="108108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уга 12"/>
          <p:cNvSpPr/>
          <p:nvPr/>
        </p:nvSpPr>
        <p:spPr>
          <a:xfrm rot="18811800">
            <a:off x="3816360" y="5811480"/>
            <a:ext cx="1193760" cy="118728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Дуга 13"/>
          <p:cNvSpPr/>
          <p:nvPr/>
        </p:nvSpPr>
        <p:spPr>
          <a:xfrm rot="18811800">
            <a:off x="5004360" y="5848920"/>
            <a:ext cx="1135080" cy="108900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7:12:39Z</dcterms:created>
  <dc:creator>Admin</dc:creator>
  <dc:description/>
  <dc:language>en-US</dc:language>
  <cp:lastModifiedBy>Павел</cp:lastModifiedBy>
  <dcterms:modified xsi:type="dcterms:W3CDTF">2015-11-17T05:16:30Z</dcterms:modified>
  <cp:revision>215</cp:revision>
  <dc:subject/>
  <dc:title>Слайд 1</dc:title>
</cp:coreProperties>
</file>