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E52-FAF0-4612-9983-95A120F4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378-119B-4330-89C5-FE76E74F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8A4-15A4-4A19-BF6E-BB3A7ED8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7E9-ADE3-4997-AF91-E3408F98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6BB0-EFA7-4408-8682-1AEC204B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4D6F-68D3-436F-9FD2-2B16AF6F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22A-F777-4556-85CB-59FEFA3A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EAB7-40CE-433C-9DA3-A4768B36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0825-C232-4DDF-9593-EF5AA6E3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B1D6-B9D7-42C0-B697-A9E12B39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A74-C6FE-4770-9DB8-1E7BDE5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CD4-E3DB-462F-B35C-6B6F9B4C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55DB-4D8D-4942-8C0E-5CD0FBF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81E1-21E6-43BF-A9A3-619C68C7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57AB-B608-40A7-A742-1B3BB72A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9F50-F66F-4448-BFDB-9469426B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49E5-ECC7-49A6-92FE-F2C917CB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256-7B3D-460B-809B-3E2C0217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41A-6D64-46DE-915D-11EFF479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DB9-DDD5-4BC9-B044-35129E83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366-C27C-46A6-93E3-3A9B8E48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5C8-A089-4A54-930E-02185169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E8D-4957-4782-A5BC-21B72D1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644-542B-44A9-AEC6-C8B236D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0A1B-BB0F-44E6-B104-B12141DCE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6DCA-07AA-4913-9CCE-329D1981F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Старину мы помним, старину мы чти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МОУ Пильнинская СОШ №1 им.М.Горь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Судаков Артём, Карманова Наст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Хлеб — всему голов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снову основ в пище русского крестьянина составляет хлеб.  Из зерновых хлебных культур главная роль принадлежит ржи. Отсюда ясно, что главный хлеб русских крестьян был ржаной "черный хлеб".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Хлеб в русской печ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екли отнюдь не каждый день, а лишь раз в неделю, ибо у крестьянки не было иной возможности. К тому же считалось, что свежевыпеченный хлеб «тяжел» и вреден для желудка.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Белый» хлеб пекли из смеси овсяной и ячменной муки, самые богатые могли позволить по праздникам себе испечь «ситный» хлеб из собственной или покупной пшеничной муки. Черный хлеб имел форму круглого каравая, раза в три-четыре большего, чем современные круглые хлеба промышленной выпечки. Белый хлеб пекли как круглой, так и удлиненной формы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881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Одежду крестьяне хранили в сундуках. Чем больше достаток в семье, тем и сундуков в избе больше. Мастерили их из дерева, обивали для прочности железными полосами. Нередко сундуки имели хитроумные врезные замки. Если в крестьянской семье росла девочка, то с малых лет в отдельном сундуке ей собирали приданое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6867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Особой гордостью хозяек были точеные, резные и расписные прялки, которые обычно ставили на видное место: они служили не только орудием труда, но и украшением жилища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549520" cy="3406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588000" y="2637000"/>
            <a:ext cx="20480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Calibri"/>
              </a:rPr>
              <a:t>Обычно с нарядными прялками крестьянские девушки ходили на "посиделки" - веселые сельские сборища. "Белая" изба убиралась предметами домашнего ткачества. Полати и лежанку закрывали цветные занавеси из льняной клетчатины. На окнах - занавески из домотканой кисе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281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163692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295880" cy="333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42861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Имелось в крестьянском жилище и немало плетеной утвари – корзин, лукошек, коробов. Берестяные туеса служили даже емкостями для воды. Крестьянин брал их с собой в поле. Вода не протекала и сохранялась холодной и вкусной на протяжении всего д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810240" cy="4143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00720" y="2276640"/>
            <a:ext cx="28573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62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794040" cy="615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356000" y="189000"/>
            <a:ext cx="410544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500720" y="3933720"/>
            <a:ext cx="3822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Arial"/>
              </a:rPr>
              <a:t>Цели проект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Исследование истории русского крестьянского бы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Формирование уважения к русской народной культуре, к обычаям и традициям русско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700360" y="907920"/>
            <a:ext cx="38098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2397000">
            <a:off x="2699640" y="4364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537120" y="4004280"/>
            <a:ext cx="785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Давно известно всем на св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Искусство русских масте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В них красота родной при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И мудрость древняя ве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95640" y="692280"/>
            <a:ext cx="56163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36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7786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Мы узнали, что в древние времена почти вся Русь была деревянной. На Руси считалось, что дерево благоприятно влияет на человека, оно полезно для его здоровья. Именно дерево с давних пор считается символом рождения жизни и ее продолжения. Избы в старину строили из ели или сосны. От бревен в избе стоял приятный смолистый запах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Русские люди, жившие много лет тому назад, для своих семей строили избы. Изба (деревенский дом) – самая распространенная постройка того времени. Крестьянин ставил дом прочно, на века. Избу крестьянин строил сам или нанимал опытных плотников. Иногда организовывалась «помочь», когда вся деревня работала для одной семь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0360" y="4005360"/>
            <a:ext cx="33908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Другой угол – около двери и напротив окна – был мужским. Здесь стояла лавка, на которой хозяин работал, а иногда и спал. Под лавкой хранили крестьянское добро. А на стене висела конская сбруя, одежда и принадлежности для работы. Угол этот, как и стоявшую здесь лавку, называли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коник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 лавке делали узоры в виде конской головы.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2184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3068640"/>
            <a:ext cx="54738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Красный уго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асный угол- пространство, заключённое между стеной с дверью в сени и боковой стеной. Печь находилась в глубине избы, по диагонали от красного угла. Красный угол хорошо освещён, поскольку обе составляющие его стены имели окна. Основным украшением красного угла является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божниц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с иконами и лампадкой, поэтому его называют ещё «святым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4572000" cy="3163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457992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49:14Z</dcterms:created>
  <dc:creator>Helen</dc:creator>
  <dc:description/>
  <dc:language>en-US</dc:language>
  <cp:lastModifiedBy>User</cp:lastModifiedBy>
  <dcterms:modified xsi:type="dcterms:W3CDTF">2017-01-13T13:27:25Z</dcterms:modified>
  <cp:revision>7</cp:revision>
  <dc:subject/>
  <dc:title>Слайд 1</dc:title>
</cp:coreProperties>
</file>