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B063-336C-42A8-9B35-9174D040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6E8D-A00C-47EF-BE40-21F123D2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C48D-7500-441B-83CF-E9547958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8115-51F9-4EEA-AA1A-9CFA2CA6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1CAF-7A39-46BE-BBE3-9C348403C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C41C-BB66-4B54-9A09-76422F9C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0E9F-332F-4584-8B2D-7F36549B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94A8-97C7-49C8-9A57-A6CB10D6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A88E-D25B-4BC9-A7D6-5E389545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4DBB-3F50-427E-8F79-E6BF4411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94DB-F3B8-41E2-92E3-FEB813C5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DE08-727F-44D8-8670-7D0167F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9204-A695-482E-A9BA-A2094431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FA58-E755-4D89-B389-810265B9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2842-F394-43E1-9C09-6059945B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137E-6CAC-4BB9-B6DC-AE56A03A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923D-DF1B-4A83-9343-64188813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1FB-7D6A-4531-8A62-518F2772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5706-B638-42C6-B1F4-6B670491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704-8F7F-4976-97D4-5D5B3C6F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9E8-78AA-4EAF-9CE8-C55CEA80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D0A-A7C9-4BCE-8FDF-E1AFA3F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776-548F-4352-A3F9-C80CE2D4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FDF-679B-4204-BC05-C4FE344E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FDE4-0598-4C5A-8C6D-4D615D93D7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E3F45-94B2-48F6-ABA5-55A85E41D5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Arial"/>
              </a:rPr>
              <a:t>Старину мы помним, старину мы чти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МОУ Пильнинская СОШ №1 им.М.Горьк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Arial"/>
              </a:rPr>
              <a:t>Судаков Артём, Карманова Наст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6675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504d"/>
                </a:solidFill>
                <a:latin typeface="Arial"/>
              </a:rPr>
              <a:t>Хлеб — всему голов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Основу основ в пище русского крестьянина составляет хлеб.  Из зерновых хлебных культур главная роль принадлежит ржи. Отсюда ясно, что главный хлеб русских крестьян был ржаной "черный хлеб".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Хлеб в русской печи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пекли отнюдь не каждый день, а лишь раз в неделю, ибо у крестьянки не было иной возможности. К тому же считалось, что свежевыпеченный хлеб «тяжел» и вреден для желудка.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Белый» хлеб пекли из смеси овсяной и ячменной муки, самые богатые могли позволить по праздникам себе испечь «ситный» хлеб из собственной или покупной пшеничной муки. Черный хлеб имел форму круглого каравая, раза в три-четыре большего, чем современные круглые хлеба промышленной выпечки. Белый хлеб пекли как круглой, так и удлиненной формы.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628812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Одежду крестьяне хранили в сундуках. Чем больше достаток в семье, тем и сундуков в избе больше. Мастерили их из дерева, обивали для прочности железными полосами. Нередко сундуки имели хитроумные врезные замки. Если в крестьянской семье росла девочка, то с малых лет в отдельном сундуке ей собирали приданое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686736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libri"/>
              </a:rPr>
              <a:t>Особой гордостью хозяек были точеные, резные и расписные прялки, которые обычно ставили на видное место: они служили не только орудием труда, но и украшением жилища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2549520" cy="3406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588000" y="2637000"/>
            <a:ext cx="20480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00"/>
                </a:solidFill>
                <a:latin typeface="Calibri"/>
              </a:rPr>
              <a:t>Обычно с нарядными прялками крестьянские девушки ходили на "посиделки" - веселые сельские сборища. "Белая" изба убиралась предметами домашнего ткачества. Полати и лежанку закрывали цветные занавеси из льняной клетчатины. На окнах - занавески из домотканой кисе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281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95640" y="2133720"/>
            <a:ext cx="1636920" cy="243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50920" y="206064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5724360" y="4365720"/>
            <a:ext cx="26672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295880" cy="3333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428616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209080" cy="15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Имелось в крестьянском жилище и немало плетеной утвари – корзин, лукошек, коробов. Берестяные туеса служили даже емкостями для воды. Крестьянин брал их с собой в поле. Вода не протекала и сохранялась холодной и вкусной на протяжении всего д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3810240" cy="4143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00720" y="2276640"/>
            <a:ext cx="28573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62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794040" cy="6153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356000" y="189000"/>
            <a:ext cx="4105440" cy="363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500720" y="3933720"/>
            <a:ext cx="3822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836640"/>
            <a:ext cx="8209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Arial"/>
              </a:rPr>
              <a:t>Цели проект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Исследование истории русского крестьянского бы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Формирование уважения к русской народной культуре, к обычаям и традициям русско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00360" y="907920"/>
            <a:ext cx="380988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 rot="2397000">
            <a:off x="2699640" y="4364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537120" y="4004280"/>
            <a:ext cx="7854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Давно известно всем на све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Искусство русских масте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В них красота родной прир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              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И мудрость древняя ве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95640" y="692280"/>
            <a:ext cx="56163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360" y="587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88640"/>
            <a:ext cx="77864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Мы узнали, что в древние времена почти вся Русь была деревянной. На Руси считалось, что дерево благоприятно влияет на человека, оно полезно для его здоровья. Именно дерево с давних пор считается символом рождения жизни и ее продолжения. Избы в старину строили из ели или сосны. От бревен в избе стоял приятный смолистый запах.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Русские люди, жившие много лет тому назад, для своих семей строили избы. Изба (деревенский дом) – самая распространенная постройка того времени. Крестьянин ставил дом прочно, на века. Избу крестьянин строил сам или нанимал опытных плотников. Иногда организовывалась «помочь», когда вся деревня работала для одной семь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700360" y="4005360"/>
            <a:ext cx="33908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32000" y="1628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Другой угол – около двери и напротив окна – был мужским. Здесь стояла лавка, на которой хозяин работал, а иногда и спал. Под лавкой хранили крестьянское добро. А на стене висела конская сбруя, одежда и принадлежности для работы. Угол этот, как и стоявшую здесь лавку, называли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коник: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 лавке делали узоры в виде конской головы.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21000"/>
            <a:ext cx="821844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87280" y="3068640"/>
            <a:ext cx="54738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504d"/>
                </a:solidFill>
                <a:latin typeface="Calibri"/>
              </a:rPr>
              <a:t>Красный угол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асный угол- пространство, заключённое между стеной с дверью в сени и боковой стеной. Печь находилась в глубине избы, по диагонали от красного угла. Красный угол хорошо освещён, поскольку обе составляющие его стены имели окна. Основным украшением красного угла является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божниц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с иконами и лампадкой, поэтому его называют ещё «святым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4572000" cy="3163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4579920" y="3244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09:49:14Z</dcterms:created>
  <dc:creator>Helen</dc:creator>
  <dc:description/>
  <dc:language>en-US</dc:language>
  <cp:lastModifiedBy>User</cp:lastModifiedBy>
  <dcterms:modified xsi:type="dcterms:W3CDTF">2017-01-13T13:27:25Z</dcterms:modified>
  <cp:revision>7</cp:revision>
  <dc:subject/>
  <dc:title>Слайд 1</dc:title>
</cp:coreProperties>
</file>