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EC3-6A04-431C-A41A-F7A410A9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DE75-9BCC-4F77-B45F-36FB210F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416-DE30-4FC9-BE30-63ABC702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AA89-784F-4737-9AB2-0C2F2EF06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CF7-960A-4A5E-99B7-B59DA399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FE3-1089-41F2-A120-CBF310C1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2860-4495-4A10-A376-B6EE51D2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D19-12A8-454C-90A6-C36CC722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930B-29C3-4FEE-B20D-C9D1515C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E73-442A-4256-BC73-09734188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D6D-93F8-49A1-B9ED-801F8DE6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A59-5736-44AB-85AC-DD2946CD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6D61-A761-4E21-B81A-FF3B486238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Творческий проект</a:t>
            </a:r>
            <a:br>
              <a:rPr sz="4000"/>
            </a:b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Тема: </a:t>
            </a: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Национальное татарское блюдо «Кыстыбы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24000" y="386028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ица 9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лимова Фарида 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Гимназия №4» г.Бав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49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380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777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74167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416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723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84872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345440" cy="576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Фото готового блю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Контроль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товое блюдо отвечает следующим требова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юдо «кыстыбый» приготовлено из экологически чистых и натуральных продуктов.  Оно выполнено аккуратно в соответствии с выше указанной технологией. Внешний вид блюда навивает аппет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1061640" y="1353960"/>
            <a:ext cx="6691680" cy="4070160"/>
            <a:chOff x="1061640" y="1353960"/>
            <a:chExt cx="6691680" cy="4070160"/>
          </a:xfrm>
        </p:grpSpPr>
        <p:sp>
          <p:nvSpPr>
            <p:cNvPr id="44" name=""/>
            <p:cNvSpPr/>
            <p:nvPr/>
          </p:nvSpPr>
          <p:spPr>
            <a:xfrm>
              <a:off x="3291840" y="3012480"/>
              <a:ext cx="2624400" cy="105552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«Кыстыбый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24080" y="1353960"/>
              <a:ext cx="1705680" cy="60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роблема, потреб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423240" y="1504800"/>
              <a:ext cx="1442880" cy="753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Безопасность тру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23120" y="1655640"/>
              <a:ext cx="1705680" cy="451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ебестоим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24080" y="3163320"/>
              <a:ext cx="1705680" cy="7534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изделия или блю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79040" y="3012480"/>
              <a:ext cx="1574280" cy="753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Технология пригот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061640" y="4671000"/>
              <a:ext cx="1968480" cy="452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ыбор продук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91840" y="4821480"/>
              <a:ext cx="2099880" cy="602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нвентарь и посуд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16240" y="4821480"/>
              <a:ext cx="1574280" cy="6026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Эстетич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210560" y="2258280"/>
              <a:ext cx="0" cy="75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2372760" y="1956960"/>
              <a:ext cx="1181160" cy="120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260680" y="2107800"/>
              <a:ext cx="918360" cy="90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029760" y="3464640"/>
              <a:ext cx="26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767320" y="3766320"/>
              <a:ext cx="655920" cy="90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73360" y="4068000"/>
              <a:ext cx="0" cy="75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16240" y="3464640"/>
              <a:ext cx="26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54520" y="3917160"/>
              <a:ext cx="524160" cy="90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хема обдумы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056680"/>
                <a:gridCol w="2057040"/>
                <a:gridCol w="2056680"/>
                <a:gridCol w="205884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е 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 сливочно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г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 г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 к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95,8     - на 8 порц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Экономическое обоснование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Расчет затрат на продукты для моего блюда я представила в виде 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Само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людо приготовленное собственными руками ,очень вкусное , намного дешевле, чем в магазине. Радует гостей и родителей. Все операции доступ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Реклама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Стих «Кулинарные секрет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Ах, как люблю, я хорошо пое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кус, аромат, душистые припра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о главное- секрет в готовке е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Запомните который без труда 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Щепоточку радости, щепоточку счаст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 чуть-чуть добра, любви и с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обавьте в завтрак свой, и даст вам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дежный зонтик в самое ненаст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4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8" dur="10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700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10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95280" y="90756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ду по жизни я, то вверх , то вни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низ так не хочется, -вот незадач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е в силах изменить судьбы капр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Я изменю свой взгляд на неу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Щепоточку радости, щепоточку счаст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 чуть-чуть добра, любви и с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обавлю в завтрак свой, и даст мне э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Надежный зонтик в самое ненасть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39640" y="1628640"/>
            <a:ext cx="777744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Цели проект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33"/>
                </a:solidFill>
                <a:latin typeface="Arial"/>
              </a:rPr>
              <a:t>Изучить рецепты приготовления татарских национальных блю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33"/>
                </a:solidFill>
                <a:latin typeface="Arial"/>
              </a:rPr>
              <a:t>Изучить национальные обыча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33"/>
                </a:solidFill>
                <a:latin typeface="Arial"/>
              </a:rPr>
              <a:t>Разработка и выполнение творческого про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6633"/>
                </a:solidFill>
                <a:latin typeface="Arial"/>
              </a:rPr>
              <a:t>Оценка проделанной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68360" y="907920"/>
          <a:ext cx="8229600" cy="55497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показателя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дегустат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шний вид, консистен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е, круглой формы с ровными краями, подрумяненные с двух стор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нкие, круглой формы с ровными краями, подрумяненные с двух стор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родная, б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родная, бел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блинов, без посторонних запах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блинов, без посторонних запах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свойственный для картофельного пю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х свойственный для картофельного пю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домашнего теста без посторонних привку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домашнего теста без посторонних привку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и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картофельного пю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ный для картофельного пю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Требования к блюд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692280"/>
          <a:ext cx="8964720" cy="5894280"/>
        </p:xfrm>
        <a:graphic>
          <a:graphicData uri="http://schemas.openxmlformats.org/drawingml/2006/table">
            <a:tbl>
              <a:tblPr/>
              <a:tblGrid>
                <a:gridCol w="2202120"/>
                <a:gridCol w="2174760"/>
                <a:gridCol w="2762280"/>
                <a:gridCol w="1825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ду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продук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овательность пригото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уда и инвента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о сливочное Мук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ак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.лож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 г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ить пресное тесто. Для этого в воду или молоко, добавить сахар, соль, яйца, масло и все тщательно перемешать. В приготовленную смесь высыпать просеянную муку и замесить тесто так, чтобы оно не прилипало к рукам и легко отставало от стенок посуды. Тесто разрезать на куски весом 75 г и раскатать их на тонкие лепешки. Выпекать на раскаленной сухой сковороде до румяной корочки. Лепешки складывать друг на друга и накрыть тарелкой, чтобы они не затверде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ска, венчик, столовая ложка, сковорода, скалка, доска для раскатки теста, нож, таре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Технологическая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260280"/>
          <a:ext cx="8964720" cy="6222960"/>
        </p:xfrm>
        <a:graphic>
          <a:graphicData uri="http://schemas.openxmlformats.org/drawingml/2006/table">
            <a:tbl>
              <a:tblPr/>
              <a:tblGrid>
                <a:gridCol w="2687760"/>
                <a:gridCol w="2652480"/>
                <a:gridCol w="3368880"/>
                <a:gridCol w="255600"/>
              </a:tblGrid>
              <a:tr h="368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ртоф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ук репча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л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ло слив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шт. сред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 стол. лож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 стак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 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рвичная обработка картофеля. Закладываем его в кипящую воду и варим до готовности в подсоленной воде. После воду сливаем и добавляем горячее молоко и пассированный лук, немного масла сливочного. Размять горячий картофель, чтобы не оставалось комочк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одну половину лепешки уложить картофельную начинку, согнуть лепешку пополам и накрыть начинку второй половиной. Чтобы лепешки не ломались на изгибе, их надо начинять горячими. Поверхность кыстыбый смазать растопленным маслом. Подавать в горячем ви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201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9200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03:27:01Z</dcterms:created>
  <dc:creator>Ганиевы</dc:creator>
  <dc:description/>
  <dc:language>en-US</dc:language>
  <cp:lastModifiedBy>Ганиевы</cp:lastModifiedBy>
  <dcterms:modified xsi:type="dcterms:W3CDTF">2017-01-13T06:15:04Z</dcterms:modified>
  <cp:revision>6</cp:revision>
  <dc:subject/>
  <dc:title>Творческий проект Тема: Национальное татарское блюдо «Кыстыбый»</dc:title>
</cp:coreProperties>
</file>