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BA6-49C6-4145-858A-9A3EF70C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7DC-B0DF-4B30-AFE2-EC05530A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608-4139-46C6-80D7-052B7BA3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EBD-9223-48D8-8EFC-EB124720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5C8-5135-40E3-85FD-FDAD146C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5AC-A0F4-4E33-98EB-DF4DC6E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254-02E8-48FC-811A-5EA265C1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72E-DA90-4790-AF85-BFE56B1F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5C7-97BD-40E2-BA83-5D706A6E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229-1CED-463E-B7DD-9DCC9D89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2B3-3D98-4397-B408-F2D602A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A8C-0295-47C5-AD4A-C92115C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9C27-B689-4B32-B325-9FF23AA77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Творческий проект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Тема: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Национальное татарское блюдо «Кыстыб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3860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имова Фарида 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зия №4» г.Бав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380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41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Фото готового блю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товое блюдо отвечает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юдо «кыстыбый» приготовлено из экологически чистых и натуральных продуктов.  Оно выполнено аккуратно в соответствии с выше указанной технологией. Внешний вид блюда нав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061640" y="1353960"/>
            <a:ext cx="6691680" cy="4070160"/>
            <a:chOff x="1061640" y="1353960"/>
            <a:chExt cx="6691680" cy="4070160"/>
          </a:xfrm>
        </p:grpSpPr>
        <p:sp>
          <p:nvSpPr>
            <p:cNvPr id="44" name=""/>
            <p:cNvSpPr/>
            <p:nvPr/>
          </p:nvSpPr>
          <p:spPr>
            <a:xfrm>
              <a:off x="3291840" y="3012480"/>
              <a:ext cx="2624400" cy="1055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Кыстыбый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24080" y="1353960"/>
              <a:ext cx="1705680" cy="60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23240" y="1504800"/>
              <a:ext cx="1442880" cy="753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23120" y="1655640"/>
              <a:ext cx="1705680" cy="45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24080" y="3163320"/>
              <a:ext cx="1705680" cy="753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9040" y="3012480"/>
              <a:ext cx="1574280" cy="753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1640" y="4671000"/>
              <a:ext cx="1968480" cy="452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91840" y="4821480"/>
              <a:ext cx="2099880" cy="602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6240" y="4821480"/>
              <a:ext cx="1574280" cy="602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210560" y="2258280"/>
              <a:ext cx="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2372760" y="1956960"/>
              <a:ext cx="1181160" cy="12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260680" y="2107800"/>
              <a:ext cx="9183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29760" y="3464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767320" y="3766320"/>
              <a:ext cx="65592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73360" y="4068000"/>
              <a:ext cx="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16240" y="3464640"/>
              <a:ext cx="2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54520" y="3917160"/>
              <a:ext cx="5241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хем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6680"/>
                <a:gridCol w="2057040"/>
                <a:gridCol w="2056680"/>
                <a:gridCol w="2058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сливоч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95,8     - на 8 пор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Экономическое обоснование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Расчет затрат на продукты для моего блюда я представила в вид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юдо приготовленное собственными руками ,очень вкусное , намного дешевле, чем в магазине. Радует гостей и родителей. Все операции доступ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Реклама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Стих «Кулинарные секр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х, как люблю, я хорошо по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кус, аромат, душистые припр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о главное- секрет в готовке 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помните который без труда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Щепоточку радости, щепоточку счас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чуть-чуть добра, любви и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авьте в завтрак свой, и даст вам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дежный зонтик в самое ненас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90756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ду по жизни я, то вверх , то вни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низ так не хочется, -вот не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е в силах изменить судьбы кап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изменю свой взгляд на неу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Щепоточку радости, щепоточку счас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чуть-чуть добра, любви и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авлю в завтрак свой, и даст мне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дежный зонтик в самое ненас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1628640"/>
            <a:ext cx="7777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Изучить рецепты приготовления татарских национальных 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Изучить национальные обыча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Разработка и 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Оценка проделан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907920"/>
          <a:ext cx="8229600" cy="5549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е, круглой формы с ровными краями, подрумяненные с дву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е, круглой формы с ровными краями, подрумяненные с дву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, б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, б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блинов, без посторонних запа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блинов, без посторонних запа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го теста без посторонних привк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го теста без посторонних привк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ребования к блю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692280"/>
          <a:ext cx="8964720" cy="5894280"/>
        </p:xfrm>
        <a:graphic>
          <a:graphicData uri="http://schemas.openxmlformats.org/drawingml/2006/table">
            <a:tbl>
              <a:tblPr/>
              <a:tblGrid>
                <a:gridCol w="2202120"/>
                <a:gridCol w="2174760"/>
                <a:gridCol w="276228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сливочное Му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ак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.л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ить пресное тесто. Для этого в воду или молоко, добавить сахар, соль, яйца, масло и все тщательно перемешать. В приготовленную смесь высыпать просеянную муку и замесить тесто так, чтобы оно не прилипало к рукам и легко отставало от стенок посуды. Тесто разрезать на куски весом 75 г и раскатать их на тонкие лепешки. Выпекать на раскаленной сухой сковороде до румяной корочки. Лепешки складывать друг на друга и накрыть тарелкой, чтобы они не затверд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а, венчик, столовая ложка, сковорода, скалка, доска для раскатки теста, нож, тар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60280"/>
          <a:ext cx="8964720" cy="6222960"/>
        </p:xfrm>
        <a:graphic>
          <a:graphicData uri="http://schemas.openxmlformats.org/drawingml/2006/table">
            <a:tbl>
              <a:tblPr/>
              <a:tblGrid>
                <a:gridCol w="2687760"/>
                <a:gridCol w="2652480"/>
                <a:gridCol w="3368880"/>
                <a:gridCol w="25560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к репч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шт. сред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 стол. ло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ста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чная обработка картофеля. Закладываем его в кипящую воду и варим до готовности в подсоленной воде. После воду сливаем и добавляем горячее молоко и пассированный лук, немного масла сливочного. Размять горячий картофель, чтобы не оставалось комоч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одну половину лепешки уложить картофельную начинку, согнуть лепешку пополам и накрыть начинку второй половиной. Чтобы лепешки не ломались на изгибе, их надо начинять горячими. Поверхность кыстыбый смазать растопленным маслом. Подавать в горячем ви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3:27:01Z</dcterms:created>
  <dc:creator>Ганиевы</dc:creator>
  <dc:description/>
  <dc:language>en-US</dc:language>
  <cp:lastModifiedBy>Ганиевы</cp:lastModifiedBy>
  <dcterms:modified xsi:type="dcterms:W3CDTF">2017-01-13T06:15:04Z</dcterms:modified>
  <cp:revision>6</cp:revision>
  <dc:subject/>
  <dc:title>Творческий проект Тема: Национальное татарское блюдо «Кыстыбый»</dc:title>
</cp:coreProperties>
</file>