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C79-5191-4AFD-A6C9-94BA17DC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636-F5F5-43A2-A1EA-6DDF5977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FD82-4F93-41B3-8595-E43055CF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03C0-33EB-477D-AEE8-3E2C2651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1703-B83A-442F-8C04-E1A16749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E8D-8D7E-4EDF-A3D7-362189E6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9BC-9129-4885-89DC-227E7D2D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AFCC-6EDF-4717-8BFD-E7EF3681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F56-2904-4533-BFAE-54389E4E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9604-C534-4F70-B318-1D664996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254-10B6-481D-BEDC-737C3E4C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3BBA-13E0-4C3E-A004-01A505B8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CEC0-4C13-4039-AC22-A2BBBA8596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Творческий проект</a:t>
            </a:r>
            <a:br>
              <a:rPr sz="4000"/>
            </a:br>
            <a:br>
              <a:rPr sz="4000"/>
            </a:b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Тема: </a:t>
            </a: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Пирог сладкий персиковый</a:t>
            </a:r>
            <a:br>
              <a:rPr sz="3600"/>
            </a:b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и рулет с м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50864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ица 10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лимуллина Гульн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Гимназия №4» г.Бав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608360" cy="3529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140360" y="3357720"/>
            <a:ext cx="482256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787640" cy="3141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780000" y="3141720"/>
            <a:ext cx="51512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859280" cy="3357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851280" y="3141720"/>
            <a:ext cx="51292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932360" cy="3213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64000" y="3284640"/>
            <a:ext cx="52531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067280" cy="436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322880" y="2997360"/>
            <a:ext cx="4821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3816360" cy="4321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17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572000" cy="3357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08360" y="3141720"/>
            <a:ext cx="5111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004000" cy="3357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24360" y="3284640"/>
            <a:ext cx="50385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859280" cy="3141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564000" y="3141720"/>
            <a:ext cx="52959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4680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0579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Схема обдумы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71640" y="1684080"/>
            <a:ext cx="6922800" cy="4754520"/>
            <a:chOff x="971640" y="1684080"/>
            <a:chExt cx="6922800" cy="4754520"/>
          </a:xfrm>
        </p:grpSpPr>
        <p:sp>
          <p:nvSpPr>
            <p:cNvPr id="45" name=""/>
            <p:cNvSpPr/>
            <p:nvPr/>
          </p:nvSpPr>
          <p:spPr>
            <a:xfrm>
              <a:off x="3367800" y="2827080"/>
              <a:ext cx="2662560" cy="21715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Пирог сладкий персиковый и рулет с мак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71640" y="1684080"/>
              <a:ext cx="17308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блема, потреб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01000" y="1684080"/>
              <a:ext cx="1464120" cy="57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езопасность тру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1480" y="1798560"/>
              <a:ext cx="1730880" cy="342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ебестоим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71640" y="3170160"/>
              <a:ext cx="1730880" cy="571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бор изделия или блю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97120" y="3170160"/>
              <a:ext cx="1597320" cy="571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хнология пригот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71640" y="4770720"/>
              <a:ext cx="1997280" cy="342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бор продук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34200" y="5684760"/>
              <a:ext cx="2130480" cy="4568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нвентарь и посуд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97120" y="4656240"/>
              <a:ext cx="1596600" cy="457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Эстетич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65480" y="1912680"/>
              <a:ext cx="666000" cy="114120"/>
            </a:xfrm>
            <a:custGeom>
              <a:avLst/>
              <a:gdLst>
                <a:gd name="textAreaLeft" fmla="*/ 116280 w 666000"/>
                <a:gd name="textAreaRight" fmla="*/ 482760 w 66600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095960" y="2141280"/>
              <a:ext cx="532080" cy="914400"/>
            </a:xfrm>
            <a:custGeom>
              <a:avLst/>
              <a:gdLst>
                <a:gd name="textAreaLeft" fmla="*/ 71280 w 532080"/>
                <a:gd name="textAreaRight" fmla="*/ 460800 w 532080"/>
                <a:gd name="textAreaTop" fmla="*/ 159840 h 914400"/>
                <a:gd name="textAreaBottom" fmla="*/ 6631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62360" y="3741840"/>
              <a:ext cx="265320" cy="914040"/>
            </a:xfrm>
            <a:custGeom>
              <a:avLst/>
              <a:gdLst>
                <a:gd name="textAreaLeft" fmla="*/ 35280 w 265320"/>
                <a:gd name="textAreaRight" fmla="*/ 230040 w 265320"/>
                <a:gd name="textAreaTop" fmla="*/ 159840 h 914040"/>
                <a:gd name="textAreaBottom" fmla="*/ 66276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2606400">
              <a:off x="6163920" y="5227200"/>
              <a:ext cx="533160" cy="79992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40040 h 799920"/>
                <a:gd name="textAreaBottom" fmla="*/ 57996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6112800">
              <a:off x="2196000" y="5188680"/>
              <a:ext cx="914040" cy="1330560"/>
            </a:xfrm>
            <a:custGeom>
              <a:avLst/>
              <a:gdLst>
                <a:gd name="textAreaLeft" fmla="*/ 122400 w 914040"/>
                <a:gd name="textAreaRight" fmla="*/ 791640 w 914040"/>
                <a:gd name="textAreaTop" fmla="*/ 232560 h 1330560"/>
                <a:gd name="textAreaBottom" fmla="*/ 964800 h 133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8728800">
              <a:off x="1845000" y="3720960"/>
              <a:ext cx="531720" cy="1028520"/>
            </a:xfrm>
            <a:custGeom>
              <a:avLst/>
              <a:gdLst>
                <a:gd name="textAreaLeft" fmla="*/ 71280 w 531720"/>
                <a:gd name="textAreaRight" fmla="*/ 460440 w 531720"/>
                <a:gd name="textAreaTop" fmla="*/ 180000 h 1028520"/>
                <a:gd name="textAreaBottom" fmla="*/ 745920 h 10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0524000">
              <a:off x="1903320" y="2369520"/>
              <a:ext cx="398520" cy="685800"/>
            </a:xfrm>
            <a:custGeom>
              <a:avLst/>
              <a:gdLst>
                <a:gd name="textAreaLeft" fmla="*/ 53280 w 398520"/>
                <a:gd name="textAreaRight" fmla="*/ 345240 w 39852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02520" y="1912680"/>
              <a:ext cx="798480" cy="114120"/>
            </a:xfrm>
            <a:custGeom>
              <a:avLst/>
              <a:gdLst>
                <a:gd name="textAreaLeft" fmla="*/ 139680 w 798480"/>
                <a:gd name="textAreaRight" fmla="*/ 578880 w 79848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427280" cy="3168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24360" y="3141720"/>
            <a:ext cx="504504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537080" cy="338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24360" y="3500280"/>
            <a:ext cx="50450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5003640" cy="3716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95640" y="3479760"/>
            <a:ext cx="497052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780000" y="3394080"/>
            <a:ext cx="51195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932360" cy="3384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708360" y="3564000"/>
            <a:ext cx="52545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753080" cy="321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003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Фото готового блюд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272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Открытый сладкий персиковый  пирог и рулет с маком  приготовлены из экологически чистых и натуральных продуктов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ыпечка выполнена аккуратно в соответствии с выше указанной технолог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нешний вид пирога и рулета навивает аппет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риятного аппети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Экономическое обоснование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Расчет затрат на продукты для моего сладкого пирога и рулета  я представила в виде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341360"/>
          <a:ext cx="8507160" cy="5182920"/>
        </p:xfrm>
        <a:graphic>
          <a:graphicData uri="http://schemas.openxmlformats.org/drawingml/2006/table">
            <a:tbl>
              <a:tblPr/>
              <a:tblGrid>
                <a:gridCol w="2126160"/>
                <a:gridCol w="2126160"/>
                <a:gridCol w="2126520"/>
                <a:gridCol w="2128320"/>
              </a:tblGrid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а изме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обходимое 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оимость ( 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о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к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к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ло подсолне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г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к пищево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пач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сик консервирован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ба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0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енье ягод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 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аш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ого: 163,95 - на 10 порц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Самоо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ыпечка готова! Можно подвести итоги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ыпечка приготовленная собственными руками ,очень вкус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амного дешевле, чем в магаз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адует гостей и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иготовлена из экологически чистых проду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се операции доступ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Рекл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Хороший повар стоит доктор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ациональное питание –основа процве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0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8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1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9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Цел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Работать над совершенствованием технологии своих возможностей при изготовлении кулинарных блю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Развивать творческую инициати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Разработка и выполнение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Оценка проделан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Требования к выпечк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1341360"/>
          <a:ext cx="8229600" cy="5211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показателя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дегустат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ий вид, консистен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й  сладкий персиковый  пир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й формы с ровными краями, подрумяненный, пропеченный, красиво украшенный сверху, не подгорел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й формы с ровными краями, подрумяненный, пропеченный, красиво украшенный сверху, не подгорел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ная, краси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ная, краси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лет с ма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ой формы с ровными краями, подрумяненный, пропеченный, красиво украшенный сверху, не подгор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ой формы с ровными краями, подрумяненный, пропеченный, красиво украшенный сверху, не подгор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вная, красив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вная, красив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189000"/>
          <a:ext cx="8964720" cy="6122880"/>
        </p:xfrm>
        <a:graphic>
          <a:graphicData uri="http://schemas.openxmlformats.org/drawingml/2006/table">
            <a:tbl>
              <a:tblPr/>
              <a:tblGrid>
                <a:gridCol w="2987640"/>
                <a:gridCol w="2989440"/>
                <a:gridCol w="298764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й  сладкий персиковый  пир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пирога, без посторонних запах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пирога, без посторонних запах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свойственный для сладкой начи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свойственный для сладкой начи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лет с ма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выпечки, без посторонних запах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выпечки, без посторонних запах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свойственный для сладкой  начинки с ма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свойственный для сладкой  начинки с ма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й сладкий персиковый  пир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домашней выпечки без посторонних привкусов, пропеч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домашней выпечки без посторонних привкусов, пропеч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дкая, вкусная, с дольками перс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дкая, вкусная, с дольками перс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лет с ма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домашней выпечки без посторонних привкусов, пропеч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домашней выпечки без посторонних привкусов, пропеч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дкая, вкусная с ма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дкая, вкусная с ма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Технологическая к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765000"/>
          <a:ext cx="9144000" cy="6139080"/>
        </p:xfrm>
        <a:graphic>
          <a:graphicData uri="http://schemas.openxmlformats.org/drawingml/2006/table">
            <a:tbl>
              <a:tblPr/>
              <a:tblGrid>
                <a:gridCol w="2052720"/>
                <a:gridCol w="1793880"/>
                <a:gridCol w="3619440"/>
                <a:gridCol w="16779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ду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оду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ьность пригото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уда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ент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о дрожже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солнечное ма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пес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теп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ь по вкус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ст.лож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.лож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 с сахаром перемешать, добавить теплой воды, еще раз все перемешать и поставить подниматься. В кастрюлю разбить яйца, добавить соль, все перемешать. После добавить поднявшиеся дрожжи, муку просеянную, постепенно мешать и добавить теплое молоко. Замесить тесто и поставить подниматься. Когда тесто поднимется 1раз, его края немного собрать (опустить) и поставить еще раз для подъем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ое тесто разделить на 2 части. Из одной части теста пирог сделаем, а из другой части рулет. Первую  часть теста разделить, оставив немного на украшение пирога сверху (решеткой). Большую  часть теста оставленную для порога раскатать в форме круга. На смазанную маслом сковородку уложить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ска, кастрюля, столовая ложка, сковорода, скалка, доска для раскатки теста, нож, стакан и другая посу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0920" y="139680"/>
          <a:ext cx="8604000" cy="6718320"/>
        </p:xfrm>
        <a:graphic>
          <a:graphicData uri="http://schemas.openxmlformats.org/drawingml/2006/table">
            <a:tbl>
              <a:tblPr/>
              <a:tblGrid>
                <a:gridCol w="2566800"/>
                <a:gridCol w="2048040"/>
                <a:gridCol w="3703680"/>
                <a:gridCol w="285480"/>
              </a:tblGrid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нка для сладкого пиро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енье ягод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сик консервирова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стак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ба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раскатанное тесто намазать варенье и уложить дольками персик. Можно украсить пирог оставшимся тестом на свой вкус, а сверху тесто помазать маслом  подсолнечным. Потом пирог поставить в теплое место (температура 30 — 35 °С) на расстойку. Когда тесто пирога поднимется печь в разогретой духовк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лет с ма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нк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енье ягодно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к пищев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торую  часть теста оставленную для рулета раскатать прямоугольной формой. Сверху раскатанного теста намазать варенье ягодное и посыпать мак. После завернуть тесто в форме рулета и положить на смазанную маслом сковородку или лист. Сверху вилкой проколоть тесто в нескольких местах, чтобы вышел воздух. Рулет можно украсить на свой вкус. В конце помазать тесто маслом. Поставить рулет в теплое место (температура 30 — 35 °С) на расстойку  на 20 мин. Когда поднимется печь до готовности в разогретой духовке при 180-200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°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392360" cy="2952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80000" y="3213000"/>
            <a:ext cx="50562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716720" cy="3141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51280" y="3141720"/>
            <a:ext cx="486396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2T03:27:01Z</dcterms:created>
  <dc:creator>Ганиевы</dc:creator>
  <dc:description/>
  <dc:language>en-US</dc:language>
  <cp:lastModifiedBy>Ганиевы</cp:lastModifiedBy>
  <dcterms:modified xsi:type="dcterms:W3CDTF">2017-01-13T06:23:30Z</dcterms:modified>
  <cp:revision>10</cp:revision>
  <dc:subject/>
  <dc:title>Творческий проект Тема: Национальное татарское блюдо «Кыстыбый»</dc:title>
</cp:coreProperties>
</file>