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F2A-33BD-44C0-97DD-DF6B9ABB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66CB-5F9B-460D-B8F6-F57E177C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5012-F6AE-4111-9D58-6EB9B8D7F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EF7-F55D-43EB-AC1E-BA44113F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6E2-EE7E-47B4-8FBE-3F128B58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596-58B9-42D3-9847-170E5611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30D-52E8-4715-AFBF-7CB94A52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EB88-E8A7-4AFD-A90E-A1FBE48E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070-26A7-4009-BAEB-2F4D5FAD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9C2-B9C8-4908-B9CF-1D76198C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351-5AB5-4CF4-B2BD-39335C29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BC5C-FBD2-46B9-AE42-A7B61611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5673-9BD0-4940-90F0-F0DE9551E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Творческий проект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c00000"/>
                </a:solidFill>
                <a:latin typeface="Arial"/>
              </a:rPr>
              <a:t>Тема: </a:t>
            </a: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Пирог сладкий персиковый</a:t>
            </a:r>
            <a:br>
              <a:rPr sz="3600"/>
            </a:br>
            <a:r>
              <a:rPr b="1" i="1" lang="en-US" sz="3600" spc="-1" strike="noStrike">
                <a:solidFill>
                  <a:srgbClr val="cc0000"/>
                </a:solidFill>
                <a:latin typeface="Arial"/>
              </a:rPr>
              <a:t>и рулет с м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50864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ица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лимуллина Гульн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имназия №4» г.Бав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608360" cy="3529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40360" y="3357720"/>
            <a:ext cx="482256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787640" cy="3141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3141720"/>
            <a:ext cx="515124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859280" cy="335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5129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932360" cy="3213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3284640"/>
            <a:ext cx="52531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067280" cy="436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322880" y="2997360"/>
            <a:ext cx="4821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3816360" cy="4321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3280" y="1557360"/>
            <a:ext cx="417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572000" cy="3357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08360" y="3141720"/>
            <a:ext cx="5111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004000" cy="3357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24360" y="3284640"/>
            <a:ext cx="503856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59280" cy="3141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564000" y="3141720"/>
            <a:ext cx="52959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032360" cy="4680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0579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99"/>
                </a:solidFill>
                <a:latin typeface="Arial"/>
              </a:rPr>
              <a:t>Схема обдумы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71640" y="1684080"/>
            <a:ext cx="6922800" cy="4754520"/>
            <a:chOff x="971640" y="1684080"/>
            <a:chExt cx="6922800" cy="4754520"/>
          </a:xfrm>
        </p:grpSpPr>
        <p:sp>
          <p:nvSpPr>
            <p:cNvPr id="45" name=""/>
            <p:cNvSpPr/>
            <p:nvPr/>
          </p:nvSpPr>
          <p:spPr>
            <a:xfrm>
              <a:off x="3367800" y="2827080"/>
              <a:ext cx="2662560" cy="21715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Arial"/>
                </a:rPr>
                <a:t>Пирог сладкий персиковый и рулет с мак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71640" y="1684080"/>
              <a:ext cx="17308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блема, потреб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01000" y="1684080"/>
              <a:ext cx="1464120" cy="571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езопасность тру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1480" y="1798560"/>
              <a:ext cx="1730880" cy="3427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ебестоим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71640" y="3170160"/>
              <a:ext cx="1730880" cy="571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изделия или блю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97120" y="3170160"/>
              <a:ext cx="1597320" cy="571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ология при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71640" y="4770720"/>
              <a:ext cx="1997280" cy="3427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проду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34200" y="5684760"/>
              <a:ext cx="2130480" cy="456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вентарь и посуд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97120" y="4656240"/>
              <a:ext cx="1596600" cy="4572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сте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65480" y="1912680"/>
              <a:ext cx="666000" cy="114120"/>
            </a:xfrm>
            <a:custGeom>
              <a:avLst/>
              <a:gdLst>
                <a:gd name="textAreaLeft" fmla="*/ 116280 w 666000"/>
                <a:gd name="textAreaRight" fmla="*/ 482760 w 66600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095960" y="2141280"/>
              <a:ext cx="532080" cy="914400"/>
            </a:xfrm>
            <a:custGeom>
              <a:avLst/>
              <a:gdLst>
                <a:gd name="textAreaLeft" fmla="*/ 71280 w 532080"/>
                <a:gd name="textAreaRight" fmla="*/ 460800 w 532080"/>
                <a:gd name="textAreaTop" fmla="*/ 159840 h 914400"/>
                <a:gd name="textAreaBottom" fmla="*/ 6631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362360" y="3741840"/>
              <a:ext cx="265320" cy="914040"/>
            </a:xfrm>
            <a:custGeom>
              <a:avLst/>
              <a:gdLst>
                <a:gd name="textAreaLeft" fmla="*/ 35280 w 265320"/>
                <a:gd name="textAreaRight" fmla="*/ 230040 w 265320"/>
                <a:gd name="textAreaTop" fmla="*/ 159840 h 914040"/>
                <a:gd name="textAreaBottom" fmla="*/ 662760 h 91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2606400">
              <a:off x="6163920" y="5227200"/>
              <a:ext cx="533160" cy="799920"/>
            </a:xfrm>
            <a:custGeom>
              <a:avLst/>
              <a:gdLst>
                <a:gd name="textAreaLeft" fmla="*/ 71280 w 533160"/>
                <a:gd name="textAreaRight" fmla="*/ 461880 w 533160"/>
                <a:gd name="textAreaTop" fmla="*/ 140040 h 799920"/>
                <a:gd name="textAreaBottom" fmla="*/ 57996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6112800">
              <a:off x="2196000" y="5188680"/>
              <a:ext cx="914040" cy="1330560"/>
            </a:xfrm>
            <a:custGeom>
              <a:avLst/>
              <a:gdLst>
                <a:gd name="textAreaLeft" fmla="*/ 122400 w 914040"/>
                <a:gd name="textAreaRight" fmla="*/ 791640 w 914040"/>
                <a:gd name="textAreaTop" fmla="*/ 232560 h 1330560"/>
                <a:gd name="textAreaBottom" fmla="*/ 964800 h 133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8728800">
              <a:off x="1845000" y="3720960"/>
              <a:ext cx="531720" cy="1028520"/>
            </a:xfrm>
            <a:custGeom>
              <a:avLst/>
              <a:gdLst>
                <a:gd name="textAreaLeft" fmla="*/ 71280 w 531720"/>
                <a:gd name="textAreaRight" fmla="*/ 460440 w 531720"/>
                <a:gd name="textAreaTop" fmla="*/ 180000 h 1028520"/>
                <a:gd name="textAreaBottom" fmla="*/ 745920 h 102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0524000">
              <a:off x="1903320" y="2369520"/>
              <a:ext cx="398520" cy="685800"/>
            </a:xfrm>
            <a:custGeom>
              <a:avLst/>
              <a:gdLst>
                <a:gd name="textAreaLeft" fmla="*/ 53280 w 398520"/>
                <a:gd name="textAreaRight" fmla="*/ 345240 w 39852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02520" y="1912680"/>
              <a:ext cx="798480" cy="114120"/>
            </a:xfrm>
            <a:custGeom>
              <a:avLst/>
              <a:gdLst>
                <a:gd name="textAreaLeft" fmla="*/ 139680 w 798480"/>
                <a:gd name="textAreaRight" fmla="*/ 578880 w 798480"/>
                <a:gd name="textAreaTop" fmla="*/ 15120 h 114120"/>
                <a:gd name="textAreaBottom" fmla="*/ 9900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427280" cy="31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504504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537080" cy="33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924360" y="3500280"/>
            <a:ext cx="50450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115920"/>
            <a:ext cx="5003640" cy="3716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95640" y="3479760"/>
            <a:ext cx="49705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80000" y="3394080"/>
            <a:ext cx="511956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932360" cy="3384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708360" y="3564000"/>
            <a:ext cx="525456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53080" cy="321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4003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Фото готового блюд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7272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Открытый сладкий персиковый  пирог и рулет с маком  приготовлены из экологически чистых и натуральных продукто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ыпечка выполнена аккуратно в соответствии с выше указанной технологи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Внешний вид пирога и рулета навивает аппет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Приятного аппети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Экономическое обоснование</a:t>
            </a:r>
            <a:br>
              <a:rPr sz="2000"/>
            </a:b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Расчет затрат на продукты для моего сладкого пирога и рулета  я представила в виде табл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341360"/>
          <a:ext cx="8507160" cy="5182920"/>
        </p:xfrm>
        <a:graphic>
          <a:graphicData uri="http://schemas.openxmlformats.org/drawingml/2006/table">
            <a:tbl>
              <a:tblPr/>
              <a:tblGrid>
                <a:gridCol w="2126160"/>
                <a:gridCol w="2126160"/>
                <a:gridCol w="2126520"/>
                <a:gridCol w="2128320"/>
              </a:tblGrid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а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обходимое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тоимость (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8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о подсолне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к пищево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пач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сик консервирова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енье ягод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0 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маш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того: 163,95 - на 10 порц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ыпечка готова! Можно подвести итоги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ыпечка приготовленная собственными руками ,очень вкус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много дешевле, чем в магаз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дует гостей 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приготовлена из экологически чистых проду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се операции доступ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Хороший повар стоит доктор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Рациональное питание –основа процве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000"/>
                            </p:stCondLst>
                            <p:childTnLst>
                              <p:par>
                                <p:cTn id="3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700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8000"/>
                            </p:stCondLst>
                            <p:childTnLst>
                              <p:par>
                                <p:cTn id="3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0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ff66"/>
                </a:solidFill>
                <a:latin typeface="Arial"/>
              </a:rPr>
              <a:t>Цел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Работать над совершенствованием технологии своих возможностей при изготовлении кулинарных блю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Развивать творческую инициати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Разработка и выполнение творче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cc"/>
                </a:solidFill>
                <a:latin typeface="Arial"/>
              </a:rPr>
              <a:t>Оценка продела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Требования к выпечк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341360"/>
          <a:ext cx="8229600" cy="5211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показателя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дегуста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, консист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 сладкий персиковый  пи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й формы с ровными краями, подрумяненный, пропеченный, красиво украшенный сверху, не подгорел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й формы с ровными краями, подрумяненный, пропеченный, красиво украшенный сверху, не подгорел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ная, краси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ная, краси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лет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й формы с ровными краями, подрумяненный, пропеченный, красиво украшенный сверху, не подгор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ой формы с ровными краями, подрумяненный, пропеченный, красиво украшенный сверху, не подгорел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вная, краси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вная, красив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189000"/>
          <a:ext cx="8964720" cy="6122880"/>
        </p:xfrm>
        <a:graphic>
          <a:graphicData uri="http://schemas.openxmlformats.org/drawingml/2006/table">
            <a:tbl>
              <a:tblPr/>
              <a:tblGrid>
                <a:gridCol w="2987640"/>
                <a:gridCol w="2989440"/>
                <a:gridCol w="298764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 сладкий персиковый  пи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пирога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пирога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сладкой начи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сладкой начи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лет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выпечки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выпечки, без посторонних запах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сладкой  начинки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сладкой  начинки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ый сладкий персиковый  пир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й выпечки без посторонних привкусов, пропеч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й выпечки без посторонних привкусов, пропеч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ая, вкусная, с дольками перс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ая, вкусная, с дольками перс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лет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й выпечки без посторонних привкусов, пропеч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й выпечки без посторонних привкусов, пропеч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ая, вкусная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ая, вкусная с ма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Технологическая к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765000"/>
          <a:ext cx="9144000" cy="6139080"/>
        </p:xfrm>
        <a:graphic>
          <a:graphicData uri="http://schemas.openxmlformats.org/drawingml/2006/table">
            <a:tbl>
              <a:tblPr/>
              <a:tblGrid>
                <a:gridCol w="2052720"/>
                <a:gridCol w="1793880"/>
                <a:gridCol w="3619440"/>
                <a:gridCol w="16779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ду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ду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пригото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уда 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вен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сто дрожжев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солнечное мас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пес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теп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 по вкус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ст.ло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.лож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 с сахаром перемешать, добавить теплой воды, еще раз все перемешать и поставить подниматься. В кастрюлю разбить яйца, добавить соль, все перемешать. После добавить поднявшиеся дрожжи, муку просеянную, постепенно мешать и добавить теплое молоко. Замесить тесто и поставить подниматься. Когда тесто поднимется 1раз, его края немного собрать (опустить) и поставить еще раз для подъем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ое тесто разделить на 2 части. Из одной части теста пирог сделаем, а из другой части рулет. Первую  часть теста разделить, оставив немного на украшение пирога сверху (решеткой). Большую  часть теста оставленную для порога раскатать в форме круга. На смазанную маслом сковородку уложить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ка, кастрюля, столовая ложка, сковорода, скалка, доска для раскатки теста, нож, стакан и другая пос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39680"/>
          <a:ext cx="8604000" cy="6718320"/>
        </p:xfrm>
        <a:graphic>
          <a:graphicData uri="http://schemas.openxmlformats.org/drawingml/2006/table">
            <a:tbl>
              <a:tblPr/>
              <a:tblGrid>
                <a:gridCol w="2566800"/>
                <a:gridCol w="2048040"/>
                <a:gridCol w="3703680"/>
                <a:gridCol w="285480"/>
              </a:tblGrid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нка для сладкого пирог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енье ягод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сик консервирова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стак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раскатанное тесто намазать варенье и уложить дольками персик. Можно украсить пирог оставшимся тестом на свой вкус, а сверху тесто помазать маслом  подсолнечным. Потом пирог поставить в теплое место (температура 30 — 35 °С) на расстойку. Когда тесто пирога поднимется печь в разогретой духовк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лет с ма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нк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енье ягодно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к пищев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торую  часть теста оставленную для рулета раскатать прямоугольной формой. Сверху раскатанного теста намазать варенье ягодное и посыпать мак. После завернуть тесто в форме рулета и положить на смазанную маслом сковородку или лист. Сверху вилкой проколоть тесто в нескольких местах, чтобы вышел воздух. Рулет можно украсить на свой вкус. В конце помазать тесто маслом. Поставить рулет в теплое место (температура 30 — 35 °С) на расстойку  на 20 мин. Когда поднимется печь до готовности в разогретой духовке при 180-200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°С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39236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80000" y="3213000"/>
            <a:ext cx="50562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16720" cy="3141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51280" y="3141720"/>
            <a:ext cx="48639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03:27:01Z</dcterms:created>
  <dc:creator>Ганиевы</dc:creator>
  <dc:description/>
  <dc:language>en-US</dc:language>
  <cp:lastModifiedBy>Ганиевы</cp:lastModifiedBy>
  <dcterms:modified xsi:type="dcterms:W3CDTF">2017-01-13T06:23:30Z</dcterms:modified>
  <cp:revision>10</cp:revision>
  <dc:subject/>
  <dc:title>Творческий проект Тема: Национальное татарское блюдо «Кыстыбый»</dc:title>
</cp:coreProperties>
</file>