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1C5-AB9A-42E1-BA2C-E1951A05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9CB-AC84-42CF-B376-78286B33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35A2-3822-45B8-829F-96F1D30B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D3CE-5FDD-48EB-828C-CA4CD0BE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18C-5E89-4A77-892E-E1E2314E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AC2E-1135-4C57-93D0-CE1A0446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77E3-B5BF-40BC-A199-3062DF21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A14E-9D54-473E-B84D-E8BAE91F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A6C-BF18-49F5-BA0F-50789DB7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D6C-598D-4317-A345-A48D310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AB1A-8B17-4DC7-9660-BDABBA90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7B9-DA8C-4024-8B75-C1C7995B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50E3-5A5D-448E-99B1-9A6FD992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D27C-D448-423F-AADF-4113B206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CBF5-E6CD-470E-971F-DD86BDB1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457-1A72-47F8-A832-85629BA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826C-AAFE-4444-8F03-1EC38904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882-398D-4FC8-AF8D-E943A380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7E41-49E3-4BF3-A077-00C08224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C95-440F-4D30-B524-AB078317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233-5365-4C98-8422-9A5EB0F2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9E65-D2E6-451F-90EE-861ECA08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CA89-ADFC-4083-9257-31A8A858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47C8-836B-498A-9425-544964B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B7B-182A-4955-BC93-E801E29230D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D624-6DEF-4ABA-A618-BD90E9BDB2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50920" y="907920"/>
            <a:ext cx="874872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кторина по сказкам.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720" y="24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Кот в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апогах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кот в сапогах"/>
          <p:cNvPicPr/>
          <p:nvPr/>
        </p:nvPicPr>
        <p:blipFill>
          <a:blip r:embed="rId1"/>
          <a:stretch/>
        </p:blipFill>
        <p:spPr>
          <a:xfrm>
            <a:off x="0" y="476280"/>
            <a:ext cx="61927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3280" y="595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Золушка»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Picture 4" descr="золушка"/>
          <p:cNvPicPr/>
          <p:nvPr/>
        </p:nvPicPr>
        <p:blipFill>
          <a:blip r:embed="rId1"/>
          <a:stretch/>
        </p:blipFill>
        <p:spPr>
          <a:xfrm>
            <a:off x="1042920" y="692280"/>
            <a:ext cx="703728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950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Золотой ключик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5" descr="кючик и буратино"/>
          <p:cNvPicPr/>
          <p:nvPr/>
        </p:nvPicPr>
        <p:blipFill>
          <a:blip r:embed="rId1"/>
          <a:stretch/>
        </p:blipFill>
        <p:spPr>
          <a:xfrm>
            <a:off x="1042920" y="692280"/>
            <a:ext cx="7135920" cy="53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16720" y="263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Сказка о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ыбаке и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ыбке»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5" descr="Рыба"/>
          <p:cNvPicPr/>
          <p:nvPr/>
        </p:nvPicPr>
        <p:blipFill>
          <a:blip r:embed="rId1"/>
          <a:stretch/>
        </p:blipFill>
        <p:spPr>
          <a:xfrm>
            <a:off x="250920" y="404640"/>
            <a:ext cx="5689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гра со зрителями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«Добавь нужное слово»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843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ка Ш.Перро «Красная 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ка Ш.Перро «Синя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лшебная пов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Погорельского «Черна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казочная пове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Волкова «Желтый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сказ Д.Мамина-Сибиряка «Серая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ссказ В.Бианки «Оренжевое…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13200" y="1628640"/>
            <a:ext cx="2530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Шапоч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Бород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Куриц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Тума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Шейк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(Горлышк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оедините стрелками героев книг с их автора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уха-Цокотух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рокодил Г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иполли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ядя Сте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йбол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ал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юймовоч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бураш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.Рода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Ч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Пушки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.Михалк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.Чуков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-Х.Андерс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059280" y="1844640"/>
            <a:ext cx="158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2987640" y="1916280"/>
            <a:ext cx="1584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V="1">
            <a:off x="2411280" y="2349360"/>
            <a:ext cx="22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9"/>
          <p:cNvSpPr/>
          <p:nvPr/>
        </p:nvSpPr>
        <p:spPr>
          <a:xfrm>
            <a:off x="2411280" y="3357720"/>
            <a:ext cx="230508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1908000" y="3716280"/>
            <a:ext cx="273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V="1">
            <a:off x="1619280" y="3284640"/>
            <a:ext cx="3024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2556000" y="4724280"/>
            <a:ext cx="20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 flipV="1">
            <a:off x="2411280" y="3789360"/>
            <a:ext cx="2232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6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</a:t>
            </a: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60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       1 команд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го маленькая разбойница дала в помощь Герд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305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0"/>
          <p:cNvSpPr/>
          <p:nvPr/>
        </p:nvSpPr>
        <p:spPr>
          <a:xfrm>
            <a:off x="38512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>
            <a:off x="2050920" y="4005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468360" y="357336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Жар-птиц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468360" y="42210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ле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0160" y="4869000"/>
            <a:ext cx="3153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нька-Горбун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14" nodeType="with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16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717" dur="indefinite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60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4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                     1 команда.</a:t>
            </a:r>
            <a:br>
              <a:rPr sz="6000"/>
            </a:b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 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300880" cy="122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Сколько дней пролежали деньги Буратино на Поле Чуд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995640" y="328464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826920" y="3933720"/>
            <a:ext cx="29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975240" y="46530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ь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971640" y="3213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4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4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4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5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1 команда.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Какие из произведений принадлежат перу Г.Х.Андерсен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38200" y="3270240"/>
            <a:ext cx="48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езнайка и его друз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38920" y="3933720"/>
            <a:ext cx="35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аленький Му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11640" y="4581360"/>
            <a:ext cx="19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гни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0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96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4358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1 команда.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звали трех порос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50920" y="3284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 Чья это песен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16000" y="407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ли я чешу в затылке, не 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лове моей опилки да-да-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0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3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611280" y="907920"/>
            <a:ext cx="698508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казочная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азминка.</a:t>
            </a:r>
            <a:endParaRPr b="0" lang="en-US" sz="96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Что попало Каю в глаз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827640" y="278136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неж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828000" y="3716280"/>
            <a:ext cx="19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ыли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828360" y="450864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колок сте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4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5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Какие цветы собирала падчерица в сказке «12 месяцев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972720" y="3005280"/>
            <a:ext cx="178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иа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900360" y="3666960"/>
            <a:ext cx="21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ндыш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900720" y="4338720"/>
            <a:ext cx="295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8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За что Чиполлино посадили в тюрь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826920" y="2925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шёл улицу на красный с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823320" y="3645000"/>
            <a:ext cx="55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рнул Вишенку за косич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751320" y="4437000"/>
            <a:ext cx="712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упил на мозоль принцу Лимо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nodeType="clickEffect" fill="hold">
                      <p:stCondLst>
                        <p:cond delay="0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35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36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 2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зовут девочку, попавшую в Зазеркаль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4149720"/>
            <a:ext cx="93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Как Элли попала в волшебную стран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0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Кто из героев сказки «Золотой ключик» кукл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684360" y="327024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па Кар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755640" y="3933720"/>
            <a:ext cx="19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рти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826920" y="472428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ь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0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1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0" dur="4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4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9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то автор сказки «Айболит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686160" y="2717640"/>
            <a:ext cx="31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.И.Чуков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757440" y="3500280"/>
            <a:ext cx="28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Н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756360" y="4292640"/>
            <a:ext cx="28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.Успе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2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Назовите писателя-сказоч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470160" y="2789280"/>
            <a:ext cx="34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Г.Х.Андер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757080" y="3573360"/>
            <a:ext cx="28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829080" y="4437000"/>
            <a:ext cx="29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.Н.Толс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nodeType="clickEffect" fill="hold">
                      <p:stCondLst>
                        <p:cond delay="0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4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          </a:t>
            </a:r>
            <a:r>
              <a:rPr b="0" lang="ru-RU" sz="5400" spc="-1" strike="noStrike">
                <a:solidFill>
                  <a:srgbClr val="006633"/>
                </a:solidFill>
                <a:latin typeface="Garamond"/>
              </a:rPr>
              <a:t>Блиц-опрос.</a:t>
            </a:r>
            <a:br>
              <a:rPr sz="3200"/>
            </a:br>
            <a:r>
              <a:rPr b="0" lang="ru-RU" sz="3200" spc="-1" strike="noStrike">
                <a:solidFill>
                  <a:srgbClr val="006633"/>
                </a:solidFill>
                <a:latin typeface="Garamond"/>
              </a:rPr>
              <a:t>                         3 команда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Назовите имя Крысы старухи Шапокля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539640" y="393372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Второе название скатер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nodeType="clickEffect" fill="hold">
                      <p:stCondLst>
                        <p:cond delay="0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0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1341000"/>
            <a:ext cx="4032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йте слово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по первым буквам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названия картинок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и вы узнаете, как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звали коня у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ванушк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606096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Рисунок1"/>
          <p:cNvPicPr/>
          <p:nvPr/>
        </p:nvPicPr>
        <p:blipFill>
          <a:blip r:embed="rId1"/>
          <a:stretch/>
        </p:blipFill>
        <p:spPr>
          <a:xfrm>
            <a:off x="4427640" y="476280"/>
            <a:ext cx="4537080" cy="57261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1835280" y="6093000"/>
            <a:ext cx="37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Сивка-Бу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1412640"/>
            <a:ext cx="4259160" cy="41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омогите Красной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Шапочке добраться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о домика бабушки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и вы сможете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ть, кто спас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её и бабушку 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от волка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13080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Рисунок3"/>
          <p:cNvPicPr/>
          <p:nvPr/>
        </p:nvPicPr>
        <p:blipFill>
          <a:blip r:embed="rId1"/>
          <a:stretch/>
        </p:blipFill>
        <p:spPr>
          <a:xfrm>
            <a:off x="4427640" y="476280"/>
            <a:ext cx="4716360" cy="57322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1834920" y="6197760"/>
            <a:ext cx="21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33"/>
                </a:solidFill>
                <a:latin typeface="Arial"/>
              </a:rPr>
              <a:t>Дровосе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684360" y="1413000"/>
            <a:ext cx="784836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слушайте стихотворения 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азовите сказк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и её автора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рочитайте по стрелкам имена сказочных героев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Untitled-1"/>
          <p:cNvPicPr/>
          <p:nvPr/>
        </p:nvPicPr>
        <p:blipFill>
          <a:blip r:embed="rId1"/>
          <a:stretch/>
        </p:blipFill>
        <p:spPr>
          <a:xfrm>
            <a:off x="-255600" y="549360"/>
            <a:ext cx="9399600" cy="65898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0" y="64008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оло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1550160" y="640080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араб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989440" y="640080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Пятач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4358520" y="640080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Карл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5868000" y="6400800"/>
            <a:ext cx="138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Айбо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7453440" y="64008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Зол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0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2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7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11280" y="551664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.И.Чуковск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Муха-Цокотух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мухаЦ2"/>
          <p:cNvPicPr/>
          <p:nvPr/>
        </p:nvPicPr>
        <p:blipFill>
          <a:blip r:embed="rId1"/>
          <a:stretch/>
        </p:blipFill>
        <p:spPr>
          <a:xfrm>
            <a:off x="468360" y="404640"/>
            <a:ext cx="7113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68960" y="3141360"/>
            <a:ext cx="775008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Х.-К.Андерс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Дюймовочка"/>
          <p:cNvPicPr/>
          <p:nvPr/>
        </p:nvPicPr>
        <p:blipFill>
          <a:blip r:embed="rId1"/>
          <a:stretch/>
        </p:blipFill>
        <p:spPr>
          <a:xfrm>
            <a:off x="468360" y="333360"/>
            <a:ext cx="457200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19640" y="5821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.Перр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«Золуш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золушка"/>
          <p:cNvPicPr/>
          <p:nvPr/>
        </p:nvPicPr>
        <p:blipFill>
          <a:blip r:embed="rId1"/>
          <a:stretch/>
        </p:blipFill>
        <p:spPr>
          <a:xfrm>
            <a:off x="1403280" y="333360"/>
            <a:ext cx="727236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250920" y="1341360"/>
            <a:ext cx="8642160" cy="417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2) Угадайте название сказк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и героя, от имени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которого ведется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рассказ.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35640" y="278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Курочка Ряб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Picture 5" descr="Ряба"/>
          <p:cNvPicPr/>
          <p:nvPr/>
        </p:nvPicPr>
        <p:blipFill>
          <a:blip r:embed="rId1"/>
          <a:srcRect l="22145" t="8268" r="19931" b="8858"/>
          <a:stretch/>
        </p:blipFill>
        <p:spPr>
          <a:xfrm>
            <a:off x="395280" y="549360"/>
            <a:ext cx="503388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76360" y="602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Красная Шапочка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krasnaya_shapochka"/>
          <p:cNvPicPr/>
          <p:nvPr/>
        </p:nvPicPr>
        <p:blipFill>
          <a:blip r:embed="rId1"/>
          <a:stretch/>
        </p:blipFill>
        <p:spPr>
          <a:xfrm>
            <a:off x="684360" y="189000"/>
            <a:ext cx="7704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37:16Z</dcterms:created>
  <dc:creator>Вадик</dc:creator>
  <dc:description/>
  <dc:language>en-US</dc:language>
  <cp:lastModifiedBy>FineFlor</cp:lastModifiedBy>
  <dcterms:modified xsi:type="dcterms:W3CDTF">2015-10-02T12:24:33Z</dcterms:modified>
  <cp:revision>45</cp:revision>
  <dc:subject/>
  <dc:title>Слайд 1</dc:title>
</cp:coreProperties>
</file>