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E30-9E62-4547-8C94-DF0D353C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778-474B-4C8B-BAE4-E6D90C3A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91A-C946-4B77-8F9F-6B517A48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0D7-F0B3-4175-8420-13C52E73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31B6-7D38-4382-8F52-70741715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3E71-80CE-4478-948B-96369F9F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452B-D4E5-403D-A8B9-A233DBF2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71B5-70DC-4F16-B6C4-1DF436B2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7013-74DC-4674-B0D4-1FFB1A7D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11C0-BED1-456F-937C-A3554AB7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AE61-4FA6-4494-866A-034F8A17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381-95C5-4414-ABFE-E9366887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5582-96BE-4C1C-81EA-B04C6790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E213-7542-4E95-8E51-1297B809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ECDB-8380-4A85-8E89-D96DE19C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796E-72D5-47A3-8029-D2330DE3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CA12-8F6C-4F36-BA39-3A7FE4C2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BB8-3ED6-4A5A-88D2-9FC2272E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41D-76E2-4EB6-8F3C-31DAC07D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B3F-FD96-471D-B68D-75FAA138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E67-0403-4468-AF30-41466B97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1DE-C637-4822-B52D-3C22406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711-1C48-4ADC-A06E-F1A86B52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198-9103-4007-9054-638619BC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2FF5-B7C3-4218-AD20-320EF121B54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1558-3A1F-46DC-9529-7FA5CA086EE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50920" y="907920"/>
            <a:ext cx="874872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кторина по сказкам.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0072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Кот в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апогах»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кот в сапогах"/>
          <p:cNvPicPr/>
          <p:nvPr/>
        </p:nvPicPr>
        <p:blipFill>
          <a:blip r:embed="rId1"/>
          <a:stretch/>
        </p:blipFill>
        <p:spPr>
          <a:xfrm>
            <a:off x="0" y="476280"/>
            <a:ext cx="61927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43280" y="595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Золушка»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Picture 4" descr="золушка"/>
          <p:cNvPicPr/>
          <p:nvPr/>
        </p:nvPicPr>
        <p:blipFill>
          <a:blip r:embed="rId1"/>
          <a:stretch/>
        </p:blipFill>
        <p:spPr>
          <a:xfrm>
            <a:off x="1042920" y="692280"/>
            <a:ext cx="70372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95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Золотой ключик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5" descr="кючик и буратино"/>
          <p:cNvPicPr/>
          <p:nvPr/>
        </p:nvPicPr>
        <p:blipFill>
          <a:blip r:embed="rId1"/>
          <a:stretch/>
        </p:blipFill>
        <p:spPr>
          <a:xfrm>
            <a:off x="1042920" y="692280"/>
            <a:ext cx="71359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672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Сказка о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ыбаке и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ыбке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Picture 5" descr="Рыба"/>
          <p:cNvPicPr/>
          <p:nvPr/>
        </p:nvPicPr>
        <p:blipFill>
          <a:blip r:embed="rId1"/>
          <a:stretch/>
        </p:blipFill>
        <p:spPr>
          <a:xfrm>
            <a:off x="250920" y="404640"/>
            <a:ext cx="5689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Игра со зрителями.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Добавь нужное слово»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зка Ш.Перро «Красная 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зка Ш.Перро «Синяя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лшебная пове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Погорельского «Черная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зочная пове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Волкова «Желтый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сказ Д.Мамина-Сибиряка «Серая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сказ В.Бианки «Оренжевое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13200" y="1628640"/>
            <a:ext cx="2530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Шапоч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Бород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Куриц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Тума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Шей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Горлышк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оедините стрелками героев книг с их автора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уха-Цокотух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окодил Ге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иполли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ядя Сте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йбол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юймовоч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бураш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.Успен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.Рода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.Чуков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Пушк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.Успен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.Михал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.Чуков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.-Х.Андерс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059280" y="1844640"/>
            <a:ext cx="1584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987640" y="1916280"/>
            <a:ext cx="158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411280" y="2349360"/>
            <a:ext cx="22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411280" y="3357720"/>
            <a:ext cx="23050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1908000" y="3716280"/>
            <a:ext cx="2737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1619280" y="3284640"/>
            <a:ext cx="3024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2556000" y="472428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 flipV="1">
            <a:off x="2411280" y="3789360"/>
            <a:ext cx="2232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</a:t>
            </a:r>
            <a:r>
              <a:rPr b="0" lang="ru-RU" sz="60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60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   1 команд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го маленькая разбойница дала в помощь Гер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30592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385128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205092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468360" y="357336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ар-птиц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468360" y="42210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ле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470160" y="4869000"/>
            <a:ext cx="315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ька-Горбу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6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17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60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4000"/>
            </a:b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                     1 команда.</a:t>
            </a:r>
            <a:br>
              <a:rPr sz="6000"/>
            </a:b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30088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Сколько дней пролежали деньги Буратино на Поле Чуде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995640" y="328464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826920" y="3933720"/>
            <a:ext cx="29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975240" y="46530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971640" y="321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4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1 команда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из произведений принадлежат перу Г.Х.Андерсен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38200" y="3270240"/>
            <a:ext cx="48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знайка и его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38920" y="393372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аленький Му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11640" y="458136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гни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9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1 команда.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звали трех порося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3284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 Чья это песен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16000" y="407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я чешу в затылке, не бе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голове моей опилки да-да-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3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611280" y="907920"/>
            <a:ext cx="698508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азочная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зминка.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2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Что попало Каю в гла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27640" y="278136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еж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28000" y="371628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ыл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28360" y="450864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колок ст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5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  2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ие цветы собирала падчерица в сказке «12 месяцев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972720" y="3005280"/>
            <a:ext cx="17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а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900360" y="366696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нд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900720" y="4338720"/>
            <a:ext cx="29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8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2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За что Чиполлино посадили в тюрь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26920" y="292572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шёл улицу на кра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823320" y="3645000"/>
            <a:ext cx="55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нул Вишенку за коси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751320" y="4437000"/>
            <a:ext cx="71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упил на мозоль принцу Лимо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5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3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 2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зовут девочку, попавшую в Зазеркаль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4149720"/>
            <a:ext cx="93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Как Элли попала в волшебную стран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0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3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Кто из героев сказки «Золотой ключик» кук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84360" y="3270240"/>
            <a:ext cx="24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па Кар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55640" y="3933720"/>
            <a:ext cx="19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и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826920" y="4724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0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4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4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9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3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автор сказки «Айболи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6160" y="271764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.И.Чук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757440" y="350028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.Н.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56360" y="4292640"/>
            <a:ext cx="28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.Успе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3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Назовите писателя-сказоч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70160" y="2789280"/>
            <a:ext cx="34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.Х.Андер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57080" y="3573360"/>
            <a:ext cx="28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29080" y="4437000"/>
            <a:ext cx="29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.Н.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0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4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3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Назовите имя Крысы старухи Шапокля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39640" y="39337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Второе название скатер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0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0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4032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очитайте слово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по первым буквам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названия картинок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и вы узнаете, как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звали коня у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Иванушк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606096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Рисунок1"/>
          <p:cNvPicPr/>
          <p:nvPr/>
        </p:nvPicPr>
        <p:blipFill>
          <a:blip r:embed="rId1"/>
          <a:stretch/>
        </p:blipFill>
        <p:spPr>
          <a:xfrm>
            <a:off x="4427640" y="476280"/>
            <a:ext cx="4537080" cy="57261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1835280" y="6093000"/>
            <a:ext cx="37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Сивка-Бу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425916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могите Красной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Шапочке добраться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до домика бабушки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и вы сможете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очитать, кто спас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её и бабушку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т волк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613080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Рисунок3"/>
          <p:cNvPicPr/>
          <p:nvPr/>
        </p:nvPicPr>
        <p:blipFill>
          <a:blip r:embed="rId1"/>
          <a:stretch/>
        </p:blipFill>
        <p:spPr>
          <a:xfrm>
            <a:off x="4427640" y="476280"/>
            <a:ext cx="4716360" cy="57322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1834920" y="619776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Дровос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684360" y="1413000"/>
            <a:ext cx="784836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слушайте стихотворения 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назовите сказк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и её автора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очитайте по стрелкам имена сказочных героев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Untitled-1"/>
          <p:cNvPicPr/>
          <p:nvPr/>
        </p:nvPicPr>
        <p:blipFill>
          <a:blip r:embed="rId1"/>
          <a:stretch/>
        </p:blipFill>
        <p:spPr>
          <a:xfrm>
            <a:off x="-255600" y="549360"/>
            <a:ext cx="9399600" cy="65898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0" y="64008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Коло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550160" y="64008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Караб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989440" y="640080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Пят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358520" y="6400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Карл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5868000" y="640080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Айбо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7453440" y="64008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Зол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0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11280" y="5516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.И.Чуковск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Муха-Цокотух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мухаЦ2"/>
          <p:cNvPicPr/>
          <p:nvPr/>
        </p:nvPicPr>
        <p:blipFill>
          <a:blip r:embed="rId1"/>
          <a:stretch/>
        </p:blipFill>
        <p:spPr>
          <a:xfrm>
            <a:off x="468360" y="404640"/>
            <a:ext cx="7113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68960" y="3141360"/>
            <a:ext cx="775008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.-К.Андерсе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Дюймовоч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Дюймовочка"/>
          <p:cNvPicPr/>
          <p:nvPr/>
        </p:nvPicPr>
        <p:blipFill>
          <a:blip r:embed="rId1"/>
          <a:stretch/>
        </p:blipFill>
        <p:spPr>
          <a:xfrm>
            <a:off x="468360" y="333360"/>
            <a:ext cx="457200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19640" y="5821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.Перр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Золуш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золушка"/>
          <p:cNvPicPr/>
          <p:nvPr/>
        </p:nvPicPr>
        <p:blipFill>
          <a:blip r:embed="rId1"/>
          <a:stretch/>
        </p:blipFill>
        <p:spPr>
          <a:xfrm>
            <a:off x="1403280" y="333360"/>
            <a:ext cx="727236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2) Угадайте название сказк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 героя, от имен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которого ведется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ассказ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3564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Курочка Ряб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5" descr="Ряба"/>
          <p:cNvPicPr/>
          <p:nvPr/>
        </p:nvPicPr>
        <p:blipFill>
          <a:blip r:embed="rId1"/>
          <a:srcRect l="22145" t="8268" r="19931" b="8858"/>
          <a:stretch/>
        </p:blipFill>
        <p:spPr>
          <a:xfrm>
            <a:off x="395280" y="549360"/>
            <a:ext cx="50338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602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Красная Шапочк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krasnaya_shapochka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37:16Z</dcterms:created>
  <dc:creator>Вадик</dc:creator>
  <dc:description/>
  <dc:language>en-US</dc:language>
  <cp:lastModifiedBy>FineFlor</cp:lastModifiedBy>
  <dcterms:modified xsi:type="dcterms:W3CDTF">2015-10-02T12:24:33Z</dcterms:modified>
  <cp:revision>45</cp:revision>
  <dc:subject/>
  <dc:title>Слайд 1</dc:title>
</cp:coreProperties>
</file>