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F4F1-BC71-4465-AF0D-8A6D3359FE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EF7-6934-4BD6-9D31-CE37395F75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732-2CE0-4894-AD37-D84D3340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B4B-6FA2-4CAA-B60F-AB3A6245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68C-04E1-4B16-9266-D7A1C5F9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DD7-651F-4639-B869-F3CE2A81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B4B-534E-4890-8E0A-16E89F45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AC3-E04F-4559-A938-DC83A5C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B50-BB87-41A3-A0C4-C715B1F4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AEB-0B47-4E9F-B483-D55E7E3F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618-DAB3-4A58-89F8-C5094A69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61C-7CBF-4D1E-BF64-7FC3C53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4CF-C09E-4B7C-A275-50331D7C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6C5-C571-4CB3-8327-8291A16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1721-CC8B-49DA-BC3E-3BB8C43CF4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«Олимпийские игры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      в древности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6626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ПЕРВЫЕ 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ЛИМПИЙСКИЕ ИГРЫ БЫЛИ ПРОВЕДЕН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в  </a:t>
            </a: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776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году до нашей э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ADMIN\Рабочий стол\картинки\i (4).jpg"/>
          <p:cNvPicPr/>
          <p:nvPr/>
        </p:nvPicPr>
        <p:blipFill>
          <a:blip r:embed="rId2"/>
          <a:stretch/>
        </p:blipFill>
        <p:spPr>
          <a:xfrm>
            <a:off x="1258920" y="3716280"/>
            <a:ext cx="66261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картинки\space-with-geometric-decor-07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G:\картинки\0006-005-Vidi-olimpijskikh-igr-v-Gretsii.jpg"/>
          <p:cNvPicPr/>
          <p:nvPr/>
        </p:nvPicPr>
        <p:blipFill>
          <a:blip r:embed="rId2"/>
          <a:stretch/>
        </p:blipFill>
        <p:spPr>
          <a:xfrm>
            <a:off x="1357200" y="1285920"/>
            <a:ext cx="6429600" cy="4286160"/>
          </a:xfrm>
          <a:prstGeom prst="rect">
            <a:avLst/>
          </a:prstGeom>
          <a:ln w="0">
            <a:noFill/>
          </a:ln>
        </p:spPr>
      </p:pic>
      <p:pic>
        <p:nvPicPr>
          <p:cNvPr id="67" name="Наташа Королева - Олимпиада.mp3" descr=""/>
          <p:cNvPicPr/>
          <p:nvPr/>
        </p:nvPicPr>
        <p:blipFill>
          <a:blip r:embed="rId3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4"/>
          <a:stretch/>
        </p:blipFill>
        <p:spPr>
          <a:xfrm>
            <a:off x="1500120" y="285840"/>
            <a:ext cx="6253200" cy="92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27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\Рабочий стол\картинки\olimpioniki.jpg"/>
          <p:cNvPicPr/>
          <p:nvPr/>
        </p:nvPicPr>
        <p:blipFill>
          <a:blip r:embed="rId2"/>
          <a:stretch/>
        </p:blipFill>
        <p:spPr>
          <a:xfrm>
            <a:off x="1258920" y="2492280"/>
            <a:ext cx="6553080" cy="316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6912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ЕРВ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КЛЯТВА УЧАСТНИКОВ И СУД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Греческая музыка - Сертаки.mp3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62616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ВТОРОЙ ДЕНЬ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СОРЕВНОВАНИЯ В ГРУППЕ МАЛЬЧИКОВ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БЕГ, БОРЬБА, КУЛАЧНЫЙ БОЙ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1187280" y="1268280"/>
            <a:ext cx="66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  <a:ea typeface="Arial"/>
              </a:rPr>
              <a:t>ТРЕТИЙ Д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  <a:ea typeface="Arial"/>
              </a:rPr>
              <a:t>СОСТЯЗАНИЯ ВЗРОСЛЫХ АТЛЕТОВ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  <a:ea typeface="Arial"/>
              </a:rPr>
              <a:t>ПЯТИБОР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  <a:ea typeface="Arial"/>
              </a:rPr>
              <a:t>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  <a:ea typeface="Arial"/>
              </a:rPr>
              <a:t>КУЛАЧНЫЙ  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ADMIN\Рабочий стол\картинки\олимп.jpg"/>
          <p:cNvPicPr/>
          <p:nvPr/>
        </p:nvPicPr>
        <p:blipFill>
          <a:blip r:embed="rId2"/>
          <a:stretch/>
        </p:blipFill>
        <p:spPr>
          <a:xfrm>
            <a:off x="1258920" y="1268280"/>
            <a:ext cx="6697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ADMIN\Рабочий стол\картинки\о.jpg"/>
          <p:cNvPicPr/>
          <p:nvPr/>
        </p:nvPicPr>
        <p:blipFill>
          <a:blip r:embed="rId2"/>
          <a:stretch/>
        </p:blipFill>
        <p:spPr>
          <a:xfrm>
            <a:off x="1187280" y="1052640"/>
            <a:ext cx="67564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ADMIN\Рабочий стол\картинки\олим.jpg"/>
          <p:cNvPicPr/>
          <p:nvPr/>
        </p:nvPicPr>
        <p:blipFill>
          <a:blip r:embed="rId2"/>
          <a:stretch/>
        </p:blipFill>
        <p:spPr>
          <a:xfrm>
            <a:off x="1332000" y="1052640"/>
            <a:ext cx="6616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Рабочий стол\картинки\оли.jpg"/>
          <p:cNvPicPr/>
          <p:nvPr/>
        </p:nvPicPr>
        <p:blipFill>
          <a:blip r:embed="rId2"/>
          <a:stretch/>
        </p:blipFill>
        <p:spPr>
          <a:xfrm>
            <a:off x="1258920" y="981000"/>
            <a:ext cx="66261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ADMIN\Рабочий стол\картинки\ол.jpg"/>
          <p:cNvPicPr/>
          <p:nvPr/>
        </p:nvPicPr>
        <p:blipFill>
          <a:blip r:embed="rId2"/>
          <a:stretch/>
        </p:blipFill>
        <p:spPr>
          <a:xfrm>
            <a:off x="1258920" y="1052640"/>
            <a:ext cx="66261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2"/>
          <p:cNvSpPr/>
          <p:nvPr/>
        </p:nvSpPr>
        <p:spPr>
          <a:xfrm>
            <a:off x="324000" y="5300640"/>
            <a:ext cx="860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6912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ГРЕЧЕСКИЕ  КОЛОНИИ 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НА БЕРЕГАХ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СРЕДИЗЕМНОГО И ЧЁРНОГО МОР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ADMIN\Рабочий стол\картинки\олимпи.jpg"/>
          <p:cNvPicPr/>
          <p:nvPr/>
        </p:nvPicPr>
        <p:blipFill>
          <a:blip r:embed="rId2"/>
          <a:stretch/>
        </p:blipFill>
        <p:spPr>
          <a:xfrm>
            <a:off x="1401840" y="1185840"/>
            <a:ext cx="63403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Олимпийские игры, гонки на колесницах (иллюстрация National Geographic Society / Corbis)"/>
          <p:cNvPicPr/>
          <p:nvPr/>
        </p:nvPicPr>
        <p:blipFill>
          <a:blip r:embed="rId2"/>
          <a:stretch/>
        </p:blipFill>
        <p:spPr>
          <a:xfrm>
            <a:off x="900000" y="2565360"/>
            <a:ext cx="7201080" cy="3672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6553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ЧЕТВЕРТ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ГОНКИ КОЛЕСН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6626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ЯТ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НАГРАЖДЕНИЕ ПОБЕ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\Рабочий стол\картинки\олимпиад.jpg"/>
          <p:cNvPicPr/>
          <p:nvPr/>
        </p:nvPicPr>
        <p:blipFill>
          <a:blip r:embed="rId2"/>
          <a:stretch/>
        </p:blipFill>
        <p:spPr>
          <a:xfrm>
            <a:off x="1258920" y="2637000"/>
            <a:ext cx="66103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6553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ЛЕГЕНДАРНЫЕ   АТЛЕТ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Милон Кротонский            Феаг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276200" y="2521080"/>
            <a:ext cx="2449800" cy="410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364000" y="2421000"/>
            <a:ext cx="2470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Файл:барон Пьер де Coubertin.jpg"/>
          <p:cNvPicPr/>
          <p:nvPr/>
        </p:nvPicPr>
        <p:blipFill>
          <a:blip r:embed="rId2"/>
          <a:stretch/>
        </p:blipFill>
        <p:spPr>
          <a:xfrm>
            <a:off x="1403280" y="1413000"/>
            <a:ext cx="2990880" cy="3816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129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ВОЗРОЖДЕ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            ОЛИМПИЙСКИХ ИГ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5"/>
          <p:cNvSpPr/>
          <p:nvPr/>
        </p:nvSpPr>
        <p:spPr>
          <a:xfrm>
            <a:off x="4356000" y="47214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istral"/>
                <a:ea typeface="Arial"/>
              </a:rPr>
              <a:t>Пьер  де  Куберт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1268280"/>
            <a:ext cx="65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Первые Олимпийские игры состоялись в  750-м году  до нашей э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. Олимпийские игры греки посвящали богине Гере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. С наступлением  ранней весны, в марте, у подножия горы Олимп начинались Олимпийские иг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. Эти игры особенно любили женщины, которые составляли не меньше трети зрителей, съехавшихся на Олимпийски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5. Впервые на соревнования в Олимпии  победителем в боксе оказался молодой перс, который превзошел в мастерстве остальных юнош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7. Победителю в беге досталась главная награда – венок из золотых листь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8. Пятиборье – это участие одного человека в пяти видах спор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5" descr=""/>
          <p:cNvPicPr/>
          <p:nvPr/>
        </p:nvPicPr>
        <p:blipFill>
          <a:blip r:embed="rId2"/>
          <a:stretch/>
        </p:blipFill>
        <p:spPr>
          <a:xfrm>
            <a:off x="639720" y="914400"/>
            <a:ext cx="793764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АКИЕ ФАКТЫ ПОДТВЕРЖДАЮТ МЫСЛЬ О ТОМ, ЧТО ОЛИМПИЙСКИЕ ИГРЫ БЫЛИ ЛЮБИМЫМ ОБЩЕГРЕЧЕСКИМ ПРАЗД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6"/>
          <p:cNvSpPr/>
          <p:nvPr/>
        </p:nvSpPr>
        <p:spPr>
          <a:xfrm>
            <a:off x="1403280" y="1341360"/>
            <a:ext cx="640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istral"/>
                <a:ea typeface="Arial"/>
              </a:rPr>
              <a:t>ДОМАШНЕЕ ЗАДАНИЕ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  <a:ea typeface="Arial"/>
              </a:rPr>
              <a:t>- Параграф  33, пересказ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  <a:ea typeface="Arial"/>
              </a:rPr>
              <a:t>- творческое задание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  <a:ea typeface="Arial"/>
              </a:rPr>
              <a:t>- придумайте рассказ об Олимпийских играх от имени участника или зрителя (п. 4 в учебнике,  на стр. 1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ordArt 2" descr=""/>
          <p:cNvPicPr/>
          <p:nvPr/>
        </p:nvPicPr>
        <p:blipFill>
          <a:blip r:embed="rId2"/>
          <a:stretch/>
        </p:blipFill>
        <p:spPr>
          <a:xfrm>
            <a:off x="-957240" y="1401840"/>
            <a:ext cx="8839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gr-kol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Mistral"/>
              </a:rPr>
              <a:t>Использованная литература 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Mistral"/>
              </a:rPr>
              <a:t>и ресурсы Интернет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31640" y="2276280"/>
            <a:ext cx="6553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асланова О.В. Поурочные разработки по истории Древнего мира.5 класс. – М,: ВАКО, 2004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гасин А. А., Годер Г. И., Свенцицкая И. С. История Древнего мира: 5 кл. М., 1998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ллюстрированная мировая история: Греки. – М.: Росмэн. – 199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C:\Documents and Settings\ADMIN\Рабочий стол\картинки\i (2).jpg"/>
          <p:cNvPicPr/>
          <p:nvPr/>
        </p:nvPicPr>
        <p:blipFill>
          <a:blip r:embed="rId2"/>
          <a:stretch/>
        </p:blipFill>
        <p:spPr>
          <a:xfrm>
            <a:off x="1042920" y="1182600"/>
            <a:ext cx="3673440" cy="440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Рабочий стол\картинки\i (3).jpg"/>
          <p:cNvPicPr/>
          <p:nvPr/>
        </p:nvPicPr>
        <p:blipFill>
          <a:blip r:embed="rId3"/>
          <a:stretch/>
        </p:blipFill>
        <p:spPr>
          <a:xfrm>
            <a:off x="4716360" y="1197000"/>
            <a:ext cx="3384720" cy="44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6769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istral"/>
              </a:rPr>
              <a:t>«ОЛИМПИЙСКИЕ ИГРЫ В ДРЕВНОСТ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ADMIN\Рабочий стол\картинки\0006-005-Vidi-olimpijskikh-igr-v-Gretsii.jpg"/>
          <p:cNvPicPr/>
          <p:nvPr/>
        </p:nvPicPr>
        <p:blipFill>
          <a:blip r:embed="rId2"/>
          <a:stretch/>
        </p:blipFill>
        <p:spPr>
          <a:xfrm>
            <a:off x="1258920" y="3068640"/>
            <a:ext cx="6553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АКИЕ ФАКТЫ ПОДТВЕРЖДАЮТ МЫСЛЬ О ТОМ, ЧТО ОЛИМПИЙСКИЕ ИГРЫ БЫЛИ ЛЮБИМЫМ ОБЩЕГРЕЧЕСКИМ ПРАЗД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b5d2660b71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4-конечная звезда 16"/>
          <p:cNvSpPr/>
          <p:nvPr/>
        </p:nvSpPr>
        <p:spPr>
          <a:xfrm>
            <a:off x="2428920" y="3786120"/>
            <a:ext cx="285840" cy="285840"/>
          </a:xfrm>
          <a:custGeom>
            <a:avLst/>
            <a:gdLst>
              <a:gd name="textAreaLeft" fmla="*/ 117720 w 285840"/>
              <a:gd name="textAreaRight" fmla="*/ 168120 w 285840"/>
              <a:gd name="textAreaTop" fmla="*/ 117720 h 285840"/>
              <a:gd name="textAreaBottom" fmla="*/ 168120 h 285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олния 17"/>
          <p:cNvSpPr/>
          <p:nvPr/>
        </p:nvSpPr>
        <p:spPr>
          <a:xfrm>
            <a:off x="2714760" y="1428840"/>
            <a:ext cx="500040" cy="4284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Рабочий стол\картинки\олимпиа.jpg"/>
          <p:cNvPicPr/>
          <p:nvPr/>
        </p:nvPicPr>
        <p:blipFill>
          <a:blip r:embed="rId2"/>
          <a:stretch/>
        </p:blipFill>
        <p:spPr>
          <a:xfrm>
            <a:off x="1332000" y="1052640"/>
            <a:ext cx="6480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4800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Mistral"/>
              </a:rPr>
              <a:t>«ВСЕ  В  ОЛИМПИЮ!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stral"/>
              </a:rPr>
              <a:t>СВЯЩЕННЫЙ МИР ОБЪЯВЛЕН!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Mistral"/>
              </a:rPr>
              <a:t>ДОРОГИ БЕЗОПАСНЫ!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Mistral"/>
              </a:rPr>
              <a:t>ДА ПОБЕДЯТ СИЛЬНЕЙШИЕ!</a:t>
            </a:r>
            <a:r>
              <a:rPr b="1" lang="ru-RU" sz="4400" spc="-1" strike="noStrike">
                <a:solidFill>
                  <a:srgbClr val="558ed5"/>
                </a:solidFill>
                <a:latin typeface="Mistral"/>
              </a:rPr>
              <a:t>»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13:21:32Z</dcterms:created>
  <dc:creator>Galina</dc:creator>
  <dc:description/>
  <dc:language>en-US</dc:language>
  <cp:lastModifiedBy>Наталья</cp:lastModifiedBy>
  <dcterms:modified xsi:type="dcterms:W3CDTF">2017-01-14T16:45:52Z</dcterms:modified>
  <cp:revision>156</cp:revision>
  <dc:subject/>
  <dc:title>Урок «Олимпийские игры в древности»</dc:title>
</cp:coreProperties>
</file>