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0EA-5FE1-4F02-9822-436F65FC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06A-25CB-4F97-9793-553C483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77F-646F-4F10-9F40-6F8CA6A7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84A-ADC2-4B74-ABF8-A978F7C7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13D70-1C47-424C-89F3-A3406B39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1F4B5-A505-462C-8ED2-7905FDD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9808-F98F-4262-8F56-9A041545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4D37A-36BC-4401-BD06-3F516DBD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61B13-A6C7-432F-AFF1-B3377727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4227-ADC6-459D-97F7-15B326AE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4674-D7C6-4280-8725-49DE889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9BF-A10A-456B-B3DB-3698F21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13CB1-3D5A-40B9-B5F9-E1244B60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C6670-0479-4FA7-928F-A8D80C3A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41900-3637-4021-B1C5-B30E376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C9C0-1F31-47D8-9962-9358EF08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D7773-8D1C-4EEF-B172-06838046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825B-E38C-47D8-BA1B-C770710C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DC11-6E2D-4A26-AF0F-F39805B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63E5-541B-44EA-880E-8F499C6D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F916-EA37-431E-A0DA-48286F4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971B-463B-4925-B877-1DA9159E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F50-04C9-4171-BE9D-A8423AEE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6413-2325-4E84-8292-CC89667C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DADA-6A87-434C-A24A-0C40051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22FC-6185-46EC-B153-B7F29AD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42EA-975E-439C-982D-8FA16D6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5BE2-440C-4A8F-938C-EF74F56E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B10D-CD7C-4866-8920-F049C674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3714-2330-4141-A7A4-F2BD041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AF7AD-E356-469B-AAF3-63F2420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C85D6-2E0E-40AE-9AB2-37B1206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AB07B-AC53-496A-99E7-F787FEF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B11-9572-46DD-975F-3C647CA2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AF83C-3211-488E-9D86-0EEE7E3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4DBC6-6DFA-4AFE-8898-E3DD631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A3F0E-E1D1-4A66-988F-27C9976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A2777-0FD0-4C4C-BBF9-111E15B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FA4EC-14B8-40B9-BBA9-EF6F4AD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4539E-EA79-4F54-AEF3-D344095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63D04-732E-4FFF-81FC-91D8BC4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E51E2-A53B-45FA-A067-47948E33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32C61-4457-4C53-8255-CB9831F7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2C5-3A5D-4CA7-856F-9DEB823C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389-C994-49FE-A3EA-8EB180F3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E28-CDBA-4AFA-9786-9440A17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B16-7F21-4ECC-BFE0-CA7B65D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FFE-EEB9-4B93-8904-AF74717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BD1-B74D-4191-A28E-47AC2ACDB15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0D7-7A54-42C4-AA02-16FAF12C9FB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646-F0A2-4531-8B40-1B32DD4E28E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239-EABD-4BD6-A890-BAFF16BD78F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ссийская экономика на рубеже 19-20 в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ль государства в экономик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Иностранный капита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ссийский монополистический капитализ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220px-Motovilikha_Plant_%281900s%29"/>
          <p:cNvPicPr/>
          <p:nvPr/>
        </p:nvPicPr>
        <p:blipFill>
          <a:blip r:embed="rId2"/>
          <a:stretch/>
        </p:blipFill>
        <p:spPr>
          <a:xfrm>
            <a:off x="611280" y="1557360"/>
            <a:ext cx="777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и принадлежали государству и им же финансировалис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казчиком и покупателем их продукции было государ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ялись они государственными чиновни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20 в. их было около 30: Тульский, Ижевский, Обуховский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4" descr=""/>
          <p:cNvPicPr/>
          <p:nvPr/>
        </p:nvPicPr>
        <p:blipFill>
          <a:blip r:embed="rId1"/>
          <a:stretch/>
        </p:blipFill>
        <p:spPr>
          <a:xfrm>
            <a:off x="334800" y="152280"/>
            <a:ext cx="8352000" cy="1505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8" descr="ND-lev_Obuhovsky-zavod_26-05-2004_1m"/>
          <p:cNvPicPr/>
          <p:nvPr/>
        </p:nvPicPr>
        <p:blipFill>
          <a:blip r:embed="rId2"/>
          <a:stretch/>
        </p:blipFill>
        <p:spPr>
          <a:xfrm>
            <a:off x="539640" y="1700280"/>
            <a:ext cx="3888000" cy="432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ND-lev_Obuhovsky-zavod_26-05-2004_2m"/>
          <p:cNvPicPr/>
          <p:nvPr/>
        </p:nvPicPr>
        <p:blipFill>
          <a:blip r:embed="rId3"/>
          <a:stretch/>
        </p:blipFill>
        <p:spPr>
          <a:xfrm>
            <a:off x="4643280" y="1557360"/>
            <a:ext cx="403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ударству принадлеж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олее 2/3 железнодорожной се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омные земельные угодь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сные угодь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чтовая связ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леграфная связ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улировало цены, защищая российскую промышл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водило высокие таможенные пошлин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давало казенные заказы частным компаниям и фирма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оставляло им кредиты через Государственный бан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ударство создавало благоприятные условия для привлечения иностранного капит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ую роль сыграла денежная реформа 1897 г., проведенная по инициативе министра финансов С.Ю.Витт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1264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.Ю. Витт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5" descr="Сергей Юльевич Витте"/>
          <p:cNvPicPr/>
          <p:nvPr/>
        </p:nvPicPr>
        <p:blipFill>
          <a:blip r:embed="rId1"/>
          <a:stretch/>
        </p:blipFill>
        <p:spPr>
          <a:xfrm>
            <a:off x="684360" y="141300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а внес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олотое обеспечение рубл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бодный обмен бумажных денег на золот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ачале 20 века иностранные инвестиции в российскую экономику составляли почти 40% всех капиталовложен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усы иностранного капиталовложения в российскую экономик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асть прибыли уходила за границ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 увеличивалось национальное богатство стран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зненный уровень населения не повышалс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1900-1903 гг. – мощный экономический кризис в Евро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 ударил и по российской экономик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льнее других пострадала тяжелая промышлен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кратилось железнодорожное строитель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результате – концентрация производства и создание монопол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адание: составить по одному вопросу к каждому абзацу п.1  с.11 учебн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ец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Какой тип хозяйства преобладал в России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 Россия оставалась сельскохозяйственной стран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. Что явилось толчком к развитию производства в  России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твет: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Железнодорожное строительство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321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нополисты договаривалис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 объемах производ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н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ынках сбы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чниках сырья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ртели(сохраняют производственную самостоятельност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ндикаты( совместный сбыт товаров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сты( потеря самостоятельности, подчинение единому управлению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церны( централизованный финансовый контроль и руководство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амые крупные монопол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амет»(1901 г.) – объединял 12 металлургических заводов юга России; в 1912 году контролировал 80% металлургической промышленности стра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угол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вагон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Гвозд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нополии возникали в банковской систем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ять крупнейших банков контролировали почти половину финансовых операций в стра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о они начали теснить иностранный капитал, становясь основным инвестором отечественной промышлен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 началу 20 века Россия занимала первое место по объему сельскохозяйственной продукц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ее долю приходилось 50% мирового сбора ржи, 25% мирового экспорта зер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ыстрыми темпами увеличивалось производство сахарной свеклы, льна, технических культу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не эти успехи определяли положение в сельском хозяйств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Центральной России преобладали полусередняцкие и бедняцкие хозяй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я обрабатывались сохой и деревянной боро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хватка денег не позволяла использовать удобр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рожайность была низк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еурожайные годы голод – естественное явл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ачале 20 века 4/5 крестьянской земли находилось в общинном пользован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 семью из шести человек приходилось 7 десятин земли(при норме 10, 5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селение ежегодно увеличивалось на 2,5 млн. челове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на производила регулярный передел земли , следя, чтобы всем хватало поров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каждом переделе земли в крестьянских хозяйствах становилось все меньш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на, спасая слабых, тормозила деятельность крепких хозяйст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общите информацию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321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ссия на рубеже 19-20 вв. оставалась аграрной стра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ее промышленность переживала бурный рос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лчком к росту производства стало железнодорожное строительство (возобновилось в 1893 г. после затишья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громное значение имело строительство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Великой Сибирской железнодорожной магистрал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( Транссиб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оительство железных дорог стимулировало производств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тал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дукции тяжелого машиностро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г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еса и других материал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енно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быстрыми темпами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вались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трасл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хозяйства, связанные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 новыми видами топлива-углем и нефть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добыча которых увеличилась в 3 ра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мпы промышленного производства в России были самыми высокими в мире – до 8,1% в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Россия значительно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тставала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мировых держав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о качественным показателям экономик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изводству промышленной продукции на душу насе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изводительности тру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хнической оснащенности предприят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ссия в начале 20 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реднеразвитая аграрно-индустриальная стра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рана с многоукладной экономик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чительное место занимало мелкотоварное производ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ремесленное, кустарно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ело место и натуральное хозяй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й особенностью России было наличие крупного государственного сект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го ядром были казенные( казна) заводы, которые удовлетворяли военные нужды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09:08:07Z</dcterms:created>
  <dc:creator>evdokimov</dc:creator>
  <dc:description/>
  <dc:language>en-US</dc:language>
  <cp:lastModifiedBy>учитель</cp:lastModifiedBy>
  <dcterms:modified xsi:type="dcterms:W3CDTF">2017-01-14T08:23:02Z</dcterms:modified>
  <cp:revision>29</cp:revision>
  <dc:subject/>
  <dc:title>Экономическое развитие России</dc:title>
</cp:coreProperties>
</file>