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71B-1D15-4C92-AACE-DC3BAFCDC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2156-91E3-4CC6-8083-D78A1655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AB8-744F-45AE-B164-BF17DC24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78D-B50B-4DC4-A055-8A57E37D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6FE0A-9224-4AA2-BA3D-1AAFD96E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8F4B5-A02A-4A0E-A94E-F765C2AA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8E96E-057F-48CF-BDF4-485846DB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3938D-F5B2-44D6-BAB4-6089B92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C2EB2-19FA-4131-8789-D5A41079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C48B-1D79-4893-B009-AD75D2A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D77DDF-5569-493F-AAC5-78729FD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C44-33EE-4DC6-BD34-7B191CEB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DAE6C-8A72-443A-9898-74AC976F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F77E1-744C-4B09-82E0-F3422F4C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0684C-CD92-45C1-B62B-AEAB8CB5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71562-703D-44FB-85FE-09B99F392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0D87-A36E-4488-BA43-0BDC92F9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7039-8528-4ACC-92B5-A65337C52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E2C5-BA84-42D7-9B20-0242FF6E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6FBA-FDE7-4328-8BC7-609233F8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87366-9404-4D9B-8617-1AB4456B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660B2-C1E9-4FB9-9FFF-59496F7F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A67A-DCBE-4A64-A1A6-F9D9F285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7F3FD-3148-43F4-BAF7-B27874F0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258A7-387E-4404-BC46-13476967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DE32-6DB7-4250-AC2D-2E01001D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08C83-88A4-48DC-837E-3317B5A9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C7BD7-99D6-46B2-B862-E195BDF2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3082-6E78-4718-AC3F-6DB78A75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F2C94-3BB9-46D3-8238-2B7A585B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54C60F-2FAC-4008-A6A8-84547639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19190-8912-426D-8DEC-DF89A832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534C81-0DFA-4FE5-BEBE-B1A1903E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88FF-0803-4837-A2F4-F9302265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13CD9-4E23-4592-BF2D-E5D50EA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3768A-BF03-42CC-BDA8-47553122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51B52E-30C3-49BF-8679-09558676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4A7A4F-40BF-4745-B16B-21A17DE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3C1BD-40D1-48B2-9B65-0013E6A4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4C44B5-8ABA-43C5-9B16-4C494647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83BB81-38F8-44BA-885D-B86681EB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5156E6-BD2E-4794-A3EF-FE2D1E10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969AC4-5671-4B57-B24E-67670C21A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677-7DF4-4BF7-BD11-52FAB7C3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390-E185-4628-83BE-EB9030BB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F3D2-08F8-49EF-B952-5896293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914-04C6-4809-BC9E-6144E4B7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51E-5F23-4869-84BC-569C0BB8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F2C0-2A76-426C-99B4-88E7EF2A662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7AA7-18D1-422A-A699-269F0A95565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1807-EE00-43D4-BF47-45B8B05C208B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96DD-41E9-4EB5-9FE0-FC7ABD89A79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ссийская экономика на рубеже 19-20 в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ль государства в экономике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Иностранный капита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Российский монополистический капитализм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fac9"/>
                </a:solidFill>
                <a:latin typeface="Constantia"/>
              </a:rPr>
              <a:t>Сельское хозяйство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220px-Motovilikha_Plant_%281900s%29"/>
          <p:cNvPicPr/>
          <p:nvPr/>
        </p:nvPicPr>
        <p:blipFill>
          <a:blip r:embed="rId2"/>
          <a:stretch/>
        </p:blipFill>
        <p:spPr>
          <a:xfrm>
            <a:off x="611280" y="1557360"/>
            <a:ext cx="7777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и принадлежали государству и им же финансировалис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казчиком и покупателем их продукции было государ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правлялись они государственными чиновникам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20 в. их было около 30: Тульский, Ижевский, Обуховский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Rectangle 4" descr=""/>
          <p:cNvPicPr/>
          <p:nvPr/>
        </p:nvPicPr>
        <p:blipFill>
          <a:blip r:embed="rId1"/>
          <a:stretch/>
        </p:blipFill>
        <p:spPr>
          <a:xfrm>
            <a:off x="334800" y="152280"/>
            <a:ext cx="8352000" cy="1505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8" descr="ND-lev_Obuhovsky-zavod_26-05-2004_1m"/>
          <p:cNvPicPr/>
          <p:nvPr/>
        </p:nvPicPr>
        <p:blipFill>
          <a:blip r:embed="rId2"/>
          <a:stretch/>
        </p:blipFill>
        <p:spPr>
          <a:xfrm>
            <a:off x="539640" y="1700280"/>
            <a:ext cx="3888000" cy="4321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ND-lev_Obuhovsky-zavod_26-05-2004_2m"/>
          <p:cNvPicPr/>
          <p:nvPr/>
        </p:nvPicPr>
        <p:blipFill>
          <a:blip r:embed="rId3"/>
          <a:stretch/>
        </p:blipFill>
        <p:spPr>
          <a:xfrm>
            <a:off x="4643280" y="1557360"/>
            <a:ext cx="403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ударству принадлежал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олее 2/3 железнодорожной се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громные земельные угодь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сные угодь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чтовая связ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леграфная связ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егулировало цены, защищая российскую промышленность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водило высокие таможенные пошлин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аздавало казенные заказы частным компаниям и фирмам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оставляло им кредиты через Государственный бан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8188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осударство создавало благоприятные условия для привлечения иностранного капитал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ую роль сыграла денежная реформа 1897 г., проведенная по инициативе министра финансов С.Ю.Витт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412640"/>
            <a:ext cx="4038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.Ю. Витт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5" descr="Сергей Юльевич Витте"/>
          <p:cNvPicPr/>
          <p:nvPr/>
        </p:nvPicPr>
        <p:blipFill>
          <a:blip r:embed="rId1"/>
          <a:stretch/>
        </p:blipFill>
        <p:spPr>
          <a:xfrm>
            <a:off x="684360" y="1413000"/>
            <a:ext cx="3816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а внес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олотое обеспечение рубл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бодный обмен бумажных денег на золот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ачале 20 века иностранные инвестиции в российскую экономику составляли почти 40% всех капиталовложен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инусы иностранного капиталовложения в российскую экономику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асть прибыли уходила за границу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е увеличивалось национальное богатство стран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зненный уровень населения не повышалс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1900-1903 гг. – мощный экономический кризис в Европ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н ударил и по российской экономик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льнее других пострадала тяжелая промышлен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кратилось железнодорожное строитель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результате – концентрация производства и создание монополи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Rectangle 2" descr=""/>
          <p:cNvPicPr/>
          <p:nvPr/>
        </p:nvPicPr>
        <p:blipFill>
          <a:blip r:embed="rId1"/>
          <a:stretch/>
        </p:blipFill>
        <p:spPr>
          <a:xfrm>
            <a:off x="274680" y="92160"/>
            <a:ext cx="84121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Задание: составить по одному вопросу к каждому абзацу п.1  с.11 учебник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ец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1.Какой тип хозяйства преобладал в России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твет: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 Россия оставалась сельскохозяйственной страно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2. Что явилось толчком к развитию производства в  России на рубеже  </a:t>
            </a:r>
            <a:r>
              <a:rPr b="1" lang="en-US" sz="2400" spc="-1" strike="noStrike">
                <a:solidFill>
                  <a:srgbClr val="ffffff"/>
                </a:solidFill>
                <a:latin typeface="Constantia"/>
              </a:rPr>
              <a:t> XIX-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ХХ вв.</a:t>
            </a: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nstantia"/>
              </a:rPr>
              <a:t>Ответ: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Железнодорожное строительство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321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нополисты договаривались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 объемах производ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Ценах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ынках сбы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чниках сырья…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артели(сохраняют производственную самостоятельность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индикаты( совместный сбыт товаров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ресты( потеря самостоятельности, подчинение единому управлению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нцерны( централизованный финансовый контроль и руководство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457200" y="23760"/>
            <a:ext cx="82296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амые крупные монополи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амет»(1901 г.) – объединял 12 металлургических заводов юга России; в 1912 году контролировал 80% металлургической промышленности стра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угол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родвагон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Гвоздь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нополии возникали в банковской систем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ять крупнейших банков контролировали почти половину финансовых операций в стран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тепенно они начали теснить иностранный капитал, становясь основным инвестором отечественной промышленност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 началу 20 века Россия занимала первое место по объему сельскохозяйственной продукци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ее долю приходилось 50% мирового сбора ржи, 25% мирового экспорта зер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Быстрыми темпами увеличивалось производство сахарной свеклы, льна, технических культу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не эти успехи определяли положение в сельском хозяйств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Центральной России преобладали полусередняцкие и бедняцкие хозяй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ля обрабатывались сохой и деревянной боро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хватка денег не позволяла использовать удобр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рожайность была низко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еурожайные годы голод – естественное явлени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начале 20 века 4/5 крестьянской земли находилось в общинном пользовани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 семью из шести человек приходилось 7 десятин земли(при норме 10, 5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селение ежегодно увеличивалось на 2,5 млн. челове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на производила регулярный передел земли , следя, чтобы всем хватало поровну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каждом переделе земли в крестьянских хозяйствах становилось все меньш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щина, спасая слабых, тормозила деятельность крепких хозяйст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5573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общите информацию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3217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ссия на рубеже 19-20 вв. оставалась аграрной стран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ее промышленность переживала бурный рос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олчком к росту производства стало железнодорожное строительство (возобновилось в 1893 г. после затишья)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Rectangle 2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громное значение имело строительство </a:t>
            </a:r>
            <a:r>
              <a:rPr b="0" lang="ru-RU" sz="2800" spc="-1" strike="noStrike">
                <a:solidFill>
                  <a:srgbClr val="ff0000"/>
                </a:solidFill>
                <a:latin typeface="Constantia"/>
              </a:rPr>
              <a:t>Великой Сибирской железнодорожной магистрали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( Транссиба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Строительство железных дорог стимулировало производство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еталл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одукции тяжелого машиностроени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Угл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еса и других материал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обенно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быстрыми темпами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азвивались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трасл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хозяйства, связанные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с новыми видами топлива-углем и нефть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добыча которых увеличилась в 3 раз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мпы промышленного производства в России были самыми высокими в мире – до 8,1% в год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о Россия значительно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отставала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 мировых держав </a:t>
            </a: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по качественным показателям экономик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изводству промышленной продукции на душу насел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оизводительности труд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хнической оснащенности предприяти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оссия в начале 20 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реднеразвитая аграрно-индустриальная стран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трана с многоукладной экономик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начительное место занимало мелкотоварное производ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ремесленное, кустарное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мело место и натуральное хозяйств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ажной особенностью России было наличие крупного государственного сект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го ядром были казенные( казна) заводы, которые удовлетворяли военные нужды государств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244440" y="152280"/>
            <a:ext cx="8442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7T09:08:07Z</dcterms:created>
  <dc:creator>evdokimov</dc:creator>
  <dc:description/>
  <dc:language>en-US</dc:language>
  <cp:lastModifiedBy>учитель</cp:lastModifiedBy>
  <dcterms:modified xsi:type="dcterms:W3CDTF">2017-01-14T08:23:02Z</dcterms:modified>
  <cp:revision>29</cp:revision>
  <dc:subject/>
  <dc:title>Экономическое развитие России</dc:title>
</cp:coreProperties>
</file>