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4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7.jpeg" ContentType="image/jpeg"/>
  <Override PartName="/ppt/media/image3.png" ContentType="image/png"/>
  <Override PartName="/ppt/media/image26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2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87EE-5CBC-4D6C-A416-DC8879726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21D6-3E55-463A-BA8F-E51BE12D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3A7F-BE6E-4A41-BAA1-9B954D7F0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AC66-4133-4A01-B185-A32C531A7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229F-550C-4D4A-A1AE-4BBE682B0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ABB75-9D98-40F7-888D-D8339E23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6E97-B71F-4CAF-BAA2-DCB9FEF3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FA84-67C2-457A-912F-F6ECFE8F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0142B-B4AC-4F0C-81A9-B4587716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2AD0E-BBBF-4F92-8166-B7BEEFE2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D0DA-9012-426F-A124-A9427433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8352-AC73-43D2-9ECD-52537120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5621-1292-41DA-AEBC-BC05898C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EFAC-DC64-4879-8273-C833B9B7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4A15-1116-46D9-8F27-F1AB2281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CAA1-A772-461D-B562-D298261C1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47AF-C189-4E04-BBAF-6E1C031E1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65EF7-13CA-4441-8CD5-E8BED5E6B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02A8C-935C-4C90-B83E-A260E1E2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63577-2E40-451F-B984-F1B147F9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0F42F-D681-495A-8A55-6A0F62C0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F35E9-57AC-47CF-B8D8-D55BD4FF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488C-A6B0-4086-833A-2E7671BD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B1F3F-481E-4F9A-8AD8-6CF0EFBA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C2B58-8A2F-4F99-9F80-F50ADAFA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83D8F-F99A-4602-931B-E9DBA572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2FB78-67B2-4459-A19A-466CA8A6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9EF71-7895-4B81-830C-AEEC26CE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D9F7C-F796-4D12-A84B-F12C0EA35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A9A25-3CA2-44DF-9C59-3B1305F10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8BCD-427F-4551-99E2-F5282D13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7E97-8218-4E4E-9FC7-CDDCCED7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AFD4-CFFA-42D8-AF2A-3044AB53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1959-E45F-4B63-A439-A662E8CA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D6EF-B484-4CDD-954C-26E62A4F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C6F9-EA4A-4383-A327-F7ED3FD4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c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F573-8779-4499-9969-551CB5FF8C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c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D641-9A8C-4A75-A494-B259477E98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c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C509-844F-49A7-8EF7-914B210910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8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1" descr=""/>
          <p:cNvPicPr/>
          <p:nvPr/>
        </p:nvPicPr>
        <p:blipFill>
          <a:blip r:embed="rId1"/>
          <a:stretch/>
        </p:blipFill>
        <p:spPr>
          <a:xfrm>
            <a:off x="-6480" y="950760"/>
            <a:ext cx="9302760" cy="28465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57200" y="4500360"/>
            <a:ext cx="8229600" cy="16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Громова О.И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 marL="335880" indent="-3358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Учитель химии МОУ «Лямбирская СОШ №1» 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"/>
          <p:cNvSpPr/>
          <p:nvPr/>
        </p:nvSpPr>
        <p:spPr>
          <a:xfrm>
            <a:off x="71280" y="100800"/>
            <a:ext cx="8858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диоактивный искусственно полученный химический элемент с атомным номером 109. Название дано в честь австрийского физика Лизе Мейтнер, которая в 1917 была в числе исследователей, открывших новый химический элемент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отактиний, а в 1939 совместно с датским физиком О. Фришем обосновала представление о делении ядер урана под действием нейтрон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йтнерий (его a-радиоактивный нуклид 266Mt с периодом полураспада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/2 3,5 мс) впервые получен в 1982 в Дармштадте (Германия) при облучении мишени из 20983Bi ускоренными до больших скоростей ионами железа-58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0983Bi + 5826Fe = 266109 Mt +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дукту a-распада 262Bh (радионуклида элемента №107) идентифицировано три атома мейтнер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C:\Documents and Settings\МН\Рабочий стол\сканер\Chem064.bmp"/>
          <p:cNvPicPr/>
          <p:nvPr/>
        </p:nvPicPr>
        <p:blipFill>
          <a:blip r:embed="rId1"/>
          <a:stretch/>
        </p:blipFill>
        <p:spPr>
          <a:xfrm>
            <a:off x="6573960" y="214200"/>
            <a:ext cx="2427120" cy="2702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C:\Documents and Settings\МН\Рабочий стол\Мои рисунки\гадолиний.bmp"/>
          <p:cNvPicPr/>
          <p:nvPr/>
        </p:nvPicPr>
        <p:blipFill>
          <a:blip r:embed="rId2"/>
          <a:stretch/>
        </p:blipFill>
        <p:spPr>
          <a:xfrm>
            <a:off x="4714920" y="364320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"/>
          <p:cNvSpPr/>
          <p:nvPr/>
        </p:nvSpPr>
        <p:spPr>
          <a:xfrm>
            <a:off x="0" y="9000"/>
            <a:ext cx="6072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Гадолиний (№ 6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Gadolinium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- в честь химика Гадол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880 г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Ж. Маринья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C:\Documents and Settings\МН\Рабочий стол\гадолин.jpg"/>
          <p:cNvPicPr/>
          <p:nvPr/>
        </p:nvPicPr>
        <p:blipFill>
          <a:blip r:embed="rId3"/>
          <a:stretch/>
        </p:blipFill>
        <p:spPr>
          <a:xfrm>
            <a:off x="214200" y="2128680"/>
            <a:ext cx="371484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"/>
          <p:cNvSpPr/>
          <p:nvPr/>
        </p:nvSpPr>
        <p:spPr>
          <a:xfrm>
            <a:off x="285840" y="0"/>
            <a:ext cx="8572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но – зеленый, похожий на асфальт минерал, найденный в 1787 году лейтенантом шведской армии Карлом Аррениусом в заброшенном карьере близ местечка Иттерби, оказался поистине чудесным. Помимо бериллия. Кислорода, кремния, он содержал небольшие количества редкоземельных элементов. Член – корреспондент Петербургской академии наук финский химик Юхан Гадолин вскоре обнаружил в минерале следы неизвестной земли, которую Андрес Экеберг назвал иттербиевой, а минерал, из которого ее выделили, предложил именовать гадолинитом. Впоследствии образец неоднократно исследовали. Находки, сделанные учеными доказали, что он имеет весьма сложный состав: по словам известного финского минералога Флинта, гадолинит «сыграл в истории неорганической химии значительно большую роль, чем какой – либо другой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"/>
          <p:cNvSpPr/>
          <p:nvPr/>
        </p:nvSpPr>
        <p:spPr>
          <a:xfrm>
            <a:off x="71280" y="20520"/>
            <a:ext cx="8858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в самом деле, кроме иттрия в нем нашли оксиды эрбия и тербия. Позже, правда, выяснилось, что оксид тербия тоже неоднороден, т.к. содержал примесь нового элемент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иттербия. А вот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гадолиниевой земл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так обнаружить не удалос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еувязку ликвидировал в 18880 году швейцарский  химик де Мариньяк. В минерале самарските он открыл неизвестную землю и по совету своего друга и соратника Лекока де Буабодрана назвал ее гадолиниевой, положив начало традиции присваивать новым элементам имена выдающихся учены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аллический гадолиний впервые получил Жорж Урбен в 1935 году. А два года спустя И. Тромб ухитрился так очистить его, что примесей в металле осталось менее одного процен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C:\Documents and Settings\МН\Рабочий стол\сканер\Chem096.bmp"/>
          <p:cNvPicPr/>
          <p:nvPr/>
        </p:nvPicPr>
        <p:blipFill>
          <a:blip r:embed="rId1"/>
          <a:stretch/>
        </p:blipFill>
        <p:spPr>
          <a:xfrm>
            <a:off x="7072200" y="28584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C:\Documents and Settings\МН\Рабочий стол\Мои рисунки\кюрий.bmp"/>
          <p:cNvPicPr/>
          <p:nvPr/>
        </p:nvPicPr>
        <p:blipFill>
          <a:blip r:embed="rId2"/>
          <a:stretch/>
        </p:blipFill>
        <p:spPr>
          <a:xfrm>
            <a:off x="6643800" y="4357800"/>
            <a:ext cx="2243160" cy="224316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"/>
          <p:cNvSpPr/>
          <p:nvPr/>
        </p:nvSpPr>
        <p:spPr>
          <a:xfrm>
            <a:off x="71280" y="4172400"/>
            <a:ext cx="6429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юрий (№9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Curiu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в честь М. и П. Кю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944 г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Г. Сиборг и его сотрудники путем нейтронной бомбардировки  плуто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C:\Documents and Settings\User\Рабочий стол\псм картинки\11.bmp"/>
          <p:cNvPicPr/>
          <p:nvPr/>
        </p:nvPicPr>
        <p:blipFill>
          <a:blip r:embed="rId3"/>
          <a:stretch/>
        </p:blipFill>
        <p:spPr>
          <a:xfrm>
            <a:off x="5929200" y="2428920"/>
            <a:ext cx="1428840" cy="942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C:\Documents and Settings\МН\Рабочий стол\мое\мое2\кюри.jpg"/>
          <p:cNvPicPr/>
          <p:nvPr/>
        </p:nvPicPr>
        <p:blipFill>
          <a:blip r:embed="rId4"/>
          <a:stretch/>
        </p:blipFill>
        <p:spPr>
          <a:xfrm>
            <a:off x="285840" y="214200"/>
            <a:ext cx="52862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"/>
          <p:cNvSpPr/>
          <p:nvPr/>
        </p:nvSpPr>
        <p:spPr>
          <a:xfrm>
            <a:off x="71280" y="29880"/>
            <a:ext cx="88585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едует сказать, что Гленн Сиборг, Рольф Джеймс, Леон Морган и Альберт Гиорсо получили сначала кюрий, а не предшествующий ему по порядковому номеру америций. Облучая плутониевую мишень в циклотроне альфа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 частицами, ученые искусственно создали в 1944 году еще один элемент, назвав его кюрием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 в память о Марии и Пьере Кюр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зже было установлено, что элемент № 96 можно синтезировать, облучая америций нейтронами. При этом изотоп испускает бета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 частицу и превращается в изотоп кюрия с массовым числом 242, ультрамикрохимические исследования которого впервые выполнили в 1947 году Вернер и Перлман. Сейчас известно 14 изотопов элемента №96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ьер и Мария Кюри работали вместе и открытия у них общи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 чтобы подчеркнуть их равные права, Сиборг и его коллеги придумали хитрость: первая буква фамилии мужа и начальная буква имени жены образовали химический символ элемента № 96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Cm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иболее долгоживущий изотоп 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47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Cm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 (1956 г. П. Фиелдс и сотр. США). Металл получен в 1964 год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C:\Documents and Settings\МН\Рабочий стол\сканер\Chem099.bmp"/>
          <p:cNvPicPr/>
          <p:nvPr/>
        </p:nvPicPr>
        <p:blipFill>
          <a:blip r:embed="rId1"/>
          <a:stretch/>
        </p:blipFill>
        <p:spPr>
          <a:xfrm>
            <a:off x="6929280" y="185724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C:\Documents and Settings\МН\Рабочий стол\сканер\0146fot7i.bmp"/>
          <p:cNvPicPr/>
          <p:nvPr/>
        </p:nvPicPr>
        <p:blipFill>
          <a:blip r:embed="rId2"/>
          <a:stretch/>
        </p:blipFill>
        <p:spPr>
          <a:xfrm>
            <a:off x="281160" y="1857240"/>
            <a:ext cx="4236840" cy="4714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C:\Documents and Settings\МН\Рабочий стол\Мои рисунки\эйнштейни й.bmp"/>
          <p:cNvPicPr/>
          <p:nvPr/>
        </p:nvPicPr>
        <p:blipFill>
          <a:blip r:embed="rId3"/>
          <a:stretch/>
        </p:blipFill>
        <p:spPr>
          <a:xfrm>
            <a:off x="5286240" y="4071960"/>
            <a:ext cx="2413080" cy="24289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"/>
          <p:cNvSpPr/>
          <p:nvPr/>
        </p:nvSpPr>
        <p:spPr>
          <a:xfrm>
            <a:off x="0" y="684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Эйнштейний (№ 99)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Einsteiniu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в честь А. Эйнштей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Г. Сиборг, А. Гиорсо и др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ядерные превращ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" descr="C:\Documents and Settings\User\Рабочий стол\псм картинки\11.bmp"/>
          <p:cNvPicPr/>
          <p:nvPr/>
        </p:nvPicPr>
        <p:blipFill>
          <a:blip r:embed="rId4"/>
          <a:stretch/>
        </p:blipFill>
        <p:spPr>
          <a:xfrm>
            <a:off x="4643280" y="2214720"/>
            <a:ext cx="1428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"/>
          <p:cNvSpPr/>
          <p:nvPr/>
        </p:nvSpPr>
        <p:spPr>
          <a:xfrm>
            <a:off x="71280" y="20520"/>
            <a:ext cx="8858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 ноября 1952 года в южной части Тихого океана на атолле Бикини прогремел взрыв очередного американского ядерного устройства. Он был настолько силен, что посреди острова образовался кратер шириной почти в 2 км, а радиоактивное облако взметнулось на высоту 20 км. Постепенно разрастаясь, оно достигло огромных размеров. Элемент № 99 был обнаружен в чреве термоядерного гриба. Реактивные самолеты, управляемые по радио, пронесли сквозь облако камеры с бумажными фильтрами. Их немедленно доставили в радиационную лабораторию Калифорнийского университета, где группа ученых (Гленн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борг, Стенли Томпсон, Альберт Гиорсо, Дж. Хиггинс и др.) занялась исследованием следов на фильтр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"/>
          <p:cNvSpPr/>
          <p:nvPr/>
        </p:nvSpPr>
        <p:spPr>
          <a:xfrm>
            <a:off x="142920" y="28080"/>
            <a:ext cx="87152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трудники Аргонской национальной и Лос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Аламосской научн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исследовательской лабораторий собирали в это время продукты распада на уцелевших после взрыва коралловых рифах. Через некоторое время найденные ими образцы тоже были доставлены в Калифорнию. Выяснилось, что атомы урана, который входил в состав термоядерного устройства, способны в некоторых случаях (при взрыве, например) захватывать до 17 нейтронов. Под действием колоссальной температуры и невероятного сжатия вес его ядра возрос до 255. Перегруженное энергией, оно распадается последовательно, образуя тяжелые трансурановые элементы: калифорний, берклий, кюрий, америций, плутоний, нептуний. И не только их. Обработав химическими методами доставленные образцы, ученые обнаружили изотопы двух неизвестных элементов. Один из них был назван эйнштейнием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в честь великого физика современности Альберта Эйнштей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C:\Documents and Settings\МН\Рабочий стол\сканер\Chem100.bmp"/>
          <p:cNvPicPr/>
          <p:nvPr/>
        </p:nvPicPr>
        <p:blipFill>
          <a:blip r:embed="rId1"/>
          <a:stretch/>
        </p:blipFill>
        <p:spPr>
          <a:xfrm>
            <a:off x="7000920" y="28584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C:\Documents and Settings\МН\Рабочий стол\сканер\pf_041.bmp"/>
          <p:cNvPicPr/>
          <p:nvPr/>
        </p:nvPicPr>
        <p:blipFill>
          <a:blip r:embed="rId2"/>
          <a:stretch/>
        </p:blipFill>
        <p:spPr>
          <a:xfrm>
            <a:off x="571680" y="357120"/>
            <a:ext cx="3916080" cy="43578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"/>
          <p:cNvSpPr/>
          <p:nvPr/>
        </p:nvSpPr>
        <p:spPr>
          <a:xfrm>
            <a:off x="142920" y="4662000"/>
            <a:ext cx="8715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Фермий (№10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Fermiu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в честь Э. Фер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952 г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Г. Сиборг, А. Гиорсо и др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ядерные превращ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2" descr="C:\Documents and Settings\User\Рабочий стол\псм картинки\11.bmp"/>
          <p:cNvPicPr/>
          <p:nvPr/>
        </p:nvPicPr>
        <p:blipFill>
          <a:blip r:embed="rId3"/>
          <a:stretch/>
        </p:blipFill>
        <p:spPr>
          <a:xfrm>
            <a:off x="5286240" y="2714760"/>
            <a:ext cx="1428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Заголовок 1" descr=""/>
          <p:cNvPicPr/>
          <p:nvPr/>
        </p:nvPicPr>
        <p:blipFill>
          <a:blip r:embed="rId1"/>
          <a:stretch/>
        </p:blipFill>
        <p:spPr>
          <a:xfrm>
            <a:off x="639720" y="1627200"/>
            <a:ext cx="777240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"/>
          <p:cNvSpPr/>
          <p:nvPr/>
        </p:nvSpPr>
        <p:spPr>
          <a:xfrm>
            <a:off x="142920" y="23760"/>
            <a:ext cx="8786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 же происходит в чреве атомного  взрыва? В течение миллионных долей секунды ядра урана буквально сотрясаются настоящим нейтронным шквалом, который порождают сливающиеся легкие элементы. Бумажные фильтры, пронесенные самолетами сквозь радиоактивное облако, и образцы, собранные на атолле Бикини, в эпицентре взрыва, подтвердили: кроме эйнштейния образовался еще один элемент. Гленн Сиборг и его помощники, пропустив раствор сквозь ионообменную колонну, обнаружили новое вещество. В память знаменитого итальянского физика Энрико Ферми элемент назвали его имен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5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F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одукт термоядерного взрыва; наиболее долгоживущий изотоп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5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F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(1967 г. Ф. Азаро, И. Перлман, СШ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:\Documents and Settings\МН\Рабочий стол\сканер\Chem101.bmp"/>
          <p:cNvPicPr/>
          <p:nvPr/>
        </p:nvPicPr>
        <p:blipFill>
          <a:blip r:embed="rId1"/>
          <a:stretch/>
        </p:blipFill>
        <p:spPr>
          <a:xfrm>
            <a:off x="6500880" y="357120"/>
            <a:ext cx="2200320" cy="244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C:\Documents and Settings\МН\Рабочий стол\Мои рисунки\менделеев.bmp"/>
          <p:cNvPicPr/>
          <p:nvPr/>
        </p:nvPicPr>
        <p:blipFill>
          <a:blip r:embed="rId2"/>
          <a:stretch/>
        </p:blipFill>
        <p:spPr>
          <a:xfrm>
            <a:off x="357120" y="285840"/>
            <a:ext cx="4845240" cy="45720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"/>
          <p:cNvSpPr/>
          <p:nvPr/>
        </p:nvSpPr>
        <p:spPr>
          <a:xfrm>
            <a:off x="214200" y="5080320"/>
            <a:ext cx="8715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Менделевий (№1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Mendelevium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- в честь Д. И. Менделее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955 г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Г. Сиборг, А. Гиорсо 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2" descr="C:\Documents and Settings\User\Рабочий стол\псм картинки\11.bmp"/>
          <p:cNvPicPr/>
          <p:nvPr/>
        </p:nvPicPr>
        <p:blipFill>
          <a:blip r:embed="rId3"/>
          <a:stretch/>
        </p:blipFill>
        <p:spPr>
          <a:xfrm>
            <a:off x="6143760" y="3429000"/>
            <a:ext cx="142848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"/>
          <p:cNvSpPr/>
          <p:nvPr/>
        </p:nvSpPr>
        <p:spPr>
          <a:xfrm>
            <a:off x="0" y="-16020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ступая к синтезу 101 элемента в 1955 году, Гленн Сиборг и его помощники Альберт Гиорсо, Бернард Гарвей, Грегори Чоппин и Стенли Томпсон знали, где его искать. К тому времени в атомном реакторе было получено несколько миллионов атомов эйнштейния. Их нанесли на золотую фольгу, высушили и с помощью анализатор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ибора для измерения энергии излучения  - установили, что на мишени действительно находятся атомы эйнштей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ни поместили мишень со слоем эйнштейния в циклотрон и подвергли ее  интенсивной бомбардировке ядрами гел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еные провели более десяти опытов, получив 17 атомов нового элемента. В знак признания выдающейся роли великого русского химика Д. И. Менделеева, Гленн Сиборг и его коллеги назвали новое вещество менделеви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Documents and Settings\МН\Рабочий стол\сканер\Chem102.bmp"/>
          <p:cNvPicPr/>
          <p:nvPr/>
        </p:nvPicPr>
        <p:blipFill>
          <a:blip r:embed="rId1"/>
          <a:stretch/>
        </p:blipFill>
        <p:spPr>
          <a:xfrm>
            <a:off x="714240" y="42876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C:\Documents and Settings\МН\Рабочий стол\сканер4\нобель.bmp"/>
          <p:cNvPicPr/>
          <p:nvPr/>
        </p:nvPicPr>
        <p:blipFill>
          <a:blip r:embed="rId2"/>
          <a:stretch/>
        </p:blipFill>
        <p:spPr>
          <a:xfrm>
            <a:off x="5529240" y="214200"/>
            <a:ext cx="3400560" cy="475632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"/>
          <p:cNvSpPr/>
          <p:nvPr/>
        </p:nvSpPr>
        <p:spPr>
          <a:xfrm>
            <a:off x="0" y="4652640"/>
            <a:ext cx="8715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Нобелий (№10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Nobeliu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в честь Альфреда Ноб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Г. Н. Флеров и группа ученых Калифорнийского университ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2" descr="C:\Documents and Settings\User\Рабочий стол\псм картинки\11.bmp"/>
          <p:cNvPicPr/>
          <p:nvPr/>
        </p:nvPicPr>
        <p:blipFill>
          <a:blip r:embed="rId3"/>
          <a:stretch/>
        </p:blipFill>
        <p:spPr>
          <a:xfrm>
            <a:off x="2428920" y="3143160"/>
            <a:ext cx="1428840" cy="9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214200" y="26280"/>
            <a:ext cx="87156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июле 1957 года над зданием американской газеты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ью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Йорк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таймс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вспыхнула неоновая надпись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токгольме открыт элемент 102. Он окрещен нобелие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 вскоре выяснилось, что группа англо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шведско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американских ученых преждевременно ударила в колокола. Если бомбардировать кюрий ядрами углерода. То получить новое вещество с атомной массой 251 или 253 и периодом полураспада около 10 минут нельзя. Это установили советские физики во главе с академиком Георгием Николаевичем Флеровым. Они несколько видоизменили условия получения 102-го элемента. Обстреляв плутониевую мишень ядрами кислорода, наши ученые доказали, что его изотопы имеют более высокое массовое число, а период их полураспада составлял около 40 секун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«Крестный отец» почти всех трансурановых элементов Гленн Сиборг взялся рассудить, кто тут прав. В апреле 1958 года сотрудники лаборатории имени Лоуренса в Беркли повторили под его руководством опыт шведов. И что же? Им удалось получить несколько десятков атомов 102 – го элемента, но время их жизни, как показали измерения, не превышали 3 секунд. Это ближе к правде, но тоже не соответствовало истине. Создалось весьма щекотливое положение, три эксперимента – три непохожих результа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71280" y="22680"/>
            <a:ext cx="8858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гда последовало соглашение: пока не будут найдены более достоверные доказательств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е присваивать 102- му им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бели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Лишь в марте 1963 года группа исследователей во главе с Евгением Ивановичем Донцом доказал, что советские ученые правильно определили свойства нового элемента. Не на 12 атомах, как шведы, и не на нескольких десятках, полученных американскими физиками, а более чем на 700 актах полураспада 102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го Г. Н. Флеров и Е. Донец подтвердили, что в их выводах нет ошиб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словам Г. Н. Флерова, от нобелия осталось только обозначени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N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А слово это вряд ли нуждается в перевод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изотопы получены по ядерным реакциям с тяжелыми ионами: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(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N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 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)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5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C:\Documents and Settings\МН\Рабочий стол\сканер\Chem103.bmp"/>
          <p:cNvPicPr/>
          <p:nvPr/>
        </p:nvPicPr>
        <p:blipFill>
          <a:blip r:embed="rId1"/>
          <a:stretch/>
        </p:blipFill>
        <p:spPr>
          <a:xfrm>
            <a:off x="6858000" y="50004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C:\Documents and Settings\МН\Рабочий стол\сканер4\лоуренс.bmp"/>
          <p:cNvPicPr/>
          <p:nvPr/>
        </p:nvPicPr>
        <p:blipFill>
          <a:blip r:embed="rId2"/>
          <a:stretch/>
        </p:blipFill>
        <p:spPr>
          <a:xfrm>
            <a:off x="214200" y="142920"/>
            <a:ext cx="3222720" cy="4572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C:\Documents and Settings\МН\Рабочий стол\Мои рисунки\лоуренсий.bmp"/>
          <p:cNvPicPr/>
          <p:nvPr/>
        </p:nvPicPr>
        <p:blipFill>
          <a:blip r:embed="rId3"/>
          <a:stretch/>
        </p:blipFill>
        <p:spPr>
          <a:xfrm>
            <a:off x="4786200" y="3143160"/>
            <a:ext cx="2006640" cy="19256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"/>
          <p:cNvSpPr/>
          <p:nvPr/>
        </p:nvSpPr>
        <p:spPr>
          <a:xfrm>
            <a:off x="71280" y="4733640"/>
            <a:ext cx="8858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Лоуренсий (№ 10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Laurenciu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в честь Э. Лоурен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961 г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сотрудники Калифорнийского универси-тета под руководством А.  Гиорс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2" descr="C:\Documents and Settings\User\Рабочий стол\псм картинки\11.bmp"/>
          <p:cNvPicPr/>
          <p:nvPr/>
        </p:nvPicPr>
        <p:blipFill>
          <a:blip r:embed="rId4"/>
          <a:stretch/>
        </p:blipFill>
        <p:spPr>
          <a:xfrm>
            <a:off x="7215120" y="2857680"/>
            <a:ext cx="1428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"/>
          <p:cNvSpPr/>
          <p:nvPr/>
        </p:nvSpPr>
        <p:spPr>
          <a:xfrm>
            <a:off x="0" y="216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стоверный синтез был осуществлен по ядерной реакции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4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(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18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0,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)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5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03 в 1965 году (Г. Н. Флеров и сотрудники СШ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C:\Documents and Settings\МН\Рабочий стол\сканер2\pr_026.bmp"/>
          <p:cNvPicPr/>
          <p:nvPr/>
        </p:nvPicPr>
        <p:blipFill>
          <a:blip r:embed="rId1"/>
          <a:stretch/>
        </p:blipFill>
        <p:spPr>
          <a:xfrm>
            <a:off x="357120" y="281160"/>
            <a:ext cx="3857760" cy="4857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C:\Documents and Settings\МН\Рабочий стол\сканер2\chem104.bmp"/>
          <p:cNvPicPr/>
          <p:nvPr/>
        </p:nvPicPr>
        <p:blipFill>
          <a:blip r:embed="rId2"/>
          <a:stretch/>
        </p:blipFill>
        <p:spPr>
          <a:xfrm>
            <a:off x="6603840" y="285840"/>
            <a:ext cx="2183040" cy="2428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Documents and Settings\МН\Рабочий стол\Мои рисунки\резерфордий.bmp"/>
          <p:cNvPicPr/>
          <p:nvPr/>
        </p:nvPicPr>
        <p:blipFill>
          <a:blip r:embed="rId3"/>
          <a:stretch/>
        </p:blipFill>
        <p:spPr>
          <a:xfrm>
            <a:off x="4572000" y="28576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C:\Documents and Settings\User\Рабочий стол\псм картинки\11.bmp"/>
          <p:cNvPicPr/>
          <p:nvPr/>
        </p:nvPicPr>
        <p:blipFill>
          <a:blip r:embed="rId4"/>
          <a:stretch/>
        </p:blipFill>
        <p:spPr>
          <a:xfrm>
            <a:off x="7215120" y="5500800"/>
            <a:ext cx="1428840" cy="94284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7"/>
          <p:cNvSpPr/>
          <p:nvPr/>
        </p:nvSpPr>
        <p:spPr>
          <a:xfrm>
            <a:off x="0" y="521964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Резерфордий (№10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Rutherfordium – от ла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964 г.  – Г. Н. Флеров и сотрудн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1"/>
          <p:cNvSpPr/>
          <p:nvPr/>
        </p:nvSpPr>
        <p:spPr>
          <a:xfrm>
            <a:off x="357120" y="136440"/>
            <a:ext cx="85010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вое сообщение о получении ядер элемента №104 было сделано в 1964 группой физиков, работавших в Дубне под руководством Г. Н. Флерова, по ядерной реак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4294Pu + 2210Ne = 259 104 + 510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химической идентификации нового элемента И. И. Зварой была предложена методика, в которой изучалась летучесть высшего хлорида этого элемента. В 1966-1969 было доказано, что высший хлорид образующегося элемента №104 летуч и по своему поведению при нагревании похож на высшие хлориды элементов группы IVB: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цирко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и гафния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знано, что надежные данные по химической идентификации нового элемента группой И. И. Звары, изучавшей летучесть его высших галогенидов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—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тетрахлорида и тетрабромида, были получены в Дубне в 1968-1970. В 1969-1970 в Беркли (США) были получены сведения о поведении атомов элемента №104 при экстракционных процессах. Советские исследователи предложили для нового элемента название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урчатовий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американские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—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зерфорд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1994 Международная комиссия по названиям новых элементов для элемента №104 предложила название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убн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которое использовалось в 1995-97. В 1997 съезд Международной организации химиков (ИЮПАК) окончательно присвоил элементу №104 название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зерфорд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Documents and Settings\МН\Рабочий стол\сканер2\chem106.bmp"/>
          <p:cNvPicPr/>
          <p:nvPr/>
        </p:nvPicPr>
        <p:blipFill>
          <a:blip r:embed="rId1"/>
          <a:stretch/>
        </p:blipFill>
        <p:spPr>
          <a:xfrm>
            <a:off x="6726240" y="214200"/>
            <a:ext cx="1989000" cy="2214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C:\Documents and Settings\МН\Рабочий стол\сканер4\сиборг.bmp"/>
          <p:cNvPicPr/>
          <p:nvPr/>
        </p:nvPicPr>
        <p:blipFill>
          <a:blip r:embed="rId2"/>
          <a:stretch/>
        </p:blipFill>
        <p:spPr>
          <a:xfrm>
            <a:off x="428760" y="357120"/>
            <a:ext cx="3500280" cy="48625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"/>
          <p:cNvSpPr/>
          <p:nvPr/>
        </p:nvSpPr>
        <p:spPr>
          <a:xfrm>
            <a:off x="928800" y="5112360"/>
            <a:ext cx="7000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иборгий (№10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Siborgiu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в честь ученого Г. Сибор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C:\Documents and Settings\User\Рабочий стол\псм картинки\11.bmp"/>
          <p:cNvPicPr/>
          <p:nvPr/>
        </p:nvPicPr>
        <p:blipFill>
          <a:blip r:embed="rId3"/>
          <a:stretch/>
        </p:blipFill>
        <p:spPr>
          <a:xfrm>
            <a:off x="5143680" y="3357720"/>
            <a:ext cx="142848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214200" y="-26280"/>
            <a:ext cx="8715600" cy="16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иод полураспада измеряется сотнями и тысячами долей секун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07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8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P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+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54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C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=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59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106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+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акция была осуществлена в 1974 год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C:\Documents and Settings\МН\Рабочий стол\сканер2\chem107.bmp"/>
          <p:cNvPicPr/>
          <p:nvPr/>
        </p:nvPicPr>
        <p:blipFill>
          <a:blip r:embed="rId1"/>
          <a:stretch/>
        </p:blipFill>
        <p:spPr>
          <a:xfrm>
            <a:off x="7086600" y="24300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C:\Documents and Settings\МН\Рабочий стол\сканер2\pb_057.bmp"/>
          <p:cNvPicPr/>
          <p:nvPr/>
        </p:nvPicPr>
        <p:blipFill>
          <a:blip r:embed="rId2"/>
          <a:stretch/>
        </p:blipFill>
        <p:spPr>
          <a:xfrm>
            <a:off x="71280" y="214200"/>
            <a:ext cx="4357800" cy="52149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"/>
          <p:cNvSpPr/>
          <p:nvPr/>
        </p:nvSpPr>
        <p:spPr>
          <a:xfrm>
            <a:off x="0" y="4866840"/>
            <a:ext cx="907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Борий (№ 10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hrium – в честь Н. Б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976 г. - Г. Н. Флеров, Ю. Ц. Оганесян и сотрудники (СССР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C:\Documents and Settings\User\Рабочий стол\псм картинки\11.bmp"/>
          <p:cNvPicPr/>
          <p:nvPr/>
        </p:nvPicPr>
        <p:blipFill>
          <a:blip r:embed="rId3"/>
          <a:stretch/>
        </p:blipFill>
        <p:spPr>
          <a:xfrm>
            <a:off x="5072040" y="2500200"/>
            <a:ext cx="1428840" cy="9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"/>
          <p:cNvSpPr/>
          <p:nvPr/>
        </p:nvSpPr>
        <p:spPr>
          <a:xfrm>
            <a:off x="71280" y="-24120"/>
            <a:ext cx="892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диоактивный искусственно полученный химический элемент с атомным номером 107, в 7 периоде периодической системы. Существуют нуклиды бория с массовыми числами 261 (период полураспада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/2 11,8 мкс) и 262 (период полураспада менее 1 мс). Нуклид 262Bh впервые был получен в 1981 в Дармштадте (Германия) в результате реакци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холодног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слияния ядер 209Bi и 54Cr, нуклид 261Bh синтезирован в Дармштадте в 1989. Первые опыты по получению Bh реакцией между ядрами 209Bi и 54Cr с образованием элемента 105 с массовым числом 257 или 258 выполнены в 1976 Ю. Ц. Оганесяном с сотрудниками в Дубне (СССР). В заметных количествах Bh не получен, поэтому его свойства не изучены. Назван по имени датского физика Н. Бо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C:\Documents and Settings\МН\Рабочий стол\сканер\chem109.bmp"/>
          <p:cNvPicPr/>
          <p:nvPr/>
        </p:nvPicPr>
        <p:blipFill>
          <a:blip r:embed="rId1"/>
          <a:stretch/>
        </p:blipFill>
        <p:spPr>
          <a:xfrm>
            <a:off x="6726240" y="285840"/>
            <a:ext cx="2117880" cy="2357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C:\Documents and Settings\МН\Рабочий стол\сканер4\мейтнер.bmp"/>
          <p:cNvPicPr/>
          <p:nvPr/>
        </p:nvPicPr>
        <p:blipFill>
          <a:blip r:embed="rId2"/>
          <a:stretch/>
        </p:blipFill>
        <p:spPr>
          <a:xfrm>
            <a:off x="285840" y="357120"/>
            <a:ext cx="3217680" cy="4714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C:\Documents and Settings\User\Рабочий стол\псм картинки\11.bmp"/>
          <p:cNvPicPr/>
          <p:nvPr/>
        </p:nvPicPr>
        <p:blipFill>
          <a:blip r:embed="rId3"/>
          <a:stretch/>
        </p:blipFill>
        <p:spPr>
          <a:xfrm>
            <a:off x="5000760" y="3000240"/>
            <a:ext cx="1428480" cy="9432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"/>
          <p:cNvSpPr/>
          <p:nvPr/>
        </p:nvSpPr>
        <p:spPr>
          <a:xfrm>
            <a:off x="142920" y="5223240"/>
            <a:ext cx="885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Мейтнерий (№ 10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Meitnerium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в честь Лизе Мейтн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982 г.   - Дармштадт (Германи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13:43:54Z</dcterms:created>
  <dc:creator>1</dc:creator>
  <dc:description/>
  <dc:language>en-US</dc:language>
  <cp:lastModifiedBy>Computer</cp:lastModifiedBy>
  <dcterms:modified xsi:type="dcterms:W3CDTF">2017-01-12T00:27:22Z</dcterms:modified>
  <cp:revision>18</cp:revision>
  <dc:subject/>
  <dc:title>Слайд 1</dc:title>
</cp:coreProperties>
</file>