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7.jpeg" ContentType="image/jpeg"/>
  <Override PartName="/ppt/media/image3.png" ContentType="image/png"/>
  <Override PartName="/ppt/media/image26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702-C7D7-43B8-A966-284BCEAE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1CA-45D4-4B34-A253-C8CDA247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8A40-CAF7-4081-8D91-801A27BF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FF02-11A3-4704-9EEB-1DE9CC57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7BA9-3508-470F-B2D7-61ED8D3F5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81C8-41F8-42D3-A731-362B6AB7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4E21-790E-47CB-8775-4048E148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8D7B-EEE3-4FEF-8A7C-06D35C0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AB481-3712-45AE-8704-CDDA9FB6A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E803-AF78-4A6D-9AA2-90C6CE3A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806B-86BE-4428-B509-C4D1F8E5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DFC-FBD2-49E6-9AF1-62DB2BE1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2B3F-A809-44AD-8124-B45F1359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A910-ED7B-4E9A-B976-540FAB2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0D529-D8F6-4A13-A78E-C4552C27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1ED0-07D6-49CD-B582-B38EF2F9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6CAB-025B-49F8-9E15-51C60D1E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309E-7A69-4505-B20E-B8C5898A8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8DC23-3350-43EE-92AB-147E1504F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7C0DC-A210-4FF3-9A54-B66E8866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43736-85E5-4F7B-A8CA-D714FA2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7CB2-D746-4680-8CDC-EBBE3F28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E45-1E80-402F-96D2-B45F95E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77302-C878-49F1-A47D-F1D87B1C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5B106-9AA2-479D-95E1-A795776D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97D0E-0A67-4167-BAAA-87BDACB2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63CDB-455B-4956-9A88-6ACA0EC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4475D-2370-4DA7-8387-134C6C92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8B2C-EFBD-4A40-8C58-55A34B80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F6EC1-CA50-49C1-AC0F-802C86CED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828-2CB4-4F72-860B-8CC3D40D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416-15F2-4934-93DC-5890D7FE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34A0-48D2-45E0-BAF6-A9B687D5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41CE-E797-433A-B34E-BA020B8A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3E48-AF1A-45F2-87CF-DFB0FC0A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61F-DA6E-4A9B-A101-E948346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1AF6-C304-4185-B545-45796710B3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3FF8-96BE-45F1-B7E2-D97B6036C9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8691-E923-4454-A022-11B331FA6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8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-6480" y="950760"/>
            <a:ext cx="9302760" cy="2846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450036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Громова О.И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  <a:p>
            <a:pPr marL="335880" indent="-3358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Учитель химии МОУ «Лямбирская СОШ №1» </a:t>
            </a:r>
            <a:endParaRPr b="0" lang="en-US" sz="3200" spc="-1" strike="noStrike">
              <a:solidFill>
                <a:srgbClr val="c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"/>
          <p:cNvSpPr/>
          <p:nvPr/>
        </p:nvSpPr>
        <p:spPr>
          <a:xfrm>
            <a:off x="71280" y="100800"/>
            <a:ext cx="8858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иоактивный искусственно полученный химический элемент с атомным номером 109. Название дано в честь австрийского физика Лизе Мейтнер, которая в 1917 была в числе исследователей, открывших новый химический элемен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тактиний, а в 1939 совместно с датским физиком О. Фришем обосновала представление о делении ядер урана под действием нейтр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йтнерий (его a-радиоактивный нуклид 266Mt с периодом полураспад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/2 3,5 мс) впервые получен в 1982 в Дармштадте (Германия) при облучении мишени из 20983Bi ускоренными до больших скоростей ионами железа-5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0983Bi + 5826Fe = 266109 Mt +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продукту a-распада 262Bh (радионуклида элемента №107) идентифицировано три атома мейтнер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МН\Рабочий стол\сканер\Chem064.bmp"/>
          <p:cNvPicPr/>
          <p:nvPr/>
        </p:nvPicPr>
        <p:blipFill>
          <a:blip r:embed="rId1"/>
          <a:stretch/>
        </p:blipFill>
        <p:spPr>
          <a:xfrm>
            <a:off x="6573960" y="214200"/>
            <a:ext cx="2427120" cy="2702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Documents and Settings\МН\Рабочий стол\Мои рисунки\гадолиний.bmp"/>
          <p:cNvPicPr/>
          <p:nvPr/>
        </p:nvPicPr>
        <p:blipFill>
          <a:blip r:embed="rId2"/>
          <a:stretch/>
        </p:blipFill>
        <p:spPr>
          <a:xfrm>
            <a:off x="4714920" y="36432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"/>
          <p:cNvSpPr/>
          <p:nvPr/>
        </p:nvSpPr>
        <p:spPr>
          <a:xfrm>
            <a:off x="0" y="900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Гадолиний (№ 6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Gadoliniu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 честь химика Гадол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880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Ж. Маринья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C:\Documents and Settings\МН\Рабочий стол\гадолин.jpg"/>
          <p:cNvPicPr/>
          <p:nvPr/>
        </p:nvPicPr>
        <p:blipFill>
          <a:blip r:embed="rId3"/>
          <a:stretch/>
        </p:blipFill>
        <p:spPr>
          <a:xfrm>
            <a:off x="214200" y="2128680"/>
            <a:ext cx="371484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285840" y="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о – зеленый, похожий на асфальт минерал, найденный в 1787 году лейтенантом шведской армии Карлом Аррениусом в заброшенном карьере близ местечка Иттерби, оказался поистине чудесным. Помимо бериллия. Кислорода, кремния, он содержал небольшие количества редкоземельных элементов. Член – корреспондент Петербургской академии наук финский химик Юхан Гадолин вскоре обнаружил в минерале следы неизвестной земли, которую Андрес Экеберг назвал иттербиевой, а минерал, из которого ее выделили, предложил именовать гадолинитом. Впоследствии образец неоднократно исследовали. Находки, сделанные учеными доказали, что он имеет весьма сложный состав: по словам известного финского минералога Флинта, гадолинит «сыграл в истории неорганической химии значительно большую роль, чем какой – либо другой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71280" y="2052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самом деле, кроме иттрия в нем нашли оксиды эрбия и тербия. Позже, правда, выяснилось, что оксид тербия тоже неоднороден, т.к. содержал примесь нового элемен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ттербия. А вот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долиниевой земл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к обнаружить не удалос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увязку ликвидировал в 18880 году швейцарский  химик де Мариньяк. В минерале самарските он открыл неизвестную землю и по совету своего друга и соратника Лекока де Буабодрана назвал ее гадолиниевой, положив начало традиции присваивать новым элементам имена выдающихся учены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аллический гадолиний впервые получил Жорж Урбен в 1935 году. А два года спустя И. Тромб ухитрился так очистить его, что примесей в металле осталось менее одного процен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МН\Рабочий стол\сканер\Chem096.bmp"/>
          <p:cNvPicPr/>
          <p:nvPr/>
        </p:nvPicPr>
        <p:blipFill>
          <a:blip r:embed="rId1"/>
          <a:stretch/>
        </p:blipFill>
        <p:spPr>
          <a:xfrm>
            <a:off x="7072200" y="28584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C:\Documents and Settings\МН\Рабочий стол\Мои рисунки\кюрий.bmp"/>
          <p:cNvPicPr/>
          <p:nvPr/>
        </p:nvPicPr>
        <p:blipFill>
          <a:blip r:embed="rId2"/>
          <a:stretch/>
        </p:blipFill>
        <p:spPr>
          <a:xfrm>
            <a:off x="6643800" y="4357800"/>
            <a:ext cx="2243160" cy="22431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"/>
          <p:cNvSpPr/>
          <p:nvPr/>
        </p:nvSpPr>
        <p:spPr>
          <a:xfrm>
            <a:off x="71280" y="4172400"/>
            <a:ext cx="64296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юрий (№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Cur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М. и П. Кюр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44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 Сиборг и его сотрудники путем нейтронной бомбардировки  плуто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929200" y="2428920"/>
            <a:ext cx="1428840" cy="942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cuments and Settings\МН\Рабочий стол\мое\мое2\кюри.jpg"/>
          <p:cNvPicPr/>
          <p:nvPr/>
        </p:nvPicPr>
        <p:blipFill>
          <a:blip r:embed="rId4"/>
          <a:stretch/>
        </p:blipFill>
        <p:spPr>
          <a:xfrm>
            <a:off x="285840" y="214200"/>
            <a:ext cx="52862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"/>
          <p:cNvSpPr/>
          <p:nvPr/>
        </p:nvSpPr>
        <p:spPr>
          <a:xfrm>
            <a:off x="71280" y="29880"/>
            <a:ext cx="8858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Следует сказать, что Гленн Сиборг, Рольф Джеймс, Леон Морган и Альберт Гиорсо получили сначала кюрий, а не предшествующий ему по порядковому номеру америций. Облучая плутониевую мишень в циклотроне альф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частицами, ученые искусственно создали в 1944 году еще один элемент, назвав его кюрием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память о Марии и Пьере Кюр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зже было установлено, что элемент № 96 можно синтезировать, облучая америций нейтронами. При этом изотоп испускает бета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частицу и превращается в изотоп кюрия с массовым числом 242, ультрамикрохимические исследования которого впервые выполнили в 1947 году Вернер и Перлман. Сейчас известно 14 изотопов элемента №9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ьер и Мария Кюри работали вместе и открытия у них общие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чтобы подчеркнуть их равные права, Сиборг и его коллеги придумали хитрость: первая буква фамилии мужа и начальная буква имени жены образовали химический символ элемента № 96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иболее долгоживущий изотоп 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4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Cm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(1956 г. П. Фиелдс и сотр. США). Металл получен в 1964 год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Documents and Settings\МН\Рабочий стол\сканер\Chem099.bmp"/>
          <p:cNvPicPr/>
          <p:nvPr/>
        </p:nvPicPr>
        <p:blipFill>
          <a:blip r:embed="rId1"/>
          <a:stretch/>
        </p:blipFill>
        <p:spPr>
          <a:xfrm>
            <a:off x="6929280" y="185724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МН\Рабочий стол\сканер\0146fot7i.bmp"/>
          <p:cNvPicPr/>
          <p:nvPr/>
        </p:nvPicPr>
        <p:blipFill>
          <a:blip r:embed="rId2"/>
          <a:stretch/>
        </p:blipFill>
        <p:spPr>
          <a:xfrm>
            <a:off x="281160" y="1857240"/>
            <a:ext cx="4236840" cy="4714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C:\Documents and Settings\МН\Рабочий стол\Мои рисунки\эйнштейни й.bmp"/>
          <p:cNvPicPr/>
          <p:nvPr/>
        </p:nvPicPr>
        <p:blipFill>
          <a:blip r:embed="rId3"/>
          <a:stretch/>
        </p:blipFill>
        <p:spPr>
          <a:xfrm>
            <a:off x="5286240" y="4071960"/>
            <a:ext cx="2413080" cy="2428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"/>
          <p:cNvSpPr/>
          <p:nvPr/>
        </p:nvSpPr>
        <p:spPr>
          <a:xfrm>
            <a:off x="0" y="6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Эйнштейний (№ 99)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Einstein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А. Эйнштей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Сиборг, А. Гиорсо и др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дерные превра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Documents and Settings\User\Рабочий стол\псм картинки\11.bmp"/>
          <p:cNvPicPr/>
          <p:nvPr/>
        </p:nvPicPr>
        <p:blipFill>
          <a:blip r:embed="rId4"/>
          <a:stretch/>
        </p:blipFill>
        <p:spPr>
          <a:xfrm>
            <a:off x="4643280" y="2214720"/>
            <a:ext cx="1428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71280" y="20520"/>
            <a:ext cx="885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 ноября 1952 года в южной части Тихого океана на атолле Бикини прогремел взрыв очередного американского ядерного устройства. Он был настолько силен, что посреди острова образовался кратер шириной почти в 2 км, а радиоактивное облако взметнулось на высоту 20 км. Постепенно разрастаясь, оно достигло огромных размеров. Элемент № 99 был обнаружен в чреве термоядерного гриба. Реактивные самолеты, управляемые по радио, пронесли сквозь облако камеры с бумажными фильтрами. Их немедленно доставили в радиационную лабораторию Калифорнийского университета, где группа ученых (Гленн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борг, Стенли Томпсон, Альберт Гиорсо, Дж. Хиггинс и др.) занялась исследованием следов на фильт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42920" y="28080"/>
            <a:ext cx="87152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трудники Аргонской национальной и Лос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ламосской науч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исследовательской лабораторий собирали в это время продукты распада на уцелевших после взрыва коралловых рифах. Через некоторое время найденные ими образцы тоже были доставлены в Калифорнию. Выяснилось, что атомы урана, который входил в состав термоядерного устройства, способны в некоторых случаях (при взрыве, например) захватывать до 17 нейтронов. Под действием колоссальной температуры и невероятного сжатия вес его ядра возрос до 255. Перегруженное энергией, оно распадается последовательно, образуя тяжелые трансурановые элементы: калифорний, берклий, кюрий, америций, плутоний, нептуний. И не только их. Обработав химическими методами доставленные образцы, ученые обнаружили изотопы двух неизвестных элементов. Один из них был назван эйнштейние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великого физика современности Альберта Эйнштей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Documents and Settings\МН\Рабочий стол\сканер\Chem100.bmp"/>
          <p:cNvPicPr/>
          <p:nvPr/>
        </p:nvPicPr>
        <p:blipFill>
          <a:blip r:embed="rId1"/>
          <a:stretch/>
        </p:blipFill>
        <p:spPr>
          <a:xfrm>
            <a:off x="7000920" y="2858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МН\Рабочий стол\сканер\pf_041.bmp"/>
          <p:cNvPicPr/>
          <p:nvPr/>
        </p:nvPicPr>
        <p:blipFill>
          <a:blip r:embed="rId2"/>
          <a:stretch/>
        </p:blipFill>
        <p:spPr>
          <a:xfrm>
            <a:off x="571680" y="357120"/>
            <a:ext cx="3916080" cy="43578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"/>
          <p:cNvSpPr/>
          <p:nvPr/>
        </p:nvSpPr>
        <p:spPr>
          <a:xfrm>
            <a:off x="142920" y="466200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ермий (№10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Ferm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Э. Фер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52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 Сиборг, А. Гиорсо и др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ядерные превращ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286240" y="2714760"/>
            <a:ext cx="1428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639720" y="1627200"/>
            <a:ext cx="777240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142920" y="23760"/>
            <a:ext cx="8786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 же происходит в чреве атомного  взрыва? В течение миллионных долей секунды ядра урана буквально сотрясаются настоящим нейтронным шквалом, который порождают сливающиеся легкие элементы. Бумажные фильтры, пронесенные самолетами сквозь радиоактивное облако, и образцы, собранные на атолле Бикини, в эпицентре взрыва, подтвердили: кроме эйнштейния образовался еще один элемент. Гленн Сиборг и его помощники, пропустив раствор сквозь ионообменную колонну, обнаружили новое вещество. В память знаменитого итальянского физика Энрико Ферми элемент назвали его име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дукт термоядерного взрыва; наиболее долгоживущий изотоп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1967 г. Ф. Азаро, И. Перлман, СШ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Documents and Settings\МН\Рабочий стол\сканер\Chem101.bmp"/>
          <p:cNvPicPr/>
          <p:nvPr/>
        </p:nvPicPr>
        <p:blipFill>
          <a:blip r:embed="rId1"/>
          <a:stretch/>
        </p:blipFill>
        <p:spPr>
          <a:xfrm>
            <a:off x="6500880" y="357120"/>
            <a:ext cx="2200320" cy="244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МН\Рабочий стол\Мои рисунки\менделеев.bmp"/>
          <p:cNvPicPr/>
          <p:nvPr/>
        </p:nvPicPr>
        <p:blipFill>
          <a:blip r:embed="rId2"/>
          <a:stretch/>
        </p:blipFill>
        <p:spPr>
          <a:xfrm>
            <a:off x="357120" y="285840"/>
            <a:ext cx="4845240" cy="4572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"/>
          <p:cNvSpPr/>
          <p:nvPr/>
        </p:nvSpPr>
        <p:spPr>
          <a:xfrm>
            <a:off x="214200" y="5080320"/>
            <a:ext cx="871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нделевий (№1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ndelevium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в честь Д. И. Менделе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55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 Сиборг, А. Гиорсо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6143760" y="3429000"/>
            <a:ext cx="1428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0" y="-16020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ступая к синтезу 101 элемента в 1955 году, Гленн Сиборг и его помощники Альберт Гиорсо, Бернард Гарвей, Грегори Чоппин и Стенли Томпсон знали, где его искать. К тому времени в атомном реакторе было получено несколько миллионов атомов эйнштейния. Их нанесли на золотую фольгу, высушили и с помощью анализатор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бора для измерения энергии излучения  - установили, что на мишени действительно находятся атомы эйнштей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и поместили мишень со слоем эйнштейния в циклотрон и подвергли ее  интенсивной бомбардировке ядрами ге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ые провели более десяти опытов, получив 17 атомов нового элемента. В знак признания выдающейся роли великого русского химика Д. И. Менделеева, Гленн Сиборг и его коллеги назвали новое вещество менделев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МН\Рабочий стол\сканер\Chem102.bmp"/>
          <p:cNvPicPr/>
          <p:nvPr/>
        </p:nvPicPr>
        <p:blipFill>
          <a:blip r:embed="rId1"/>
          <a:stretch/>
        </p:blipFill>
        <p:spPr>
          <a:xfrm>
            <a:off x="714240" y="42876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МН\Рабочий стол\сканер4\нобель.bmp"/>
          <p:cNvPicPr/>
          <p:nvPr/>
        </p:nvPicPr>
        <p:blipFill>
          <a:blip r:embed="rId2"/>
          <a:stretch/>
        </p:blipFill>
        <p:spPr>
          <a:xfrm>
            <a:off x="5529240" y="214200"/>
            <a:ext cx="3400560" cy="475632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0" y="4652640"/>
            <a:ext cx="8715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обелий (№10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Nobel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Альфреда Нобел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Г. Н. Флеров и группа ученых Калифорнийского университ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2428920" y="3143160"/>
            <a:ext cx="14288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214200" y="26280"/>
            <a:ext cx="87156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июле 1957 года над зданием американской газеты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ью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Йорк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аймс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вспыхнула неоновая надпис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токгольме открыт элемент 102. Он окрещен нобелие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 вскоре выяснилось, что группа англ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шведско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мериканских ученых преждевременно ударила в колокола. Если бомбардировать кюрий ядрами углерода. То получить новое вещество с атомной массой 251 или 253 и периодом полураспада около 10 минут нельзя. Это установили советские физики во главе с академиком Георгием Николаевичем Флеровым. Они несколько видоизменили условия получения 102-го элемента. Обстреляв плутониевую мишень ядрами кислорода, наши ученые доказали, что его изотопы имеют более высокое массовое число, а период их полураспада составлял около 40 секун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рестный отец» почти всех трансурановых элементов Гленн Сиборг взялся рассудить, кто тут прав. В апреле 1958 года сотрудники лаборатории имени Лоуренса в Беркли повторили под его руководством опыт шведов. И что же? Им удалось получить несколько десятков атомов 102 – го элемента, но время их жизни, как показали измерения, не превышали 3 секунд. Это ближе к правде, но тоже не соответствовало истине. Создалось весьма щекотливое положение, три эксперимента – три непохожих результа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71280" y="22680"/>
            <a:ext cx="8858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огда последовало соглашение: пока не будут найдены более достоверные доказательств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е присваивать 102- му им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бел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Лишь в марте 1963 года группа исследователей во главе с Евгением Ивановичем Донцом доказал, что советские ученые правильно определили свойства нового элемента. Не на 12 атомах, как шведы, и не на нескольких десятках, полученных американскими физиками, а более чем на 700 актах полураспада 102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о Г. Н. Флеров и Е. Донец подтвердили, что в их выводах нет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 словам Г. Н. Флерова, от нобелия осталось только обознач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А слово это вряд ли нуждается в перев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изотопы получены по ядерным реакциям с тяжелыми ионами: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3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, 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МН\Рабочий стол\сканер\Chem103.bmp"/>
          <p:cNvPicPr/>
          <p:nvPr/>
        </p:nvPicPr>
        <p:blipFill>
          <a:blip r:embed="rId1"/>
          <a:stretch/>
        </p:blipFill>
        <p:spPr>
          <a:xfrm>
            <a:off x="6858000" y="50004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C:\Documents and Settings\МН\Рабочий стол\сканер4\лоуренс.bmp"/>
          <p:cNvPicPr/>
          <p:nvPr/>
        </p:nvPicPr>
        <p:blipFill>
          <a:blip r:embed="rId2"/>
          <a:stretch/>
        </p:blipFill>
        <p:spPr>
          <a:xfrm>
            <a:off x="214200" y="142920"/>
            <a:ext cx="3222720" cy="4572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" descr="C:\Documents and Settings\МН\Рабочий стол\Мои рисунки\лоуренсий.bmp"/>
          <p:cNvPicPr/>
          <p:nvPr/>
        </p:nvPicPr>
        <p:blipFill>
          <a:blip r:embed="rId3"/>
          <a:stretch/>
        </p:blipFill>
        <p:spPr>
          <a:xfrm>
            <a:off x="4786200" y="3143160"/>
            <a:ext cx="2006640" cy="1925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"/>
          <p:cNvSpPr/>
          <p:nvPr/>
        </p:nvSpPr>
        <p:spPr>
          <a:xfrm>
            <a:off x="71280" y="4733640"/>
            <a:ext cx="885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Лоуренсий (№ 1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Laurenc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Э. Лоур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61 г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отрудники Калифорнийского универси-тета под руководством А.  Гиорс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C:\Documents and Settings\User\Рабочий стол\псм картинки\11.bmp"/>
          <p:cNvPicPr/>
          <p:nvPr/>
        </p:nvPicPr>
        <p:blipFill>
          <a:blip r:embed="rId4"/>
          <a:stretch/>
        </p:blipFill>
        <p:spPr>
          <a:xfrm>
            <a:off x="7215120" y="2857680"/>
            <a:ext cx="1428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"/>
          <p:cNvSpPr/>
          <p:nvPr/>
        </p:nvSpPr>
        <p:spPr>
          <a:xfrm>
            <a:off x="0" y="216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стоверный синтез был осуществлен по ядерной реакции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4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(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1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0,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03 в 1965 году (Г. Н. Флеров и сотрудники СШ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МН\Рабочий стол\сканер2\pr_026.bmp"/>
          <p:cNvPicPr/>
          <p:nvPr/>
        </p:nvPicPr>
        <p:blipFill>
          <a:blip r:embed="rId1"/>
          <a:stretch/>
        </p:blipFill>
        <p:spPr>
          <a:xfrm>
            <a:off x="357120" y="281160"/>
            <a:ext cx="3857760" cy="4857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Documents and Settings\МН\Рабочий стол\сканер2\chem104.bmp"/>
          <p:cNvPicPr/>
          <p:nvPr/>
        </p:nvPicPr>
        <p:blipFill>
          <a:blip r:embed="rId2"/>
          <a:stretch/>
        </p:blipFill>
        <p:spPr>
          <a:xfrm>
            <a:off x="6603840" y="285840"/>
            <a:ext cx="2183040" cy="242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Documents and Settings\МН\Рабочий стол\Мои рисунки\резерфордий.bmp"/>
          <p:cNvPicPr/>
          <p:nvPr/>
        </p:nvPicPr>
        <p:blipFill>
          <a:blip r:embed="rId3"/>
          <a:stretch/>
        </p:blipFill>
        <p:spPr>
          <a:xfrm>
            <a:off x="4572000" y="28576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C:\Documents and Settings\User\Рабочий стол\псм картинки\11.bmp"/>
          <p:cNvPicPr/>
          <p:nvPr/>
        </p:nvPicPr>
        <p:blipFill>
          <a:blip r:embed="rId4"/>
          <a:stretch/>
        </p:blipFill>
        <p:spPr>
          <a:xfrm>
            <a:off x="7215120" y="5500800"/>
            <a:ext cx="1428840" cy="94284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0" y="521964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Резерфордий (№10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Rutherfordium – от л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64 г.  – Г. Н. Флеров и сотрудн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Прямоугольник 1"/>
          <p:cNvSpPr/>
          <p:nvPr/>
        </p:nvSpPr>
        <p:spPr>
          <a:xfrm>
            <a:off x="357120" y="136440"/>
            <a:ext cx="8501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е сообщение о получении ядер элемента №104 было сделано в 1964 группой физиков, работавших в Дубне под руководством Г. Н. Флерова, по ядерной реак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4294Pu + 2210Ne = 259 104 + 510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химической идентификации нового элемента И. И. Зварой была предложена методика, в которой изучалась летучесть высшего хлорида этого элемента. В 1966-1969 было доказано, что высший хлорид образующегося элемента №104 летуч и по своему поведению при нагревании похож на высшие хлориды элементов группы IVB: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цирко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и гаф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знано, что надежные данные по химической идентификации нового элемента группой И. И. Звары, изучавшей летучесть его высших галогенидов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тетрахлорида и тетрабромида, были получены в Дубне в 1968-1970. В 1969-1970 в Беркли (США) были получены сведения о поведении атомов элемента №104 при экстракционных процессах. Советские исследователи предложили для нового элемента назв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рчатовий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американск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ерфорд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1994 Международная комиссия по названиям новых элементов для элемента №104 предложила назв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уб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, которое использовалось в 1995-97. В 1997 съезд Международной организации химиков (ИЮПАК) окончательно присвоил элементу №104 названи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ерфорд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Documents and Settings\МН\Рабочий стол\сканер2\chem106.bmp"/>
          <p:cNvPicPr/>
          <p:nvPr/>
        </p:nvPicPr>
        <p:blipFill>
          <a:blip r:embed="rId1"/>
          <a:stretch/>
        </p:blipFill>
        <p:spPr>
          <a:xfrm>
            <a:off x="6726240" y="214200"/>
            <a:ext cx="1989000" cy="221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C:\Documents and Settings\МН\Рабочий стол\сканер4\сиборг.bmp"/>
          <p:cNvPicPr/>
          <p:nvPr/>
        </p:nvPicPr>
        <p:blipFill>
          <a:blip r:embed="rId2"/>
          <a:stretch/>
        </p:blipFill>
        <p:spPr>
          <a:xfrm>
            <a:off x="428760" y="357120"/>
            <a:ext cx="3500280" cy="4862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928800" y="5112360"/>
            <a:ext cx="7000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иборгий (№10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Siborgiu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ученого Г. Сибор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143680" y="3357720"/>
            <a:ext cx="1428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14200" y="-26280"/>
            <a:ext cx="87156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иод полураспада измеряется сотнями и тысячами долей секун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07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+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54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=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259</a:t>
            </a:r>
            <a:r>
              <a:rPr b="0" lang="ru-RU" sz="24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06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+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кция была осуществлена в 1974 г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Documents and Settings\МН\Рабочий стол\сканер2\chem107.bmp"/>
          <p:cNvPicPr/>
          <p:nvPr/>
        </p:nvPicPr>
        <p:blipFill>
          <a:blip r:embed="rId1"/>
          <a:stretch/>
        </p:blipFill>
        <p:spPr>
          <a:xfrm>
            <a:off x="7086600" y="243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C:\Documents and Settings\МН\Рабочий стол\сканер2\pb_057.bmp"/>
          <p:cNvPicPr/>
          <p:nvPr/>
        </p:nvPicPr>
        <p:blipFill>
          <a:blip r:embed="rId2"/>
          <a:stretch/>
        </p:blipFill>
        <p:spPr>
          <a:xfrm>
            <a:off x="71280" y="214200"/>
            <a:ext cx="4357800" cy="52149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4866840"/>
            <a:ext cx="907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Борий (№ 1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hrium – в честь Н. Б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76 г. - Г. Н. Флеров, Ю. Ц. Оганесян и сотрудники (ССС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072040" y="2500200"/>
            <a:ext cx="142884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71280" y="-241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диоактивный искусственно полученный химический элемент с атомным номером 107, в 7 периоде периодической системы. Существуют нуклиды бория с массовыми числами 261 (период полураспада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/2 11,8 мкс) и 262 (период полураспада менее 1 мс). Нуклид 262Bh впервые был получен в 1981 в Дармштадте (Германия) в результате реак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холодног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лияния ядер 209Bi и 54Cr, нуклид 261Bh синтезирован в Дармштадте в 1989. Первые опыты по получению Bh реакцией между ядрами 209Bi и 54Cr с образованием элемента 105 с массовым числом 257 или 258 выполнены в 1976 Ю. Ц. Оганесяном с сотрудниками в Дубне (СССР). В заметных количествах Bh не получен, поэтому его свойства не изучены. Назван по имени датского физика Н. Бо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МН\Рабочий стол\сканер\chem109.bmp"/>
          <p:cNvPicPr/>
          <p:nvPr/>
        </p:nvPicPr>
        <p:blipFill>
          <a:blip r:embed="rId1"/>
          <a:stretch/>
        </p:blipFill>
        <p:spPr>
          <a:xfrm>
            <a:off x="6726240" y="285840"/>
            <a:ext cx="2117880" cy="2357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МН\Рабочий стол\сканер4\мейтнер.bmp"/>
          <p:cNvPicPr/>
          <p:nvPr/>
        </p:nvPicPr>
        <p:blipFill>
          <a:blip r:embed="rId2"/>
          <a:stretch/>
        </p:blipFill>
        <p:spPr>
          <a:xfrm>
            <a:off x="285840" y="357120"/>
            <a:ext cx="3217680" cy="4714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C:\Documents and Settings\User\Рабочий стол\псм картинки\11.bmp"/>
          <p:cNvPicPr/>
          <p:nvPr/>
        </p:nvPicPr>
        <p:blipFill>
          <a:blip r:embed="rId3"/>
          <a:stretch/>
        </p:blipFill>
        <p:spPr>
          <a:xfrm>
            <a:off x="5000760" y="3000240"/>
            <a:ext cx="1428480" cy="9432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142920" y="522324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Мейтнерий (№ 10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Meitnerium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в честь Лизе Мейтн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1982 г.   - Дармштадт (Герман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13:43:54Z</dcterms:created>
  <dc:creator>1</dc:creator>
  <dc:description/>
  <dc:language>en-US</dc:language>
  <cp:lastModifiedBy>Computer</cp:lastModifiedBy>
  <dcterms:modified xsi:type="dcterms:W3CDTF">2017-01-12T00:27:22Z</dcterms:modified>
  <cp:revision>18</cp:revision>
  <dc:subject/>
  <dc:title>Слайд 1</dc:title>
</cp:coreProperties>
</file>