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B36-D5FD-441D-BDD0-F8E591E3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EE1-4BC4-4E3F-B040-0A7E6583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A0D-6B9E-4099-9917-3C598822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1E1-A160-4711-8F0B-76FB5E15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61C2-CE3D-4484-8643-97AF9267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6532-6BBD-4423-924C-4ABD6B7A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D74D-8033-4D17-95C6-77E14330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77D7-6778-4C09-B747-FB9B0361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D423-A8F0-42BF-8C4E-61A7D2F8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CEE5-2FAE-42D2-AAE9-2D875CF6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2911-95B1-4CB2-8169-732270C9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B7D-D706-4277-923F-B5BF50A3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C9E5-6944-4B5A-A185-A032604C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5BC6-B1E3-4CE8-8F9B-32BE055D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2D43-9B26-4281-88C7-40ECA841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B598-D412-42B2-B0D8-8752C1DE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80FC-E62E-4FE1-AD40-690587B8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527-67A5-4285-AE85-05EC5A52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CF6-2B2B-4C2A-B319-44C763A7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0DE-698F-4A96-9721-4E162037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965-0FEA-434A-A4BF-68BE6F48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480-8C23-4DA4-B1B2-BA92F3A9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08C-6E55-4167-BA3B-66446BB7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37C-E6CF-4F12-A84C-D98FBC64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2BAA-49A0-456F-BDFE-904A32C9513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3F00-9E15-425F-9C13-9B4D6157C93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Готовим вместе витаминный салат!</a:t>
            </a:r>
            <a:br>
              <a:rPr sz="4000"/>
            </a:b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Вспомнили о полезных овощах и фруктах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6294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одготовила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воспитатель Ильченко Ольга Сергеевн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Учимся чистить овощи и фрук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676160"/>
            <a:ext cx="609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72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аждый хочет попробовать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784872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886200" cy="3733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092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А теперь познакомимся с теркой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579132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4190760" cy="3246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267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Добавим немного сахара 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81532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3886200" cy="3276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267080" y="2590920"/>
            <a:ext cx="45720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сталось размешать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5640" y="2895120"/>
            <a:ext cx="5257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4424400" cy="3022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41958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лат готов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609588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915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ра пробовать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чень вкусно и полезно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4424400" cy="2944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00600" y="2590920"/>
            <a:ext cx="40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 гостей мы накормили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дагог –психолог        Медсест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800600" cy="360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3047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3T10:54:20Z</dcterms:created>
  <dc:creator>Home</dc:creator>
  <dc:description/>
  <dc:language>en-US</dc:language>
  <cp:lastModifiedBy>Home</cp:lastModifiedBy>
  <dcterms:modified xsi:type="dcterms:W3CDTF">2017-01-14T11:37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