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0B1-5325-4C3F-8C6D-6FAF9B630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A378-BE89-4C1E-9B3C-A8509D6D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51F-404C-475F-92A7-FE2ED7E70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704C-8ED0-4A99-AB2A-0F6B7B3A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C217-9C91-4926-9E94-B6BD83BC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FAB4B-98C8-4636-9F6D-735AE280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0CC5-5E54-4638-835E-C289DA37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38B1-2E50-47D6-80F3-49C14A69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DFA2-B816-4D80-85F9-2C2934B9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1B43-836A-4D74-BD7E-5400112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9FC0-C095-4CB2-8E1D-FDE13287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E08-C8BC-4881-80B6-17E3628C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487C-8CA0-41CF-9C5C-BB4B3211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D8F4-43AD-490B-AC03-5414162A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AB87-20D4-4E43-9237-1EA26279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5F2C-AB76-4251-AAFE-C9B66F75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0370-A7DB-43CC-80E7-9B0C33796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B9DA-2909-470A-BF6B-8050A5BF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F18E-DD31-4A71-8A0F-A7B90D7F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E670-4243-4715-BCB9-A8D1A97E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E3BA-0E27-4906-A059-A69D1E35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88D8-F870-4C79-A7D6-A297EC30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EE7-C35E-4D6C-9226-8081CA53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22B6-724D-4A64-B675-92EA78AC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5834-C636-42B8-A309-0D2C30839CD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8B15-BA5F-42B3-AACF-04FBB72B283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Готовим вместе витаминный салат!</a:t>
            </a:r>
            <a:br>
              <a:rPr sz="4000"/>
            </a:b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Вспомнили о полезных овощах и фруктах.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62940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Подготовила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воспитатель Ильченко Ольга Сергеевн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Учимся чистить овощи и фрукт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67616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7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Каждый хочет попробов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848720" cy="35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3886200" cy="3733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092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А теперь познакомимся с теркой!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579132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3246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Добавим немного сахара 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81532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3886200" cy="3276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267080" y="2590920"/>
            <a:ext cx="45720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Осталось размеш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5640" y="2895120"/>
            <a:ext cx="5257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4424400" cy="3022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648320" y="2514600"/>
            <a:ext cx="41958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лат готов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0720"/>
            <a:ext cx="6095880" cy="37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39152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Пора пробовать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чень вкусно и полезн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4424400" cy="2944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00600" y="2590920"/>
            <a:ext cx="40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 гостей мы накормили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Педагог –психолог        Медсест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800600" cy="360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334120" y="2209680"/>
            <a:ext cx="3047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3T10:54:20Z</dcterms:created>
  <dc:creator>Home</dc:creator>
  <dc:description/>
  <dc:language>en-US</dc:language>
  <cp:lastModifiedBy>Home</cp:lastModifiedBy>
  <dcterms:modified xsi:type="dcterms:W3CDTF">2017-01-14T11:37:5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