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1E5A-2B48-442E-81DE-697B490A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FBBF-E119-4AE7-BA0E-718BA4AD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00DB-334F-4C36-906D-06575C80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727-71B3-4D40-B4C9-EE68C547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6CD1-E8CA-4F3C-8587-FBF973C2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B005-2245-42BA-9E7E-AE7002FA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C40C-9E53-490D-B2D5-A1DA19CC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E6E9-9C3E-48E6-9225-B8404E15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D544-6B28-4D96-BBD0-BA99C49C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E379-BCC0-42FB-94FC-36EAD116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B3D1-70BB-420E-9AA7-7A4BA938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EE3-F3DB-428B-A5A8-7EF95ACE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BEA9-9CD7-4B10-84E2-74787FA6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1160-9C01-4003-9FA1-3C8F21DD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7C81-7FC2-429F-A482-6AC3AD22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7CB6-701E-40FC-B188-313E5090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B65D-B45D-4EB5-9046-51C5DC69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7FB-4798-4253-9D73-05781C7A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B978-1A77-4E82-880C-1001631D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C003-6377-4C82-9321-6643021E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21F-1D85-4935-95A7-44401DC5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485F-971B-428E-8A49-2C8374A8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44BC-6B02-4036-BC49-B380CE56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A05F-FB4F-41DB-B708-D8C1703E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A522-BE1B-4CC9-A938-AFAEA6E82A8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2D00-0CBA-4B43-B8B3-C887E4E9AC4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3203640" y="2349360"/>
            <a:ext cx="42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786200" y="898200"/>
            <a:ext cx="346104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Здоровье – не все,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0" i="1" lang="ru-RU" sz="5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о все без здоровья – ничто</a:t>
            </a:r>
            <a:r>
              <a:rPr b="0" lang="ru-RU" sz="5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WordArt 10"/>
          <p:cNvSpPr txBox="1"/>
          <p:nvPr/>
        </p:nvSpPr>
        <p:spPr>
          <a:xfrm>
            <a:off x="4786200" y="3214800"/>
            <a:ext cx="4095720" cy="84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008000"/>
                </a:solidFill>
                <a:latin typeface="Calibri"/>
              </a:rPr>
              <a:t> 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008000"/>
              </a:solidFill>
              <a:latin typeface="Calibri"/>
              <a:ea typeface="Calibri"/>
            </a:endParaRPr>
          </a:p>
        </p:txBody>
      </p:sp>
      <p:pic>
        <p:nvPicPr>
          <p:cNvPr id="159" name="Picture 13" descr="stock-photo-healthy-lifestyle-concept-diet-and-fitness-24737392"/>
          <p:cNvPicPr/>
          <p:nvPr/>
        </p:nvPicPr>
        <p:blipFill>
          <a:blip r:embed="rId1"/>
          <a:stretch/>
        </p:blipFill>
        <p:spPr>
          <a:xfrm>
            <a:off x="142920" y="1352520"/>
            <a:ext cx="4379760" cy="4572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9144000" cy="6597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0% современных подростков имеют те или иные отклонения в состоянии здоровья. Из них 50% приходится на функциональные изменения по органам и системам, то есть те, которые появляются при возникновении неблагоприятных факторов и по мере устранения этих факторов исчезают, и около 40% - на хронические заболевания, то есть те, которые наследуются, либо возникают в раннем детстве, либо из функциональных нарушений переходят в хронические заболева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4" descr="p248_2010pervoklass-4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6"/>
          <p:cNvSpPr txBox="1"/>
          <p:nvPr/>
        </p:nvSpPr>
        <p:spPr>
          <a:xfrm>
            <a:off x="755640" y="189000"/>
            <a:ext cx="748980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сять заповедей здоровья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65" name="Picture 8" descr="2970_300_ezg_4"/>
          <p:cNvPicPr/>
          <p:nvPr/>
        </p:nvPicPr>
        <p:blipFill>
          <a:blip r:embed="rId1"/>
          <a:stretch/>
        </p:blipFill>
        <p:spPr>
          <a:xfrm>
            <a:off x="2268360" y="3284640"/>
            <a:ext cx="476280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. Уделяй достаточное внимание чистоте духовной и физическо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2. Держи свои мысли, слова, эмоции чистыми, спокойными, возвышенны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. Постоянно пополняй свои знания законов природы и уважай и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4. Люби свое тело как наивысшее проявление жизни – отказывайся от вредных привычек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5. Отказывайся от неживых продуктов и возбуждающих напитк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6. Насыщай свое тело только природными натуральными продукт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7. Обновляй свое тело, разумно балансируя труд и отдых, радуйся своей работ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8. Очищай свое тело водой, чистым воздухом и солнечным светом; кровь клетки и ткани – трав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9. Воздерживайся от еды, когда твой разум и (или) тело плохо себя чувствую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0. Отказывайся от человеческих пороков таких, как невежество, обида, гнев, ревность, снобизм, зависть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7:58:37Z</dcterms:created>
  <dc:creator>Admin</dc:creator>
  <dc:description/>
  <dc:language>en-US</dc:language>
  <cp:lastModifiedBy>User</cp:lastModifiedBy>
  <dcterms:modified xsi:type="dcterms:W3CDTF">2017-01-14T15:05:06Z</dcterms:modified>
  <cp:revision>14</cp:revision>
  <dc:subject/>
  <dc:title>Слайд 1</dc:title>
</cp:coreProperties>
</file>