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DA7-E633-4E6D-833D-52564668F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F59-7352-44C3-88F5-910E1D25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F721-A6B8-4DA1-BABA-A44A0A8F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D39-8A52-489F-8771-7755B81A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46EA-1F90-4A0A-873A-760FDE89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6123-2189-49D8-84E2-2617F27D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C5A1-8631-4FCD-8AB7-0E1C97E3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F3C4-8B6F-489E-A8E8-D0DF80C6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970C-885A-48B1-A121-0D5504F7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BD60-31E2-487A-B869-6483D13B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DB04-826E-4018-AE40-9CA64084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411-BAB5-426B-AC6F-E8BA26AF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D238-1C59-4C14-9CB1-022BBDB7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92FF-59DE-473C-B34E-8B695E1E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9B54-A34C-454E-A4F6-2C746FBC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83BB1-F2D5-4F05-A9B4-A779EAAE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E2228-9307-496A-9A3F-FAE8E35F2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5004-9DFE-4A9E-AB2F-DAFE7A74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B0F-C346-41D5-BFF3-CFC55BF1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5AE4-E7B5-4976-B951-0A9E1101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C06-E91B-4DC1-97B2-70D998C2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0425-EB38-413D-9F2B-D0792075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65FE-A658-486C-BF34-51FEA1E5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888-4EA6-48C7-AF7D-2AB7058A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4365-EFE2-4426-86A7-64B4102005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AEA0-A199-4267-B261-E8941759DA0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3203640" y="2349360"/>
            <a:ext cx="42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786200" y="898200"/>
            <a:ext cx="346104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Здоровье – не все,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0" i="1" lang="ru-RU" sz="5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о все без здоровья – ничто</a:t>
            </a:r>
            <a:r>
              <a:rPr b="0" lang="ru-RU" sz="54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WordArt 10"/>
          <p:cNvSpPr txBox="1"/>
          <p:nvPr/>
        </p:nvSpPr>
        <p:spPr>
          <a:xfrm>
            <a:off x="4786200" y="3214800"/>
            <a:ext cx="409572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008000"/>
                </a:solidFill>
                <a:latin typeface="Calibri"/>
              </a:rPr>
              <a:t> </a:t>
            </a:r>
            <a:endParaRPr b="0" lang="en-US" sz="1800" spc="1" strike="noStrike">
              <a:ln w="9360">
                <a:solidFill>
                  <a:srgbClr val="ffff66"/>
                </a:solidFill>
                <a:miter/>
              </a:ln>
              <a:solidFill>
                <a:srgbClr val="008000"/>
              </a:solidFill>
              <a:latin typeface="Calibri"/>
              <a:ea typeface="Calibri"/>
            </a:endParaRPr>
          </a:p>
        </p:txBody>
      </p:sp>
      <p:pic>
        <p:nvPicPr>
          <p:cNvPr id="159" name="Picture 13" descr="stock-photo-healthy-lifestyle-concept-diet-and-fitness-24737392"/>
          <p:cNvPicPr/>
          <p:nvPr/>
        </p:nvPicPr>
        <p:blipFill>
          <a:blip r:embed="rId1"/>
          <a:stretch/>
        </p:blipFill>
        <p:spPr>
          <a:xfrm>
            <a:off x="142920" y="1352520"/>
            <a:ext cx="4379760" cy="45720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0" y="259920"/>
            <a:ext cx="9144000" cy="6597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90% современных подростков имеют те или иные отклонения в состоянии здоровья. Из них 50% приходится на функциональные изменения по органам и системам, то есть те, которые появляются при возникновении неблагоприятных факторов и по мере устранения этих факторов исчезают, и около 40% - на хронические заболевания, то есть те, которые наследуются, либо возникают в раннем детстве, либо из функциональных нарушений переходят в хронические заболева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4" descr="p248_2010pervoklass-4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6"/>
          <p:cNvSpPr txBox="1"/>
          <p:nvPr/>
        </p:nvSpPr>
        <p:spPr>
          <a:xfrm>
            <a:off x="755640" y="189000"/>
            <a:ext cx="74898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сять заповедей здоровья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5" name="Picture 8" descr="2970_300_ezg_4"/>
          <p:cNvPicPr/>
          <p:nvPr/>
        </p:nvPicPr>
        <p:blipFill>
          <a:blip r:embed="rId1"/>
          <a:stretch/>
        </p:blipFill>
        <p:spPr>
          <a:xfrm>
            <a:off x="2268360" y="3284640"/>
            <a:ext cx="4762800" cy="3162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. Уделяй достаточное внимание чистоте духовной и физическ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2. Держи свои мысли, слова, эмоции чистыми, спокойными, возвышенны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3. Постоянно пополняй свои знания законов природы и уважай и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4. Люби свое тело как наивысшее проявление жизни – отказывайся от вредных привычек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5. Отказывайся от неживых продуктов и возбуждающих напитк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6. Насыщай свое тело только природными натуральными продукт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7. Обновляй свое тело, разумно балансируя труд и отдых, радуйся своей рабо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8. Очищай свое тело водой, чистым воздухом и солнечным светом; кровь клетки и ткани – травами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9. Воздерживайся от еды, когда твой разум и (или) тело плохо себя чувствую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0. Отказывайся от человеческих пороков таких, как невежество, обида, гнев, ревность, снобизм, зависть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5T17:58:37Z</dcterms:created>
  <dc:creator>Admin</dc:creator>
  <dc:description/>
  <dc:language>en-US</dc:language>
  <cp:lastModifiedBy>User</cp:lastModifiedBy>
  <dcterms:modified xsi:type="dcterms:W3CDTF">2017-01-14T15:05:06Z</dcterms:modified>
  <cp:revision>14</cp:revision>
  <dc:subject/>
  <dc:title>Слайд 1</dc:title>
</cp:coreProperties>
</file>