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wmf" ContentType="image/x-wmf"/>
  <Override PartName="/ppt/media/image14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88E5-62D7-4393-83CB-889E96ED6C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7AE3-C638-444C-A981-32D9456B76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C22-A163-4DE3-B377-2FB98870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92C-DFC6-4AEE-AB9F-087C0B5A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838-48DA-44E3-9174-F43822AF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F4C-945C-4038-95A5-7CD4803A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173AB-391C-40F7-A981-23A3D7B2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CC594-F76A-4C46-952F-CF1B5442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E94BB-AD41-4290-A29C-A86A0BEA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91957-DF7A-43A9-AB66-4CFE0E2D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4381B-D411-426A-9738-DFB617A9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79C80-C90C-4748-9409-6AF5C196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F4770-167A-40A0-A4F8-B40240E5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0AC-FA58-477C-919A-30F373F6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43819-DD94-4DB8-BA68-A6AF6C35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2BC14-2537-4AAB-BF6E-017D99F7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66D51-B5FE-40B4-9CEC-84779101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3C4BC-5F9A-4B7A-8C40-11CEA50D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8798C-5E81-4061-8B56-B9A25FF7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9EC7-3513-4EB2-8A47-DCD2EADC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5B0D-53E7-4620-8CEB-51DC370E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8A0B1-EF59-462D-A4E5-AD01E3B3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33666-8DC1-485E-8D77-B5102E8F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B6291-69D1-4DB5-994E-E52C044F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23E-7B02-47CF-AA0F-71006074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E136-39E0-4291-A7F6-0FD85846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A69F6-EBAE-4C6D-935B-34BE7EDC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57565-02CF-4F4A-8B61-D48E5416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23302-9064-411A-8BB6-4D1FECF9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D0352-4421-4FB4-B6AA-1F7CF9D1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8E762-E242-4597-80B8-3D480CFA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C1819-C06F-4BBD-9351-B9827BAE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F25B83-FD7F-470E-8FF9-5DDFCAFC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1420F2-7E25-4797-B19A-CE160E65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778217-A71C-4D2F-9099-5A935632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B0D-C758-4C66-80F9-3B5ADD20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25C3FB-5BA2-4842-98A9-9769F002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440821-48C8-46D0-9521-5A712737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D1F7FB-F5E4-4379-BC22-870E290D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194727-C644-4215-85E7-336AE61F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40787A-3979-4F39-8707-A75D27A2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C5411-A444-4D0B-B2EF-67A9D757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98249E-62EB-4ECA-9307-DE4A9FC7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A320A3-0FD6-4B10-8DD0-F3E45527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6B7361-8F0D-49E1-A748-AAB7A96D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F4C-FE75-4A94-A818-D1FBCD79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775-4D3A-4314-8677-402E7057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31FB-019D-4D83-A8B2-031660CC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6AD-651D-4E7E-8BEF-F4B50FBF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276-6068-453A-AD29-B7C6B96B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DB57-EBEF-4DF6-AFA1-DFE2BC0FE8F7}" type="datetime"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EB04-309B-4C2D-89B2-0CD43524672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C8B1-CED1-4691-9C67-1D45A723EBE9}" type="datetime"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1B18-D980-431A-9CC4-F38355DD15A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7158-17AB-41AA-A63D-E51D428386CA}" type="datetime"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C5A0-0388-4CBD-8E85-BBAACC951BC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A024-D2EB-4135-9960-22CCF0A5770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FC51-D5B4-496F-BA37-A957A8839326}" type="datetime"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7"/>
          <p:cNvSpPr/>
          <p:nvPr/>
        </p:nvSpPr>
        <p:spPr>
          <a:xfrm>
            <a:off x="285840" y="357120"/>
            <a:ext cx="864396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инистерство здравоохранения Москов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сударственное бюджетное профессиональное образовательное учреждение Москов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МОСКОВСКИЙ ОБЛАСТНОЙ МЕДИЦИНСКИЙ КОЛЛЕДЖ № 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ДЕЛЕНИЕ ПОВЫШЕНИЯ КВАЛИФИК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Лек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Медицина катастроф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втор: Ливанская Виолетта Владимировна, преподаватель хирургии и медицины катастроф, кандидат медицинских нау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осква 2016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13880" y="1600200"/>
            <a:ext cx="785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68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nstantia"/>
              </a:rPr>
              <a:t>Спасатели, сотрудники МВД, пожарные, военнослужащие, санитары и санинструкторы, сандружинники (в т.ч. ЛПУ, попавших в очаг), медработники (попавшие в очаг), граждане(имеющие подготовку по первой помощи).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8560" indent="-268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8560" indent="-268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58DA-027E-499C-ACF0-3540CAB3EF66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4AB2-B438-4A5B-9DAC-54DE58779BB8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57200" y="214200"/>
            <a:ext cx="81532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СОСТОЯНИЙ, ПРИ КОТОРЫХ ОКАЗЫВАЕТСЯ ПЕРВАЯ ПОМОЩ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риказ МЗСР № 477н от 2012 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85800" y="1643040"/>
            <a:ext cx="8001000" cy="46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2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тсутствие созна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80960" indent="-480960">
              <a:lnSpc>
                <a:spcPct val="12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становка дыхания и кровообращ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80960" indent="-480960">
              <a:lnSpc>
                <a:spcPct val="12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Наружные кровотеч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80960" indent="-480960">
              <a:lnSpc>
                <a:spcPct val="12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нородные тела верхних дыхательных путей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80960" indent="-480960">
              <a:lnSpc>
                <a:spcPct val="12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равмы различных областей тел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80960" indent="-480960">
              <a:lnSpc>
                <a:spcPct val="12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оги, эффекты воздействия высоких температур, теплового излуч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80960" indent="-480960">
              <a:lnSpc>
                <a:spcPct val="12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тморожение и другие эффекты воздействия низких температур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80960" indent="-480960">
              <a:lnSpc>
                <a:spcPct val="12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травления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99680" y="2428920"/>
            <a:ext cx="82868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Фельдшерские и врачебные бригады СМП, ВСБ и ФБ ЛПУ, бригады общего назначения ФМБА, медицинские силы воинских частей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9F4D-C41F-40EC-ADC5-5532439AF590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727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B781-D68B-443D-BCB2-1DF25571B2A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3" descr="стенд-эвакуация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1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0D7E-6CCA-431D-8CD9-5AFC0006A263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853920" y="1152360"/>
            <a:ext cx="729648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Рисунок7"/>
          <p:cNvPicPr/>
          <p:nvPr/>
        </p:nvPicPr>
        <p:blipFill>
          <a:blip r:embed="rId1"/>
          <a:stretch/>
        </p:blipFill>
        <p:spPr>
          <a:xfrm>
            <a:off x="357120" y="189000"/>
            <a:ext cx="4683240" cy="3382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Рисунок6"/>
          <p:cNvPicPr/>
          <p:nvPr/>
        </p:nvPicPr>
        <p:blipFill>
          <a:blip r:embed="rId2"/>
          <a:stretch/>
        </p:blipFill>
        <p:spPr>
          <a:xfrm>
            <a:off x="457200" y="3714840"/>
            <a:ext cx="4614840" cy="27144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57880" y="333000"/>
            <a:ext cx="35719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ЧС – это обстановка на определенной территории, сложившаяся в результате аварии, опасного природного явления, стихийного или иного бедствия, которые повлекли за собой человеческие жертвы и (или) ущерб окружающей природной сред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1E9D-2DD6-4966-B09C-729C19DEB22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g_flood_big_001"/>
          <p:cNvPicPr/>
          <p:nvPr/>
        </p:nvPicPr>
        <p:blipFill>
          <a:blip r:embed="rId1"/>
          <a:stretch/>
        </p:blipFill>
        <p:spPr>
          <a:xfrm>
            <a:off x="217440" y="214200"/>
            <a:ext cx="5759640" cy="364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417481e4d263"/>
          <p:cNvPicPr/>
          <p:nvPr/>
        </p:nvPicPr>
        <p:blipFill>
          <a:blip r:embed="rId2"/>
          <a:stretch/>
        </p:blipFill>
        <p:spPr>
          <a:xfrm>
            <a:off x="6143760" y="279360"/>
            <a:ext cx="2714400" cy="2649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7015"/>
          <p:cNvPicPr/>
          <p:nvPr/>
        </p:nvPicPr>
        <p:blipFill>
          <a:blip r:embed="rId3"/>
          <a:stretch/>
        </p:blipFill>
        <p:spPr>
          <a:xfrm>
            <a:off x="428760" y="4000680"/>
            <a:ext cx="4214520" cy="2719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i"/>
          <p:cNvPicPr/>
          <p:nvPr/>
        </p:nvPicPr>
        <p:blipFill>
          <a:blip r:embed="rId4"/>
          <a:stretch/>
        </p:blipFill>
        <p:spPr>
          <a:xfrm>
            <a:off x="5500800" y="4000680"/>
            <a:ext cx="2916000" cy="2187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468E-279F-4B92-A600-C86BE5598373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857160" y="2349360"/>
            <a:ext cx="1770120" cy="5032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ро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643280" y="1285920"/>
            <a:ext cx="2500560" cy="30002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сух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обычная ж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жа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вержения вулк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етряс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вод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ол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ежные обв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700360" y="2276640"/>
            <a:ext cx="1728720" cy="647640"/>
          </a:xfrm>
          <a:prstGeom prst="pie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24244"/>
          <p:cNvPicPr/>
          <p:nvPr/>
        </p:nvPicPr>
        <p:blipFill>
          <a:blip r:embed="rId1"/>
          <a:stretch/>
        </p:blipFill>
        <p:spPr>
          <a:xfrm>
            <a:off x="214200" y="142920"/>
            <a:ext cx="4357800" cy="27925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8480-3390-45B8-A526-B6CA82A858F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71680" y="2357280"/>
            <a:ext cx="2089080" cy="64296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г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3833640"/>
            <a:ext cx="3500280" cy="28814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иа- и косм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езнодоро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доро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речном и морском фло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жары и взры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выбросом СДЯВ(хим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выбросом РВ(рад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выбросом биологическ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ществ(Б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рывы пло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5"/>
          <p:cNvGrpSpPr/>
          <p:nvPr/>
        </p:nvGrpSpPr>
        <p:grpSpPr>
          <a:xfrm>
            <a:off x="2643120" y="2500200"/>
            <a:ext cx="2857680" cy="2571480"/>
            <a:chOff x="2643120" y="2500200"/>
            <a:chExt cx="2857680" cy="2571480"/>
          </a:xfrm>
        </p:grpSpPr>
        <p:sp>
          <p:nvSpPr>
            <p:cNvPr id="195" name="Gear"/>
            <p:cNvSpPr/>
            <p:nvPr/>
          </p:nvSpPr>
          <p:spPr>
            <a:xfrm>
              <a:off x="4227480" y="2500200"/>
              <a:ext cx="1273320" cy="1179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7"/>
            <p:cNvSpPr/>
            <p:nvPr/>
          </p:nvSpPr>
          <p:spPr>
            <a:xfrm>
              <a:off x="2643120" y="2986200"/>
              <a:ext cx="1522440" cy="1409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utoShape 8"/>
            <p:cNvSpPr/>
            <p:nvPr/>
          </p:nvSpPr>
          <p:spPr>
            <a:xfrm>
              <a:off x="3630600" y="3506040"/>
              <a:ext cx="1692000" cy="15656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AutoShape 9"/>
          <p:cNvSpPr/>
          <p:nvPr/>
        </p:nvSpPr>
        <p:spPr>
          <a:xfrm>
            <a:off x="1428840" y="3143160"/>
            <a:ext cx="485640" cy="647640"/>
          </a:xfrm>
          <a:prstGeom prst="upDownArrow">
            <a:avLst>
              <a:gd name="adj1" fmla="val 50000"/>
              <a:gd name="adj2" fmla="val 26548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7" descr="Интересные кадры - Реальное фото - Deepwater Horizon"/>
          <p:cNvPicPr/>
          <p:nvPr/>
        </p:nvPicPr>
        <p:blipFill>
          <a:blip r:embed="rId2"/>
          <a:stretch/>
        </p:blipFill>
        <p:spPr>
          <a:xfrm>
            <a:off x="5286240" y="142920"/>
            <a:ext cx="3714840" cy="3071880"/>
          </a:xfrm>
          <a:prstGeom prst="rect">
            <a:avLst/>
          </a:prstGeom>
          <a:ln w="0">
            <a:noFill/>
          </a:ln>
        </p:spPr>
      </p:pic>
      <p:pic>
        <p:nvPicPr>
          <p:cNvPr id="200" name="big" descr="48195_image_large"/>
          <p:cNvPicPr/>
          <p:nvPr/>
        </p:nvPicPr>
        <p:blipFill>
          <a:blip r:embed="rId3"/>
          <a:stretch/>
        </p:blipFill>
        <p:spPr>
          <a:xfrm>
            <a:off x="5214960" y="3643200"/>
            <a:ext cx="37148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В Волгоградской области из-за жары засыхают посевы - Волгоградское Деловое Телевидение"/>
          <p:cNvPicPr/>
          <p:nvPr/>
        </p:nvPicPr>
        <p:blipFill>
          <a:blip r:embed="rId1"/>
          <a:stretch/>
        </p:blipFill>
        <p:spPr>
          <a:xfrm>
            <a:off x="357120" y="1357200"/>
            <a:ext cx="3857760" cy="2314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Users\Виалет\Desktop\36407.jpg"/>
          <p:cNvPicPr/>
          <p:nvPr/>
        </p:nvPicPr>
        <p:blipFill>
          <a:blip r:embed="rId2"/>
          <a:stretch/>
        </p:blipFill>
        <p:spPr>
          <a:xfrm>
            <a:off x="4929120" y="0"/>
            <a:ext cx="3571920" cy="25002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90A3-4B11-4662-A0ED-7707C6B7776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4429080" y="2571840"/>
            <a:ext cx="4429080" cy="4286160"/>
          </a:xfrm>
          <a:prstGeom prst="ellipse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кое изменение 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вышение ПДК вред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сей в атмосф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рый кислород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д в город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вышение ПД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одского шу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ушение озон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я атмосф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кая нехват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тьевой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чезновение ви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животных, растений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Новости пользователя ivrus"/>
          <p:cNvPicPr/>
          <p:nvPr/>
        </p:nvPicPr>
        <p:blipFill>
          <a:blip r:embed="rId3"/>
          <a:stretch/>
        </p:blipFill>
        <p:spPr>
          <a:xfrm>
            <a:off x="214200" y="3857760"/>
            <a:ext cx="4000680" cy="28573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357120" y="142920"/>
            <a:ext cx="4214880" cy="9288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ло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0a0705fa519640653d4a9f59e199807b"/>
          <p:cNvPicPr/>
          <p:nvPr/>
        </p:nvPicPr>
        <p:blipFill>
          <a:blip r:embed="rId1"/>
          <a:stretch/>
        </p:blipFill>
        <p:spPr>
          <a:xfrm>
            <a:off x="214200" y="142920"/>
            <a:ext cx="4214880" cy="30718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27F6-66DA-4092-8A45-CA2C169453DC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11" descr="Международный терроризм и торговля оружием остаются угрозами…"/>
          <p:cNvPicPr/>
          <p:nvPr/>
        </p:nvPicPr>
        <p:blipFill>
          <a:blip r:embed="rId2"/>
          <a:stretch/>
        </p:blipFill>
        <p:spPr>
          <a:xfrm>
            <a:off x="4572000" y="142920"/>
            <a:ext cx="4357800" cy="300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Terrorism: Croatia One Of The Safest Places On Earth Croatia Week"/>
          <p:cNvPicPr/>
          <p:nvPr/>
        </p:nvPicPr>
        <p:blipFill>
          <a:blip r:embed="rId3"/>
          <a:stretch/>
        </p:blipFill>
        <p:spPr>
          <a:xfrm>
            <a:off x="6000840" y="3357720"/>
            <a:ext cx="3000240" cy="3286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Вслед за Киевом баррикады появились во Львове и Ровно"/>
          <p:cNvPicPr/>
          <p:nvPr/>
        </p:nvPicPr>
        <p:blipFill>
          <a:blip r:embed="rId4"/>
          <a:stretch/>
        </p:blipFill>
        <p:spPr>
          <a:xfrm>
            <a:off x="1357200" y="3500280"/>
            <a:ext cx="4500720" cy="31435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 flipH="1">
            <a:off x="-720" y="2643120"/>
            <a:ext cx="2428920" cy="4214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ко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пиде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й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рор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щест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споряд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басто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н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оруж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лкнов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государст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национ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регион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357720" y="0"/>
            <a:ext cx="3143160" cy="620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743040" y="428760"/>
            <a:ext cx="8400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бщие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людские потер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, возникшие в ЧС, подразделяются на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99ff99"/>
                </a:solidFill>
                <a:latin typeface="Constantia"/>
              </a:rPr>
              <a:t>безвозвратные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99ff99"/>
                </a:solidFill>
                <a:latin typeface="Constantia"/>
              </a:rPr>
              <a:t>санитарные</a:t>
            </a: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тери</a:t>
            </a: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99"/>
                </a:solidFill>
                <a:latin typeface="Constantia"/>
              </a:rPr>
              <a:t>Безвозвратные</a:t>
            </a: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тери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юди, погибшие в момент возникновения ЧС, умершие до поступления на первый этап медицинской эвакуации (в медицинское учреждение) и пропавшие без вести.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99"/>
                </a:solidFill>
                <a:latin typeface="Constantia"/>
              </a:rPr>
              <a:t>Санитарные</a:t>
            </a: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тери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раженные (оставшиеся в живых) и заболевшие при возникновении ЧС или в результате Ч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1609560" y="493560"/>
            <a:ext cx="7375680" cy="944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071440" y="1928520"/>
            <a:ext cx="6715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6f6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8e58b6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Это распределение пострадавших и больных на группы, исходя из нуждаемости в первоочередных и  однородных мероприятиях (лечебных, профилактических, эвакуационных)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6" descr="g0120325"/>
          <p:cNvPicPr/>
          <p:nvPr/>
        </p:nvPicPr>
        <p:blipFill>
          <a:blip r:embed="rId2"/>
          <a:stretch/>
        </p:blipFill>
        <p:spPr>
          <a:xfrm>
            <a:off x="500040" y="2786040"/>
            <a:ext cx="3571920" cy="3929040"/>
          </a:xfrm>
          <a:prstGeom prst="rect">
            <a:avLst/>
          </a:prstGeom>
          <a:ln w="0">
            <a:noFill/>
          </a:ln>
        </p:spPr>
      </p:pic>
      <p:sp>
        <p:nvSpPr>
          <p:cNvPr id="218" name="Номер слайда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94A4-9623-44D8-AC44-D62FE56D430C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582040" cy="12258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142920" y="1643040"/>
            <a:ext cx="228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радавшие, нуждающиеся в оказании МП в экстре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е при состояниях, представляющих угрозу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2214720" y="1643040"/>
            <a:ext cx="221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радавшие, нуждающиеся в оказании МП в неотложной форме при состояниях без явных признаков угрозы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4429080" y="1643040"/>
            <a:ext cx="2357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радавшие, нуждающиеся в плановой МП при состояниях, не требующих экстренной и неотложной МП и отсрочка оказания которой на определенное время не повлечет за собой угрозу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6715080" y="1643040"/>
            <a:ext cx="214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гонирующие, нуждающиеся в оказании паллиативной МП (облегчении тяжелых проявлений пораже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10"/>
          <p:cNvSpPr/>
          <p:nvPr/>
        </p:nvSpPr>
        <p:spPr>
          <a:xfrm>
            <a:off x="214200" y="1714680"/>
            <a:ext cx="2000520" cy="4090680"/>
          </a:xfrm>
          <a:prstGeom prst="rect">
            <a:avLst/>
          </a:prstGeom>
          <a:noFill/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11"/>
          <p:cNvSpPr/>
          <p:nvPr/>
        </p:nvSpPr>
        <p:spPr>
          <a:xfrm>
            <a:off x="2214720" y="1714680"/>
            <a:ext cx="2214360" cy="4090680"/>
          </a:xfrm>
          <a:prstGeom prst="rect">
            <a:avLst/>
          </a:prstGeom>
          <a:noFill/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4429080" y="1714680"/>
            <a:ext cx="2286000" cy="4090680"/>
          </a:xfrm>
          <a:prstGeom prst="rect">
            <a:avLst/>
          </a:prstGeom>
          <a:noFill/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6715080" y="1714680"/>
            <a:ext cx="2214720" cy="4090680"/>
          </a:xfrm>
          <a:prstGeom prst="rect">
            <a:avLst/>
          </a:prstGeom>
          <a:noFill/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971640" y="13413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16"/>
          <p:cNvSpPr/>
          <p:nvPr/>
        </p:nvSpPr>
        <p:spPr>
          <a:xfrm>
            <a:off x="2987640" y="134136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18"/>
          <p:cNvSpPr/>
          <p:nvPr/>
        </p:nvSpPr>
        <p:spPr>
          <a:xfrm>
            <a:off x="5286240" y="128592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20"/>
          <p:cNvSpPr/>
          <p:nvPr/>
        </p:nvSpPr>
        <p:spPr>
          <a:xfrm>
            <a:off x="7358040" y="12859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3:48:26Z</dcterms:created>
  <dc:creator>АЛЕКСАНДР</dc:creator>
  <dc:description/>
  <dc:language>en-US</dc:language>
  <cp:lastModifiedBy>Виалет</cp:lastModifiedBy>
  <dcterms:modified xsi:type="dcterms:W3CDTF">2017-01-14T17:04:49Z</dcterms:modified>
  <cp:revision>500</cp:revision>
  <dc:subject/>
  <dc:title>Слайд 1</dc:title>
</cp:coreProperties>
</file>