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2D6A-B397-47A3-B0F3-7EE4371EFF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B827-4D18-45C9-97B0-AA840334C8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18E-E703-47C5-A808-6743CD3DD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5DC6-AE73-451D-A90B-567B8CA2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0015-FBB2-4CEB-A129-E3F54747F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B687-BABD-4ABF-9C8A-1D0DF077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2EB0E-908A-4271-A3EA-604B72791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FB511-F4D8-4BC1-B2AE-2CCD3E42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9FAFF-5516-4C78-B716-1800D7D9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3BD0F-2102-44C6-A68E-B18AEE5A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7A8F2-31A9-4480-8A43-0B5235C1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B47DA-CC95-4B8F-A395-46D3ADDC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B3B33-745F-40E6-B651-20B8254D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BF5-858C-4D6C-8ACC-EE0FFEC2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058E3-D51B-4138-A842-97110AD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2623F-05FC-4327-80A0-68252E5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44FF-AE53-4DFD-A175-A5E6EB6D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7685F-F5C7-4A33-9822-F4542F2F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A7F5-40DE-4D4F-ADA8-4BADCAA7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799D-D5A6-4480-9469-97980F0A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A21E-BD34-42CF-ADC7-B4ECCEF2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0D5E-02F0-4165-84AF-F41E7570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C391-2A26-4A59-BC22-B2151FA9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62106-DACC-4B5E-B327-68827B61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F57-3105-4D58-A033-E5131C26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E3E4-7A68-4AF8-B791-A6623774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F2C7-481E-4C2B-9060-A3C33C0E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2FF3F-0CA4-4364-9599-A04501EC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C401-0B67-4E0C-988F-F9AE31D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AA179-2A42-4CFE-B96C-7A91876D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E7F1-15A8-42C2-BABB-2BF87663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1231-F045-4DF6-AFAD-8D6D066C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C4D14D-684C-4966-A6B4-2F2868E0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65E30A-88D2-4FBD-98CB-1AD59E05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8D2A99-E6B2-4DDB-A6EA-1375B81E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9E0-A7A8-4C41-90BD-A480043D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9E5B8D-0EAF-436C-BF79-27662B74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30FBC-FD11-4B8D-B631-6057DCFED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090BE9-B054-479B-A78E-0C8388E2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7CA43F-B23E-4D75-9038-A932DF7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10997B-33A5-4680-BBAE-6A1D29F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1019C-CE74-4459-AADF-CC5913A9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B440E-4F46-42CA-B9E7-6C795513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2F3AA4-0F23-4BBC-BA57-19162435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53C70-68D5-430B-A345-B9300CF3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6AE-974E-4A8D-B45B-C522709E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EC1-0E2E-4A0E-B649-3EDBBE95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8B0-FE35-4E0D-9889-EAB4E44D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DC2-37EB-4C55-AEA3-AB63B38E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EC4-DA0C-4709-80FA-0D232023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B071-C4C8-47B3-B3B7-622D4CE144E5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AD1-65BA-49B6-A842-773607F3536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D653-F609-4CD8-A699-4B16ABF0951A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61B3-F4AA-4B02-9E4B-080D405661B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DEDD-D703-4592-9342-47C82061777E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DDF0-4CB6-4EDB-A017-A93530E0D8A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50EC-6D97-4B31-BEA3-9E981E5AD0D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B724-85C7-4615-B06A-1E32B8439831}" type="datetime"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285840" y="357120"/>
            <a:ext cx="86439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инистерство здравоохранения Моск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осударственное бюджетное профессиональное образовательное учреждение Москов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«МОСКОВСКИЙ ОБЛАСТНОЙ МЕДИЦИНСКИЙ КОЛЛЕДЖ № 1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ДЕЛЕНИЕ ПОВЫШЕНИЯ КВАЛИФИК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Лек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Медицина катастроф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втор: Ливанская Виолетта Владимировна, преподаватель хирургии и медицины катастроф, кандидат медицинских нау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сква 2016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13880" y="1600200"/>
            <a:ext cx="785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Constantia"/>
              </a:rPr>
              <a:t>Спасатели, сотрудники МВД, пожарные, военнослужащие, санитары и санинструкторы, сандружинники (в т.ч. ЛПУ, попавших в очаг), медработники (попавшие в очаг), граждане(имеющие подготовку по первой помощи).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8560" indent="-2685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8590-FB82-4ED6-B3A6-300135EE8F18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6C0A-0238-4308-B453-A315BBF227F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57200" y="214200"/>
            <a:ext cx="81532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СОСТОЯНИЙ, ПРИ КОТОРЫХ ОКАЗЫВАЕТСЯ ПЕРВАЯ ПОМОЩ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риказ МЗСР № 477н от 2012 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85800" y="1643040"/>
            <a:ext cx="8001000" cy="466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тсутствие созна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становка дыхания и кровообращ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Наружные кровотеч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Инородные тела верхних дыхательных путей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Травмы различных областей тел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оги, эффекты воздействия высоких температур, теплового излучения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тморожение и другие эффекты воздействия низких температур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480960" indent="-480960">
              <a:lnSpc>
                <a:spcPct val="120000"/>
              </a:lnSpc>
              <a:tabLst>
                <a:tab algn="l" pos="0"/>
                <a:tab algn="l" pos="480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травления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99680" y="2428920"/>
            <a:ext cx="82868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Фельдшерские и врачебные бригады СМП, ВСБ и ФБ ЛПУ, бригады общего назначения ФМБА, медицинские силы воинских часте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C292-C985-44D4-907A-E64B195E9AC9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7278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D397-0961-4D01-A2F0-B414C5BD2EB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3" descr="стенд-эвакуация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Номер слайда 1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A72-412A-497D-950E-7CF4AC87FA70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Заголовок 2" descr=""/>
          <p:cNvPicPr/>
          <p:nvPr/>
        </p:nvPicPr>
        <p:blipFill>
          <a:blip r:embed="rId1"/>
          <a:stretch/>
        </p:blipFill>
        <p:spPr>
          <a:xfrm>
            <a:off x="853920" y="1152360"/>
            <a:ext cx="72964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Рисунок7"/>
          <p:cNvPicPr/>
          <p:nvPr/>
        </p:nvPicPr>
        <p:blipFill>
          <a:blip r:embed="rId1"/>
          <a:stretch/>
        </p:blipFill>
        <p:spPr>
          <a:xfrm>
            <a:off x="357120" y="189000"/>
            <a:ext cx="4683240" cy="33829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" descr="Рисунок6"/>
          <p:cNvPicPr/>
          <p:nvPr/>
        </p:nvPicPr>
        <p:blipFill>
          <a:blip r:embed="rId2"/>
          <a:stretch/>
        </p:blipFill>
        <p:spPr>
          <a:xfrm>
            <a:off x="457200" y="3714840"/>
            <a:ext cx="4614840" cy="27144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57880" y="333000"/>
            <a:ext cx="35719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С – это обстановка на определенной территории, сложившаяся в результате аварии, опасного природного явления, стихийного или иного бедствия, которые повлекли за собой человеческие жертвы и (или) ущерб окружающей природной сред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4F27-873C-4418-AEE7-B7810825A124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g_flood_big_001"/>
          <p:cNvPicPr/>
          <p:nvPr/>
        </p:nvPicPr>
        <p:blipFill>
          <a:blip r:embed="rId1"/>
          <a:stretch/>
        </p:blipFill>
        <p:spPr>
          <a:xfrm>
            <a:off x="217440" y="214200"/>
            <a:ext cx="5759640" cy="364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417481e4d263"/>
          <p:cNvPicPr/>
          <p:nvPr/>
        </p:nvPicPr>
        <p:blipFill>
          <a:blip r:embed="rId2"/>
          <a:stretch/>
        </p:blipFill>
        <p:spPr>
          <a:xfrm>
            <a:off x="6143760" y="279360"/>
            <a:ext cx="2714400" cy="2649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7015"/>
          <p:cNvPicPr/>
          <p:nvPr/>
        </p:nvPicPr>
        <p:blipFill>
          <a:blip r:embed="rId3"/>
          <a:stretch/>
        </p:blipFill>
        <p:spPr>
          <a:xfrm>
            <a:off x="428760" y="4000680"/>
            <a:ext cx="4214520" cy="271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i"/>
          <p:cNvPicPr/>
          <p:nvPr/>
        </p:nvPicPr>
        <p:blipFill>
          <a:blip r:embed="rId4"/>
          <a:stretch/>
        </p:blipFill>
        <p:spPr>
          <a:xfrm>
            <a:off x="5500800" y="4000680"/>
            <a:ext cx="2916000" cy="21873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C771-F6CC-42AF-A99E-5569BE556C06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57160" y="2349360"/>
            <a:ext cx="1770120" cy="5032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643280" y="1285920"/>
            <a:ext cx="2500560" cy="30002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с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обычная жа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ржения вулк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емлетря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вод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лз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ежные обва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2700360" y="2276640"/>
            <a:ext cx="1728720" cy="647640"/>
          </a:xfrm>
          <a:prstGeom prst="pi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24244"/>
          <p:cNvPicPr/>
          <p:nvPr/>
        </p:nvPicPr>
        <p:blipFill>
          <a:blip r:embed="rId1"/>
          <a:stretch/>
        </p:blipFill>
        <p:spPr>
          <a:xfrm>
            <a:off x="214200" y="142920"/>
            <a:ext cx="4357800" cy="27925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7C0-20B3-4AB4-9507-0618B169028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71680" y="2357280"/>
            <a:ext cx="2089080" cy="64296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г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0" y="3833640"/>
            <a:ext cx="3500280" cy="28814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иа- и косм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лезнодоро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доро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речном и морском фло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жары и взры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ыбросом СДЯВ(хим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ыбросом РВ(рад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выбросом биологическ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ществ(БО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рывы плот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2643120" y="2500200"/>
            <a:ext cx="2857680" cy="2571480"/>
            <a:chOff x="2643120" y="2500200"/>
            <a:chExt cx="2857680" cy="2571480"/>
          </a:xfrm>
        </p:grpSpPr>
        <p:sp>
          <p:nvSpPr>
            <p:cNvPr id="195" name="Gear"/>
            <p:cNvSpPr/>
            <p:nvPr/>
          </p:nvSpPr>
          <p:spPr>
            <a:xfrm>
              <a:off x="4227480" y="2500200"/>
              <a:ext cx="1273320" cy="11790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AutoShape 7"/>
            <p:cNvSpPr/>
            <p:nvPr/>
          </p:nvSpPr>
          <p:spPr>
            <a:xfrm>
              <a:off x="2643120" y="2986200"/>
              <a:ext cx="1522440" cy="1409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AutoShape 8"/>
            <p:cNvSpPr/>
            <p:nvPr/>
          </p:nvSpPr>
          <p:spPr>
            <a:xfrm>
              <a:off x="3630600" y="3506040"/>
              <a:ext cx="1692000" cy="15656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AutoShape 9"/>
          <p:cNvSpPr/>
          <p:nvPr/>
        </p:nvSpPr>
        <p:spPr>
          <a:xfrm>
            <a:off x="1428840" y="3143160"/>
            <a:ext cx="485640" cy="647640"/>
          </a:xfrm>
          <a:prstGeom prst="upDownArrow">
            <a:avLst>
              <a:gd name="adj1" fmla="val 50000"/>
              <a:gd name="adj2" fmla="val 26548"/>
            </a:avLst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17" descr="Интересные кадры - Реальное фото - Deepwater Horizon"/>
          <p:cNvPicPr/>
          <p:nvPr/>
        </p:nvPicPr>
        <p:blipFill>
          <a:blip r:embed="rId2"/>
          <a:stretch/>
        </p:blipFill>
        <p:spPr>
          <a:xfrm>
            <a:off x="5286240" y="142920"/>
            <a:ext cx="3714840" cy="3071880"/>
          </a:xfrm>
          <a:prstGeom prst="rect">
            <a:avLst/>
          </a:prstGeom>
          <a:ln w="0">
            <a:noFill/>
          </a:ln>
        </p:spPr>
      </p:pic>
      <p:pic>
        <p:nvPicPr>
          <p:cNvPr id="200" name="big" descr="48195_image_large"/>
          <p:cNvPicPr/>
          <p:nvPr/>
        </p:nvPicPr>
        <p:blipFill>
          <a:blip r:embed="rId3"/>
          <a:stretch/>
        </p:blipFill>
        <p:spPr>
          <a:xfrm>
            <a:off x="5214960" y="3643200"/>
            <a:ext cx="37148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В Волгоградской области из-за жары засыхают посевы - Волгоградское Деловое Телевидение"/>
          <p:cNvPicPr/>
          <p:nvPr/>
        </p:nvPicPr>
        <p:blipFill>
          <a:blip r:embed="rId1"/>
          <a:stretch/>
        </p:blipFill>
        <p:spPr>
          <a:xfrm>
            <a:off x="357120" y="1357200"/>
            <a:ext cx="3857760" cy="2314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Users\Виалет\Desktop\36407.jpg"/>
          <p:cNvPicPr/>
          <p:nvPr/>
        </p:nvPicPr>
        <p:blipFill>
          <a:blip r:embed="rId2"/>
          <a:stretch/>
        </p:blipFill>
        <p:spPr>
          <a:xfrm>
            <a:off x="4929120" y="0"/>
            <a:ext cx="3571920" cy="25002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4498-161A-42F0-ABF9-721569BBF4E5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4429080" y="2571840"/>
            <a:ext cx="4429080" cy="4286160"/>
          </a:xfrm>
          <a:prstGeom prst="ellipse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кое изменение клим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ышение ПДК вредн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месей в атмо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трый кислород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д в город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вышение ПД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одского шу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ушение озонн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я атмосф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зкая нехват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тьевой во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чезновение ви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животных, растений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4" descr="Новости пользователя ivrus"/>
          <p:cNvPicPr/>
          <p:nvPr/>
        </p:nvPicPr>
        <p:blipFill>
          <a:blip r:embed="rId3"/>
          <a:stretch/>
        </p:blipFill>
        <p:spPr>
          <a:xfrm>
            <a:off x="214200" y="3857760"/>
            <a:ext cx="4000680" cy="285732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3"/>
          <p:cNvSpPr/>
          <p:nvPr/>
        </p:nvSpPr>
        <p:spPr>
          <a:xfrm>
            <a:off x="357120" y="142920"/>
            <a:ext cx="4214880" cy="92880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0a0705fa519640653d4a9f59e199807b"/>
          <p:cNvPicPr/>
          <p:nvPr/>
        </p:nvPicPr>
        <p:blipFill>
          <a:blip r:embed="rId1"/>
          <a:stretch/>
        </p:blipFill>
        <p:spPr>
          <a:xfrm>
            <a:off x="214200" y="142920"/>
            <a:ext cx="4214880" cy="30718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527-4CCB-44C7-AB64-B28B5B0938DF}" type="slidenum">
              <a:rPr b="0" lang="ru-RU" sz="1600" spc="-1" strike="noStrike">
                <a:solidFill>
                  <a:srgbClr val="fefac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11" descr="Международный терроризм и торговля оружием остаются угрозами…"/>
          <p:cNvPicPr/>
          <p:nvPr/>
        </p:nvPicPr>
        <p:blipFill>
          <a:blip r:embed="rId2"/>
          <a:stretch/>
        </p:blipFill>
        <p:spPr>
          <a:xfrm>
            <a:off x="4572000" y="142920"/>
            <a:ext cx="4357800" cy="3000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Terrorism: Croatia One Of The Safest Places On Earth Croatia Week"/>
          <p:cNvPicPr/>
          <p:nvPr/>
        </p:nvPicPr>
        <p:blipFill>
          <a:blip r:embed="rId3"/>
          <a:stretch/>
        </p:blipFill>
        <p:spPr>
          <a:xfrm>
            <a:off x="6000840" y="3357720"/>
            <a:ext cx="3000240" cy="3286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5" descr="Вслед за Киевом баррикады появились во Львове и Ровно"/>
          <p:cNvPicPr/>
          <p:nvPr/>
        </p:nvPicPr>
        <p:blipFill>
          <a:blip r:embed="rId4"/>
          <a:stretch/>
        </p:blipFill>
        <p:spPr>
          <a:xfrm>
            <a:off x="1357200" y="3500280"/>
            <a:ext cx="4500720" cy="31435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6"/>
          <p:cNvSpPr/>
          <p:nvPr/>
        </p:nvSpPr>
        <p:spPr>
          <a:xfrm flipH="1">
            <a:off x="-720" y="2643120"/>
            <a:ext cx="2428920" cy="421488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ко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пиде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й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рор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ще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ряд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баст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н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оруж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олкнов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государ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национ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регион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3357720" y="0"/>
            <a:ext cx="3143160" cy="620640"/>
          </a:xfrm>
          <a:prstGeom prst="rect">
            <a:avLst/>
          </a:prstGeom>
          <a:solidFill>
            <a:srgbClr val="a5b59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43040" y="428760"/>
            <a:ext cx="840096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Общие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людские потери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, возникшие в ЧС, подразделяются на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безвозвратные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санитарные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тери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Безвозвратные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тери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юди, погибшие в момент возникновения ЧС, умершие до поступления на первый этап медицинской эвакуации (в медицинское учреждение) и пропавшие без вести.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99"/>
                </a:solidFill>
                <a:latin typeface="Constantia"/>
              </a:rPr>
              <a:t>Санитарные</a:t>
            </a:r>
            <a:r>
              <a:rPr b="1" i="1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тери</a:t>
            </a:r>
            <a:r>
              <a:rPr b="0" i="1" lang="ru-RU" sz="2800" spc="-1" strike="noStrike">
                <a:solidFill>
                  <a:srgbClr val="ffffff"/>
                </a:solidFill>
                <a:latin typeface="Constanti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раженные (оставшиеся в живых) и заболевшие при возникновении ЧС или в результате ЧС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1609560" y="493560"/>
            <a:ext cx="7375680" cy="9446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071440" y="1928520"/>
            <a:ext cx="67150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6f6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8e58b6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Это распределение пострадавших и больных на группы, исходя из нуждаемости в первоочередных и  однородных мероприятиях (лечебных, профилактических, эвакуационных)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6" descr="g0120325"/>
          <p:cNvPicPr/>
          <p:nvPr/>
        </p:nvPicPr>
        <p:blipFill>
          <a:blip r:embed="rId2"/>
          <a:stretch/>
        </p:blipFill>
        <p:spPr>
          <a:xfrm>
            <a:off x="500040" y="2786040"/>
            <a:ext cx="3571920" cy="3929040"/>
          </a:xfrm>
          <a:prstGeom prst="rect">
            <a:avLst/>
          </a:prstGeom>
          <a:ln w="0">
            <a:noFill/>
          </a:ln>
        </p:spPr>
      </p:pic>
      <p:sp>
        <p:nvSpPr>
          <p:cNvPr id="218" name="Номер слайда 6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6464D-8DAA-44B2-85B4-C70005C32DA5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582040" cy="12258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2"/>
          <p:cNvSpPr/>
          <p:nvPr/>
        </p:nvSpPr>
        <p:spPr>
          <a:xfrm>
            <a:off x="142920" y="1643040"/>
            <a:ext cx="228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адавшие, нуждающиеся в оказании МП в экстрен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е при состояниях, представляющих угрозу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3"/>
          <p:cNvSpPr/>
          <p:nvPr/>
        </p:nvSpPr>
        <p:spPr>
          <a:xfrm>
            <a:off x="2214720" y="1643040"/>
            <a:ext cx="2214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адавшие, нуждающиеся в оказании МП в неотложной форме при состояниях без явных признаков угрозы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4429080" y="1643040"/>
            <a:ext cx="2357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традавшие, нуждающиеся в плановой МП при состояниях, не требующих экстренной и неотложной МП и отсрочка оказания которой на определенное время не повлечет за собой угрозу жи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6715080" y="1643040"/>
            <a:ext cx="214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гонирующие, нуждающиеся в оказании паллиативной МП (облегчении тяжелых проявлений пораж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214200" y="1714680"/>
            <a:ext cx="200052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Прямоугольник 11"/>
          <p:cNvSpPr/>
          <p:nvPr/>
        </p:nvSpPr>
        <p:spPr>
          <a:xfrm>
            <a:off x="2214720" y="1714680"/>
            <a:ext cx="221436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4429080" y="1714680"/>
            <a:ext cx="228600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6715080" y="1714680"/>
            <a:ext cx="2214720" cy="4090680"/>
          </a:xfrm>
          <a:prstGeom prst="rect">
            <a:avLst/>
          </a:prstGeom>
          <a:noFill/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971640" y="134136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16"/>
          <p:cNvSpPr/>
          <p:nvPr/>
        </p:nvSpPr>
        <p:spPr>
          <a:xfrm>
            <a:off x="2987640" y="1341360"/>
            <a:ext cx="9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18"/>
          <p:cNvSpPr/>
          <p:nvPr/>
        </p:nvSpPr>
        <p:spPr>
          <a:xfrm>
            <a:off x="5286240" y="128592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20"/>
          <p:cNvSpPr/>
          <p:nvPr/>
        </p:nvSpPr>
        <p:spPr>
          <a:xfrm>
            <a:off x="7358040" y="12859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3:48:26Z</dcterms:created>
  <dc:creator>АЛЕКСАНДР</dc:creator>
  <dc:description/>
  <dc:language>en-US</dc:language>
  <cp:lastModifiedBy>Виалет</cp:lastModifiedBy>
  <dcterms:modified xsi:type="dcterms:W3CDTF">2017-01-14T17:04:49Z</dcterms:modified>
  <cp:revision>500</cp:revision>
  <dc:subject/>
  <dc:title>Слайд 1</dc:title>
</cp:coreProperties>
</file>