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77A1-1F42-4063-8715-3E5B60B8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BB6E-45E5-43E0-9343-6BEC2207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7223-05AB-463F-B729-BE7E3B1D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E760-E11F-4612-9404-D17BF902F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3FEB-BE1C-45A5-8B84-5A1509A2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4295-E747-4271-B6BA-5E2329ED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A8E5-F1E4-4C56-BCF7-55E2410E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076F-2915-48C1-BECC-7D9E38F7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EF8B-3EF2-4BF2-BD32-1DA59069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E80C-5D33-4D3D-86E9-01C923E9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BFE2-A18A-4980-A44D-3A1F2991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CBAA-4AC9-4F45-926B-18D383FD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6B3F-6345-4EB7-82EC-3C43769628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2"/>
          <a:stretch/>
        </p:blipFill>
        <p:spPr>
          <a:xfrm>
            <a:off x="706320" y="5126040"/>
            <a:ext cx="8004240" cy="1652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643120" y="4868640"/>
            <a:ext cx="6321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готовила: учитель начальных классов Чернышова Ю.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Этапы работы методом проект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2920" y="1214280"/>
            <a:ext cx="88581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тивацион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учитель: заявляет общий замысел, создает положительный мотивационный настрой; ученики: обсуждают, предлагают собственные идеи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ирующ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одготовительный (определяются тема и цели проекта, формулируются задачи, вырабатывается план действий, устанавливаются критерии оценки результата и процесса, согласовываются способы совместной деятельности сначала с максимальной помощью учителя, позднее с нарастанием ученической самостоятельности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ационно-операцион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ученики: собирают материал, работают с литературой и другими источниками, непосредственно выполняют проект; учитель: наблюдает, координирует, поддерживает, сам является информационным источнико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флексивно-оценоч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ученики: представляют проекты, участвуют в коллективном обсуждении и содержательной оценке результатов и процесса работы, осуществляют устную и письменную самооценку, учитель выступает участником коллективной оценочной деятельности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Целеполагание: педагог помогает ребенку выбрать наиболее актуальную и посильную для него задачу на определенный отрезок времен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азработка проекта – план деятельности по достижению цели: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 кому обратиться за помощью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 каких источниках можно найти информацию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акие предметы использовать (принадлежности, оборудование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 какими предметами научиться работать для достижения цели;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ыполнение проекта – практическая часть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дведение итогов – определение задач для новых проекто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тапы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лассификация про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составу участников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целевой установк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ематик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срокам реал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ипология про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Содержимое 4" descr=""/>
          <p:cNvPicPr/>
          <p:nvPr/>
        </p:nvPicPr>
        <p:blipFill>
          <a:blip r:embed="rId1"/>
          <a:stretch/>
        </p:blipFill>
        <p:spPr>
          <a:xfrm>
            <a:off x="85680" y="1279440"/>
            <a:ext cx="89298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и развити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чности ребен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еспечение психологического благополучия и здоровья дет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познавательных способносте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творческого воображ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творческого мышл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коммуникативных навы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и исследовательской деятельнос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560" y="1285560"/>
            <a:ext cx="8543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ладшем возрасте начальной школы (1 – 2 классы) эт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хождение детей в проблемную игровую ситуацию (ведущая роль учител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ктивизация желания искать пути разрешения проблемной ситуации (вместе с учителем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35892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начальных предпосылок исследовательской деятельности (практические опыт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и исследовательской деятельнос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2920" y="1285560"/>
            <a:ext cx="88581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олее старшем возрасте начальной школы (3 - 4 классы) – э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предпосылок поисковой деятельности, интеллектуальной инициатив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умения определять возможные методы решения проблемы с помощью взрослого, а затем и самостоятельн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умения применять данные методы, способствующие решению поставленной задачи, с использованием различных вариант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желания пользоваться специальной терминологией, ведение конструктивной беседы в процессе совместной исследователь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2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ятельность на этапах проек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14200" y="1357200"/>
          <a:ext cx="8472600" cy="5141880"/>
        </p:xfrm>
        <a:graphic>
          <a:graphicData uri="http://schemas.openxmlformats.org/drawingml/2006/table">
            <a:tbl>
              <a:tblPr/>
              <a:tblGrid>
                <a:gridCol w="928800"/>
                <a:gridCol w="4214880"/>
                <a:gridCol w="3328920"/>
              </a:tblGrid>
              <a:tr h="38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 педаг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ь уче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ирует проблему (цель и конечный продукт проекта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водит в игровую (сюжетную) ситуаци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улирует задачу (нежестко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хождение в проблем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живание в игровую ситуацию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ятие задач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полнение задач проек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динение детей в рабочие групп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гает в решении задач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гает спланировать деятельно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ует деятельнос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ческая помощь (по необходимост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ределение амплу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ние специфических знаний, умений, навык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яет и контролирует осуществление проект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ка продукта деятельности к презент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ка к презентации. Презен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ставление (зрителям или экспертам) продукта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13840" y="1600200"/>
            <a:ext cx="8472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лицина Н.С., Сенновская И.Б. Проектный метод. Пособие для учителя. М., 2006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.А. Колесникова, М.П. Горчакова-Сибирская. Педагогическое проектирование. М.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«… Проектное обучение поощряет и усиливает истинное учение со стороны учеников, расширяет сферу субъективности в процессе самоопределения, творчества и конкретного участия …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                        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Bookman Old Style"/>
              </a:rPr>
              <a:t>В. Гузее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82152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076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ирование ключевых компетенций учащихся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4200" y="1213920"/>
            <a:ext cx="8715600" cy="526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лючевые компетент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отовность к решению пробле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технологическая компетент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отовность к самообразован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отовность к использованию информационных ресурс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отовность к социальному воздействи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муникативная компетент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42920" y="142884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 проектного обу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условий для освоения новых типов деятельности в социокультурной среде, развитие умения адаптироваться к изменяющимся условиям жизни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 проект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это учебная деятельность, связанная с непрерывными пробами вне стен школы, в окружающей социальной действи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8"/>
          <p:cNvSpPr/>
          <p:nvPr/>
        </p:nvSpPr>
        <p:spPr>
          <a:xfrm>
            <a:off x="142920" y="142920"/>
            <a:ext cx="742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ни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  активный участник, субъект деятель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142920" y="1237320"/>
            <a:ext cx="8786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  специально организованный учителем и самостоятельно выполняемый учащимися комплекс действий по разрешению значимой для учащегося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 проектов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 технология организации образовательных ситуаций, в которых учащийся ставит и разрешает собственные проблемы, и технология сопровождения самостоятельной деятельности учащегося по разрешению пробл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142920" y="142920"/>
            <a:ext cx="764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ектирование 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  самостоятельный вид деятельности, отличающийся от познавательн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357120" y="1657080"/>
            <a:ext cx="8501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учащих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 –  конкретный продукт деятельности (информационной или осязаемо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учител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 –  изменение уровня сформированности ключевых компетентностей, которые демонстрирует учащийся в ходе проектн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214200" y="214200"/>
            <a:ext cx="75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зультаты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285840" y="1366200"/>
            <a:ext cx="8572320" cy="53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аны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дуктивности воображения, которое творит субъективную реальность и нормирует (программирует) действия по изменению того или иного объек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иле и свободе творчеств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огичности, последовательности совместной с другими людьми      креативной деятель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имуле к развитию социальной актив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моциональном обогащении своей жизни, связанном с ощущением способности к преобразованию действительност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можности подспудно получить наряду с предметным еще и педагогический результат в виде важных для жизни личностных приращ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142920" y="0"/>
            <a:ext cx="757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звивающие функции проектн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0" y="1451880"/>
            <a:ext cx="9001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8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нятия с включением проблемных ситуаций детского экспериментиров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мплексные блочно-тематические занят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нтеграц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частичная интеграция (одно из направлений программы интегрируется с другим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полная интеграция (один из разделов интегрируется со всеми разделами программ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 проектов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орма организации образовательного простран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 развития творческого познавательного мыш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-71280" y="-3276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Этапы перехода на проектный метод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214200" y="1306080"/>
            <a:ext cx="878688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основе изученных проблем детей поставка цели про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работка плана движения к цели (обсуждение плана движения к реализации проекта с родителям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влечение специалистов (библиотекарь, социальный педагог и др.) к осуществлению соответствующих разделов про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ление плана-схемы проек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бор, накопление матери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ение в план-схему проекта занятий, игр и других видов детской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ашние задания и задания для самостоятельного выполн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зентация проекта, открытое заня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214200" y="117360"/>
            <a:ext cx="742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мерный план работы учителя по подготовке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0:30:28Z</dcterms:created>
  <dc:creator>Любина Л.В.</dc:creator>
  <dc:description/>
  <dc:language>en-US</dc:language>
  <cp:lastModifiedBy>SamLab.ws</cp:lastModifiedBy>
  <dcterms:modified xsi:type="dcterms:W3CDTF">2009-11-08T14:34:39Z</dcterms:modified>
  <cp:revision>11</cp:revision>
  <dc:subject/>
  <dc:title>Метод проектов  в начальной школе</dc:title>
</cp:coreProperties>
</file>