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D51-C77C-428D-99EC-EDBC61D9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979-0FBF-4411-B578-E67CCE10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DFD-FDDC-4708-8265-F27409E5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E25-3B11-4D1E-BE92-2A5C7F16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436-D25B-45B6-874A-509E5D79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39A-91E6-427F-8435-AB8AE8C0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809-2022-4D0A-A6FD-0B9D1632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F4C-8142-4BEA-AABC-7542E4B1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41C-3601-44E2-BEB9-D2E9FBC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F63-281C-4ACB-A164-A02A1F22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8FF-8141-40E4-BED6-5CC4ECB4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164-D316-401C-A77F-ABDCCB23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210C-500A-4800-AA92-B29A5A1C8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706320" y="5126040"/>
            <a:ext cx="8004240" cy="1652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643120" y="4868640"/>
            <a:ext cx="6321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ила: учитель начальных классов Чернышова Ю.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работы методом проек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920" y="1214280"/>
            <a:ext cx="885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читель: заявляет общий замысел, создает положительный мотивационный настрой; ученики: обсуждают, предлагают собственные иде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ющ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дготовительный (определяются тема и цели проекта, формулируются задачи, вырабатывается план действий, устанавливаются критерии оценки результата и процесса, согласовываются способы совместной деятельности сначала с максимальной помощью учителя, позднее с нарастанием ученической самостоятельност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опер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ченики: собирают материал, работают с литературой и другими источниками, непосредственно выполняют проект; учитель: наблюдает, координирует, поддерживает, сам является информационным источнико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вно-оценоч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ченики: представляют проекты, участвуют в коллективном обсуждении и содержательной оценке результатов и процесса работы, осуществляют устную и письменную самооценку, учитель выступает участником коллективной оценочной деятельнос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елеполагание: педагог помогает ребенку выбрать наиболее актуальную и посильную для него задачу на определенный отрезок времен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работка проекта – план деятельности по достижению цели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 кому обратиться за помощью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каких источниках можно найти информацию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акие предметы использовать (принадлежности, оборудование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 какими предметами научиться работать для достижения цели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ение проекта – практическая часть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дведение итогов – определение задач для новых проек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ификац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оставу участник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целевой установк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матик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рокам ре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иполог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4" descr=""/>
          <p:cNvPicPr/>
          <p:nvPr/>
        </p:nvPicPr>
        <p:blipFill>
          <a:blip r:embed="rId1"/>
          <a:stretch/>
        </p:blipFill>
        <p:spPr>
          <a:xfrm>
            <a:off x="85680" y="1279440"/>
            <a:ext cx="89298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развит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чности ребен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е психологического благополучия и здоровья де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познавательных способнос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воображ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мыш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исследовательской деятель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560" y="1285560"/>
            <a:ext cx="8543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ладшем возрасте начальной школы (1 – 2 классы)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ждение детей в проблемную игровую ситуацию (ведущая роль учител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ация желания искать пути разрешения проблемной ситуации (вместе с учителе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чальных предпосылок исследовательской деятельности (практические опы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исследовательской деятель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88581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ее старшем возрасте начальной школы (3 - 4 классы)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посылок поисковой деятельности, интеллектуальной инициатив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определять возможные методы решения проблемы с помощью взрослого, а затем и самостоятель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мения применять данные методы, способствующие решению поставленной задачи, с использованием различных вариан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ятельность на этапах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14200" y="1357200"/>
          <a:ext cx="8472600" cy="5141880"/>
        </p:xfrm>
        <a:graphic>
          <a:graphicData uri="http://schemas.openxmlformats.org/drawingml/2006/table">
            <a:tbl>
              <a:tblPr/>
              <a:tblGrid>
                <a:gridCol w="928800"/>
                <a:gridCol w="4214880"/>
                <a:gridCol w="3328920"/>
              </a:tblGrid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ует проблему (цель и конечный продукт проекта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ит в игровую (сюжетную) ситуац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ует задачу (нежестко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ждение в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живание в игровую ситуац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ение задач проек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ие детей в рабочие групп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ает в решении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ает спланировать деятель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ует деятель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помощь (по необходимост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 амплу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ецифических знаний, умений, навы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яет и контролирует осуществление проек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продукта деятельности к презент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к презентации. През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е (зрителям или экспертам) продукта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3840" y="1600200"/>
            <a:ext cx="8472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ицина Н.С., Сенновская И.Б. Проектный метод. Пособие для учителя. М., 200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А. Колесникова, М.П. Горчакова-Сибирская. Педагогическое проектирование. М.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«… Проектное обучение поощряет и усиливает истинное учение со стороны учеников, расширяет сферу субъективности в процессе самоопределения, творчества и конкретного участия 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В. Гузе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152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6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ключевых компетенций учащихся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4200" y="1213920"/>
            <a:ext cx="8715600" cy="526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ючевые компетент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ность к решению проб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ологическая компетент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ность к самообразов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ность к использованию информационных ресур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ность к социальному воздейств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муникативная компетен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2920" y="142884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проектного обу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освоения новых типов деятельности в социокультурной среде, развитие умения адаптироваться к изменяющимся условиям жизн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это учебная деятельность, связанная с непрерывными пробами вне стен школы, в окружающей социальной действи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142920" y="14292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  активный участник, субъект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1237320"/>
            <a:ext cx="878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  специально организованный учителем и самостоятельно выполняемый учащимися комплекс действий по разрешению значимой для учащегос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проектов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технология организации образовательных ситуаций, в которых учащийся ставит и разрешает собственные проблемы, и технология сопровождения самостоятельной деятельности учащегося по разрешению проб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142920" y="14292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рование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  самостоятельный вид деятельности, отличающийся от познаватель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57120" y="1657080"/>
            <a:ext cx="850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–  конкретный продукт деятельности (информационной или осязаем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уч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–  изменение уровня сформированности ключевых компетентностей, которые демонстрирует учащийся в ходе проект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14200" y="21420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ультаты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5840" y="1366200"/>
            <a:ext cx="857232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ы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ивности воображения, которое творит субъективную реальность и нормирует (программирует) действия по изменению того или иного объек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е и свободе творчест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ичности, последовательности совместной с другими людьми      креативн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имуле к развитию социальной актив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моциональном обогащении своей жизни, связанном с ощущением способности к преобразованию действи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можности подспудно получить наряду с предметным еще и педагогический результат в виде важных для жизни личностных прира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42920" y="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вающие функци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1451880"/>
            <a:ext cx="9001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ятия с включением проблемных ситуаций детского экспериментир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лексные блочно-тематические занят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грац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частичная интеграция (одно из направлений программы интегрируется с други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лная интеграция (один из разделов интегрируется со всеми разделами програм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проек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а организации образовательного простран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развития творческого познавательн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-71280" y="-3276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пы перехода на проектный метод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4200" y="1306080"/>
            <a:ext cx="87868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основе изученных проблем детей поставка цели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ка плана движения к цели (обсуждение плана движения к реализации проекта с родителя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лечение специалистов (библиотекарь, социальный педагог и др.) к осуществлению соответствующих разделов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ение плана-схемы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бор, накопление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ение в план-схему проекта занятий, игр и других видов дет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ие задания и задания для самостоятельного выпол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я проекта, открытое зан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14200" y="1173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ый план работы учителя по подготовке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0:30:28Z</dcterms:created>
  <dc:creator>Любина Л.В.</dc:creator>
  <dc:description/>
  <dc:language>en-US</dc:language>
  <cp:lastModifiedBy>SamLab.ws</cp:lastModifiedBy>
  <dcterms:modified xsi:type="dcterms:W3CDTF">2009-11-08T14:34:39Z</dcterms:modified>
  <cp:revision>11</cp:revision>
  <dc:subject/>
  <dc:title>Метод проектов  в начальной школе</dc:title>
</cp:coreProperties>
</file>