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5.jpeg" ContentType="image/jpeg"/>
  <Override PartName="/ppt/media/image14.jpeg" ContentType="image/jpeg"/>
  <Override PartName="/ppt/media/image13.jpeg" ContentType="image/jpeg"/>
  <Override PartName="/ppt/media/image1.png" ContentType="image/png"/>
  <Override PartName="/ppt/media/image3.png" ContentType="image/png"/>
  <Override PartName="/ppt/media/image16.jpeg" ContentType="image/jpeg"/>
  <Override PartName="/ppt/media/chimes.wav" ContentType="audio/x-wav"/>
  <Override PartName="/ppt/media/image6.jpeg" ContentType="image/jpeg"/>
  <Override PartName="/ppt/media/image9.jpeg" ContentType="image/jpeg"/>
  <Override PartName="/ppt/media/image11.jpeg" ContentType="image/jpeg"/>
  <Override PartName="/ppt/media/image2.png" ContentType="image/png"/>
  <Override PartName="/ppt/media/image4.jpeg" ContentType="image/jpeg"/>
  <Override PartName="/ppt/media/image5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2D14E-74C3-4908-81E1-B5559B9A7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CAEAC-5FA7-48C8-95A9-E9AC8AA2E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E88E5-AF30-433F-917D-30C6DEB01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7DB20-0C01-48C9-8FBD-1AAF9D8CF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BD845-0EF0-4BB3-92BB-87A78D068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200D2-75C9-4BC2-982E-79368C11E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B4097-3DA9-4ACC-AB4C-2A97E8BD0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70EA9-AD85-46A4-A7BB-688CC8851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65CC7-84CF-41B4-9D34-CE52C09E8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5953B-DEA2-48FC-86E9-CFA65655A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036EB-71F3-435A-BCC3-3F2E219D1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19C9F-4E36-4E3F-93DD-41DDD1A4D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8C68C-F311-44F2-B3CF-009DF0C0F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E2B5C-1EA4-4E2A-9E4A-D808E122D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52D63-4150-4FFB-BEF5-B7B5E26EA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F0181-5A36-4743-B372-D77DA9B7E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D7AEA-0AE4-4B25-837E-0A9642255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93E4F9-3F2A-4A90-B9D7-008FD95D3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165169-6A6C-4C3F-891F-23FEBDBF5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49BC1F-AEAF-4737-9F92-A80BF3A45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71A982-FCD8-435C-8DDE-EFBC2706E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FF2223-32C6-4CA6-8140-B622C3A0B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91415-681E-475A-8474-C1E21F540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E8D5FB-817D-4C2B-87D1-C57F70A1C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71DF4F-EA3C-4B03-8E7D-64BAE1AAB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164DCA-F13F-4AD3-B85E-57BCC00CF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C0CBEF-6925-405E-B08C-1C756044C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D9EC6A-7581-4866-84E4-7FFD6BD41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F2567D-DC5E-4A2D-B1C2-EA6AEF412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D4A917-F86A-4E71-889F-1DB9482EC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7F1815-208A-4A21-A523-D336FA051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6DDBEA-3069-4D8E-BC28-B26C4296A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2717C1-E9DD-4C39-98B9-31C0A839A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44385-6B44-4F6C-B0F3-FD0F9AC24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CCC205-1444-47A5-AE0C-AB321082C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6C0DE3-49FC-4135-8F51-B764EA5F9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EF7E98-CF51-4F09-B0FF-757BA66A3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442250-0530-4E17-8C83-B04012273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C0AE23-F1A6-4FB3-9294-F3CB2EE5F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D840F9-5B0E-4A1F-828E-DF5D4B5B5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A03469-EBBC-4F16-B483-05FDAA445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BCC299-C1EC-4651-A7D6-DEA13E0CF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531A6F-41D3-4E10-B7E8-AFEAE064E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42D0F9-C0C6-4207-86B8-BEAD43853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B8225-DC68-455A-9F90-B9B4CB613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BC55D8-51AB-4634-9C22-013862362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5FE1BA-737D-4A34-A52F-AAFEA09D3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0BA181-61C8-45D8-8A29-374D5B9BC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85E0FD-227D-4064-A96E-307B98C72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14C5ED-94C1-4920-9AC4-630715E81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03FB6F-098C-4C2D-8EE9-EEF085DE9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A96F8A-2CC9-4A09-9BFF-524374417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3531D0-7A09-4129-B57F-EED39FE52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16B483-5B6D-47B8-8069-74129EFF4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B870A1-EF40-4244-BBC9-24E291124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6E169-9C13-4C2E-9025-E5B1F46F0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AE2D48-2602-4432-AB46-41A51E4AA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F70ED-BB10-4557-9163-A99493382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B6648-BEFC-44E5-8C33-E3A8DA82C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30B41-0920-4C9E-8311-386D50A83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946B4-9E0D-49FC-A213-65ABEF3DFD3B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6A6B9-1FD0-4A63-919E-B595CA3A74C9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EA316-E713-4DCC-9E15-80542D945941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F827A-F6A1-45A0-8402-0FC80C0C6FC7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>
              <a:gd name="textAreaLeft" fmla="*/ 0 w 2324160"/>
              <a:gd name="textAreaRight" fmla="*/ 2305800 w 2324160"/>
              <a:gd name="textAreaTop" fmla="*/ 0 h 4343400"/>
              <a:gd name="textAreaBottom" fmla="*/ 4343760 h 4343400"/>
            </a:gdLst>
            <a:ahLst/>
            <a:rect l="textAreaLeft" t="textAreaTop" r="textAreaRight" b="textAreaBottom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lnTo>
                  <a:pt x="2260234" y="0"/>
                </a:lnTo>
                <a:arcTo wR="63866" hR="63866" stAng="-5400000" swAng="5400000"/>
                <a:lnTo>
                  <a:pt x="2324100" y="4343400"/>
                </a:lnTo>
                <a:lnTo>
                  <a:pt x="0" y="434340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002F1-A434-4D7D-BE8F-8C3C649508C8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22160" y="18208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ff8d3e"/>
                </a:solidFill>
                <a:latin typeface="Verdana"/>
              </a:rPr>
              <a:t>Проект«Мой  класс и моя школа»</a:t>
            </a:r>
            <a:endParaRPr b="1" lang="en-US" sz="45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857160" y="37148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9766f"/>
                </a:solidFill>
                <a:latin typeface="Verdana"/>
              </a:rPr>
              <a:t>МБОУ «Колпнянский лицей»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9766f"/>
                </a:solidFill>
                <a:latin typeface="Verdana"/>
              </a:rPr>
              <a:t>Ушаковский филиал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6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9766f"/>
                </a:solidFill>
                <a:latin typeface="Verdana"/>
              </a:rPr>
              <a:t>Подготовила: ученица 1 класса, Чеботова Ульяна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6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edge/>
    <p:sndAc>
      <p:stSnd>
        <p:snd r:embed="rId1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Очень любим мы опять на уроке рисовать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40" name="Содержимое 3" descr="SDC15478.JPG"/>
          <p:cNvPicPr/>
          <p:nvPr/>
        </p:nvPicPr>
        <p:blipFill>
          <a:blip r:embed="rId1"/>
          <a:stretch/>
        </p:blipFill>
        <p:spPr>
          <a:xfrm>
            <a:off x="1803240" y="530280"/>
            <a:ext cx="5583240" cy="4187880"/>
          </a:xfrm>
          <a:prstGeom prst="rect">
            <a:avLst/>
          </a:prstGeom>
          <a:ln w="0">
            <a:noFill/>
          </a:ln>
        </p:spPr>
      </p:pic>
    </p:spTree>
  </p:cSld>
  <p:transition spd="slow">
    <p:wedge/>
    <p:sndAc>
      <p:stSnd>
        <p:snd r:embed="rId2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Ульяна- наша Снежная королева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42" name="Содержимое 3" descr="SDC15485.JPG"/>
          <p:cNvPicPr/>
          <p:nvPr/>
        </p:nvPicPr>
        <p:blipFill>
          <a:blip r:embed="rId1"/>
          <a:stretch/>
        </p:blipFill>
        <p:spPr>
          <a:xfrm>
            <a:off x="1803240" y="530280"/>
            <a:ext cx="5583240" cy="4187880"/>
          </a:xfrm>
          <a:prstGeom prst="rect">
            <a:avLst/>
          </a:prstGeom>
          <a:ln w="0">
            <a:noFill/>
          </a:ln>
        </p:spPr>
      </p:pic>
    </p:spTree>
  </p:cSld>
  <p:transition spd="slow">
    <p:wedge/>
    <p:sndAc>
      <p:stSnd>
        <p:snd r:embed="rId2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В лесу родилась ёлочка ….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44" name="Содержимое 3" descr="SDC15493.JPG"/>
          <p:cNvPicPr/>
          <p:nvPr/>
        </p:nvPicPr>
        <p:blipFill>
          <a:blip r:embed="rId1"/>
          <a:stretch/>
        </p:blipFill>
        <p:spPr>
          <a:xfrm>
            <a:off x="1803240" y="530280"/>
            <a:ext cx="5583240" cy="4187880"/>
          </a:xfrm>
          <a:prstGeom prst="rect">
            <a:avLst/>
          </a:prstGeom>
          <a:ln w="0">
            <a:noFill/>
          </a:ln>
        </p:spPr>
      </p:pic>
    </p:spTree>
  </p:cSld>
  <p:transition spd="slow">
    <p:wedge/>
    <p:sndAc>
      <p:stSnd>
        <p:snd r:embed="rId2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Мы умеем не только учиться , но и повеселиться!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46" name="Содержимое 3" descr="SDC15500.JPG"/>
          <p:cNvPicPr/>
          <p:nvPr/>
        </p:nvPicPr>
        <p:blipFill>
          <a:blip r:embed="rId1"/>
          <a:stretch/>
        </p:blipFill>
        <p:spPr>
          <a:xfrm>
            <a:off x="1803240" y="530280"/>
            <a:ext cx="5583240" cy="4187880"/>
          </a:xfrm>
          <a:prstGeom prst="rect">
            <a:avLst/>
          </a:prstGeom>
          <a:ln w="0">
            <a:noFill/>
          </a:ln>
        </p:spPr>
      </p:pic>
    </p:spTree>
  </p:cSld>
  <p:transition spd="slow">
    <p:wedge/>
    <p:sndAc>
      <p:stSnd>
        <p:snd r:embed="rId2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   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 fontScale="91000"/>
          </a:bodyPr>
          <a:p>
            <a:pPr marL="240840" indent="-240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  <a:p>
            <a:pPr marL="240840" indent="-24084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ffff00"/>
                </a:solidFill>
                <a:latin typeface="Cambria"/>
              </a:rPr>
              <a:t>СПАСИБО ЗА                               ВНИМАНИЕ!!!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8d3e"/>
                </a:solidFill>
                <a:latin typeface="Verdana"/>
              </a:rPr>
              <a:t>Все нам интересно</a:t>
            </a:r>
            <a:br>
              <a:rPr sz="1600"/>
            </a:br>
            <a:r>
              <a:rPr b="1" lang="ru-RU" sz="1600" spc="-1" strike="noStrike">
                <a:solidFill>
                  <a:srgbClr val="ff8d3e"/>
                </a:solidFill>
                <a:latin typeface="Verdana"/>
              </a:rPr>
              <a:t>И некогда скучать!</a:t>
            </a:r>
            <a:br>
              <a:rPr sz="1600"/>
            </a:br>
            <a:r>
              <a:rPr b="1" lang="ru-RU" sz="1600" spc="-1" strike="noStrike">
                <a:solidFill>
                  <a:srgbClr val="ff8d3e"/>
                </a:solidFill>
                <a:latin typeface="Verdana"/>
              </a:rPr>
              <a:t> А ветер новых знаний</a:t>
            </a:r>
            <a:br>
              <a:rPr sz="1600"/>
            </a:br>
            <a:r>
              <a:rPr b="1" lang="ru-RU" sz="1600" spc="-1" strike="noStrike">
                <a:solidFill>
                  <a:srgbClr val="ff8d3e"/>
                </a:solidFill>
                <a:latin typeface="Verdana"/>
              </a:rPr>
              <a:t> Зовет нас в путь опять!</a:t>
            </a:r>
            <a:endParaRPr b="1" lang="en-US" sz="1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23" name="Содержимое 3" descr="SDC15266.JPG"/>
          <p:cNvPicPr/>
          <p:nvPr/>
        </p:nvPicPr>
        <p:blipFill>
          <a:blip r:embed="rId1"/>
          <a:stretch/>
        </p:blipFill>
        <p:spPr>
          <a:xfrm>
            <a:off x="1803240" y="530280"/>
            <a:ext cx="5583240" cy="4187880"/>
          </a:xfrm>
          <a:prstGeom prst="rect">
            <a:avLst/>
          </a:prstGeom>
          <a:ln w="0">
            <a:noFill/>
          </a:ln>
        </p:spPr>
      </p:pic>
    </p:spTree>
  </p:cSld>
  <p:transition spd="slow">
    <p:wedge/>
    <p:sndAc>
      <p:stSnd>
        <p:snd r:embed="rId2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Наши мамы вместе с нами …</a:t>
            </a:r>
            <a:br>
              <a:rPr sz="3200"/>
            </a:b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первый раз в 1 класс !!!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25" name="Содержимое 3" descr="SDC15267.JPG"/>
          <p:cNvPicPr/>
          <p:nvPr/>
        </p:nvPicPr>
        <p:blipFill>
          <a:blip r:embed="rId1"/>
          <a:stretch/>
        </p:blipFill>
        <p:spPr>
          <a:xfrm>
            <a:off x="1803240" y="530280"/>
            <a:ext cx="5583240" cy="4187880"/>
          </a:xfrm>
          <a:prstGeom prst="rect">
            <a:avLst/>
          </a:prstGeom>
          <a:ln w="0">
            <a:noFill/>
          </a:ln>
        </p:spPr>
      </p:pic>
    </p:spTree>
  </p:cSld>
  <p:transition spd="slow">
    <p:wedge/>
    <p:sndAc>
      <p:stSnd>
        <p:snd r:embed="rId2" name="chimes.wav"/>
      </p:stSnd>
    </p:sndAc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3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3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Мы уже большие сами, поздравлять стихами стали!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27" name="Содержимое 3" descr="SDC15281.JPG"/>
          <p:cNvPicPr/>
          <p:nvPr/>
        </p:nvPicPr>
        <p:blipFill>
          <a:blip r:embed="rId1"/>
          <a:stretch/>
        </p:blipFill>
        <p:spPr>
          <a:xfrm>
            <a:off x="1803240" y="530280"/>
            <a:ext cx="5583240" cy="4187880"/>
          </a:xfrm>
          <a:prstGeom prst="rect">
            <a:avLst/>
          </a:prstGeom>
          <a:ln w="0">
            <a:noFill/>
          </a:ln>
        </p:spPr>
      </p:pic>
    </p:spTree>
  </p:cSld>
  <p:transition spd="slow">
    <p:wedge/>
    <p:sndAc>
      <p:stSnd>
        <p:snd r:embed="rId2" name="chimes.wav"/>
      </p:stSnd>
    </p:sndAc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" dur="3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3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3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Очень нравятся нам праздники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29" name="Содержимое 3" descr="SDC15280.JPG"/>
          <p:cNvPicPr/>
          <p:nvPr/>
        </p:nvPicPr>
        <p:blipFill>
          <a:blip r:embed="rId1"/>
          <a:stretch/>
        </p:blipFill>
        <p:spPr>
          <a:xfrm>
            <a:off x="1803240" y="530280"/>
            <a:ext cx="5583240" cy="4187880"/>
          </a:xfrm>
          <a:prstGeom prst="rect">
            <a:avLst/>
          </a:prstGeom>
          <a:ln w="0">
            <a:noFill/>
          </a:ln>
        </p:spPr>
      </p:pic>
    </p:spTree>
  </p:cSld>
  <p:transition spd="slow">
    <p:wedge/>
    <p:sndAc>
      <p:stSnd>
        <p:snd r:embed="rId2" name="chimes.wav"/>
      </p:stSnd>
    </p:sndAc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8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3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3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Эти книги приносят нам знания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31" name="Содержимое 3" descr="SDC15455.JPG"/>
          <p:cNvPicPr/>
          <p:nvPr/>
        </p:nvPicPr>
        <p:blipFill>
          <a:blip r:embed="rId1"/>
          <a:stretch/>
        </p:blipFill>
        <p:spPr>
          <a:xfrm>
            <a:off x="1803240" y="530280"/>
            <a:ext cx="5583240" cy="41878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0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3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3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Буратино потянулся…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33" name="Содержимое 3" descr="SDC15471.JPG"/>
          <p:cNvPicPr/>
          <p:nvPr/>
        </p:nvPicPr>
        <p:blipFill>
          <a:blip r:embed="rId1"/>
          <a:stretch/>
        </p:blipFill>
        <p:spPr>
          <a:xfrm>
            <a:off x="571680" y="571680"/>
            <a:ext cx="3857400" cy="3714480"/>
          </a:xfrm>
          <a:prstGeom prst="rect">
            <a:avLst/>
          </a:prstGeom>
          <a:ln w="0">
            <a:noFill/>
          </a:ln>
        </p:spPr>
      </p:pic>
      <p:pic>
        <p:nvPicPr>
          <p:cNvPr id="234" name="Рисунок 4" descr="SDC15472.JPG"/>
          <p:cNvPicPr/>
          <p:nvPr/>
        </p:nvPicPr>
        <p:blipFill>
          <a:blip r:embed="rId2"/>
          <a:stretch/>
        </p:blipFill>
        <p:spPr>
          <a:xfrm>
            <a:off x="4640400" y="428760"/>
            <a:ext cx="3720960" cy="3786120"/>
          </a:xfrm>
          <a:prstGeom prst="rect">
            <a:avLst/>
          </a:prstGeom>
          <a:ln w="0">
            <a:noFill/>
          </a:ln>
        </p:spPr>
      </p:pic>
    </p:spTree>
  </p:cSld>
  <p:transition>
    <p:wedge/>
    <p:sndAc>
      <p:stSnd>
        <p:snd r:embed="rId3" name="chimes.wav"/>
      </p:stSnd>
    </p:sndAc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3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3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3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3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Мы очень любим занятия на компьютере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36" name="Содержимое 3" descr="SDC15475.JPG"/>
          <p:cNvPicPr/>
          <p:nvPr/>
        </p:nvPicPr>
        <p:blipFill>
          <a:blip r:embed="rId1"/>
          <a:stretch/>
        </p:blipFill>
        <p:spPr>
          <a:xfrm>
            <a:off x="1803240" y="530280"/>
            <a:ext cx="5583240" cy="4187880"/>
          </a:xfrm>
          <a:prstGeom prst="rect">
            <a:avLst/>
          </a:prstGeom>
          <a:ln w="0">
            <a:noFill/>
          </a:ln>
        </p:spPr>
      </p:pic>
    </p:spTree>
  </p:cSld>
  <p:transition spd="slow">
    <p:wedge/>
    <p:sndAc>
      <p:stSnd>
        <p:snd r:embed="rId2" name="chimes.wav"/>
      </p:stSnd>
    </p:sndAc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6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3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3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Знания мы оценим быстро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38" name="Содержимое 3" descr="SDC15476.JPG"/>
          <p:cNvPicPr/>
          <p:nvPr/>
        </p:nvPicPr>
        <p:blipFill>
          <a:blip r:embed="rId1"/>
          <a:stretch/>
        </p:blipFill>
        <p:spPr>
          <a:xfrm>
            <a:off x="1803240" y="530280"/>
            <a:ext cx="5583240" cy="4187880"/>
          </a:xfrm>
          <a:prstGeom prst="rect">
            <a:avLst/>
          </a:prstGeom>
          <a:ln w="0">
            <a:noFill/>
          </a:ln>
        </p:spPr>
      </p:pic>
    </p:spTree>
  </p:cSld>
  <p:transition spd="slow">
    <p:wedge/>
    <p:sndAc>
      <p:stSnd>
        <p:snd r:embed="rId2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6T11:56:06Z</dcterms:created>
  <dc:creator>Admin</dc:creator>
  <dc:description/>
  <dc:language>en-US</dc:language>
  <cp:lastModifiedBy>Admin</cp:lastModifiedBy>
  <dcterms:modified xsi:type="dcterms:W3CDTF">2017-01-14T20:57:21Z</dcterms:modified>
  <cp:revision>9</cp:revision>
  <dc:subject/>
  <dc:title>Слайд 1</dc:title>
</cp:coreProperties>
</file>