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E6A-BAA2-4CD3-BF40-F18BD989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551-EB1F-42F8-910A-DA719CD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7EC-066B-4424-9A09-219B0C7F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9BA-09AC-4FE4-A10A-F60ED99D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BAB4-6108-4451-B7FA-BBA56D34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3B7-ACC9-44D2-B8F6-8229312C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4D3-8EBB-456B-8DEC-BDC9A225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288E-3273-4A07-B0AC-2F8ED535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0D10-60DB-4978-BD31-373345A7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6B36-A163-4A05-9769-1A377360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F4C-CAA8-4DB3-81CA-A65EF1DA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6B4-9478-4FFF-BAF7-D2E28CD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B790-8A03-477E-9630-7CA3606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A49-9085-40DE-AF7E-4A9982EE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CC9C-8A49-40C5-98C1-954D2722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FFBF-73A8-4BD7-9CDA-8A07BB93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AB39-AE22-416E-AC4F-E0B54E0E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75B4-E241-46B1-A8B4-EA69650F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AF76-3D70-4E49-8B5C-91CFF568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E7D7-411C-4AAB-A55B-DD4C64AA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4BBD-E75C-42AB-954C-26BBFC9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8043-F0C2-4E1A-90E9-3B8C054A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7C0-1260-444A-BCD4-249241C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5765-46ED-4849-84F7-DBED9E3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5433-7897-4F7D-8C68-C66DEE62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9EDD7-93A8-4B94-B639-075656C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2B04F-202B-45AA-A724-A48D7E5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A222-3A8E-4B0D-A5CC-CDFB3AB1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B658-837D-4955-B3B0-24DDE504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847D-8EEC-449C-BA27-4A223733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B6E4-DB34-4568-B3E5-F6E67191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6AD8-3487-498B-8517-79E2BADA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0B17-9F3B-41B5-97F1-DC0A367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148-4085-4EC5-B2CC-BCE7A797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05FE-0134-4A5E-991C-84BB40D9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5EC7-9CD1-48E3-98C9-0367C0BD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FB42-D67D-4953-A1CD-2E6EBA80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7170B-AA95-47AE-AA60-C8F5EDD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001E-4F77-42B6-8A54-CD2D96F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BFAD-FF97-4767-9485-CCDC0AA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85FB-2607-4DAC-8410-C75A6440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A7D8-5B7A-4FED-AEE1-85338A14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304B-65C6-4BF7-8F0C-EDE33532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E4AC-8D64-4D9C-9B9E-10CE4E09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7BD-A0A9-4FCB-8AB0-398E06E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3FF5-3D23-419A-813B-7330513E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68F9-6829-4CC2-829E-087AEE8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EE4D-E5B4-4B1B-A8B6-3EDAB2D9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9368C-5235-4490-891F-78058B8A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B123-9C3B-4311-89D3-720C5CC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83E4F-C1BE-4CD0-84E5-9464517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63A7-790F-479A-9F71-917D3C90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0046-41AC-4B33-BB99-BA39E9D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847E-6AC6-4D1F-AF5C-BFF44B44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C385-D0FA-4B25-9413-8174363E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D37-7C67-47BE-8331-07838A03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1EEE-5744-479E-A188-06198EB3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12B-68AA-4D3B-92BC-9470045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D24-C52B-4C63-8FD7-B97D397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E1F-8EB9-4EF5-A052-1684A2A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D85C-1C6F-44D8-9A2F-FD99AE1B52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4AA3-7F8F-4B30-A75B-2BDD92E7B9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4443-ED0C-48C2-B57D-1CF7C67B7FA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06B-462B-4677-AB87-25CD0C9FD41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A482-2608-48CC-853D-54AF04C8237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роект«Мой  класс и моя школа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57160" y="3714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МБОУ «Колпнянский лицей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шаковский филиа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Подготовила: ученица 1 класса, Чеботова Улья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чень любим мы опять на уроке рисова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3" descr="SDC15478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льяна- наша Снежная короле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SDC15485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 лесу родилась ёлочка 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Содержимое 3" descr="SDC15493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умеем не только учиться , но и повеселиться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Содержимое 3" descr="SDC15500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Cambria"/>
              </a:rPr>
              <a:t>СПАСИБО ЗА                               ВНИМАНИЕ!!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Все нам интересно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И некогда скучать!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 А ветер новых знаний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 Зовет нас в путь опять!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Содержимое 3" descr="SDC15266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ши мамы вместе с нами …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ервый раз в 1 класс !!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Содержимое 3" descr="SDC15267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уже большие сами, поздравлять стихами стал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SDC15281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чень нравятся нам праздн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Содержимое 3" descr="SDC15280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ти книги приносят нам зна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SDC15455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уратино потянулся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Содержимое 3" descr="SDC15471.JPG"/>
          <p:cNvPicPr/>
          <p:nvPr/>
        </p:nvPicPr>
        <p:blipFill>
          <a:blip r:embed="rId1"/>
          <a:stretch/>
        </p:blipFill>
        <p:spPr>
          <a:xfrm>
            <a:off x="571680" y="571680"/>
            <a:ext cx="3857400" cy="3714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SDC15472.JPG"/>
          <p:cNvPicPr/>
          <p:nvPr/>
        </p:nvPicPr>
        <p:blipFill>
          <a:blip r:embed="rId2"/>
          <a:stretch/>
        </p:blipFill>
        <p:spPr>
          <a:xfrm>
            <a:off x="4640400" y="428760"/>
            <a:ext cx="3720960" cy="37861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очень любим занятия на компьютер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SDC15475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нания мы оценим быстр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SDC15476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56:06Z</dcterms:created>
  <dc:creator>Admin</dc:creator>
  <dc:description/>
  <dc:language>en-US</dc:language>
  <cp:lastModifiedBy>Admin</cp:lastModifiedBy>
  <dcterms:modified xsi:type="dcterms:W3CDTF">2017-01-14T20:57:21Z</dcterms:modified>
  <cp:revision>9</cp:revision>
  <dc:subject/>
  <dc:title>Слайд 1</dc:title>
</cp:coreProperties>
</file>