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6B5-2ADA-4D2A-B231-39B05480D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36E-BDFB-4F1B-8C3B-96B5CD4D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496-C5FF-4C31-980A-B2373E7C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4A5-63E3-4DE1-9116-A755B787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43F0-C5D9-41F3-AF90-9A886410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0E52-6FA0-4281-B08E-E45C8D8E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4DF-B628-4B8A-9FB7-CDDB1DD5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563B-72BC-42B8-8B23-1077733E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5F55-C67E-44D8-8C98-1E74F535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B11-1FF7-42DF-886C-0C2929F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C6E-30A5-4831-AF04-71224E35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2B99-948A-4705-8A86-2E2FDB33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D0E3-BEDA-472D-AA9D-715ADA2AB8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ru.wikipedia.org/wiki" TargetMode="External"/><Relationship Id="rId2" Type="http://schemas.openxmlformats.org/officeDocument/2006/relationships/hyperlink" Target="http://www.narcom.ru/ideas/common/15.html" TargetMode="External"/><Relationship Id="rId3" Type="http://schemas.openxmlformats.org/officeDocument/2006/relationships/hyperlink" Target="http://www.psyline.ru/" TargetMode="External"/><Relationship Id="rId4" Type="http://schemas.openxmlformats.org/officeDocument/2006/relationships/hyperlink" Target="http://www.psyline.ru/" TargetMode="External"/><Relationship Id="rId5" Type="http://schemas.openxmlformats.org/officeDocument/2006/relationships/hyperlink" Target="http://www.iworld.ru/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283449694_inet_zavisimost.jpg"/>
          <p:cNvPicPr/>
          <p:nvPr/>
        </p:nvPicPr>
        <p:blipFill>
          <a:blip r:embed="rId1"/>
          <a:stretch/>
        </p:blipFill>
        <p:spPr>
          <a:xfrm>
            <a:off x="357120" y="3929040"/>
            <a:ext cx="2514600" cy="250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3840" y="1428480"/>
            <a:ext cx="8558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3152"/>
                </a:solidFill>
                <a:latin typeface="Comic Sans MS"/>
              </a:rPr>
              <a:t>Проблема Интернет- зависимости подрост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2840" y="4000680"/>
            <a:ext cx="5829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Автор: ученица 8 «а»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Кулакова По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Calibri"/>
              </a:rPr>
              <a:t>МОУ СОШ №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images.jpg"/>
          <p:cNvPicPr/>
          <p:nvPr/>
        </p:nvPicPr>
        <p:blipFill>
          <a:blip r:embed="rId1"/>
          <a:stretch/>
        </p:blipFill>
        <p:spPr>
          <a:xfrm>
            <a:off x="5214960" y="3643200"/>
            <a:ext cx="3529080" cy="26434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Comic Sans MS"/>
              </a:rPr>
              <a:t>Признаки интернет-зависим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428760" y="1143000"/>
            <a:ext cx="8286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Психологические симптом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Хорошее самочувствие или эйфория за компьюте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возможность остановитьс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величение количества времени, проводимого за компьюте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небрежение семьей и друзьям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щущения пустоты, депрессии, раздражения не за компьютер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ожь работодателям или членам семьи о своей деятельност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облемы с работой или учебой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alibri"/>
              </a:rPr>
              <a:t>Физические симптомы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болевание в области запясть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ухость в глаза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Головные боли по типу мигрен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Боли в спин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ерегулярное питание, пропуск приемов пищ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Пренебрежение личной гигиеной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сстройства сна, изменение режима сн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Почему именно подрост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57720" y="1285920"/>
            <a:ext cx="54720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- среда, которая позволяет подростку реализовать роли, которые в реальной жизни представляются для него затруднительным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ети подросток осуществляет самопрезентацию более свободно и раскованно, т. к. его роль анонимна в се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Рисунок 4" descr="Изображение 324.jpg"/>
          <p:cNvPicPr/>
          <p:nvPr/>
        </p:nvPicPr>
        <p:blipFill>
          <a:blip r:embed="rId1"/>
          <a:stretch/>
        </p:blipFill>
        <p:spPr>
          <a:xfrm>
            <a:off x="214200" y="1357200"/>
            <a:ext cx="318456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Comic Sans MS"/>
              </a:rPr>
              <a:t>Плюсы и минусы Интернета для подрост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Загнутый угол 2"/>
          <p:cNvSpPr/>
          <p:nvPr/>
        </p:nvSpPr>
        <p:spPr>
          <a:xfrm>
            <a:off x="714240" y="1285920"/>
            <a:ext cx="3857760" cy="5357880"/>
          </a:xfrm>
          <a:prstGeom prst="foldedCorner">
            <a:avLst>
              <a:gd name="adj" fmla="val 166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тие коммуникативных качеств; в сети можно найти дру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Общедоступность актуальной информ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озможность общения в реальном времен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тернет дает возможность многому научи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сточник знаний и помощник в учё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нутый угол 3"/>
          <p:cNvSpPr/>
          <p:nvPr/>
        </p:nvSpPr>
        <p:spPr>
          <a:xfrm>
            <a:off x="4857840" y="1285920"/>
            <a:ext cx="3857400" cy="5286240"/>
          </a:xfrm>
          <a:prstGeom prst="foldedCorner">
            <a:avLst>
              <a:gd name="adj" fmla="val 1666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тернет-зависимость сказывается на психике, здоровье, финан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Снижение трудоспособ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азвитие отчуждённости при реальном общ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Большой риск попасть под влияние  лиц с девиантным поведением:  это сектанты,  наркоманы, извращенцы и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учение неточной, а иногда и заведомо ложной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Результаты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исследовании приняло участие - 216 учащихся 5 - 8 классов, из н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компьютера - 2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доступа в Интернет - 4 уча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internet_zavisimost.jpg"/>
          <p:cNvPicPr/>
          <p:nvPr/>
        </p:nvPicPr>
        <p:blipFill>
          <a:blip r:embed="rId1"/>
          <a:stretch/>
        </p:blipFill>
        <p:spPr>
          <a:xfrm>
            <a:off x="2714760" y="4071960"/>
            <a:ext cx="309564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566640" y="281160"/>
            <a:ext cx="8010720" cy="501012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4"/>
          <p:cNvSpPr/>
          <p:nvPr/>
        </p:nvSpPr>
        <p:spPr>
          <a:xfrm>
            <a:off x="500040" y="528624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а   наличия  интернет-зависимости  у учащихся 5-8 классов МОУ СОШ № 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"/>
          <p:cNvPicPr/>
          <p:nvPr/>
        </p:nvPicPr>
        <p:blipFill>
          <a:blip r:embed="rId1"/>
          <a:stretch/>
        </p:blipFill>
        <p:spPr>
          <a:xfrm>
            <a:off x="133200" y="208080"/>
            <a:ext cx="8242560" cy="45399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4"/>
          <p:cNvSpPr/>
          <p:nvPr/>
        </p:nvSpPr>
        <p:spPr>
          <a:xfrm>
            <a:off x="571680" y="514368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аграмма процентного соотношения интернет-зависимых учащихся по клас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Comic Sans MS"/>
              </a:rPr>
              <a:t>Пути решения пробл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857160"/>
            <a:ext cx="850104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ь предел времени, которое можно проводить в Интерне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авлять себя время от времени несколько дней подряд не работать в Интерне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граммным образом заблокировать доступ к каким-то конкретным ресурсам Интернет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ь для себя правило ни под каким видом не обращаться к Интернету в течение рабочего дня (если только это не входит в рабочие обязанности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вести чувствительные для себя (однако без нанесения ущерба здоровью) санкции за несоблюдение такого рода правил и ограничен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агать на себя подобные санкции до тех пор, пока не восстановится способность выполнять данные самому себе обеща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ставлять себя вместо работы в Интернете заниматься чем-то другим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учиться извлекать из жизни другие наслаждения, способные заменить или превзойти удовольствие, получаемое при работе в Интерне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щаться за помощью всякий раз, когда собственных усилий оказывается недостаточн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бегать таких встреч и пребывания в таких местах, которые могли бы побудить вернуться к аддиктивному поведени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80438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712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нные исследования проанализированы и на основании данного исследования нами предлагаются следующие меры по  профилактики интернет –зависимости у подростков 5-8 классов МОУ СОШ №9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alibri"/>
              </a:rPr>
              <a:t>1)    Информировать учащихся, педагогов и родителей о выявленной проблем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а) провести классные часы на тему «Интернет-зависимость у подростков»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660066"/>
                </a:solidFill>
                <a:latin typeface="Calibri"/>
              </a:rPr>
              <a:t>б) организовать акцию в форме создания стен- газет от каждого класса 5- 8 паралл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60066"/>
                </a:solidFill>
                <a:latin typeface="Calibri"/>
              </a:rPr>
              <a:t>       </a:t>
            </a:r>
            <a:r>
              <a:rPr b="0" i="1" lang="ru-RU" sz="2000" spc="-1" strike="noStrike">
                <a:solidFill>
                  <a:srgbClr val="660066"/>
                </a:solidFill>
                <a:latin typeface="Calibri"/>
              </a:rPr>
              <a:t>2)  Предложить школьным психологам разработать тренинг по соответствующей проблеме, в первую очередь провести в 7-х класс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3" descr="32192982_1046738_55f.jpg"/>
          <p:cNvPicPr/>
          <p:nvPr/>
        </p:nvPicPr>
        <p:blipFill>
          <a:blip r:embed="rId1"/>
          <a:stretch/>
        </p:blipFill>
        <p:spPr>
          <a:xfrm>
            <a:off x="3429000" y="47862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900000" y="1214280"/>
            <a:ext cx="7572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vitamarg.com/article/vliynie/421-internet-zavisi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psychiatry.ru/stat.php?num=1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bez-zavisimosti.ru/internet-zavisimost/#more-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2"/>
              </a:rPr>
              <a:t>http://www.narcom.ru/ideas/common/1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3"/>
              </a:rPr>
              <a:t>http://www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4"/>
              </a:rPr>
              <a:t>.psyline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5"/>
              </a:rPr>
              <a:t>http://www.iworld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тика и образование, 6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нформатика и образование, 6 -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осова Л.Л. Информатика и ИКТ: учебник для 7 класса - М. : Бином,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ировнов С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rtuali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42960" y="142884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16640" indent="-116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03152"/>
                </a:solidFill>
                <a:latin typeface="Comic Sans MS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16640" indent="-1166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13fc09ce905fc0edf6c1677c62a39dad.gif"/>
          <p:cNvPicPr/>
          <p:nvPr/>
        </p:nvPicPr>
        <p:blipFill>
          <a:blip r:embed="rId1"/>
          <a:stretch/>
        </p:blipFill>
        <p:spPr>
          <a:xfrm>
            <a:off x="2714760" y="2857680"/>
            <a:ext cx="4243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omic Sans MS"/>
              </a:rPr>
              <a:t>Цель исследов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56760" y="1143000"/>
            <a:ext cx="85726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зучить влияние Интернет-зависимости на подрост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3" descr="internet-zavisimost.jpg"/>
          <p:cNvPicPr/>
          <p:nvPr/>
        </p:nvPicPr>
        <p:blipFill>
          <a:blip r:embed="rId1"/>
          <a:stretch/>
        </p:blipFill>
        <p:spPr>
          <a:xfrm>
            <a:off x="6215040" y="2786040"/>
            <a:ext cx="2500200" cy="33177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428760" y="2928960"/>
            <a:ext cx="557208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Объек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Интернет-зависимость в подростковом возра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Предм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лияние Интернет-зависимости на подро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Задачи исследования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13840" y="1600200"/>
            <a:ext cx="8929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      Изучить литературу об особенностях интернет - зависимост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      Исследовать на предмет интернет -зависимости учащихся 5-8 классов методом анкетирования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      Предложить стратегии  профилактики интернет - зависим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Что такое интернет зависимос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428560" y="1714680"/>
            <a:ext cx="671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нтернет-завис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 это такой вид зависимого поведения, при котором  процесс пребывания  в Интернете затягивает настолько, что человек оказывается не в состоянии полноценно функционировать в реальном мире, предпочитая жить «виртуальн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internet_zavisimost_01.jpg"/>
          <p:cNvPicPr/>
          <p:nvPr/>
        </p:nvPicPr>
        <p:blipFill>
          <a:blip r:embed="rId1"/>
          <a:stretch/>
        </p:blipFill>
        <p:spPr>
          <a:xfrm>
            <a:off x="214200" y="2571840"/>
            <a:ext cx="227988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785880"/>
            <a:ext cx="55008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тернет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как среда по своей природе неоднороден и включает в себя множество возможностей, широкое разнообразие форм и видов деятельности пользователей. Поэтому и зависимость может наступать от определённого вида деятельности в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тернет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а не от самого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Интернета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ка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ред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73fa9a9c9bd4bef808e5dc3ef16.jpg"/>
          <p:cNvPicPr/>
          <p:nvPr/>
        </p:nvPicPr>
        <p:blipFill>
          <a:blip r:embed="rId1"/>
          <a:stretch/>
        </p:blipFill>
        <p:spPr>
          <a:xfrm>
            <a:off x="5429160" y="2357280"/>
            <a:ext cx="35467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Типы интернет-зависим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страстие к работе с компьютер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тологическая привязанность к азартным играм в интернет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аукционам или электронным покупк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имость от общения в чатах, групповых играх и телеконференция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имость от сайтов сексуальной тема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Untitled-1.gif"/>
          <p:cNvPicPr/>
          <p:nvPr/>
        </p:nvPicPr>
        <p:blipFill>
          <a:blip r:embed="rId1"/>
          <a:stretch/>
        </p:blipFill>
        <p:spPr>
          <a:xfrm>
            <a:off x="857160" y="285840"/>
            <a:ext cx="771552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omic Sans MS"/>
              </a:rPr>
              <a:t>Главные факторы развития интернет-зависим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упность информации, интерактивных зон и порнографических изображ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сональный контроль и анонимность передаваемой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утренние чувства, которые на подсознательном уровне устанавливают больший уровень доверия к общению в он-лай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Comic Sans MS"/>
              </a:rPr>
              <a:t>При формировании зависимости первичны психологические особенности самого пользователя Интернет, а именно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214272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ожности в принятии своего физического облик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мкнутости, сложности в непосредственном общении и взаимопониман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увстве одиночеств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86559327.jpg"/>
          <p:cNvPicPr/>
          <p:nvPr/>
        </p:nvPicPr>
        <p:blipFill>
          <a:blip r:embed="rId1"/>
          <a:stretch/>
        </p:blipFill>
        <p:spPr>
          <a:xfrm>
            <a:off x="2214720" y="4714920"/>
            <a:ext cx="46670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</cp:lastModifiedBy>
  <dcterms:modified xsi:type="dcterms:W3CDTF">2011-03-24T07:13:29Z</dcterms:modified>
  <cp:revision>155</cp:revision>
  <dc:subject/>
  <dc:title>Проблема Интернет зависимости школьников 11-13 лет</dc:title>
</cp:coreProperties>
</file>