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BB1-85C0-4FC1-89F4-B1B742E5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AE3-645A-4618-928D-487796EF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492-1AC7-416A-B3EB-CCADA403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681-2D3A-4D1F-9110-BE573629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57A-40B7-4DFC-BBF1-DA5D782C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62B-B169-4B65-89CB-B420747F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795-7D2B-4C67-BA3D-E4E99DBB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77D-907F-422A-AD04-2C3176BB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344-9BCF-4B68-83A1-175276C5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8E3-A474-4ABC-82DD-804AC666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29E-A02B-43A1-AD0D-3E499A2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1CD-5AD6-49F6-A3A9-32BE2749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8477-541D-4765-BC0F-8781DA7490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" TargetMode="External"/><Relationship Id="rId2" Type="http://schemas.openxmlformats.org/officeDocument/2006/relationships/hyperlink" Target="http://www.narcom.ru/ideas/common/15.html" TargetMode="External"/><Relationship Id="rId3" Type="http://schemas.openxmlformats.org/officeDocument/2006/relationships/hyperlink" Target="http://www.psyline.ru/" TargetMode="External"/><Relationship Id="rId4" Type="http://schemas.openxmlformats.org/officeDocument/2006/relationships/hyperlink" Target="http://www.psyline.ru/" TargetMode="External"/><Relationship Id="rId5" Type="http://schemas.openxmlformats.org/officeDocument/2006/relationships/hyperlink" Target="http://www.iworld.ru/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283449694_inet_zavisimost.jpg"/>
          <p:cNvPicPr/>
          <p:nvPr/>
        </p:nvPicPr>
        <p:blipFill>
          <a:blip r:embed="rId1"/>
          <a:stretch/>
        </p:blipFill>
        <p:spPr>
          <a:xfrm>
            <a:off x="357120" y="3929040"/>
            <a:ext cx="2514600" cy="250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840" y="1428480"/>
            <a:ext cx="8558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Comic Sans MS"/>
              </a:rPr>
              <a:t>Проблема Интернет- зависимости подрост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2840" y="4000680"/>
            <a:ext cx="5829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Автор: ученица 8 «а»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Кулакова По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МОУ СОШ №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images.jpg"/>
          <p:cNvPicPr/>
          <p:nvPr/>
        </p:nvPicPr>
        <p:blipFill>
          <a:blip r:embed="rId1"/>
          <a:stretch/>
        </p:blipFill>
        <p:spPr>
          <a:xfrm>
            <a:off x="5214960" y="3643200"/>
            <a:ext cx="3529080" cy="2643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Comic Sans MS"/>
              </a:rPr>
              <a:t>Признаки интернет-зависим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428760" y="1143000"/>
            <a:ext cx="8286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Психологические симптомы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Хорошее самочувствие или эйфория за компьютер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возможность остановить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величение количества времени, проводимого за компьютер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енебрежение семьей и друзья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щущения пустоты, депрессии, раздражения не за компьютер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Ложь работодателям или членам семьи о своей деятель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облемы с работой или учебой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Физические симптомы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Заболевание в области запясть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ухость в глаз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Головные боли по типу мигрен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Боли в спин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регулярное питание, пропуск приемов пищ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енебрежение личной гигиен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сстройства сна, изменение режима сн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Почему именно подрост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57720" y="1285920"/>
            <a:ext cx="5472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- среда, которая позволяет подростку реализовать роли, которые в реальной жизни представляются для него затруднительны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ети подросток осуществляет самопрезентацию более свободно и раскованно, т. к. его роль анонимна в се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Изображение 324.jpg"/>
          <p:cNvPicPr/>
          <p:nvPr/>
        </p:nvPicPr>
        <p:blipFill>
          <a:blip r:embed="rId1"/>
          <a:stretch/>
        </p:blipFill>
        <p:spPr>
          <a:xfrm>
            <a:off x="214200" y="1357200"/>
            <a:ext cx="318456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152"/>
                </a:solidFill>
                <a:latin typeface="Comic Sans MS"/>
              </a:rPr>
              <a:t>Плюсы и минусы Интернета для подрос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Загнутый угол 2"/>
          <p:cNvSpPr/>
          <p:nvPr/>
        </p:nvSpPr>
        <p:spPr>
          <a:xfrm>
            <a:off x="714240" y="1285920"/>
            <a:ext cx="3857760" cy="5357880"/>
          </a:xfrm>
          <a:prstGeom prst="foldedCorner">
            <a:avLst>
              <a:gd name="adj" fmla="val 166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звитие коммуникативных качеств; в сети можно найти др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щедоступность актуальн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зможность общения в реальном време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тернет дает возможность многому научи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точник знаний и помощник в учё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агнутый угол 3"/>
          <p:cNvSpPr/>
          <p:nvPr/>
        </p:nvSpPr>
        <p:spPr>
          <a:xfrm>
            <a:off x="4857840" y="1285920"/>
            <a:ext cx="3857400" cy="5286240"/>
          </a:xfrm>
          <a:prstGeom prst="foldedCorner">
            <a:avLst>
              <a:gd name="adj" fmla="val 166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тернет-зависимость сказывается на психике, здоровье, финан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нижение трудоспособ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звитие отчуждённости при реальном общ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Большой риск попасть под влияние  лиц с девиантным поведением:  это сектанты,  наркоманы, извращенц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учение неточной, а иногда и заведомо ложной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Результаты исследов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сследовании приняло участие - 216 учащихся 5 - 8 классов, из ни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компьютера - 2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доступа в Интернет - 4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internet_zavisimost.jpg"/>
          <p:cNvPicPr/>
          <p:nvPr/>
        </p:nvPicPr>
        <p:blipFill>
          <a:blip r:embed="rId1"/>
          <a:stretch/>
        </p:blipFill>
        <p:spPr>
          <a:xfrm>
            <a:off x="2714760" y="4071960"/>
            <a:ext cx="309564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"/>
          <p:cNvPicPr/>
          <p:nvPr/>
        </p:nvPicPr>
        <p:blipFill>
          <a:blip r:embed="rId1"/>
          <a:stretch/>
        </p:blipFill>
        <p:spPr>
          <a:xfrm>
            <a:off x="566640" y="281160"/>
            <a:ext cx="8010720" cy="50101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500040" y="528624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рамма   наличия  интернет-зависимости  у учащихся 5-8 классов МОУ СОШ № 9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"/>
          <p:cNvPicPr/>
          <p:nvPr/>
        </p:nvPicPr>
        <p:blipFill>
          <a:blip r:embed="rId1"/>
          <a:stretch/>
        </p:blipFill>
        <p:spPr>
          <a:xfrm>
            <a:off x="133200" y="208080"/>
            <a:ext cx="8242560" cy="45399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571680" y="514368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рамма процентного соотношения интернет-зависимых учащихся по клас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152"/>
                </a:solidFill>
                <a:latin typeface="Comic Sans MS"/>
              </a:rPr>
              <a:t>Пути решения пробл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760" y="857160"/>
            <a:ext cx="85010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ить предел времени, которое можно проводить в Интернет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тавлять себя время от времени несколько дней подряд не работать в Интернет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ным образом заблокировать доступ к каким-то конкретным ресурсам Интернет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ить для себя правило ни под каким видом не обращаться к Интернету в течение рабочего дня (если только это не входит в рабочие обязанности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вести чувствительные для себя (однако без нанесения ущерба здоровью) санкции за несоблюдение такого рода правил и ограничени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агать на себя подобные санкции до тех пор, пока не восстановится способность выполнять данные самому себе обеща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тавлять себя вместо работы в Интернете заниматься чем-то други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ся извлекать из жизни другие наслаждения, способные заменить или превзойти удовольствие, получаемое при работе в Интернет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щаться за помощью всякий раз, когда собственных усилий оказывается недостаточн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бегать таких встреч и пребывания в таких местах, которые могли бы побудить вернуться к аддиктивному поведени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712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ные исследования проанализированы и на основании данного исследования нами предлагаются следующие меры по  профилактики интернет –зависимости у подростков 5-8 классов МОУ СОШ №9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Calibri"/>
              </a:rPr>
              <a:t>1)    Информировать учащихся, педагогов и родителей о выявленной проблем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                    </a:t>
            </a: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а) провести классные часы на тему «Интернет-зависимость у подростков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                    </a:t>
            </a: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б) организовать акцию в форме создания стен- газет от каждого класса 5- 8 паралл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Calibri"/>
              </a:rPr>
              <a:t>       </a:t>
            </a:r>
            <a:r>
              <a:rPr b="0" i="1" lang="ru-RU" sz="2000" spc="-1" strike="noStrike">
                <a:solidFill>
                  <a:srgbClr val="660066"/>
                </a:solidFill>
                <a:latin typeface="Calibri"/>
              </a:rPr>
              <a:t>2)  Предложить школьным психологам разработать тренинг по соответствующей проблеме, в первую очередь провести в 7-х класс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32192982_1046738_55f.jpg"/>
          <p:cNvPicPr/>
          <p:nvPr/>
        </p:nvPicPr>
        <p:blipFill>
          <a:blip r:embed="rId1"/>
          <a:stretch/>
        </p:blipFill>
        <p:spPr>
          <a:xfrm>
            <a:off x="3429000" y="478620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900000" y="1214280"/>
            <a:ext cx="7572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itamarg.com/article/vliynie/421-internet-zavisi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psychiatry.ru/stat.php?num=1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bez-zavisimosti.ru/internet-zavisimost/#more-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http://www.narcom.ru/ideas/common/1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http://www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psylin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http://www.iworl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орматика и образование, 6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орматика и образование, 6 -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сова Л.Л. Информатика и ИКТ: учебник для 7 класса - М. : Бином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ировнов С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rtualit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42960" y="1428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3152"/>
                </a:solidFill>
                <a:latin typeface="Comic Sans MS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13fc09ce905fc0edf6c1677c62a39dad.gif"/>
          <p:cNvPicPr/>
          <p:nvPr/>
        </p:nvPicPr>
        <p:blipFill>
          <a:blip r:embed="rId1"/>
          <a:stretch/>
        </p:blipFill>
        <p:spPr>
          <a:xfrm>
            <a:off x="2714760" y="2857680"/>
            <a:ext cx="4243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Цель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6760" y="1143000"/>
            <a:ext cx="85726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зучить влияние Интернет-зависимости на подрост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internet-zavisimost.jpg"/>
          <p:cNvPicPr/>
          <p:nvPr/>
        </p:nvPicPr>
        <p:blipFill>
          <a:blip r:embed="rId1"/>
          <a:stretch/>
        </p:blipFill>
        <p:spPr>
          <a:xfrm>
            <a:off x="6215040" y="2786040"/>
            <a:ext cx="2500200" cy="3317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428760" y="2928960"/>
            <a:ext cx="557208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бъе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нтернет-зависимость в подростковом возра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редм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лияние Интернет-зависимости на подро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Задачи исследования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3840" y="1600200"/>
            <a:ext cx="8929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      Изучить литературу об особенностях интернет - зависимост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      Исследовать на предмет интернет -зависимости учащихся 5-8 классов методом анкетирова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      Предложить стратегии  профилактики интернет - зависим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Что такое интернет зависимос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28560" y="1714680"/>
            <a:ext cx="67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тернет-завис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 это такой вид зависимого поведения, при котором  процесс пребывания  в Интернете затягивает настолько, что человек оказывается не в состоянии полноценно функционировать в реальном мире, предпочитая жить «виртуальн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internet_zavisimost_01.jpg"/>
          <p:cNvPicPr/>
          <p:nvPr/>
        </p:nvPicPr>
        <p:blipFill>
          <a:blip r:embed="rId1"/>
          <a:stretch/>
        </p:blipFill>
        <p:spPr>
          <a:xfrm>
            <a:off x="214200" y="2571840"/>
            <a:ext cx="22798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785880"/>
            <a:ext cx="5500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тернет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как среда по своей природе неоднороден и включает в себя множество возможностей, широкое разнообразие форм и видов деятельности пользователей. Поэтому и зависимость может наступать от определённого вида деятельности в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тернете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, а не от самог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тернета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ка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ред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73fa9a9c9bd4bef808e5dc3ef16.jpg"/>
          <p:cNvPicPr/>
          <p:nvPr/>
        </p:nvPicPr>
        <p:blipFill>
          <a:blip r:embed="rId1"/>
          <a:stretch/>
        </p:blipFill>
        <p:spPr>
          <a:xfrm>
            <a:off x="5429160" y="2357280"/>
            <a:ext cx="3546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Типы интернет-зависим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страстие к работе с компьютер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тологическая привязанность к азартным играм в интерне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аукционам или электронным покупк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исимость от общения в чатах, групповых играх и телеконференция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исимость от сайтов сексуальной те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Untitled-1.gif"/>
          <p:cNvPicPr/>
          <p:nvPr/>
        </p:nvPicPr>
        <p:blipFill>
          <a:blip r:embed="rId1"/>
          <a:stretch/>
        </p:blipFill>
        <p:spPr>
          <a:xfrm>
            <a:off x="857160" y="285840"/>
            <a:ext cx="77155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Главные факторы развития интернет-зависим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тупность информации, интерактивных зон и порнографических изображ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ональный контроль и анонимность передаваемой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е чувства, которые на подсознательном уровне устанавливают больший уровень доверия к общению в он-лай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152"/>
                </a:solidFill>
                <a:latin typeface="Comic Sans MS"/>
              </a:rPr>
              <a:t>При формировании зависимости первичны психологические особенности самого пользователя Интернет, а именно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214272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жности в принятии своего физического облик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кнутости, сложности в непосредственном общении и взаимопоним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встве одиноч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86559327.jpg"/>
          <p:cNvPicPr/>
          <p:nvPr/>
        </p:nvPicPr>
        <p:blipFill>
          <a:blip r:embed="rId1"/>
          <a:stretch/>
        </p:blipFill>
        <p:spPr>
          <a:xfrm>
            <a:off x="2214720" y="4714920"/>
            <a:ext cx="46670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1-03-24T07:13:29Z</dcterms:modified>
  <cp:revision>155</cp:revision>
  <dc:subject/>
  <dc:title>Проблема Интернет зависимости школьников 11-13 лет</dc:title>
</cp:coreProperties>
</file>