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9485-0E6F-4D80-AD77-D99C99A283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4C02-E4D3-4146-AB1F-46EEB4905F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BEC1-002B-40E3-9480-A66D0837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506-651D-4D05-85F1-7CCAD30F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F71-4EB2-4F02-905A-E01694EF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619-D658-495E-8832-DE524DD3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E8C-FCE3-4448-9F99-47B243F9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FED-4DEF-413B-91D0-A35CA2C4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A6F-6E8F-4AC4-96E4-6B3EB6A5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405-C1FC-43F9-9EE4-CE3E6CF0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11B-1078-4E51-8901-F6486628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880-1150-407F-A45E-C6DDAED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909C-BC41-472A-B7F0-88D747E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738-8C79-4709-B67F-F05BFA8E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2A40-D914-43A5-965E-AA6D07E6C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964720" cy="29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ружной конкурс Южного образовательного округа Самарской области</a:t>
            </a:r>
            <a:br>
              <a:rPr sz="1800"/>
            </a:b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итель года – «2017»</a:t>
            </a:r>
            <a:br>
              <a:rPr sz="2800"/>
            </a:br>
            <a:br>
              <a:rPr sz="28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сное задание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етодический семинар»</a:t>
            </a:r>
            <a:br>
              <a:rPr sz="2400"/>
            </a:b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:</a:t>
            </a:r>
            <a:r>
              <a:rPr b="0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Использование  современных образовательных технологий  при подготовке детей к школе в соответствии с требованиями ФГОС ДО»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2787480" y="4869000"/>
            <a:ext cx="61772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някина Маргарита Никола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тель, СП ГБОУ СОШ №1 «ОЦ» им. Героя Советского Союза В. И. Фокина С. Большая Глушица Муниципальный район Большеглушицкий Самарской области Детский сад №3 «Красная Шапоч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585720" y="3998880"/>
            <a:ext cx="172404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оводы, до которых человек додумывается сам, обычно убеждают его больше, нежели те, которые пришли в голову другим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. Паскаль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ыть готовым к школе – не значит уметь писать, читать и считать. Быть готовым к школе – значит быть готовым всему этому научиться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. Венг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стоящее время проблема подготовки детей к школе  является актуальной. Этосвязано с включением дошкольного образования в систему непрерывного образования и введением в действие Федеральных государственных образовательных стандартов дошкольного образов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ременные исследования показывают, что 30 - 40 % детей приходят в первый класс массовой школы не готовыми к обучению. Наибольшие трудности в начальной школе испытывают те дети, которые проявляют интеллектуальную пассивность, у которых  отсутствуют желание и привычка думать, стремление узнать что-то новое.  У  многих детей  недостаточно сформированы  социальные, личностные, физические каче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7760" y="274320"/>
            <a:ext cx="843588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евые ориентиры на этапе завершения дошкольного образования (ФГОС ДО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http://www.metod-kopilka.ru/images/doc/55/58610/img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khochu_v_shkolu.png"/>
          <p:cNvPicPr/>
          <p:nvPr/>
        </p:nvPicPr>
        <p:blipFill>
          <a:blip r:embed="rId2"/>
          <a:stretch/>
        </p:blipFill>
        <p:spPr>
          <a:xfrm>
            <a:off x="3035160" y="2200320"/>
            <a:ext cx="309096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24000" y="260280"/>
            <a:ext cx="842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тие личности каждого ребенка, формирование его готовности к систематическому обуч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 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инициативность и самостоятельност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уверенность в своих силах, положительное отношение к себе и друг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умение подчиняться нормам и правил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творческие способности, реч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  мелкую  моторику пальцев ру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ть способность к волевым усилиям в разных видах деятель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рмировать  любознательность, склонность к экспериментированию и наблюдениям, способность к принятию реш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блем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  сформировать качества и способности необходимые для обучения в школ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ализация проблем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 современных образовательных технологий,  целью которых является – личностное развит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    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353880" y="182520"/>
            <a:ext cx="8582040" cy="62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Схема 1" descr=""/>
          <p:cNvPicPr/>
          <p:nvPr/>
        </p:nvPicPr>
        <p:blipFill>
          <a:blip r:embed="rId1"/>
          <a:stretch/>
        </p:blipFill>
        <p:spPr>
          <a:xfrm>
            <a:off x="676440" y="212760"/>
            <a:ext cx="807696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3"/>
          <p:cNvGraphicFramePr/>
          <p:nvPr/>
        </p:nvGraphicFramePr>
        <p:xfrm>
          <a:off x="324000" y="260280"/>
          <a:ext cx="8496000" cy="62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0280"/>
                    <a:ext cx="849600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7T18:30:12Z</dcterms:created>
  <dc:creator>DNA7 X86</dc:creator>
  <dc:description/>
  <dc:language>en-US</dc:language>
  <cp:lastModifiedBy>DNA7 X86</cp:lastModifiedBy>
  <dcterms:modified xsi:type="dcterms:W3CDTF">2017-01-14T19:22:43Z</dcterms:modified>
  <cp:revision>141</cp:revision>
  <dc:subject/>
  <dc:title>Окружной конкурс Южного образовательного округа Самарской области «Учитель года – «2017» Конкурсное задание «Методический семинар» «Использование  современных технологий  в  подготовке детей к школе в соответствии с требованиями ФГОС ДО»</dc:title>
</cp:coreProperties>
</file>