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34AB-FD81-40B6-82E1-207B1B0819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6A27-95F0-4953-B3CD-CA0E64A1D1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A4A-E55F-40EB-9844-724DAF99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1892-8C95-47AE-868F-FB578B89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92F-4B51-48BD-8B2A-AFA2872E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607-9AA2-4A6F-9DA1-A6C433F1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446-58F8-493F-A659-2E56ECCC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BFB-682C-44F0-A0E0-89EAAC54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200-FDAC-4C8E-B45F-7CCB57D7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BC2-578E-4B4E-A67B-A4B815B3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314-D87E-4F63-B9D1-F2150623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8A3-E24E-491B-A40E-9EC699F7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3ED-BB48-46A1-8623-33470EFA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FED-9492-4842-8943-C56421AC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1C87-48BF-4B2B-B4A4-ECF6CBB116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964720" cy="29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ружной конкурс Южного образовательного округа Самар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итель года – «2017»</a:t>
            </a:r>
            <a:br>
              <a:rPr sz="2800"/>
            </a:br>
            <a:br>
              <a:rPr sz="2800"/>
            </a:b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курсное задание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етодический семинар»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: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спользование  современных образовательных технологий  при подготовке детей к школе в соответствии с требованиями ФГОС ДО»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2787480" y="4869000"/>
            <a:ext cx="6177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някина Маргарита Николае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, СП ГБОУ СОШ №1 «ОЦ» им. Героя Советского Союза В. И. Фокина С. Большая Глушица Муниципальный район Большеглушицкий Самарской области Детский сад №3 «Красная Шапоч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585720" y="3998880"/>
            <a:ext cx="172404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оводы, до которых человек додумывается сам, обычно убеждают его больше, нежели те, которые пришли в голову другим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. Паскаль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ыть готовым к школе – не значит уметь писать, читать и считать. Быть готовым к школе – значит быть готовым всему этому научиться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. Венг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стоящее время проблема подготовки детей к школе  является актуальной. Этосвязано с включением дошкольного образования в систему непрерывного образования и введением в действие Федеральных государственных образовательных стандартов дошкольного образ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лем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ременные исследования показывают, что 30 - 40 % детей приходят в первый класс массовой школы не готовыми к обучению. Наибольшие трудности в начальной школе испытывают те дети, которые проявляют интеллектуальную пассивность, у которых  отсутствуют желание и привычка думать, стремление узнать что-то новое.  У  многих детей  недостаточно сформированы  социальные, личностные, физические каче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74320"/>
            <a:ext cx="84358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евые ориентиры на этапе завершения дошкольного образования (ФГОС ДО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www.metod-kopilka.ru/images/doc/55/58610/img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khochu_v_shkolu.png"/>
          <p:cNvPicPr/>
          <p:nvPr/>
        </p:nvPicPr>
        <p:blipFill>
          <a:blip r:embed="rId2"/>
          <a:stretch/>
        </p:blipFill>
        <p:spPr>
          <a:xfrm>
            <a:off x="3035160" y="2200320"/>
            <a:ext cx="309096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24000" y="260280"/>
            <a:ext cx="842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личности каждого ребенка, формирование его готовности к систематическому обучен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 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инициативность и самостоятельнос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уверенность в своих силах, положительное отношение к себе и други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ть умение подчиняться нормам и правил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творческие способности, ре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  мелкую  моторику пальцев ру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способность к волевым усилиям в раз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ть  любознательность, склонность к экспериментированию и наблюдениям, способность к принятию реш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лем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 сформировать качества и способности необходимые для обучения в школ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лизация проблем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 современных образовательных технологий,  целью которых является – личностное развит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 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8582040" cy="62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хема 1" descr=""/>
          <p:cNvPicPr/>
          <p:nvPr/>
        </p:nvPicPr>
        <p:blipFill>
          <a:blip r:embed="rId1"/>
          <a:stretch/>
        </p:blipFill>
        <p:spPr>
          <a:xfrm>
            <a:off x="676440" y="212760"/>
            <a:ext cx="807696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324000" y="260280"/>
          <a:ext cx="8496000" cy="62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4960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18:30:12Z</dcterms:created>
  <dc:creator>DNA7 X86</dc:creator>
  <dc:description/>
  <dc:language>en-US</dc:language>
  <cp:lastModifiedBy>DNA7 X86</cp:lastModifiedBy>
  <dcterms:modified xsi:type="dcterms:W3CDTF">2017-01-14T19:22:43Z</dcterms:modified>
  <cp:revision>141</cp:revision>
  <dc:subject/>
  <dc:title>Окружной конкурс Южного образовательного округа Самарской области «Учитель года – «2017» Конкурсное задание «Методический семинар» «Использование  современных технологий  в  подготовке детей к школе в соответствии с требованиями ФГОС ДО»</dc:title>
</cp:coreProperties>
</file>