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CC4-2B81-40AE-B9F2-88D364062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526-9224-45A0-9CCD-A73D093B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8CF-0406-4E32-BC06-C3DD4CCE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CA3-C757-493E-BFAA-D0A31743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F6D69-55FF-44C0-B432-5A143901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B057-EE5E-4546-9936-AAF99E3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E3B9-E734-4C76-82CB-20A59265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BAD4-1E5D-4B32-B8D3-E36C1000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2510-D020-42A1-B669-CD6AF2F5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9A5DB-8047-4D9A-A4C6-5772C0E4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31C-326B-458E-B49D-7F475334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AE3-4CF0-4884-8065-A8BEE4C8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72A9-547C-4D80-8E8C-00E0F7F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E07E-CD11-4AA7-97FC-ED79D5E5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17FB-7D87-4DD2-ACE9-C8CD7FE1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BB3B-E204-42D8-8CA4-9780F9465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57E-6C94-4D6F-A016-B71E8BC6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B041-3D8C-4B74-8A60-E5FB405E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2FC47-97A2-40B5-8187-CF3364F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5033B-5209-4088-A0FF-357C471F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36372-17C6-4617-B99C-27F36DE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A67E3-BEB5-442E-B214-DB0025C2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EC3-292E-4923-A3D6-ECB4E47F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BF7B1-9975-4251-8909-F941B437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9FC34-789B-4A80-BF8B-F5809297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A72CA-D044-4468-A237-40D8AAD6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61E86-5E6A-47B2-B4AF-99B1AF45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87824-D975-4F51-9679-535B7621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D7325-A2C2-4634-A93A-F7991CD0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F3714-8606-4A7A-A94E-71DD742E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A5871-9912-4AD4-9A83-ABEA1C87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5547A-52A4-47A7-A195-1FB4FF5B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D287-3475-4030-9F6C-F28F3FEC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5D69-89E8-4A0D-A17D-0521BC89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2BF8F-4FDD-4C11-88F2-D9272F0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B15C-826A-43B6-95D3-285E6D6C1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70FB9-FB23-459E-B0BD-A9E82C25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4CDE1-4AD5-4051-93D0-23F6F5DC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76DD-39F5-4048-ACCF-584669A2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D809-7455-4042-8F43-DCCB399A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F74F2-07A3-4996-BF7A-527F5E47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490C-04E2-4024-BEDF-636144C2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701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55520" y="6854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8436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701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455520" y="2573640"/>
            <a:ext cx="27478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E4403-F68C-45AC-97FA-5552F9C3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25A-301C-4D29-8C09-41162308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487400"/>
            <a:ext cx="8534160" cy="698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AAE-61E3-41F1-ABC0-3C7A4754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3303-A354-4BC3-B852-7BA3546AF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57280" y="25736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0546-01FD-4F5C-98CB-FC282DB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7280" y="685440"/>
            <a:ext cx="416448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4360" y="2573640"/>
            <a:ext cx="853416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053-D4AE-4A2C-8617-090AD83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FF491C-8012-40D5-8F1E-01C5FE67A459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 flipH="1">
            <a:off x="8227800" y="7920"/>
            <a:ext cx="3809880" cy="3809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Straight Connector 16"/>
          <p:cNvSpPr/>
          <p:nvPr/>
        </p:nvSpPr>
        <p:spPr>
          <a:xfrm flipH="1">
            <a:off x="6108480" y="92160"/>
            <a:ext cx="6080040" cy="60800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18"/>
          <p:cNvSpPr/>
          <p:nvPr/>
        </p:nvSpPr>
        <p:spPr>
          <a:xfrm flipH="1">
            <a:off x="7236000" y="228600"/>
            <a:ext cx="4952880" cy="495288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20"/>
          <p:cNvSpPr/>
          <p:nvPr/>
        </p:nvSpPr>
        <p:spPr>
          <a:xfrm flipH="1">
            <a:off x="7335360" y="31680"/>
            <a:ext cx="4853160" cy="485316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traight Connector 22"/>
          <p:cNvSpPr/>
          <p:nvPr/>
        </p:nvSpPr>
        <p:spPr>
          <a:xfrm flipH="1">
            <a:off x="7845120" y="609480"/>
            <a:ext cx="4343400" cy="4343400"/>
          </a:xfrm>
          <a:prstGeom prst="line">
            <a:avLst/>
          </a:prstGeom>
          <a:ln cap="rnd"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67528-156A-439E-8085-AF5B03AF0A5D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94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D034E8-01BF-45E1-984A-A9865846A02F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6"/>
          <p:cNvGrpSpPr/>
          <p:nvPr/>
        </p:nvGrpSpPr>
        <p:grpSpPr>
          <a:xfrm>
            <a:off x="9207360" y="2963880"/>
            <a:ext cx="2981520" cy="3208320"/>
            <a:chOff x="9207360" y="2963880"/>
            <a:chExt cx="2981520" cy="3208320"/>
          </a:xfrm>
        </p:grpSpPr>
        <p:sp>
          <p:nvSpPr>
            <p:cNvPr id="143" name="Straight Connector 7"/>
            <p:cNvSpPr/>
            <p:nvPr/>
          </p:nvSpPr>
          <p:spPr>
            <a:xfrm flipH="1">
              <a:off x="11275920" y="2963880"/>
              <a:ext cx="912960" cy="9126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Straight Connector 8"/>
            <p:cNvSpPr/>
            <p:nvPr/>
          </p:nvSpPr>
          <p:spPr>
            <a:xfrm flipH="1">
              <a:off x="9207360" y="3190680"/>
              <a:ext cx="2981520" cy="298152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9"/>
            <p:cNvSpPr/>
            <p:nvPr/>
          </p:nvSpPr>
          <p:spPr>
            <a:xfrm flipH="1">
              <a:off x="10293120" y="3286080"/>
              <a:ext cx="1895760" cy="1895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10"/>
            <p:cNvSpPr/>
            <p:nvPr/>
          </p:nvSpPr>
          <p:spPr>
            <a:xfrm flipH="1">
              <a:off x="10443600" y="3132000"/>
              <a:ext cx="1744920" cy="174456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1"/>
            <p:cNvSpPr/>
            <p:nvPr/>
          </p:nvSpPr>
          <p:spPr>
            <a:xfrm flipH="1">
              <a:off x="10918800" y="3682800"/>
              <a:ext cx="1270080" cy="127008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TextBox 12"/>
          <p:cNvSpPr/>
          <p:nvPr/>
        </p:nvSpPr>
        <p:spPr>
          <a:xfrm>
            <a:off x="531720" y="81288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3"/>
          <p:cNvSpPr/>
          <p:nvPr/>
        </p:nvSpPr>
        <p:spPr>
          <a:xfrm>
            <a:off x="10285560" y="276876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487400"/>
            <a:ext cx="8534160" cy="15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4360" y="685440"/>
            <a:ext cx="85341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903960" y="617220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684000" y="6172200"/>
            <a:ext cx="754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10362960" y="5578200"/>
            <a:ext cx="11430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2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EB50B-996C-4868-BAE4-841F6C8D2017}" type="slidenum">
              <a:rPr b="0" lang="en-US" sz="32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Прямоугольник 4" descr=""/>
          <p:cNvPicPr/>
          <p:nvPr/>
        </p:nvPicPr>
        <p:blipFill>
          <a:blip r:embed="rId1"/>
          <a:stretch/>
        </p:blipFill>
        <p:spPr>
          <a:xfrm>
            <a:off x="633240" y="907920"/>
            <a:ext cx="8639280" cy="279252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5" descr=""/>
          <p:cNvPicPr/>
          <p:nvPr/>
        </p:nvPicPr>
        <p:blipFill>
          <a:blip r:embed="rId2"/>
          <a:stretch/>
        </p:blipFill>
        <p:spPr>
          <a:xfrm>
            <a:off x="480960" y="4078440"/>
            <a:ext cx="9023400" cy="2328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Прямоугольник 4" descr=""/>
          <p:cNvPicPr/>
          <p:nvPr/>
        </p:nvPicPr>
        <p:blipFill>
          <a:blip r:embed="rId1"/>
          <a:stretch/>
        </p:blipFill>
        <p:spPr>
          <a:xfrm>
            <a:off x="1841400" y="-401760"/>
            <a:ext cx="8521920" cy="2773440"/>
          </a:xfrm>
          <a:prstGeom prst="rect">
            <a:avLst/>
          </a:prstGeom>
          <a:ln w="0">
            <a:noFill/>
          </a:ln>
        </p:spPr>
      </p:pic>
      <p:pic>
        <p:nvPicPr>
          <p:cNvPr id="194" name="Прямоугольник 5" descr=""/>
          <p:cNvPicPr/>
          <p:nvPr/>
        </p:nvPicPr>
        <p:blipFill>
          <a:blip r:embed="rId2"/>
          <a:stretch/>
        </p:blipFill>
        <p:spPr>
          <a:xfrm>
            <a:off x="1646280" y="1706400"/>
            <a:ext cx="908208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-360" y="-360"/>
            <a:ext cx="1146636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entury Gothic"/>
              </a:rPr>
              <a:t>Приложения могут обозначать качество предмета, а также родство, национальность, возраст, профессию лица, названного нарицательным или собственным существительным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6" name="Прямоугольник 5"/>
          <p:cNvSpPr/>
          <p:nvPr/>
        </p:nvSpPr>
        <p:spPr>
          <a:xfrm>
            <a:off x="104760" y="3379680"/>
            <a:ext cx="12684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Например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юноша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поэт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сын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храбрец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город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геро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учёный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биолог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учёный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исследователь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лётчик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космонавт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 сын-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пятиклассник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дядя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 Осип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58360" y="-360"/>
            <a:ext cx="11093400" cy="36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11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entury Gothic"/>
              </a:rPr>
              <a:t>Приложением  являются  имена собственные при неодушевлённом существительном, а также клички животных: </a:t>
            </a:r>
            <a:endParaRPr b="0" lang="en-US" sz="44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558720" y="3363840"/>
            <a:ext cx="11798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Например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спаниель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Тошк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река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Неман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соловей-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певун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 река </a:t>
            </a: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Волг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800" spc="-1" strike="noStrike" u="sng">
                <a:solidFill>
                  <a:srgbClr val="ff0000"/>
                </a:solidFill>
                <a:uFillTx/>
                <a:latin typeface="Century Gothic"/>
              </a:rPr>
              <a:t>Клязьма</a:t>
            </a:r>
            <a:r>
              <a:rPr b="0" i="1" lang="ru-RU" sz="4800" spc="-1" strike="noStrike">
                <a:solidFill>
                  <a:srgbClr val="ff0000"/>
                </a:solidFill>
                <a:latin typeface="Century Gothic"/>
              </a:rPr>
              <a:t>-ре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34520" y="158400"/>
            <a:ext cx="11217240" cy="36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Приложениями являются и названия книг, журналов, фирм, сортов растений и т. д.             Все эти приложения пишутся с большой буквы и заключаются в кавычки. С определяемым существительным они не согласуются в падежной форме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Прямоугольник 3"/>
          <p:cNvSpPr/>
          <p:nvPr/>
        </p:nvSpPr>
        <p:spPr>
          <a:xfrm>
            <a:off x="558720" y="3675240"/>
            <a:ext cx="11633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Например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картина В. Васнецова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Богатыри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, журнал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Вокруг света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,                      тюльпан «</a:t>
            </a:r>
            <a:r>
              <a:rPr b="0" i="1" lang="ru-RU" sz="4400" spc="-1" strike="noStrike" u="sng">
                <a:solidFill>
                  <a:srgbClr val="ff0000"/>
                </a:solidFill>
                <a:uFillTx/>
                <a:latin typeface="Century Gothic"/>
              </a:rPr>
              <a:t>чёрный принц</a:t>
            </a:r>
            <a:r>
              <a:rPr b="0" i="1" lang="ru-RU" sz="4400" spc="-1" strike="noStrike">
                <a:solidFill>
                  <a:srgbClr val="ff0000"/>
                </a:solidFill>
                <a:latin typeface="Century Gothic"/>
              </a:rPr>
              <a:t>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Таблица 1" descr=""/>
          <p:cNvPicPr/>
          <p:nvPr/>
        </p:nvPicPr>
        <p:blipFill>
          <a:blip r:embed="rId1"/>
          <a:stretch/>
        </p:blipFill>
        <p:spPr>
          <a:xfrm>
            <a:off x="42840" y="115920"/>
            <a:ext cx="12125520" cy="65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614520" y="627120"/>
          <a:ext cx="11129760" cy="5721120"/>
        </p:xfrm>
        <a:graphic>
          <a:graphicData uri="http://schemas.openxmlformats.org/drawingml/2006/table">
            <a:tbl>
              <a:tblPr/>
              <a:tblGrid>
                <a:gridCol w="5545080"/>
                <a:gridCol w="5584680"/>
              </a:tblGrid>
              <a:tr h="572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ерез дефи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) если приложение и определяемое слово являются нарицательными существительными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точка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нырок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 город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герой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,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 красавицы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берёзк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)если нарицательное существительное стоит после имени собственного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шкин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поэт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и Пушкин-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человек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всегда дополняли друг друг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8f1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Дефис не стави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сли между приложением и определяемым существительным имеются родо-видовые отношения: Гриб </a:t>
                      </a:r>
                      <a:r>
                        <a:rPr b="1" i="1" lang="ru-RU" sz="24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лисичка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скоро будет занесён в Красную книгу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entury Gothic"/>
                        <a:buAutoNum type="arabicParenR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сле слов типа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осподин, товарищ, гражданин и др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.: </a:t>
                      </a:r>
                      <a:r>
                        <a:rPr b="1" i="1" lang="ru-RU" sz="24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Господин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посол, мы рады приветствовать Вас в нашем городе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Прямоугольник 3" descr=""/>
          <p:cNvPicPr/>
          <p:nvPr/>
        </p:nvPicPr>
        <p:blipFill>
          <a:blip r:embed="rId1"/>
          <a:stretch/>
        </p:blipFill>
        <p:spPr>
          <a:xfrm>
            <a:off x="1809720" y="1384200"/>
            <a:ext cx="971712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8T17:23:20Z</dcterms:created>
  <dc:creator>Tatu</dc:creator>
  <dc:description/>
  <dc:language>en-US</dc:language>
  <cp:lastModifiedBy>Acer</cp:lastModifiedBy>
  <dcterms:modified xsi:type="dcterms:W3CDTF">2017-01-14T17:31:49Z</dcterms:modified>
  <cp:revision>24</cp:revision>
  <dc:subject/>
  <dc:title>Презентация PowerPoint</dc:title>
</cp:coreProperties>
</file>