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67E-BC4A-4AB1-84B1-E820C359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BE4-65B7-4477-8301-75F5B1D8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7CB-2492-414D-8830-88CAD259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06F-0E56-4E5E-8F72-D996A2F7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3E74-B7ED-43FD-BB60-8A2A2443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336E-F6C8-4AE5-914A-888DBB8B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B146-AEFA-44AB-889C-5297B7CC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B78B-8CA3-4883-900C-9A8C0E40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BE40-38BC-4572-B784-A907FB43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A8DE-881C-46C7-947C-F9F4164C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0E09-5E07-47BE-859B-129A0BC6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E6F4-C85F-47F8-BFC7-7FBD6E5D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1A83-CE1C-4DCB-891B-2E40E965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31C4-5BEA-4262-96D0-F564C5C5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D81F-7ACC-4917-910E-48DDB31B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D7BA-B192-4D73-93D9-67506230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CF17-2DF6-4BE4-88CE-A093DBA2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2BC68-C69E-4B74-B528-3023F1FB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52BCD-3F52-4BE4-A155-92D70C3F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C4CAC-2ABA-4018-B82C-5A7E2979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B2D97-F3F6-4135-8E58-CE34D287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2845C-5758-4C46-9A31-BE6801C2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B29-B2E5-40DC-95FC-B5A321DD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D777B-3992-4C83-8155-62810A77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EF7F4-6FA0-40AD-9B6F-3CC5E44B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7AD6C-F163-4A86-BBFA-676B4C2B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1DD9B-6C56-4FE4-94A1-1FE6BC4A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16AB5-DE32-4454-809F-7767C110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8D31E-9D1C-401C-8800-1F0A9A7E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BEF30-25C2-483A-8162-55DC5031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8F3FA-9F8C-4B58-8E74-7668B3E9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CA113-0700-49D4-B38C-279FF659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09659-B2D1-4636-BF57-032C689C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F10-703B-4540-B1B6-BFE02D78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152AA-A642-4698-90A8-0CEAEC86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CAA6D-013C-4DE1-B304-FC12D131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A55BC-F6E5-4B68-9A94-2B0A88E1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D4244-6639-4C4C-A416-57A77ADD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4A11A-5592-4909-98B2-0B5366B6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1510A-C431-4D30-A46C-6EF741AA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53182-20B8-416A-9269-FC5F6E7F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0924F-4581-41C0-992A-087CBC5B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CB7F8-C72C-44F1-944B-E455C783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9885-0D33-4D55-A279-3D7311C9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F84-8045-4A6C-A6FE-8644E524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E6D-D3D0-48CF-9C95-A7302400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F7F-1687-437F-8C88-3E2A00B6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A26-B2FB-492A-AF10-40EA6E51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9CE70-E2D9-480C-BCDC-17CEFDA9EEA4}" type="slidenum">
              <a:rPr b="0" lang="en-US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4A3AC-6C3C-455F-9511-B1CD4B6228D7}" type="slidenum">
              <a:rPr b="0" lang="en-US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70AEC-C953-4D55-9933-9E8DA5E31811}" type="slidenum">
              <a:rPr b="0" lang="en-US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B20F3-93EE-4839-952C-F6A5CE35FF8F}" type="slidenum">
              <a:rPr b="0" lang="en-US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Прямоугольник 4" descr=""/>
          <p:cNvPicPr/>
          <p:nvPr/>
        </p:nvPicPr>
        <p:blipFill>
          <a:blip r:embed="rId1"/>
          <a:stretch/>
        </p:blipFill>
        <p:spPr>
          <a:xfrm>
            <a:off x="633240" y="907920"/>
            <a:ext cx="8639280" cy="279252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5" descr=""/>
          <p:cNvPicPr/>
          <p:nvPr/>
        </p:nvPicPr>
        <p:blipFill>
          <a:blip r:embed="rId2"/>
          <a:stretch/>
        </p:blipFill>
        <p:spPr>
          <a:xfrm>
            <a:off x="480960" y="4078440"/>
            <a:ext cx="9023400" cy="232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Прямоугольник 4" descr=""/>
          <p:cNvPicPr/>
          <p:nvPr/>
        </p:nvPicPr>
        <p:blipFill>
          <a:blip r:embed="rId1"/>
          <a:stretch/>
        </p:blipFill>
        <p:spPr>
          <a:xfrm>
            <a:off x="1841400" y="-401760"/>
            <a:ext cx="8521920" cy="2773440"/>
          </a:xfrm>
          <a:prstGeom prst="rect">
            <a:avLst/>
          </a:prstGeom>
          <a:ln w="0">
            <a:noFill/>
          </a:ln>
        </p:spPr>
      </p:pic>
      <p:pic>
        <p:nvPicPr>
          <p:cNvPr id="194" name="Прямоугольник 5" descr=""/>
          <p:cNvPicPr/>
          <p:nvPr/>
        </p:nvPicPr>
        <p:blipFill>
          <a:blip r:embed="rId2"/>
          <a:stretch/>
        </p:blipFill>
        <p:spPr>
          <a:xfrm>
            <a:off x="1646280" y="1706400"/>
            <a:ext cx="9082080" cy="5145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-360" y="-360"/>
            <a:ext cx="11466360" cy="36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entury Gothic"/>
              </a:rPr>
              <a:t>Приложения могут обозначать качество предмета, а также родство, национальность, возраст, профессию лица, названного нарицательным или собственным существительным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104760" y="3379680"/>
            <a:ext cx="12684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Например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юноша-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поэт</a:t>
            </a: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, сын-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храбрец</a:t>
            </a: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, город-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геро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учёный-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биолог</a:t>
            </a: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, учёный-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исследователь</a:t>
            </a: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лётчик-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космонавт</a:t>
            </a: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, сын-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пятиклассник</a:t>
            </a: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дядя</a:t>
            </a: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 Осип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58360" y="-360"/>
            <a:ext cx="11093400" cy="36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11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entury Gothic"/>
              </a:rPr>
              <a:t>Приложением  являются  имена собственные при неодушевлённом существительном, а также клички животных: </a:t>
            </a:r>
            <a:endParaRPr b="0" lang="en-US" sz="44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558720" y="3363840"/>
            <a:ext cx="11798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Century Gothic"/>
              </a:rPr>
              <a:t>Например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Century Gothic"/>
              </a:rPr>
              <a:t>спаниель </a:t>
            </a:r>
            <a:r>
              <a:rPr b="0" i="1" lang="ru-RU" sz="4800" spc="-1" strike="noStrike" u="sng">
                <a:solidFill>
                  <a:srgbClr val="ff0000"/>
                </a:solidFill>
                <a:uFillTx/>
                <a:latin typeface="Century Gothic"/>
              </a:rPr>
              <a:t>Тошка</a:t>
            </a:r>
            <a:r>
              <a:rPr b="0" i="1" lang="ru-RU" sz="4800" spc="-1" strike="noStrike">
                <a:solidFill>
                  <a:srgbClr val="ff0000"/>
                </a:solidFill>
                <a:latin typeface="Century Gothic"/>
              </a:rPr>
              <a:t>, река </a:t>
            </a:r>
            <a:r>
              <a:rPr b="0" i="1" lang="ru-RU" sz="4800" spc="-1" strike="noStrike" u="sng">
                <a:solidFill>
                  <a:srgbClr val="ff0000"/>
                </a:solidFill>
                <a:uFillTx/>
                <a:latin typeface="Century Gothic"/>
              </a:rPr>
              <a:t>Неман</a:t>
            </a:r>
            <a:r>
              <a:rPr b="0" i="1" lang="ru-RU" sz="4800" spc="-1" strike="noStrike">
                <a:solidFill>
                  <a:srgbClr val="ff0000"/>
                </a:solidFill>
                <a:latin typeface="Century Gothic"/>
              </a:rPr>
              <a:t>, соловей-</a:t>
            </a:r>
            <a:r>
              <a:rPr b="0" i="1" lang="ru-RU" sz="4800" spc="-1" strike="noStrike" u="sng">
                <a:solidFill>
                  <a:srgbClr val="ff0000"/>
                </a:solidFill>
                <a:uFillTx/>
                <a:latin typeface="Century Gothic"/>
              </a:rPr>
              <a:t>певун</a:t>
            </a:r>
            <a:r>
              <a:rPr b="0" i="1" lang="ru-RU" sz="4800" spc="-1" strike="noStrike">
                <a:solidFill>
                  <a:srgbClr val="ff0000"/>
                </a:solidFill>
                <a:latin typeface="Century Gothic"/>
              </a:rPr>
              <a:t>, река </a:t>
            </a:r>
            <a:r>
              <a:rPr b="0" i="1" lang="ru-RU" sz="4800" spc="-1" strike="noStrike" u="sng">
                <a:solidFill>
                  <a:srgbClr val="ff0000"/>
                </a:solidFill>
                <a:uFillTx/>
                <a:latin typeface="Century Gothic"/>
              </a:rPr>
              <a:t>Волга</a:t>
            </a:r>
            <a:r>
              <a:rPr b="0" i="1" lang="ru-RU" sz="4800" spc="-1" strike="noStrike">
                <a:solidFill>
                  <a:srgbClr val="ff0000"/>
                </a:solidFill>
                <a:latin typeface="Century Gothic"/>
              </a:rPr>
              <a:t>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800" spc="-1" strike="noStrike" u="sng">
                <a:solidFill>
                  <a:srgbClr val="ff0000"/>
                </a:solidFill>
                <a:uFillTx/>
                <a:latin typeface="Century Gothic"/>
              </a:rPr>
              <a:t>Клязьма</a:t>
            </a:r>
            <a:r>
              <a:rPr b="0" i="1" lang="ru-RU" sz="4800" spc="-1" strike="noStrike">
                <a:solidFill>
                  <a:srgbClr val="ff0000"/>
                </a:solidFill>
                <a:latin typeface="Century Gothic"/>
              </a:rPr>
              <a:t>-ре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34520" y="158400"/>
            <a:ext cx="11217240" cy="36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entury Gothic"/>
              </a:rPr>
              <a:t>Приложениями являются и названия книг, журналов, фирм, сортов растений и т. д.             Все эти приложения пишутся с большой буквы и заключаются в кавычки. С определяемым существительным они не согласуются в падежной форме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558720" y="3675240"/>
            <a:ext cx="11633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Например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картина В. Васнецова «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Богатыри</a:t>
            </a: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», журнал «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Вокруг света</a:t>
            </a: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»,                      тюльпан «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чёрный принц</a:t>
            </a: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Таблица 1" descr=""/>
          <p:cNvPicPr/>
          <p:nvPr/>
        </p:nvPicPr>
        <p:blipFill>
          <a:blip r:embed="rId1"/>
          <a:stretch/>
        </p:blipFill>
        <p:spPr>
          <a:xfrm>
            <a:off x="42840" y="115920"/>
            <a:ext cx="12125520" cy="653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614520" y="627120"/>
          <a:ext cx="11129760" cy="5721120"/>
        </p:xfrm>
        <a:graphic>
          <a:graphicData uri="http://schemas.openxmlformats.org/drawingml/2006/table">
            <a:tbl>
              <a:tblPr/>
              <a:tblGrid>
                <a:gridCol w="5545080"/>
                <a:gridCol w="5584680"/>
              </a:tblGrid>
              <a:tr h="572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Через дефи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) если приложение и определяемое слово являются нарицательными существительными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точка-</a:t>
                      </a: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нырок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город-</a:t>
                      </a: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герой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</a:t>
                      </a: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 красавицы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берёзки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)если нарицательное существительное стоит после имени собственного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шкин-</a:t>
                      </a: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поэт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и Пушкин-</a:t>
                      </a: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человек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всегда дополняли друг друг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ефис не стави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сли между приложением и определяемым существительным имеются родо-видовые отношения: Гриб </a:t>
                      </a: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лисичка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скоро будет занесён в Красную книг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сле слов типа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господин, товарищ, гражданин и др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.: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Господин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посол, мы рады приветствовать Вас в нашем город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Прямоугольник 3" descr=""/>
          <p:cNvPicPr/>
          <p:nvPr/>
        </p:nvPicPr>
        <p:blipFill>
          <a:blip r:embed="rId1"/>
          <a:stretch/>
        </p:blipFill>
        <p:spPr>
          <a:xfrm>
            <a:off x="1809720" y="1384200"/>
            <a:ext cx="971712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8T17:23:20Z</dcterms:created>
  <dc:creator>Tatu</dc:creator>
  <dc:description/>
  <dc:language>en-US</dc:language>
  <cp:lastModifiedBy>Acer</cp:lastModifiedBy>
  <dcterms:modified xsi:type="dcterms:W3CDTF">2017-01-14T17:31:49Z</dcterms:modified>
  <cp:revision>24</cp:revision>
  <dc:subject/>
  <dc:title>Презентация PowerPoint</dc:title>
</cp:coreProperties>
</file>