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2D3-7A52-4C88-A8D5-9F4DA190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CC6A-45CE-4E34-846A-F7E01612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446-CCE7-4BC5-A675-B0A3C1DCF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E74E-0284-4FF9-A21F-3520653C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52C-08FF-4BDF-BDF1-9F8F5D09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2919-7BBE-4E13-8C09-4E0860B4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C9E2-3606-4B62-960B-6EE7444C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8890-22D4-4F34-A127-8359A721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DA7-4CA8-489A-9208-DF76B52C8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E69-5500-48C1-B098-5DCAC36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44B-FDCF-4B56-857B-3C7998E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858-FA12-4D65-99EB-25E0B324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4093-96F3-4FDC-963F-5AAC520FC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:\к занятиям\29.03\fei_1.png"/>
          <p:cNvPicPr/>
          <p:nvPr/>
        </p:nvPicPr>
        <p:blipFill>
          <a:blip r:embed="rId2"/>
          <a:stretch/>
        </p:blipFill>
        <p:spPr>
          <a:xfrm>
            <a:off x="4267080" y="1676520"/>
            <a:ext cx="4637160" cy="4884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190512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Путешествие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в </a:t>
            </a:r>
            <a:br>
              <a:rPr sz="3000"/>
            </a:br>
            <a:r>
              <a:rPr b="1" i="1" lang="en-US" sz="3000" spc="-1" strike="noStrike">
                <a:solidFill>
                  <a:srgbClr val="333399"/>
                </a:solidFill>
                <a:latin typeface="Arial"/>
              </a:rPr>
              <a:t>страну Математи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60912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униципальное автономное дошкольное образовательное учреждение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детский сад №1 «Алёнушка» города Аси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м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3520" y="4419720"/>
            <a:ext cx="4038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оспитатель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Лаханова Светла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0011-011-10" descr=""/>
          <p:cNvPicPr/>
          <p:nvPr/>
        </p:nvPicPr>
        <p:blipFill>
          <a:blip r:embed="rId2"/>
          <a:stretch/>
        </p:blipFill>
        <p:spPr>
          <a:xfrm>
            <a:off x="4038480" y="609480"/>
            <a:ext cx="4824360" cy="601992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44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208160" cy="109872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1" descr=""/>
          <p:cNvPicPr/>
          <p:nvPr/>
        </p:nvPicPr>
        <p:blipFill>
          <a:blip r:embed="rId4"/>
          <a:stretch/>
        </p:blipFill>
        <p:spPr>
          <a:xfrm>
            <a:off x="762120" y="1066680"/>
            <a:ext cx="1163520" cy="10987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45" descr=""/>
          <p:cNvPicPr/>
          <p:nvPr/>
        </p:nvPicPr>
        <p:blipFill>
          <a:blip r:embed="rId5"/>
          <a:stretch/>
        </p:blipFill>
        <p:spPr>
          <a:xfrm>
            <a:off x="2286000" y="1752480"/>
            <a:ext cx="121932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43" descr=""/>
          <p:cNvPicPr/>
          <p:nvPr/>
        </p:nvPicPr>
        <p:blipFill>
          <a:blip r:embed="rId6"/>
          <a:stretch/>
        </p:blipFill>
        <p:spPr>
          <a:xfrm>
            <a:off x="1600200" y="3276720"/>
            <a:ext cx="1163520" cy="10983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40" descr=""/>
          <p:cNvPicPr/>
          <p:nvPr/>
        </p:nvPicPr>
        <p:blipFill>
          <a:blip r:embed="rId7"/>
          <a:stretch/>
        </p:blipFill>
        <p:spPr>
          <a:xfrm>
            <a:off x="2438280" y="5029200"/>
            <a:ext cx="12002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0.10208 C 0.01146 0.12986 0.00799 0.11713 0.0191 0.13102 C 0.01962 0.13333 0.01945 0.13611 0.02066 0.13773 C 0.02188 0.13935 0.02396 0.13912 0.0257 0.13982 C 0.03264 0.14283 0.03663 0.14676 0.0441 0.14884 C 0.06632 0.14699 0.06858 0.14746 0.08577 0.13982 C 0.08906 0.13843 0.09236 0.13681 0.09566 0.13542 C 0.0974 0.13472 0.1007 0.13333 0.1007 0.13333 C 0.11684 0.11852 0.09115 0.14121 0.11406 0.12431 C 0.12552 0.11574 0.13646 0.09861 0.14896 0.09329 C 0.15781 0.08195 0.14636 0.09537 0.15729 0.08658 C 0.16129 0.08333 0.16597 0.07176 0.16736 0.06875 C 0.16997 0.06343 0.17413 0.05996 0.17743 0.05556 C 0.17882 0.05371 0.17934 0.0507 0.18073 0.04884 C 0.18212 0.04699 0.1842 0.04607 0.18577 0.04445 C 0.18976 0.04028 0.19341 0.03102 0.19566 0.02662 C 0.19827 0.02107 0.20347 0.01759 0.20729 0.0132 C 0.21025 0.00972 0.21285 0.00579 0.21563 0.00208 C 0.21684 0.0007 0.2191 -0.00231 0.2191 -0.00231 C 0.22136 -0.01227 0.22552 -0.01342 0.23073 -0.02014 C 0.23368 -0.02407 0.2408 -0.03912 0.24236 -0.04236 C 0.24983 -0.05764 0.25226 -0.07917 0.26406 -0.0912 C 0.2717 -0.09907 0.27518 -0.10972 0.28229 -0.11782 C 0.29132 -0.12801 0.30243 -0.13773 0.31077 -0.14907 C 0.32275 -0.16551 0.30868 -0.15092 0.32066 -0.16458 C 0.33073 -0.17592 0.34254 -0.18426 0.35243 -0.1956 C 0.35816 -0.20231 0.36406 -0.20995 0.37049 -0.21574 C 0.38386 -0.22778 0.37153 -0.21319 0.38229 -0.22454 C 0.39115 -0.23403 0.39966 -0.24514 0.40903 -0.25347 C 0.41337 -0.2625 0.41736 -0.26319 0.42379 -0.26898 C 0.43316 -0.27708 0.42084 -0.27037 0.43229 -0.27569 C 0.43716 -0.28217 0.44063 -0.28449 0.4474 -0.2868 C 0.45261 -0.29167 0.45799 -0.29305 0.46389 -0.2956 C 0.47222 -0.30278 0.48125 -0.30579 0.49063 -0.30903 C 0.50243 -0.32407 0.51788 -0.325 0.53403 -0.32685 C 0.55868 -0.32384 0.58351 -0.31481 0.60729 -0.30463 C 0.61354 -0.29884 0.62084 -0.29606 0.62743 -0.2912 C 0.63038 -0.28889 0.63854 -0.28125 0.64236 -0.27778 C 0.6441 -0.27639 0.64549 -0.27407 0.6474 -0.27338 C 0.64913 -0.27268 0.65139 -0.27315 0.65243 -0.27129 C 0.65347 -0.26944 0.65243 -0.2669 0.65243 -0.26458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8657 C 0.00487 0.11296 0.00712 0.13333 0.01806 0.15532 C 0.02119 0.16157 0.02153 0.16898 0.02483 0.17546 C 0.02848 0.19143 0.03438 0.19051 0.0448 0.19977 C 0.0507 0.20509 0.05643 0.21227 0.06303 0.21551 C 0.07066 0.22986 0.08438 0.25694 0.09636 0.26204 C 0.104 0.26875 0.11459 0.27569 0.12136 0.28426 C 0.1257 0.28958 0.12744 0.29305 0.13316 0.29537 C 0.1533 0.31366 0.17969 0.33449 0.20313 0.34213 C 0.21876 0.35254 0.23889 0.36134 0.25643 0.36435 C 0.2665 0.36597 0.28646 0.36875 0.28646 0.36898 C 0.31737 0.38287 0.34688 0.37662 0.38143 0.37754 C 0.40816 0.38379 0.43594 0.37847 0.46285 0.37546 C 0.47501 0.37129 0.48751 0.36875 0.49966 0.36643 C 0.51303 0.36065 0.52639 0.35324 0.53976 0.34884 C 0.54185 0.34815 0.5441 0.34745 0.54636 0.34653 C 0.54948 0.34514 0.55643 0.34213 0.55643 0.34236 C 0.56129 0.33773 0.5665 0.33588 0.57136 0.33102 C 0.57865 0.32338 0.58403 0.3125 0.59306 0.30879 C 0.60139 0.29166 0.5908 0.31041 0.60139 0.29977 C 0.60452 0.29653 0.60643 0.29143 0.60973 0.28866 C 0.61146 0.28727 0.61303 0.28565 0.61476 0.28426 C 0.6158 0.28194 0.61719 0.27986 0.61806 0.27754 C 0.61876 0.27546 0.61858 0.27268 0.6198 0.27106 C 0.62535 0.26389 0.62483 0.26782 0.62483 0.27106 E"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9745 C 0.0026 0.11991 0.00711 0.14167 0.01007 0.16412 C 0.01267 0.18333 0.01441 0.20301 0.0184 0.22176 C 0.0217 0.23773 0.02257 0.26111 0.03177 0.27292 C 0.03402 0.28241 0.03767 0.29005 0.0401 0.29954 C 0.04184 0.30625 0.04236 0.31343 0.04496 0.31968 C 0.05017 0.33218 0.05729 0.3419 0.06336 0.35301 C 0.06475 0.35579 0.0651 0.35926 0.06666 0.36181 C 0.07552 0.37639 0.08854 0.38727 0.10173 0.39282 C 0.11389 0.40972 0.13802 0.39815 0.15173 0.39745 C 0.16684 0.39213 0.18142 0.38449 0.1967 0.37963 C 0.21093 0.37014 0.22673 0.3662 0.24166 0.35949 C 0.24288 0.35903 0.25069 0.35579 0.25173 0.35509 C 0.25694 0.35116 0.26093 0.34444 0.26666 0.3419 C 0.2717 0.33958 0.27725 0.33634 0.28177 0.33287 C 0.28524 0.33032 0.28784 0.32569 0.29166 0.32407 C 0.29861 0.32083 0.29514 0.32315 0.30173 0.31736 C 0.30937 0.30162 0.30503 0.30694 0.31336 0.29954 C 0.31736 0.29143 0.31493 0.29398 0.31996 0.29074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0.08657 C 0.00764 0.10463 0.0132 0.11157 0.02465 0.12199 C 0.02587 0.12431 0.02674 0.12685 0.02813 0.1287 C 0.02952 0.13056 0.03177 0.13102 0.03299 0.1331 C 0.03976 0.14329 0.03889 0.15162 0.04809 0.15532 C 0.05417 0.16343 0.05955 0.16366 0.06632 0.17083 C 0.07882 0.18449 0.08698 0.20417 0.10313 0.21088 C 0.10712 0.21505 0.11042 0.2206 0.11476 0.22431 C 0.11823 0.22732 0.12274 0.22801 0.12639 0.23102 C 0.13368 0.23727 0.13785 0.24514 0.14636 0.24861 C 0.14809 0.25023 0.14948 0.25208 0.15139 0.25324 C 0.15625 0.25602 0.16632 0.25972 0.16632 0.25995 C 0.17188 0.26713 0.18125 0.27107 0.18802 0.27546 C 0.20486 0.28657 0.22188 0.29676 0.23976 0.30417 C 0.26337 0.32593 0.27778 0.32639 0.30799 0.3287 C 0.32327 0.33403 0.3375 0.33982 0.35313 0.34213 C 0.3632 0.34884 0.37379 0.35069 0.38472 0.35324 C 0.39306 0.36042 0.38629 0.35556 0.39636 0.35972 C 0.39983 0.36111 0.40643 0.36435 0.40643 0.36458 C 0.41493 0.36134 0.41632 0.35741 0.42309 0.35093 C 0.42761 0.34653 0.43125 0.34607 0.43646 0.34421 C 0.43802 0.34282 0.43959 0.34097 0.44132 0.33982 C 0.44462 0.33796 0.45139 0.33542 0.45139 0.33565 C 0.45886 0.32894 0.46788 0.32546 0.47465 0.31759 C 0.4816 0.30949 0.48334 0.30347 0.49132 0.29977 C 0.49393 0.29653 0.4974 0.29468 0.49965 0.29097 C 0.5007 0.28912 0.50052 0.28634 0.50139 0.28426 C 0.50469 0.27546 0.50799 0.2662 0.51146 0.25764 C 0.51441 0.25069 0.51806 0.24421 0.52136 0.2375 C 0.52431 0.23171 0.52465 0.22431 0.52639 0.21759 C 0.52778 0.21181 0.52969 0.20602 0.52969 0.19977 E">
                                      <p:cBhvr>
                                        <p:cTn id="18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03 0.0831 C 0.00347 0.09375 -0.00729 0.08078 0.0033 0.09189 C 0.00573 0.09444 0.00729 0.09861 0.01007 0.10092 C 0.01302 0.10324 0.01667 0.1037 0.01997 0.10532 C 0.02882 0.11666 0.04948 0.12129 0.06163 0.12523 C 0.06997 0.12801 0.0783 0.12939 0.08663 0.13194 C 0.09531 0.13472 0.1007 0.14189 0.11007 0.14305 C 0.12066 0.14421 0.13108 0.14467 0.14167 0.14537 C 0.1717 0.15787 0.26042 0.14629 0.28004 0.14537 C 0.2882 0.14259 0.29688 0.14213 0.30504 0.13865 C 0.31441 0.13449 0.32379 0.13055 0.33334 0.12754 C 0.33507 0.12615 0.33663 0.1243 0.33837 0.12314 C 0.33993 0.12199 0.34184 0.12199 0.3434 0.12083 C 0.34861 0.11689 0.35261 0.10972 0.35834 0.1074 C 0.36597 0.10416 0.3724 0.09907 0.38004 0.09629 C 0.38681 0.09051 0.3941 0.08865 0.40174 0.08518 C 0.41406 0.07963 0.42066 0.0618 0.43334 0.05648 C 0.43438 0.05486 0.43577 0.0537 0.43663 0.05185 C 0.43854 0.04768 0.43837 0.04213 0.43837 0.04745 E">
                                      <p:cBhvr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54482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78204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1371600"/>
            <a:ext cx="51436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447920" y="1143000"/>
            <a:ext cx="60958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267080" cy="2846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" y="838080"/>
            <a:ext cx="3924360" cy="33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752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СПАСИ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:\к занятиям\29.03\fei_1.png"/>
          <p:cNvPicPr/>
          <p:nvPr/>
        </p:nvPicPr>
        <p:blipFill>
          <a:blip r:embed="rId2"/>
          <a:stretch/>
        </p:blipFill>
        <p:spPr>
          <a:xfrm>
            <a:off x="4724280" y="2362320"/>
            <a:ext cx="405792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4T15:50:22Z</dcterms:created>
  <dc:creator>Светлана</dc:creator>
  <dc:description/>
  <dc:language>en-US</dc:language>
  <cp:lastModifiedBy>Светлана</cp:lastModifiedBy>
  <dcterms:modified xsi:type="dcterms:W3CDTF">2017-01-14T17:46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