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D3C4-5EFF-4065-9044-95950EA7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475-EA1D-47FE-89F8-36FE5560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0AE-B2CF-4DE6-8469-8671BF6F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7E99-7152-4421-B7A8-1BC21D63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AAC1-88D4-44F2-9E79-F3F9DE7B4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FE4D-7B1D-46F8-AB83-0AEB416EE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F26B-2CC7-40AD-A211-903FCCDD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3715-AA16-4AC1-829C-7391F692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9ECC5-FED4-42AD-9E1F-7A13DF31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172F-4E01-4913-9D20-088B7110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7C89-C248-456E-8512-16F1759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BF6-5627-48AF-9DD9-B44BAFB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3287-63F8-4B03-9AED-86CA24C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BB4D-940F-4070-8F0D-EE5A1E11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646D-5F1D-46B7-AAE6-D0B4A0D8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1BCB-A47E-4DD0-BAE5-D63F828E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5A92-5EBA-4A99-AE02-41EF5408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149-2473-4AF8-ACEA-E324625F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39C-4669-46C9-B54A-756B2C18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F50-B216-4A3D-B51A-970B2C7E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62F5-CCA3-4D0C-85E7-F37B8198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611-381E-444D-8B2C-9CF0591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39EB-CC0E-4CB7-8887-1B73172F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BA1-BC8D-4FBC-8026-E4A04C15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3F42-5E5F-4BE8-A139-BBFDE8017B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1A47-569F-4532-BA03-70C24B4016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КОУ ВЕРХНЕХАВСКАЯ СОШ № 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ЕКТ ПО ПРЕДМЕТ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РУССКИЙ ЯЗЫК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НА ТЕМУ«РИФМ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полнила  обучающаяся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2 класса  «б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Кузнецова  Даш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Данюкова С.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год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Перекрёстная риф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Нелюдимо наше </a:t>
            </a:r>
            <a:r>
              <a:rPr b="1" i="1" lang="en-US" sz="4800" spc="-1" strike="noStrike">
                <a:solidFill>
                  <a:srgbClr val="cc3300"/>
                </a:solidFill>
                <a:latin typeface="Arial"/>
              </a:rPr>
              <a:t>море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День и ночь шумит </a:t>
            </a:r>
            <a:r>
              <a:rPr b="1" i="1" lang="en-US" sz="4800" spc="-1" strike="noStrike">
                <a:solidFill>
                  <a:srgbClr val="009900"/>
                </a:solidFill>
                <a:latin typeface="Arial"/>
              </a:rPr>
              <a:t>оно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;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В роковом его </a:t>
            </a:r>
            <a:r>
              <a:rPr b="1" i="1" lang="en-US" sz="4800" spc="-1" strike="noStrike">
                <a:solidFill>
                  <a:srgbClr val="cc3300"/>
                </a:solidFill>
                <a:latin typeface="Arial"/>
              </a:rPr>
              <a:t>просторе </a:t>
            </a:r>
            <a:br>
              <a:rPr sz="4800"/>
            </a:b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Много бед </a:t>
            </a:r>
            <a:r>
              <a:rPr b="1" i="1" lang="en-US" sz="4800" spc="-1" strike="noStrike">
                <a:solidFill>
                  <a:srgbClr val="009900"/>
                </a:solidFill>
                <a:latin typeface="Arial"/>
              </a:rPr>
              <a:t>погребено</a:t>
            </a: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       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Парная риф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ам ступа с Бабою Яг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ой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Идёт, бредёт сама соб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ой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ам царь Кащей над златом    ч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ахнет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Там русский дух... Там Русью п</a:t>
            </a:r>
            <a:r>
              <a:rPr b="1" i="1" lang="ru-RU" sz="4000" spc="-1" strike="noStrike">
                <a:solidFill>
                  <a:srgbClr val="009900"/>
                </a:solidFill>
                <a:latin typeface="Arial"/>
              </a:rPr>
              <a:t>ахнет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Опоясывающая риф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И там я был, и мёд я п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ил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У моря видел дуб зел</a:t>
            </a: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ёный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од ним сидел, и кот уч</a:t>
            </a:r>
            <a:r>
              <a:rPr b="1" i="1" lang="en-US" sz="4400" spc="-1" strike="noStrike">
                <a:solidFill>
                  <a:srgbClr val="009900"/>
                </a:solidFill>
                <a:latin typeface="Arial"/>
              </a:rPr>
              <a:t>ёны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вои мне сказки говор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ил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ифмовки-чистоговор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жно прямо “на ходу” придумывать рифмовки-чистоговорки. Они помогают почувствовать ритм стиха.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- Ча-ча-ча, мы были у врача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- Жа-жа-жа, нашли в лесу ежа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- От-от-от, мурлычет рыжий кот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б-иб-иб, в лесочке вырос гри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Буриме</a:t>
            </a: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– это веселая игра, стихотворная задача, где нужно писать стихотворения на заданные заранее рифмы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ифмы для буриме должны быть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неожиданными и немного странны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Главное требование к будущему стихотворению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здравый смысл и юмор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полянку вышел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з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айк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Видит – там синичек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т</a:t>
            </a:r>
            <a:r>
              <a:rPr b="1" i="1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айка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н открыл свою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шкат</a:t>
            </a:r>
            <a:r>
              <a:rPr b="1" i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улку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Дал синицам с маком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б</a:t>
            </a:r>
            <a:r>
              <a:rPr b="1" i="1" lang="en-US" sz="3200" spc="-1" strike="noStrike" u="sng">
                <a:solidFill>
                  <a:srgbClr val="009900"/>
                </a:solidFill>
                <a:uFillTx/>
                <a:latin typeface="Arial"/>
              </a:rPr>
              <a:t>улку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усском языке существует огромное многообразие рифм. Без них невозможно создать ни одно стихотворение. Они помогают читателю более ясно понять написанное поэтом произведе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229600" cy="31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Рассказать, что такое рифма, и какая она бывае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АКТУАЛЬНОСТЬ ПРОЕК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а тема актуальна тем, что без рифмы невозможно написание стихотвор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Рифма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– созвучие окончаний стихотворных строк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Рифма - это когда слова в концах стихотворных строчек заканчиваются одинаково,- объяснил Цветик.- Например: </a:t>
            </a:r>
            <a:r>
              <a:rPr b="0" i="1" lang="ru-RU" sz="4400" spc="-1" strike="noStrike" u="sng">
                <a:solidFill>
                  <a:srgbClr val="ffcc00"/>
                </a:solidFill>
                <a:uFillTx/>
                <a:latin typeface="Arial"/>
              </a:rPr>
              <a:t>утка</a:t>
            </a:r>
            <a:r>
              <a:rPr b="0" i="1" lang="ru-RU" sz="4400" spc="-1" strike="noStrike">
                <a:solidFill>
                  <a:srgbClr val="ffcc00"/>
                </a:solidFill>
                <a:latin typeface="Arial"/>
              </a:rPr>
              <a:t> – ш</a:t>
            </a:r>
            <a:r>
              <a:rPr b="0" i="1" lang="ru-RU" sz="4400" spc="-1" strike="noStrike" u="sng">
                <a:solidFill>
                  <a:srgbClr val="ffcc00"/>
                </a:solidFill>
                <a:uFillTx/>
                <a:latin typeface="Arial"/>
              </a:rPr>
              <a:t>утка</a:t>
            </a:r>
            <a:r>
              <a:rPr b="0" i="1" lang="ru-RU" sz="4400" spc="-1" strike="noStrike">
                <a:solidFill>
                  <a:srgbClr val="ffcc00"/>
                </a:solidFill>
                <a:latin typeface="Arial"/>
              </a:rPr>
              <a:t>, к</a:t>
            </a:r>
            <a:r>
              <a:rPr b="0" i="1" lang="ru-RU" sz="4400" spc="-1" strike="noStrike" u="sng">
                <a:solidFill>
                  <a:srgbClr val="ffcc00"/>
                </a:solidFill>
                <a:uFillTx/>
                <a:latin typeface="Arial"/>
              </a:rPr>
              <a:t>оржик</a:t>
            </a:r>
            <a:r>
              <a:rPr b="0" i="1" lang="ru-RU" sz="4400" spc="-1" strike="noStrike">
                <a:solidFill>
                  <a:srgbClr val="ffcc00"/>
                </a:solidFill>
                <a:latin typeface="Arial"/>
              </a:rPr>
              <a:t> – м</a:t>
            </a:r>
            <a:r>
              <a:rPr b="0" i="1" lang="ru-RU" sz="4400" spc="-1" strike="noStrike" u="sng">
                <a:solidFill>
                  <a:srgbClr val="ffcc00"/>
                </a:solidFill>
                <a:uFillTx/>
                <a:latin typeface="Arial"/>
              </a:rPr>
              <a:t>оржик</a:t>
            </a:r>
            <a:r>
              <a:rPr b="0" i="1" lang="ru-RU" sz="4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Я – поэт! Зовусь Незнайка!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От меня вам – балалайк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Картинка 1 из 37"/>
          <p:cNvPicPr/>
          <p:nvPr/>
        </p:nvPicPr>
        <p:blipFill>
          <a:blip r:embed="rId1"/>
          <a:stretch/>
        </p:blipFill>
        <p:spPr>
          <a:xfrm>
            <a:off x="1979640" y="1989000"/>
            <a:ext cx="533556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Незнайка придумал свою рифму: 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пал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ка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 – селёд</a:t>
            </a:r>
            <a:r>
              <a:rPr b="1" i="1" lang="en-US" sz="4400" spc="-1" strike="noStrike" u="sng">
                <a:solidFill>
                  <a:srgbClr val="ffcc00"/>
                </a:solidFill>
                <a:uFillTx/>
                <a:latin typeface="Arial"/>
              </a:rPr>
              <a:t>ка</a:t>
            </a: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Но Цветик с такой рифмой не согласилс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Шедевры Незнай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Знайка шёл гулять на речку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ерепрыгнул через овеч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оропыжка был голодный,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роглотил утюг холодный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уществует много разных видов риф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4T15:28:27Z</dcterms:created>
  <dc:creator>Маргарита Круглова</dc:creator>
  <dc:description>rusedu.ru</dc:description>
  <dc:language>en-US</dc:language>
  <cp:lastModifiedBy>one</cp:lastModifiedBy>
  <dcterms:modified xsi:type="dcterms:W3CDTF">2013-01-24T17:38:56Z</dcterms:modified>
  <cp:revision>9</cp:revision>
  <dc:subject/>
  <dc:title>Риф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4000000000001024140</vt:lpwstr>
  </property>
</Properties>
</file>