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14D-0F03-4517-8EB9-7A62E3E9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797-5E7E-43D3-9779-C87EDF58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E3C-13EF-4208-A9F7-8FAD09BA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B87-D5C7-446E-9B15-AD52382C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CF73-4E8C-4CC3-9968-9C5A8361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6145-A39A-4C09-B532-2ED7BA0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E1B6-E844-41C2-BA11-74D3B3ED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F85E-F564-4D3A-9995-F25C2396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6182-DEAF-4A55-A6DC-1150865B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D687-3264-4C51-8E9F-3E420D91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70FF-5D58-4270-B2D5-91217978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7AD-A84F-45CA-BA88-5B824D8A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AF41-692C-4871-8107-C6F3D828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9D7B-32B8-4DE0-BEC1-B7E97FD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D456-688D-4B31-BD34-6D171B2E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15F3-B36B-416E-B6AF-FDBAB0F4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4316-2BA9-47B6-99F0-8831D095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AA6-3D9F-4D4C-8B8E-E1B252F2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84C-EA36-41C8-B9B4-0F2D1FC1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45E-8FC4-4290-A6AF-EAB2D712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AA3-8C9B-4BB6-9404-41949463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68B-1FCC-4B49-A271-5050C7B0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46A-B922-48C6-8793-C84DC9C3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6CC-2852-4B35-82AE-298FC78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9EBA-79BA-4D5E-82CC-E542E1EAFB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A6B6-984E-4F0B-965A-F94F7FFB80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КОУ ВЕРХНЕХАВСКАЯ СОШ № 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Т ПО ПРЕДМЕ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РУССКИЙ ЯЗЫК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НА ТЕМУ«РИФМ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ила  обучающаяс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2 класса  «б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Кузнецова  Даш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Данюкова С.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од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Перекрёстная риф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Нелюдимо наше </a:t>
            </a:r>
            <a:r>
              <a:rPr b="1" i="1" lang="en-US" sz="4800" spc="-1" strike="noStrike">
                <a:solidFill>
                  <a:srgbClr val="cc3300"/>
                </a:solidFill>
                <a:latin typeface="Arial"/>
              </a:rPr>
              <a:t>море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День и ночь шумит </a:t>
            </a:r>
            <a:r>
              <a:rPr b="1" i="1" lang="en-US" sz="4800" spc="-1" strike="noStrike">
                <a:solidFill>
                  <a:srgbClr val="009900"/>
                </a:solidFill>
                <a:latin typeface="Arial"/>
              </a:rPr>
              <a:t>оно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;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В роковом его </a:t>
            </a:r>
            <a:r>
              <a:rPr b="1" i="1" lang="en-US" sz="4800" spc="-1" strike="noStrike">
                <a:solidFill>
                  <a:srgbClr val="cc3300"/>
                </a:solidFill>
                <a:latin typeface="Arial"/>
              </a:rPr>
              <a:t>просторе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Много бед </a:t>
            </a:r>
            <a:r>
              <a:rPr b="1" i="1" lang="en-US" sz="4800" spc="-1" strike="noStrike">
                <a:solidFill>
                  <a:srgbClr val="009900"/>
                </a:solidFill>
                <a:latin typeface="Arial"/>
              </a:rPr>
              <a:t>погребено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Парная риф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ам ступа с Бабою Яг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ой</a:t>
            </a: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дёт, бредёт сама соб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ой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ам царь Кащей над златом    ч</a:t>
            </a: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ахнет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ам русский дух... Там Русью п</a:t>
            </a: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ахнет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Опоясывающая риф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И там я был, и мёд я п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ил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У моря видел дуб зел</a:t>
            </a: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ёный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од ним сидел, и кот уч</a:t>
            </a: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ё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вои мне сказки говор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ил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ифмовки-чистоговор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жно прямо “на ходу” придумывать рифмовки-чистоговорки. Они помогают почувствовать ритм стиха.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- Ча-ча-ча, мы были у врача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- Жа-жа-жа, нашли в лесу ежа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- От-от-от, мурлычет рыжий кот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б-иб-иб, в лесочке вырос гри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Буриме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– это веселая игра, стихотворная задача, где нужно писать стихотворения на заданные заранее рифмы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Рифмы для буриме должны быть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еожиданными и немного странны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Главное требование к будущему стихотворению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здравый смысл и юмор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полянку вышел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з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айк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идит – там синичек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т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айк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н открыл свою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шкат</a:t>
            </a:r>
            <a:r>
              <a:rPr b="1" i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улку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ал синицам с маком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б</a:t>
            </a:r>
            <a:r>
              <a:rPr b="1" i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улку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усском языке существует огромное многообразие рифм. Без них невозможно создать ни одно стихотворение. Они помогают читателю более ясно понять написанное поэтом произвед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ссказать, что такое рифма, и какая она быва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тема актуальна тем, что без рифмы невозможно написание стихотвор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Рифма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– созвучие окончаний стихотворных строк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ифма - это когда слова в концах стихотворных строчек заканчиваются одинаково,- объяснил Цветик.- Например: </a:t>
            </a:r>
            <a:r>
              <a:rPr b="0" i="1" lang="ru-RU" sz="4400" spc="-1" strike="noStrike" u="sng">
                <a:solidFill>
                  <a:srgbClr val="ffcc00"/>
                </a:solidFill>
                <a:uFillTx/>
                <a:latin typeface="Arial"/>
              </a:rPr>
              <a:t>утка</a:t>
            </a:r>
            <a:r>
              <a:rPr b="0" i="1" lang="ru-RU" sz="4400" spc="-1" strike="noStrike">
                <a:solidFill>
                  <a:srgbClr val="ffcc00"/>
                </a:solidFill>
                <a:latin typeface="Arial"/>
              </a:rPr>
              <a:t> – ш</a:t>
            </a:r>
            <a:r>
              <a:rPr b="0" i="1" lang="ru-RU" sz="4400" spc="-1" strike="noStrike" u="sng">
                <a:solidFill>
                  <a:srgbClr val="ffcc00"/>
                </a:solidFill>
                <a:uFillTx/>
                <a:latin typeface="Arial"/>
              </a:rPr>
              <a:t>утка</a:t>
            </a:r>
            <a:r>
              <a:rPr b="0" i="1" lang="ru-RU" sz="4400" spc="-1" strike="noStrike">
                <a:solidFill>
                  <a:srgbClr val="ffcc00"/>
                </a:solidFill>
                <a:latin typeface="Arial"/>
              </a:rPr>
              <a:t>, к</a:t>
            </a:r>
            <a:r>
              <a:rPr b="0" i="1" lang="ru-RU" sz="4400" spc="-1" strike="noStrike" u="sng">
                <a:solidFill>
                  <a:srgbClr val="ffcc00"/>
                </a:solidFill>
                <a:uFillTx/>
                <a:latin typeface="Arial"/>
              </a:rPr>
              <a:t>оржик</a:t>
            </a:r>
            <a:r>
              <a:rPr b="0" i="1" lang="ru-RU" sz="4400" spc="-1" strike="noStrike">
                <a:solidFill>
                  <a:srgbClr val="ffcc00"/>
                </a:solidFill>
                <a:latin typeface="Arial"/>
              </a:rPr>
              <a:t> – м</a:t>
            </a:r>
            <a:r>
              <a:rPr b="0" i="1" lang="ru-RU" sz="4400" spc="-1" strike="noStrike" u="sng">
                <a:solidFill>
                  <a:srgbClr val="ffcc00"/>
                </a:solidFill>
                <a:uFillTx/>
                <a:latin typeface="Arial"/>
              </a:rPr>
              <a:t>оржик</a:t>
            </a:r>
            <a:r>
              <a:rPr b="0" i="1" lang="ru-RU" sz="4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Я – поэт! Зовусь Незнайка!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От меня вам – балалайка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Картинка 1 из 37"/>
          <p:cNvPicPr/>
          <p:nvPr/>
        </p:nvPicPr>
        <p:blipFill>
          <a:blip r:embed="rId1"/>
          <a:stretch/>
        </p:blipFill>
        <p:spPr>
          <a:xfrm>
            <a:off x="1979640" y="1989000"/>
            <a:ext cx="533556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езнайка придумал свою рифму: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пал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ка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– селёд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ка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Но Цветик с такой рифмой не согласился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Шедевры Незнай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найка шёл гулять на речку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епрыгнул через овеч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оропыжка был голодный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глотил утюг холодный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уществует много разных видов риф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5:28:27Z</dcterms:created>
  <dc:creator>Маргарита Круглова</dc:creator>
  <dc:description>rusedu.ru</dc:description>
  <dc:language>en-US</dc:language>
  <cp:lastModifiedBy>one</cp:lastModifiedBy>
  <dcterms:modified xsi:type="dcterms:W3CDTF">2013-01-24T17:38:56Z</dcterms:modified>
  <cp:revision>9</cp:revision>
  <dc:subject/>
  <dc:title>Риф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4000000000001024140</vt:lpwstr>
  </property>
</Properties>
</file>