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EEA-DF47-443C-B6FD-9269B2E4D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B19-8F2D-471B-A5B5-DA6C7682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D04-154D-4508-83E4-1BE39D1D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127-597C-475E-A4F4-E474C375C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74FD-F96A-47B0-A1CF-064D745B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7F27-B712-4B0D-8AEC-ADA321E6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67C8-F4AE-4AB7-BE54-CD7CD1B0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2193-4562-41FC-B709-27BDB890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13B2-6E37-4F3C-B14A-5E57D26E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1C79-6026-48CD-B014-FC7A53FC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F565-2FB4-4FE7-A445-B30BF22C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1DD5-9C13-490B-9C86-5459349F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0E54-25EB-4573-B658-ECD12419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0AB2-49C3-4141-8737-F78D23B7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7EAC-3E7E-4418-A289-062C0258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05F1B-51A0-4EBE-8C8E-6119CEA93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1382-4718-48AD-BCF2-5DCA25DF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C76-A94C-4F2E-B22C-F76409EA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D03-34ED-45A5-970D-1C2A46C1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AAB-6510-4138-8D2D-3F8BE056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855-1C42-4F42-917D-8C2AA700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786-D711-4B28-AB5E-37B7A05F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BAA-591A-4BF9-81FC-C901F83A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958-E4F0-43BD-8B95-3164FCD3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4320"/>
                <a:ext cx="1833480" cy="1664640"/>
                <a:chOff x="852840" y="4054320"/>
                <a:chExt cx="183348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5040" y="3942720"/>
                  <a:ext cx="475560" cy="122112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6040" y="4975200"/>
                  <a:ext cx="109800" cy="50112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0E57-BF4D-4971-BA92-278C28E519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3000"/>
              <a:ext cx="3621960" cy="6129720"/>
              <a:chOff x="5408280" y="63000"/>
              <a:chExt cx="362196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8120"/>
                <a:ext cx="2116440" cy="235584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9840"/>
                <a:ext cx="906480" cy="84240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91640"/>
                <a:ext cx="439920" cy="39492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5000"/>
                <a:ext cx="388800" cy="55116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6000"/>
                <a:ext cx="163440" cy="33156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8800" y="124416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560" y="2931840"/>
                <a:ext cx="523800" cy="326664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3800" y="301320"/>
              <a:ext cx="892800" cy="825840"/>
              <a:chOff x="5653800" y="301320"/>
              <a:chExt cx="89280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5400" y="796320"/>
                <a:ext cx="179280" cy="361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4640" y="475920"/>
                <a:ext cx="305280" cy="300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7160" y="401040"/>
                <a:ext cx="319320" cy="153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1200" y="5253480"/>
              <a:ext cx="1062360" cy="829800"/>
              <a:chOff x="961200" y="5253480"/>
              <a:chExt cx="106236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6400" y="5520600"/>
                <a:ext cx="250920" cy="30168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27240"/>
                <a:ext cx="429480" cy="2505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52560" y="5377680"/>
                <a:ext cx="448920" cy="1274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51080"/>
              <a:ext cx="1690200" cy="1146600"/>
              <a:chOff x="375840" y="4510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95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472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8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77480" y="3712320"/>
              <a:ext cx="1156320" cy="1607760"/>
              <a:chOff x="737748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2200" y="4755960"/>
                <a:ext cx="35532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2920" y="4455360"/>
                <a:ext cx="608400" cy="440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5840" y="3781440"/>
                <a:ext cx="636120" cy="22392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5B58-BE41-41D4-B2CA-8A223CADD4D0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99"/>
                </a:solidFill>
                <a:latin typeface="Verdana"/>
              </a:rPr>
              <a:t>Тема: </a:t>
            </a:r>
            <a:r>
              <a:rPr b="1" i="1" lang="ru-RU" sz="4000" spc="-1" strike="noStrike">
                <a:solidFill>
                  <a:srgbClr val="006699"/>
                </a:solidFill>
                <a:latin typeface="Verdana"/>
              </a:rPr>
              <a:t>«Родителям  о внимании и внимательности»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4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В приведенных ниже рядах букв найди «спрятавшиеся» там слова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аврогазетаатмнивслшктдомрвмевнгмшь (газета, дом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шаонсрвикеымочкивлгмлгстимснпакетд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(очки, пакет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Авмлберёзавлнгстрыиченсщкнигамшва (берёза, книга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Вонгарсиыпчьлшдаткошкаавеснауекымчся (кошка, весна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Звнкпеналваскшнмтвлдчбювнлесвнаоств (пенал, лес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5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предлагается разделить «склеенные» между собой сло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шаркорзинаботинкибинокльедаобезья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нигарукаельчасытрамвайсамоварлучиграокн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6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предлагается разделить «склеенные» предложе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Былазимазимойхолодноморозщиплетщёкипогодахоршаясветитсолнцедетирадуютсятёплымлуча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7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предлагается вычеркнуть повторяющиеся слова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ресолнцелесводамореземлясолнцелучнебоводарыбалесуткаморесолнцепароходводаземляпоходморелесрыбанебодетимор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8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Ребёнку предлагается расставить числа в порядке возрастания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5, 8, 1, 6, 4, 12, 7, 2, 1, 8, 10, 4, 3, 2, 0, 5, 2, 8, 5, 7, 18, 20, 11, 16, 8, 13, 8, 6, 19, 11, 15, 17, 12, 14,17, 13, 6, 4, 8, 19, 0, 9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9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ебёнку предлагается найти 6 ошибок в приведенных ниже примерах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3 + 4=7          4 + 5= 8          10 – 2= 7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2 + 3=5          8 – 4= 4            9 – 6=2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12- 2=9          20-1=19          13+1=1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6 + 3=9          17-10=7           11+1=1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7 + 2=8           19+1=20          7 – 3=4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10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едложите своему ребёнку решить следующую задач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«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На столе лежали книга, ручка, краски, фломастер, тушь. Один предмет убрали и заменили другим. И оказалось, что на столе лежат ручка, тушь, ластик, книга, краски.Что убрали со стола и что положили на стол?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11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ама попросила сына купить в магазине хлеб, молоко, пельмени. Сын купил по просьбе мамы масло, сало, пельмени. Что он забыл купить и что купил лишне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амятка для родителе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9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 основе внимания лежит интерес. Чем интереснее и разнообразнее будут игры и забавы, которые вы предлагаете вашему ребенку, тем больше шансов развить у него произвольное внимание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Развивая внимание своего ребёнка, учитывайте круг его увлечений. Отталкиваясь от его увлечений, привлекайте его внимание к другим процессам и явлениям, связанным с его  увлечениям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Постоянно тренируйте внимание своего ребёнка. Используйте для этого прогулки на свежем воздухе, поездки, походы, любую возможность. Учите наблюдать за природой и ее явлениям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Развивая внимание ребёнка, не назидайте, не фиксируйте его неудачи. Больше внимания обращайте на достигнутые им успехи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Стимулируйте интерес к развитию внимания собственным примером и примерами из жизни других людей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 семейном кругу демонстрируйте достижения ребёнка по развитию собственного внимани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Наберитесь терпения и не ждите немедленных, успешных результат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Используйте специальную литературу, которая поможет вашему ребёнку достичь успехов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692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В газете или в журнале попросите ребенка по сигналу зачеркнуть все встречающиеся буквы е. Взрослый тоже может принять участие в соревновани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риготовьте на листе бумаги ряд букв, среди которых необходимо обнаружить слова: ПРНОСЫДПОРМСАПОСОК ( НОС, СОК и др.)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Попросите найти вокруг себя и назвать за 15 секунд предметы с определенным цветом или формо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большинства детей в классе высокий, хороший и положительный мотив к учебе – 16 человек (88%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 ребенка не умеют работать с текстом и тест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250560" y="333360"/>
            <a:ext cx="8302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гра «Топ-Хлоп». Взрослый говорит фразы-понятия, если они правильные («Летом жарко») ребенок хлопает, если неправильные («Ножом кушают») – топа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Игра «Лови - не лови». Взрослый кидает, а малыш ловит мяч. Предварительно оговаривается условие, что ловить можно только тогда, когда будет сказано: «Лови!». Если мяч брошен без слов, его необходимо отб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Упражнение «Не собьюсь», оно направлено на скорейшее развитие распределения и концентрации внимания. Ребенок должен посчитать от одного до 34, при этом числа, содержащие 3 нужно заменить словом «не боюсь»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Памятка для родителей по развитию внимания учащихс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   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важаемые мамы и папы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омните, что внимание – один из самых важных психических процессов, Внимание является важной составной частью результативности учебной деятельности вашего ребёнка. Для того, чтобы ваш ребёнок был внимательным, старайтесь помочь ему тренировать его внимани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50920" y="189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У 100 % третьеклассников очень низкий уровень внимания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ри постановке учебной задачи на среднем уровне понимают 67% детей (12 человек),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иже среднего 17%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на низком уровне понимания 3 челове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ланировать работу умеют на среднем уровне 3 человека, а на низком уровне 15 человек, что составляет 83%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Дети не умеют анализировать условие учебной задач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Главные проблемы начальной школы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Одной из главных проблем в начальной школе является недостаточное развитие у школьников процессов произвольного внимания. В семьях этому тоже уделяется недостаточно внимания. А ведь произвольное внимание – это привычка, воспитание которой начинается в семье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Ребёнок не умеет длительное время заниматься одним и тем же делом, не умеет играть с игрушками, не имеет интересов и увлечений – всё это может привести к несформированности произвольного внимания и впоследствии к проблемам в учебной деятельности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Анализ типичных ошибок учащихся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1) Если у детей недостаточно развито произвольное внимание, то они будут заменять в письменных работах согласные или гласные буквы, близкие по акустическим признакам («жуки» - «зуки»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2) Если у детей недостаточно развита устойчивость внимания, то они будут пропускать буквы и цифры в словах, предложениях и примерах (трва – трава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3) Если ребёнок переставляет слоги в словах, это связано с неустойчивостью внима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Подготовка упражнений по развитию внимания учащихся в домашних условиях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пражнение 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Для развития произвольного внимания ребёнку предлагается переписать без ошибок зашифрованные слова, а затем расшифровать их.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ирм, аворок, алокш, кинечу, адогоп, алкук, теломас, анишам, рофотевс, ьлибомотв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2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редложите ребёнку переписать без ошибок следующие строчки и представить себе, что могли бы обозначать эти слова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1) аммадама реберге ассамаса гесклалла ессанессас даталатт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2) ретаберта норасотанна дебаруга каллихарра филитадера клатимор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3) ретатерта груммопд лайоносандер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Verdana"/>
              </a:rPr>
              <a:t>4) остимера остимар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02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Упражнение 3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Корректурная проб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Ребёнку можно предложить выполнить следующую работу: в таблице предложенных букв необходимо вычёркивать вертикальной чертой буквы А, М, К, З. Эта таблица называется таблицей Бурдон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зонеафюстжмпсвюкчффложбюр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мфдлитгедишафялзихоюнзкиш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вюфгрвкдуекбжяапрсоютбг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мснбшрмфитявулкибюшлчбдн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гонбижюазбовехчюиелфвам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эмждектбшлмхпзиарвшудолбх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иомгрлязткежпсактднвтпрш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гмюнхдксунфмюлтпсрзшафчх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пояюиаждясуаенлжоячмжие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ахрсфсфяухиюкгепвхсфхчовт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22:14Z</dcterms:created>
  <dc:creator>Пользователь</dc:creator>
  <dc:description/>
  <dc:language>en-US</dc:language>
  <cp:lastModifiedBy>User</cp:lastModifiedBy>
  <dcterms:modified xsi:type="dcterms:W3CDTF">2017-01-13T09:46:25Z</dcterms:modified>
  <cp:revision>8</cp:revision>
  <dc:subject/>
  <dc:title>Муниципальное общеобразовательное учреждение средняя общеобразовательная школа № 37 г. Бу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Муниципальное учреждение среднего общего образования школа № 37</vt:lpwstr>
  </property>
  <property fmtid="{D5CDD505-2E9C-101B-9397-08002B2CF9AE}" pid="5" name="display_urn:schemas-microsoft-com:office:office#Editor">
    <vt:lpwstr>Муниципальное учреждение среднего общего образования школа № 37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