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A98D-F7E5-43DB-A027-CF5E533A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35F6-D7D2-4A27-B09D-492E72F0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4D2E-49F3-48F1-A777-7CFE41E5C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D12F-0A30-4FCA-A61E-FF7528B0B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5AD0-E2FB-47B6-B3DD-72A601C7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9F8D-E4F4-41E6-AAA1-02FDF834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F75A-5555-47D4-9A45-107148D1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43F2-C3DA-4D99-B40D-BF1FE6F4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1924-C555-43B4-86EA-F522FA67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79EE-8313-4980-9963-2A94E2DA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786E-1AAD-4B92-B1DD-1D9CDB16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7F09-E1BF-44CD-BEFA-09104AEE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0C1D-7EE5-48B2-92CD-EA703CC3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CE8D-A6C2-4D96-922D-99AF3253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0AAF-0C1C-4DC4-8AC4-794EAB98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418D-BA5F-4F38-8F72-6AA537B84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BFFC-DB64-4AFD-B524-B5E8BA32C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F0AB-819B-4FD6-A0EC-468D9170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F9F1-52BD-43EE-9571-87BFED4B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7F83-101E-4097-8801-AD477D7E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EA6D-41D6-44B3-95D4-FC21AC34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21EC-C63D-4F81-B836-911D6944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6888-245B-4AF5-8D15-1FB95568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B4D2-6CEF-419E-A277-2DCDFED8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8D6C-7EE1-44A5-8BEA-37824BE4DF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8280" y="63000"/>
              <a:ext cx="3621960" cy="6129720"/>
              <a:chOff x="5408280" y="63000"/>
              <a:chExt cx="362196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160" y="348120"/>
                <a:ext cx="2116440" cy="235584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9840"/>
                <a:ext cx="906480" cy="84240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91640"/>
                <a:ext cx="43992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5000"/>
                <a:ext cx="388800" cy="55116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840" y="264600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8800" y="1244160"/>
                <a:ext cx="19044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560" y="2931840"/>
                <a:ext cx="523800" cy="326664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3800" y="301320"/>
              <a:ext cx="892800" cy="825840"/>
              <a:chOff x="5653800" y="30132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400" y="79632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640" y="475920"/>
                <a:ext cx="30528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7160" y="4010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1200" y="5253480"/>
              <a:ext cx="1062360" cy="829800"/>
              <a:chOff x="961200" y="5253480"/>
              <a:chExt cx="106236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5480" y="57272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12F8-C494-4BF5-95EF-91B623C9E390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332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Тема: </a:t>
            </a:r>
            <a:r>
              <a:rPr b="1" i="1" lang="ru-RU" sz="4000" spc="-1" strike="noStrike">
                <a:solidFill>
                  <a:srgbClr val="006699"/>
                </a:solidFill>
                <a:latin typeface="Verdana"/>
              </a:rPr>
              <a:t>«Родителям  о внимании и внимательности»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Упражнение 4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приведенных ниже рядах букв найди «спрятавшиеся» там слова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аврогазетаатмнивслшктдомрвмевнгмшь (газета, дом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шаонсрвикеымочкивлгмлгстимснпакетд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(очки, пакет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Авмлберёзавлнгстрыиченсщкнигамшва (берёза, книга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Вонгарсиыпчьлшдаткошкаавеснауекымчся (кошка, весна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Звнкпеналваскшнмтвлдчбювнлесвнаоств (пенал, лес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Упражнение 5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ебёнку предлагается разделить «склеенные» между собой слов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шаркорзинаботинкибинокльедаобезьян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книгарукаельчасытрамвайсамоварлучиграокн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Упражнение 6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ебёнку предлагается разделить «склеенные» предложения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Былазимазимойхолодноморозщиплетщёкипогодахоршаясветитсолнцедетирадуютсятёплымлуча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Упражнение 7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ебёнку предлагается вычеркнуть повторяющиеся слова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Моресолнцелесводамореземлясолнцелучнебоводарыбалесуткаморесолнцепароходводаземляпоходморелесрыбанебодетимор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Упражнение 8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ебёнку предлагается расставить числа в порядке возрастания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5, 8, 1, 6, 4, 12, 7, 2, 1, 8, 10, 4, 3, 2, 0, 5, 2, 8, 5, 7, 18, 20, 11, 16, 8, 13, 8, 6, 19, 11, 15, 17, 12, 14,17, 13, 6, 4, 8, 19, 0, 9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Упражнение 9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ебёнку предлагается найти 6 ошибок в приведенных ниже примерах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3 + 4=7          4 + 5= 8          10 – 2= 7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2 + 3=5          8 – 4= 4            9 – 6=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12- 2=9          20-1=19          13+1=14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6 + 3=9          17-10=7           11+1=14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7 + 2=8           19+1=20          7 – 3=4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Упражнение 10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едложите своему ребёнку решить следующую задачу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«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На столе лежали книга, ручка, краски, фломастер, тушь. Один предмет убрали и заменили другим. И оказалось, что на столе лежат ручка, тушь, ластик, книга, краски.Что убрали со стола и что положили на стол?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Упражнение 11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Мама попросила сына купить в магазине хлеб, молоко, пельмени. Сын купил по просьбе мамы масло, сало, пельмени. Что он забыл купить и что купил лишнее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амятка для родителей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97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В основе внимания лежит интерес. Чем интереснее и разнообразнее будут игры и забавы, которые вы предлагаете вашему ребенку, тем больше шансов развить у него произвольное внимание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Развивая внимание своего ребёнка, учитывайте круг его увлечений. Отталкиваясь от его увлечений, привлекайте его внимание к другим процессам и явлениям, связанным с его  увлечениями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Постоянно тренируйте внимание своего ребёнка. Используйте для этого прогулки на свежем воздухе, поездки, походы, любую возможность. Учите наблюдать за природой и ее явлениями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Развивая внимание ребёнка, не назидайте, не фиксируйте его неудачи. Больше внимания обращайте на достигнутые им успехи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Стимулируйте интерес к развитию внимания собственным примером и примерами из жизни других людей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В семейном кругу демонстрируйте достижения ребёнка по развитию собственного внимания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Наберитесь терпения и не ждите немедленных, успешных результатов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Используйте специальную литературу, которая поможет вашему ребёнку достичь успехов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68360" y="692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 газете или в журнале попросите ребенка по сигналу зачеркнуть все встречающиеся буквы е. Взрослый тоже может принять участие в соревновани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иготовьте на листе бумаги ряд букв, среди которых необходимо обнаружить слова: ПРНОСЫДПОРМСАПОСОК ( НОС, СОК и др.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просите найти вокруг себя и назвать за 15 секунд предметы с определенным цветом или формо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У большинства детей в классе высокий, хороший и положительный мотив к учебе – 16 человек (88%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 ребенка не умеют работать с текстом и тесто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250560" y="333360"/>
            <a:ext cx="83026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гра «Топ-Хлоп». Взрослый говорит фразы-понятия, если они правильные («Летом жарко») ребенок хлопает, если неправильные («Ножом кушают») – топае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гра «Лови - не лови». Взрослый кидает, а малыш ловит мяч. Предварительно оговаривается условие, что ловить можно только тогда, когда будет сказано: «Лови!». Если мяч брошен без слов, его необходимо отбить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Упражнение «Не собьюсь», оно направлено на скорейшее развитие распределения и концентрации внимания. Ребенок должен посчитать от одного до 34, при этом числа, содержащие 3 нужно заменить словом «не боюсь»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Памятка для родителей по развитию внимания учащихся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Уважаемые мамы и папы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мните, что внимание – один из самых важных психических процессов, Внимание является важной составной частью результативности учебной деятельности вашего ребёнка. Для того, чтобы ваш ребёнок был внимательным, старайтесь помочь ему тренировать его внимани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50920" y="189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У 100 % третьеклассников очень низкий уровень внимания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и постановке учебной задачи на среднем уровне понимают 67% детей (12 человек)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иже среднего 17% - 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 низком уровне понимания 3 челове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ланировать работу умеют на среднем уровне 3 человека, а на низком уровне 15 человек, что составляет 83%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ети не умеют анализировать условие учебной задач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Главные проблемы начальной школ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дной из главных проблем в начальной школе является недостаточное развитие у школьников процессов произвольного внимания. В семьях этому тоже уделяется недостаточно внимания. А ведь произвольное внимание – это привычка, воспитание которой начинается в семь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ебёнок не умеет длительное время заниматься одним и тем же делом, не умеет играть с игрушками, не имеет интересов и увлечений – всё это может привести к несформированности произвольного внимания и впоследствии к проблемам в учебной деятельности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Анализ типичных ошибок учащихся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1) Если у детей недостаточно развито произвольное внимание, то они будут заменять в письменных работах согласные или гласные буквы, близкие по акустическим признакам («жуки» - «зуки»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2) Если у детей недостаточно развита устойчивость внимания, то они будут пропускать буквы и цифры в словах, предложениях и примерах (трва – трава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3) Если ребёнок переставляет слоги в словах, это связано с неустойчивостью внимания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Подготовка упражнений по развитию внимания учащихся в домашних условиях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Упражнение 1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Для развития произвольного внимания ребёнку предлагается переписать без ошибок зашифрованные слова, а затем расшифровать их.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ирм, аворок, алокш, кинечу, адогоп, алкук, теломас, анишам, рофотевс, ьлибомотв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Упражнение 2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едложите ребёнку переписать без ошибок следующие строчки и представить себе, что могли бы обозначать эти слова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1) аммадама реберге ассамаса гесклалла ессанессас даталатт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2) ретаберта норасотанна дебаруга каллихарра филитадера клатимор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3) ретатерта груммопд лайоносандер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4) остимера остимаре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02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Упражнение 3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         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Корректурная проба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Ребёнку можно предложить выполнить следующую работу: в таблице предложенных букв необходимо вычёркивать вертикальной чертой буквы А, М, К, З. Эта таблица называется таблицей Бурдон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             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зонеафюстжмпсвюкчффложбюр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             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мфдлитгедишафялзихоюнзкиш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             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твюфгрвкдуекбжяапрсоютбг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             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мснбшрмфитявулкибюшлчбднх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             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пгонбижюазбовехчюиелфвамю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             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эмждектбшлмхпзиарвшудолбх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             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диомгрлязткежпсактднвтпрш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             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гмюнхдксунфмюлтпсрзшафчхд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             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спояюиаждясуаенлжоячмжиеу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             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ахрсфсфяухиюкгепвхсфхчовт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22:14Z</dcterms:created>
  <dc:creator>Пользователь</dc:creator>
  <dc:description/>
  <dc:language>en-US</dc:language>
  <cp:lastModifiedBy>User</cp:lastModifiedBy>
  <dcterms:modified xsi:type="dcterms:W3CDTF">2017-01-13T09:46:25Z</dcterms:modified>
  <cp:revision>8</cp:revision>
  <dc:subject/>
  <dc:title>Муниципальное общеобразовательное учреждение средняя общеобразовательная школа № 37 г. Буя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mplateUrl">
    <vt:lpwstr/>
  </property>
  <property fmtid="{D5CDD505-2E9C-101B-9397-08002B2CF9AE}" pid="3" name="_SourceUrl">
    <vt:lpwstr/>
  </property>
  <property fmtid="{D5CDD505-2E9C-101B-9397-08002B2CF9AE}" pid="4" name="display_urn:schemas-microsoft-com:office:office#Author">
    <vt:lpwstr>Муниципальное учреждение среднего общего образования школа № 37</vt:lpwstr>
  </property>
  <property fmtid="{D5CDD505-2E9C-101B-9397-08002B2CF9AE}" pid="5" name="display_urn:schemas-microsoft-com:office:office#Editor">
    <vt:lpwstr>Муниципальное учреждение среднего общего образования школа № 37</vt:lpwstr>
  </property>
  <property fmtid="{D5CDD505-2E9C-101B-9397-08002B2CF9AE}" pid="6" name="xd_ProgID">
    <vt:lpwstr/>
  </property>
  <property fmtid="{D5CDD505-2E9C-101B-9397-08002B2CF9AE}" pid="7" name="xd_Signature">
    <vt:lpwstr/>
  </property>
</Properties>
</file>