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93D-B2A7-4D55-B984-6963B4BE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DC1-2C3A-4A31-8C15-CA7CC5B9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646-6F22-4996-B307-11A13A44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6CA-0ABE-4361-8F82-EA1D42C4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E82B-DFBB-4F85-8289-8C0635E2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F8E-2A60-4709-8CAD-340C2139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5EC-6635-4FC8-83E4-101AEA37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0B6-56AC-4CB0-9F56-90F68796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AAA-74BE-484D-8714-2F475240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CE7-9C36-4246-A801-D256684B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BCC-655F-45E7-AA64-0120FB57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515-2524-4871-B59B-F89EA9A0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B34A-EACE-429C-828D-DA473FB692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7oom.ru/powerpoint/fon-dlya-prezentacii-vesna-05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buratino.png"/>
          <p:cNvPicPr/>
          <p:nvPr/>
        </p:nvPicPr>
        <p:blipFill>
          <a:blip r:embed="rId2"/>
          <a:stretch/>
        </p:blipFill>
        <p:spPr>
          <a:xfrm>
            <a:off x="6572160" y="2928960"/>
            <a:ext cx="2286000" cy="3255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http://img0.liveinternet.ru/images/attach/b/4/104/475/104475412_malvina.PNG"/>
          <p:cNvPicPr/>
          <p:nvPr/>
        </p:nvPicPr>
        <p:blipFill>
          <a:blip r:embed="rId3"/>
          <a:stretch/>
        </p:blipFill>
        <p:spPr>
          <a:xfrm>
            <a:off x="0" y="2571840"/>
            <a:ext cx="3379680" cy="4500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1571760" y="1571760"/>
            <a:ext cx="72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Тренажё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«Таблица умнож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2928960" y="5934240"/>
            <a:ext cx="621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928800" y="565776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СОШ №249 им. М.В. Маневи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баче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7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2 0.34598 L -6.66667E-006 7.18779E-006 E">
                                      <p:cBhvr>
                                        <p:cTn id="18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5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9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205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5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6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82 0.31869 L 3.05556E-006 -2.85846E-006 E">
                                      <p:cBhvr>
                                        <p:cTn id="221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9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24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9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2 0.34598 L -6.66667E-006 7.18779E-006 E">
                                      <p:cBhvr>
                                        <p:cTn id="268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289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6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02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82 0.31869 L 3.05556E-006 -2.85846E-006 E">
                                      <p:cBhvr>
                                        <p:cTn id="305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2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962 0.06706 L 1.38889E-006 4.32932E-006 E">
                                      <p:cBhvr>
                                        <p:cTn id="32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5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352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59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8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65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82 0.31869 L 3.05556E-006 -2.85846E-006 E">
                                      <p:cBhvr>
                                        <p:cTn id="368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70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380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звуковая терапия.mp3" descr=""/>
          <p:cNvPicPr/>
          <p:nvPr/>
        </p:nvPicPr>
        <p:blipFill>
          <a:blip r:embed="rId7"/>
          <a:stretch/>
        </p:blipFill>
        <p:spPr>
          <a:xfrm>
            <a:off x="864396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2 0.34598 L -6.66667E-006 7.18779E-006 E">
                                      <p:cBhvr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288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8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2 0.34598 L -6.66667E-006 7.18779E-006 E">
                                      <p:cBhvr>
                                        <p:cTn id="394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96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407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2 0.34598 L -6.66667E-006 7.18779E-006 E">
                                      <p:cBhvr>
                                        <p:cTn id="415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314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9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433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436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438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327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6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962 0.06706 L 1.38889E-006 4.32932E-006 E">
                                      <p:cBhvr>
                                        <p:cTn id="452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54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5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8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70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82 0.31869 L 3.05556E-006 -2.85846E-006 E">
                                      <p:cBhvr>
                                        <p:cTn id="473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480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485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7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2 0.34598 L -6.66667E-006 7.18779E-006 E">
                                      <p:cBhvr>
                                        <p:cTn id="499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2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517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520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522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527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5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7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962 0.06706 L 1.38889E-006 4.32932E-006 E">
                                      <p:cBhvr>
                                        <p:cTn id="536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538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543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548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962 0.06706 L 1.38889E-006 4.32932E-006 E">
                                      <p:cBhvr>
                                        <p:cTn id="3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6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5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4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7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4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82 0.31869 L 3.05556E-006 -2.85846E-006 E">
                                      <p:cBhvr>
                                        <p:cTn id="9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7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2 0.34598 L -6.66667E-006 7.18779E-006 E">
                                      <p:cBhvr>
                                        <p:cTn id="12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8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82 0.31869 L 3.05556E-006 -2.85846E-006 E">
                                      <p:cBhvr>
                                        <p:cTn id="13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16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6T18:54:16Z</dcterms:created>
  <dc:creator>1</dc:creator>
  <dc:description/>
  <dc:language>en-US</dc:language>
  <cp:lastModifiedBy>Пользователь Windows</cp:lastModifiedBy>
  <dcterms:modified xsi:type="dcterms:W3CDTF">2017-01-14T15:30:31Z</dcterms:modified>
  <cp:revision>20</cp:revision>
  <dc:subject/>
  <dc:title>Слайд 1</dc:title>
</cp:coreProperties>
</file>