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7952-30DF-4903-81D7-CBAF0F72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7A9C-F407-4BE6-A764-F8EDFA80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7E3-ACFC-43C8-81E0-AE710EE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D793-6613-43CF-9B68-AC6839B3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A95-5381-430F-B967-007FC40B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0C7-CB32-43F2-B008-3392AA07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9D5-7390-4764-B999-D957FD6E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ED19-17A2-435B-9919-40B3E83A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B131-AAF6-44E2-8E1E-6AF8292F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E9C-3FB0-41D9-A46C-8A4F2E6A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5946-DA7F-4CF1-975E-C73A64DA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FFD-589A-4131-8B66-B70D949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38D5-6727-42A7-AB41-ED18A48E8F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7oom.ru/powerpoint/fon-dlya-prezentacii-vesna-05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buratino.png"/>
          <p:cNvPicPr/>
          <p:nvPr/>
        </p:nvPicPr>
        <p:blipFill>
          <a:blip r:embed="rId2"/>
          <a:stretch/>
        </p:blipFill>
        <p:spPr>
          <a:xfrm>
            <a:off x="6572160" y="2928960"/>
            <a:ext cx="2286000" cy="3255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http://img0.liveinternet.ru/images/attach/b/4/104/475/104475412_malvina.PNG"/>
          <p:cNvPicPr/>
          <p:nvPr/>
        </p:nvPicPr>
        <p:blipFill>
          <a:blip r:embed="rId3"/>
          <a:stretch/>
        </p:blipFill>
        <p:spPr>
          <a:xfrm>
            <a:off x="0" y="2571840"/>
            <a:ext cx="3379680" cy="4500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8"/>
          <p:cNvSpPr/>
          <p:nvPr/>
        </p:nvSpPr>
        <p:spPr>
          <a:xfrm>
            <a:off x="1571760" y="1571760"/>
            <a:ext cx="72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Тренажё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«Таблица умножени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2928960" y="5934240"/>
            <a:ext cx="621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928800" y="5657760"/>
            <a:ext cx="82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ила 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СОШ №249 им. М.В. Маневич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бачева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76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84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05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22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39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47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49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268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28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289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302" nodeType="clickEffect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305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32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32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3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44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352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354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359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368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звуковая терапия.mp3" descr=""/>
          <p:cNvPicPr/>
          <p:nvPr/>
        </p:nvPicPr>
        <p:blipFill>
          <a:blip r:embed="rId7"/>
          <a:stretch/>
        </p:blipFill>
        <p:spPr>
          <a:xfrm>
            <a:off x="8643960" y="357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0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394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297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01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12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415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42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11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12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28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43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438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2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449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45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54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459" nodeType="clickEffect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70" nodeType="clickEffect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473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475" nodeType="clickEffect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480" nodeType="clickEffect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485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5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49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517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520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527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5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53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962 0.06706 L 1.38889E-006 4.32932E-006 E">
                                      <p:cBhvr>
                                        <p:cTn id="3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58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93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79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4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95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02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7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18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34598 L -6.66667E-006 7.18779E-006 E">
                                      <p:cBhvr>
                                        <p:cTn id="12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28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3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382 0.31869 L 3.05556E-006 -2.85846E-006 E">
                                      <p:cBhvr>
                                        <p:cTn id="13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player.myshared.ru/612587/data/images/img8.jpg"/>
          <p:cNvPicPr/>
          <p:nvPr/>
        </p:nvPicPr>
        <p:blipFill>
          <a:blip r:embed="rId1"/>
          <a:srcRect l="0" t="0" r="0" b="37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http://img0.liveinternet.ru/images/attach/b/4/104/475/104475412_malvina.PNG"/>
          <p:cNvPicPr/>
          <p:nvPr/>
        </p:nvPicPr>
        <p:blipFill>
          <a:blip r:embed="rId2"/>
          <a:stretch/>
        </p:blipFill>
        <p:spPr>
          <a:xfrm>
            <a:off x="6929280" y="1130400"/>
            <a:ext cx="1785960" cy="2816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0_8f71d_b6bdf0bf_orig.png"/>
          <p:cNvPicPr/>
          <p:nvPr/>
        </p:nvPicPr>
        <p:blipFill>
          <a:blip r:embed="rId3"/>
          <a:stretch/>
        </p:blipFill>
        <p:spPr>
          <a:xfrm>
            <a:off x="3357720" y="3857760"/>
            <a:ext cx="1800000" cy="24476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a11e26f74eda3d7fe744e2006d9a6c46.gif"/>
          <p:cNvPicPr/>
          <p:nvPr/>
        </p:nvPicPr>
        <p:blipFill>
          <a:blip r:embed="rId4"/>
          <a:stretch/>
        </p:blipFill>
        <p:spPr>
          <a:xfrm>
            <a:off x="214200" y="3786120"/>
            <a:ext cx="1428840" cy="19638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буратино-2-227x300.png"/>
          <p:cNvPicPr/>
          <p:nvPr/>
        </p:nvPicPr>
        <p:blipFill>
          <a:blip r:embed="rId5"/>
          <a:stretch/>
        </p:blipFill>
        <p:spPr>
          <a:xfrm>
            <a:off x="7000920" y="3643200"/>
            <a:ext cx="2143080" cy="283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http://img.furry.su/files/natashafenik/a_1280914366_natashafenik_-_lisa_alisa_i_kot_bazilio.png"/>
          <p:cNvPicPr/>
          <p:nvPr/>
        </p:nvPicPr>
        <p:blipFill>
          <a:blip r:embed="rId6"/>
          <a:stretch/>
        </p:blipFill>
        <p:spPr>
          <a:xfrm>
            <a:off x="714240" y="1785960"/>
            <a:ext cx="2000520" cy="20001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0"/>
          <p:cNvSpPr/>
          <p:nvPr/>
        </p:nvSpPr>
        <p:spPr>
          <a:xfrm>
            <a:off x="571680" y="357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му Мальвина отправит звез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блако 13"/>
          <p:cNvSpPr/>
          <p:nvPr/>
        </p:nvSpPr>
        <p:spPr>
          <a:xfrm>
            <a:off x="3571920" y="928800"/>
            <a:ext cx="3214800" cy="1071360"/>
          </a:xfrm>
          <a:prstGeom prst="pie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5-конечная звезда 14"/>
          <p:cNvSpPr/>
          <p:nvPr/>
        </p:nvSpPr>
        <p:spPr>
          <a:xfrm>
            <a:off x="6429240" y="1928880"/>
            <a:ext cx="785880" cy="785880"/>
          </a:xfrm>
          <a:custGeom>
            <a:avLst/>
            <a:gdLst/>
            <a:ahLst/>
            <a:rect l="l" t="t" r="r" b="b"/>
            <a:pathLst>
              <a:path w="785813" h="785812">
                <a:moveTo>
                  <a:pt x="1" y="300153"/>
                </a:moveTo>
                <a:lnTo>
                  <a:pt x="300156" y="300155"/>
                </a:lnTo>
                <a:lnTo>
                  <a:pt x="392907" y="0"/>
                </a:lnTo>
                <a:lnTo>
                  <a:pt x="485657" y="300155"/>
                </a:lnTo>
                <a:lnTo>
                  <a:pt x="785812" y="300153"/>
                </a:lnTo>
                <a:lnTo>
                  <a:pt x="542981" y="485656"/>
                </a:lnTo>
                <a:lnTo>
                  <a:pt x="635736" y="785810"/>
                </a:lnTo>
                <a:lnTo>
                  <a:pt x="392907" y="600303"/>
                </a:lnTo>
                <a:lnTo>
                  <a:pt x="150077" y="785810"/>
                </a:lnTo>
                <a:lnTo>
                  <a:pt x="242832" y="485656"/>
                </a:lnTo>
                <a:lnTo>
                  <a:pt x="1" y="300153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Выноска-облако 16"/>
          <p:cNvSpPr/>
          <p:nvPr/>
        </p:nvSpPr>
        <p:spPr>
          <a:xfrm>
            <a:off x="1285920" y="1143000"/>
            <a:ext cx="1357200" cy="714240"/>
          </a:xfrm>
          <a:prstGeom prst="cloudCallout">
            <a:avLst>
              <a:gd name="adj1" fmla="val -43634"/>
              <a:gd name="adj2" fmla="val 107791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Выноска-облако 17"/>
          <p:cNvSpPr/>
          <p:nvPr/>
        </p:nvSpPr>
        <p:spPr>
          <a:xfrm>
            <a:off x="1928880" y="35719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Выноска-облако 18"/>
          <p:cNvSpPr/>
          <p:nvPr/>
        </p:nvSpPr>
        <p:spPr>
          <a:xfrm>
            <a:off x="4500720" y="3357720"/>
            <a:ext cx="135720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Выноска-облако 19"/>
          <p:cNvSpPr/>
          <p:nvPr/>
        </p:nvSpPr>
        <p:spPr>
          <a:xfrm flipH="1">
            <a:off x="6143760" y="3857760"/>
            <a:ext cx="1285920" cy="714240"/>
          </a:xfrm>
          <a:prstGeom prst="cloudCallout">
            <a:avLst>
              <a:gd name="adj1" fmla="val -67472"/>
              <a:gd name="adj2" fmla="val 7234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55" nodeType="clickEffect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91 0.40264 L 3.05556E-006 -2.85846E-006 E">
                                      <p:cBhvr>
                                        <p:cTn id="163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70" nodeType="clickEffect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6T18:54:16Z</dcterms:created>
  <dc:creator>1</dc:creator>
  <dc:description/>
  <dc:language>en-US</dc:language>
  <cp:lastModifiedBy>Пользователь Windows</cp:lastModifiedBy>
  <dcterms:modified xsi:type="dcterms:W3CDTF">2017-01-14T15:30:31Z</dcterms:modified>
  <cp:revision>20</cp:revision>
  <dc:subject/>
  <dc:title>Слайд 1</dc:title>
</cp:coreProperties>
</file>