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C6D-E4AD-43EE-998A-14C15F11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3CE-A11B-472A-8B7C-396D7FB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B12-C861-4CF6-A242-55F94B1C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704-2DE6-41D2-BA43-33F39C01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6FE6-504C-46FC-8C03-B12D81D7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462A-B3D2-4004-BE03-CBFF5F24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2C13-5A7E-4785-B873-D85E3AA3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9DF7-56AE-417A-AED8-96185C0F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23D-0310-45E9-95A6-3261D84A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4634-4EE8-4DB7-982D-E154D27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6F29-9C14-4031-9606-260FF61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68C-6C30-4EF5-B4DE-6ADD9B9A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F143-7340-4DEB-8854-57B9DBD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CEA8-7FF0-4390-9BBA-EDBD0A9A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B97-D4C0-40CE-B50A-FB40748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5F1-A4C3-45CB-AFF9-E1EF4C85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38BD-9C28-4584-B357-453DD3CA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915-EA43-4FBF-99E6-32E127BB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D25-F5C1-4C41-A66D-ACB70E2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6CB-51ED-4E97-8E7A-622702AF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0F3-0188-4E82-BF8F-0C8733F9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36F-6F26-4F87-9B16-BA3CD47F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102-A42D-4FB0-9F51-3B2E514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D48-66B7-4FF8-B91A-BBDCA96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A19E-3A15-4B32-B3C3-5247C8D72B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7F00-5BB1-4F58-B5DA-DB5444BD8F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201960" y="-228600"/>
            <a:ext cx="8587800" cy="7088400"/>
            <a:chOff x="201960" y="-228600"/>
            <a:chExt cx="8587800" cy="7088400"/>
          </a:xfrm>
        </p:grpSpPr>
        <p:sp>
          <p:nvSpPr>
            <p:cNvPr id="89" name="Rectangle 3"/>
            <p:cNvSpPr/>
            <p:nvPr/>
          </p:nvSpPr>
          <p:spPr>
            <a:xfrm>
              <a:off x="768960" y="419112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8330040" y="57150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</a:t>
              </a:r>
              <a:endParaRPr b="1" i="1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7928280" y="-228600"/>
              <a:ext cx="736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6188400" y="121932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807440" y="464832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370440" y="181080"/>
              <a:ext cx="1337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034440" y="3032280"/>
              <a:ext cx="156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4182120" y="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6315480" y="388620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1362600" y="539424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207240" y="106668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8321760" y="403848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6916680" y="304920"/>
              <a:ext cx="3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8364600" y="1828800"/>
              <a:ext cx="3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2225880" y="30492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201960" y="22860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</a:t>
              </a:r>
              <a:endParaRPr b="1" i="1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2321640" y="4346640"/>
              <a:ext cx="3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начение наречий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00400" y="536220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Выполн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Видяева Татьяна Иван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учитель начальных классов МБОУ Сергеевская средня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ирование по варианта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   2    3    4    5    6    7    8    9    10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в. (наречие  время действ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в. (наречие  образа действ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ирование по варианта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   2    3    4    5    6    7    8    9    10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в.  -    +    +    -    +    -     -     +    -     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в.  +   -     -    +    -    +    +     -    +    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8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исать 4 предложения с наречиями из художественного произведения и указать их знач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5"/>
          <p:cNvGrpSpPr/>
          <p:nvPr/>
        </p:nvGrpSpPr>
        <p:grpSpPr>
          <a:xfrm>
            <a:off x="65520" y="-228600"/>
            <a:ext cx="8724240" cy="7088400"/>
            <a:chOff x="65520" y="-228600"/>
            <a:chExt cx="8724240" cy="7088400"/>
          </a:xfrm>
        </p:grpSpPr>
        <p:sp>
          <p:nvSpPr>
            <p:cNvPr id="193" name="Rectangle 11"/>
            <p:cNvSpPr/>
            <p:nvPr/>
          </p:nvSpPr>
          <p:spPr>
            <a:xfrm>
              <a:off x="6082200" y="4937040"/>
              <a:ext cx="156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5520" y="76320"/>
              <a:ext cx="1337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91400" y="487692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Group 24"/>
            <p:cNvGrpSpPr/>
            <p:nvPr/>
          </p:nvGrpSpPr>
          <p:grpSpPr>
            <a:xfrm>
              <a:off x="201960" y="-228600"/>
              <a:ext cx="8587800" cy="7088400"/>
              <a:chOff x="201960" y="-228600"/>
              <a:chExt cx="8587800" cy="7088400"/>
            </a:xfrm>
          </p:grpSpPr>
          <p:sp>
            <p:nvSpPr>
              <p:cNvPr id="197" name="Rectangle 5"/>
              <p:cNvSpPr/>
              <p:nvPr/>
            </p:nvSpPr>
            <p:spPr>
              <a:xfrm>
                <a:off x="768960" y="419112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6"/>
              <p:cNvSpPr/>
              <p:nvPr/>
            </p:nvSpPr>
            <p:spPr>
              <a:xfrm>
                <a:off x="8330040" y="57150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</a:t>
                </a:r>
                <a:endParaRPr b="1" i="1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7928280" y="-228600"/>
                <a:ext cx="7369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1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8"/>
              <p:cNvSpPr/>
              <p:nvPr/>
            </p:nvSpPr>
            <p:spPr>
              <a:xfrm>
                <a:off x="6188400" y="121932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9"/>
              <p:cNvSpPr/>
              <p:nvPr/>
            </p:nvSpPr>
            <p:spPr>
              <a:xfrm>
                <a:off x="4807440" y="464832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4182120" y="0"/>
                <a:ext cx="1221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</a:t>
                </a:r>
                <a:endParaRPr b="1" i="1" lang="en-US" sz="9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1362600" y="5394240"/>
                <a:ext cx="1221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</a:t>
                </a:r>
                <a:endParaRPr b="1" i="1" lang="en-US" sz="9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15"/>
              <p:cNvSpPr/>
              <p:nvPr/>
            </p:nvSpPr>
            <p:spPr>
              <a:xfrm>
                <a:off x="3207240" y="106668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16"/>
              <p:cNvSpPr/>
              <p:nvPr/>
            </p:nvSpPr>
            <p:spPr>
              <a:xfrm>
                <a:off x="8321760" y="403848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17"/>
              <p:cNvSpPr/>
              <p:nvPr/>
            </p:nvSpPr>
            <p:spPr>
              <a:xfrm>
                <a:off x="6916680" y="304920"/>
                <a:ext cx="36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18"/>
              <p:cNvSpPr/>
              <p:nvPr/>
            </p:nvSpPr>
            <p:spPr>
              <a:xfrm>
                <a:off x="8364600" y="1828800"/>
                <a:ext cx="36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19"/>
              <p:cNvSpPr/>
              <p:nvPr/>
            </p:nvSpPr>
            <p:spPr>
              <a:xfrm>
                <a:off x="2225880" y="30492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20"/>
              <p:cNvSpPr/>
              <p:nvPr/>
            </p:nvSpPr>
            <p:spPr>
              <a:xfrm>
                <a:off x="201960" y="22860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</a:t>
                </a:r>
                <a:endParaRPr b="1" i="1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1"/>
              <p:cNvSpPr/>
              <p:nvPr/>
            </p:nvSpPr>
            <p:spPr>
              <a:xfrm>
                <a:off x="2321640" y="4346640"/>
                <a:ext cx="31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1"/>
          <p:cNvPicPr/>
          <p:nvPr/>
        </p:nvPicPr>
        <p:blipFill>
          <a:blip r:embed="rId1"/>
          <a:stretch/>
        </p:blipFill>
        <p:spPr>
          <a:xfrm>
            <a:off x="179280" y="0"/>
            <a:ext cx="2665440" cy="412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042720" y="-457200"/>
            <a:ext cx="145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639760" y="-39672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916360" y="189000"/>
            <a:ext cx="489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Подумай и ответь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7373880" y="2651040"/>
            <a:ext cx="1768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i="1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691040" y="-457200"/>
            <a:ext cx="145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ccff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471720" y="434340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cffcc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3581280"/>
            <a:ext cx="1454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0" spc="-1" strike="noStrike">
                <a:solidFill>
                  <a:srgbClr val="ffcccc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5792400" y="274320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87640" y="3794040"/>
            <a:ext cx="5473800" cy="25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тепло, лихо,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зло,  подряд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345840" y="1700280"/>
            <a:ext cx="498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Наречие или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уществительное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026760" y="5105520"/>
            <a:ext cx="50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344960" y="54864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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7928280" y="-22860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ff"/>
                </a:solidFill>
                <a:latin typeface="Wingdings 2"/>
                <a:ea typeface="Wingdings 2"/>
              </a:rPr>
              <a:t></a:t>
            </a:r>
            <a:endParaRPr b="1" i="1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8269560" y="1268280"/>
            <a:ext cx="41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578840" y="5699160"/>
            <a:ext cx="50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Wingdings 2"/>
                <a:ea typeface="Wingdings 2"/>
              </a:rPr>
              <a:t></a:t>
            </a:r>
            <a:endParaRPr b="1" i="1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68840" y="189000"/>
            <a:ext cx="133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805840" y="4724280"/>
            <a:ext cx="156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723720" y="350028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01280" y="539424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67320" y="388620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8258400" y="3733920"/>
            <a:ext cx="41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8364600" y="518148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201960" y="22860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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8255520" y="2514600"/>
            <a:ext cx="3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существительные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нареч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Times New Roman"/>
              </a:rPr>
              <a:t>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п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х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ря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3280" y="2492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Times New Roman"/>
              </a:rPr>
              <a:t>К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п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х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ря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483080" y="293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330840" y="5257800"/>
            <a:ext cx="3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825600" y="18900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ЗНАЧЕНИЕ НАРЕЧИЙ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2971800" y="2819520"/>
            <a:ext cx="327672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25160" y="3048120"/>
            <a:ext cx="301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НАРЕЧИЕ</a:t>
            </a:r>
            <a:endParaRPr b="1" i="1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019920" y="1371600"/>
            <a:ext cx="2743200" cy="1295280"/>
          </a:xfrm>
          <a:prstGeom prst="cloudCallout">
            <a:avLst>
              <a:gd name="adj1" fmla="val -60763"/>
              <a:gd name="adj2" fmla="val 737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Место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380880" y="1523880"/>
            <a:ext cx="2743200" cy="1295640"/>
          </a:xfrm>
          <a:prstGeom prst="cloudCallout">
            <a:avLst>
              <a:gd name="adj1" fmla="val 62152"/>
              <a:gd name="adj2" fmla="val 605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ремя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095880" y="4648320"/>
            <a:ext cx="2743200" cy="1295280"/>
          </a:xfrm>
          <a:prstGeom prst="cloudCallout">
            <a:avLst>
              <a:gd name="adj1" fmla="val -67013"/>
              <a:gd name="adj2" fmla="val -997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Степень качества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33520" y="4724280"/>
            <a:ext cx="2743200" cy="1295640"/>
          </a:xfrm>
          <a:prstGeom prst="cloudCallout">
            <a:avLst>
              <a:gd name="adj1" fmla="val 62152"/>
              <a:gd name="adj2" fmla="val -102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Образ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ализ предлож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е предстояло решить трудную задач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374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елая песня приободрила тур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859280" y="2060640"/>
            <a:ext cx="3886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но идти по болоту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03640" y="3573360"/>
            <a:ext cx="374508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весело шли по тропе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по варианта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егкая задача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легко реши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ороший ответ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хорошо отвеча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удесный отдых                                  чудесно отдохнул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еселая песня                                       весело пел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ерьезная работа                                 работал серьезн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покойный голос                                спокойно говорит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оржественная встреча                       встречали  торжественно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ромкий крик                                       громко крича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пасный переход                                 опасно переходит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15080" y="14130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лагательное + сущ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078160" y="1484280"/>
            <a:ext cx="24256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речие + глагол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49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49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49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49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49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49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49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49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49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становить соответствие вопросов   и наречи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куд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яч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ра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со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реч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4360" y="18446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?  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27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?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4360" y="3645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?   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84360" y="458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?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84360" y="551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куда?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575600" y="1844640"/>
            <a:ext cx="37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ячо, часто, высок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574160" y="270828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575600" y="3573360"/>
            <a:ext cx="263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, впереди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3440" y="4437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рав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4574160" y="5445000"/>
            <a:ext cx="116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разеологиз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35640" y="5516280"/>
            <a:ext cx="41004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92720" y="1125000"/>
            <a:ext cx="46432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4160" y="126828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ар носа не подточи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9640" y="1773360"/>
            <a:ext cx="2548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по маслу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11920" y="2349360"/>
            <a:ext cx="3429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нести в пух и прах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10840" y="2924280"/>
            <a:ext cx="2697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 корней волос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788000" y="3860640"/>
            <a:ext cx="3744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о весь дух, сломя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у, во все лопатки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758480" y="4724280"/>
            <a:ext cx="2940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и свет, ни заря,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уть свет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789800" y="5670720"/>
            <a:ext cx="39679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Черепашьим шагом,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рез час по чайной ложке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689000" y="1268280"/>
            <a:ext cx="4017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делать безукоризненно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688280" y="1773360"/>
            <a:ext cx="334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ыполнить хорошо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760640" y="2421000"/>
            <a:ext cx="3194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ильно браниться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760640" y="2997360"/>
            <a:ext cx="334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ильно покраснеть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09400" y="4005360"/>
            <a:ext cx="251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стро бежать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509760" y="4797360"/>
            <a:ext cx="1090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539640" y="5734080"/>
            <a:ext cx="195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ленно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39:48Z</dcterms:created>
  <dc:creator>Учитель</dc:creator>
  <dc:description/>
  <dc:language>en-US</dc:language>
  <cp:lastModifiedBy>Владимир</cp:lastModifiedBy>
  <dcterms:modified xsi:type="dcterms:W3CDTF">2017-01-14T11:58:20Z</dcterms:modified>
  <cp:revision>48</cp:revision>
  <dc:subject/>
  <dc:title>НАРЕЧИЕ</dc:title>
</cp:coreProperties>
</file>