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98A-A3D3-433F-A059-CC3023D5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703-F183-490F-BC2D-BCB83301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E06-DE86-4583-86DC-A83B91D3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B342-DBA7-4AC5-B394-DD74860A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8F3E-094E-4C62-83DB-70E1ABBD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0045-9BFE-41BB-A6C2-A9278CEE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5689-3828-4265-B134-87A3EA44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A5EF-B41E-40D9-847B-C801FF3D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75B9-CE87-4A39-BB8C-AC63AD77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06EF-4E1E-4DA6-A21A-ADB1D3DB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31A8-35DD-47E3-B46E-7ACAC610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DEE-CB13-4B1B-B381-B26D9608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6CCA-FECA-4F8B-94C8-3433D655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8534-2802-4D90-882C-39B78B98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1F1C-5464-47AA-AE42-A38EFA50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D9D3-5DF9-40B9-AB28-86A4D8AE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BE7F-72CD-495E-A28A-5C5BB181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A61E-87B1-4198-9A74-68A35E89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7C0-7495-4083-A78B-4085F31D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5DC1-1A9B-45B4-BCEC-89D47D72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DFFF-4F7A-43B2-893E-43B82609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9CB4-C50F-4770-9F34-1209FA2C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A369-8A8D-415D-B488-C4943553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90A-3D3F-42BA-B1E3-D525626B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276B5-6EBD-49A1-9235-7F7DB871F5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B4D8-F614-4CB2-9ACC-A2055455A7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201960" y="-228600"/>
            <a:ext cx="8587800" cy="7088400"/>
            <a:chOff x="201960" y="-228600"/>
            <a:chExt cx="8587800" cy="7088400"/>
          </a:xfrm>
        </p:grpSpPr>
        <p:sp>
          <p:nvSpPr>
            <p:cNvPr id="89" name="Rectangle 3"/>
            <p:cNvSpPr/>
            <p:nvPr/>
          </p:nvSpPr>
          <p:spPr>
            <a:xfrm>
              <a:off x="768960" y="4191120"/>
              <a:ext cx="5054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</a:t>
              </a:r>
              <a:endParaRPr b="1" i="1" lang="en-US" sz="7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8330040" y="571500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</a:t>
              </a:r>
              <a:endParaRPr b="1" i="1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Rectangle 5"/>
            <p:cNvSpPr/>
            <p:nvPr/>
          </p:nvSpPr>
          <p:spPr>
            <a:xfrm>
              <a:off x="7928280" y="-228600"/>
              <a:ext cx="7369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</a:t>
              </a:r>
              <a:endParaRPr b="1" i="1" lang="en-US" sz="1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6188400" y="1219320"/>
              <a:ext cx="4122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</a:t>
              </a:r>
              <a:endParaRPr b="1" i="1" lang="en-US" sz="5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4807440" y="4648320"/>
              <a:ext cx="5054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</a:t>
              </a:r>
              <a:endParaRPr b="1" i="1" lang="en-US" sz="7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370440" y="181080"/>
              <a:ext cx="13374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10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3034440" y="3032280"/>
              <a:ext cx="156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1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10"/>
            <p:cNvSpPr/>
            <p:nvPr/>
          </p:nvSpPr>
          <p:spPr>
            <a:xfrm>
              <a:off x="4182120" y="0"/>
              <a:ext cx="1221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9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11"/>
            <p:cNvSpPr/>
            <p:nvPr/>
          </p:nvSpPr>
          <p:spPr>
            <a:xfrm>
              <a:off x="6315480" y="3886200"/>
              <a:ext cx="1221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9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12"/>
            <p:cNvSpPr/>
            <p:nvPr/>
          </p:nvSpPr>
          <p:spPr>
            <a:xfrm>
              <a:off x="1362600" y="5394240"/>
              <a:ext cx="1221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9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Rectangle 13"/>
            <p:cNvSpPr/>
            <p:nvPr/>
          </p:nvSpPr>
          <p:spPr>
            <a:xfrm>
              <a:off x="3207240" y="1066680"/>
              <a:ext cx="50544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</a:t>
              </a:r>
              <a:endParaRPr b="1" i="1" lang="en-US" sz="7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Rectangle 14"/>
            <p:cNvSpPr/>
            <p:nvPr/>
          </p:nvSpPr>
          <p:spPr>
            <a:xfrm>
              <a:off x="8321760" y="4038480"/>
              <a:ext cx="4122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</a:t>
              </a:r>
              <a:endParaRPr b="1" i="1" lang="en-US" sz="5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Rectangle 15"/>
            <p:cNvSpPr/>
            <p:nvPr/>
          </p:nvSpPr>
          <p:spPr>
            <a:xfrm>
              <a:off x="6916680" y="304920"/>
              <a:ext cx="36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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Rectangle 16"/>
            <p:cNvSpPr/>
            <p:nvPr/>
          </p:nvSpPr>
          <p:spPr>
            <a:xfrm>
              <a:off x="8364600" y="1828800"/>
              <a:ext cx="36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</a:t>
              </a:r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Rectangle 17"/>
            <p:cNvSpPr/>
            <p:nvPr/>
          </p:nvSpPr>
          <p:spPr>
            <a:xfrm>
              <a:off x="2225880" y="304920"/>
              <a:ext cx="4122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</a:t>
              </a:r>
              <a:endParaRPr b="1" i="1" lang="en-US" sz="5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Rectangle 18"/>
            <p:cNvSpPr/>
            <p:nvPr/>
          </p:nvSpPr>
          <p:spPr>
            <a:xfrm>
              <a:off x="201960" y="2286000"/>
              <a:ext cx="459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</a:t>
              </a:r>
              <a:endParaRPr b="1" i="1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19"/>
            <p:cNvSpPr/>
            <p:nvPr/>
          </p:nvSpPr>
          <p:spPr>
            <a:xfrm>
              <a:off x="2321640" y="4346640"/>
              <a:ext cx="319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0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</a:t>
              </a:r>
              <a:endParaRPr b="1" i="1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Значение наречий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200400" y="5362200"/>
            <a:ext cx="55627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Times New Roman"/>
              </a:rPr>
              <a:t>Выполни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Times New Roman"/>
              </a:rPr>
              <a:t>Видяева Татьяна Иванов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ccffff"/>
                </a:solidFill>
                <a:latin typeface="Times New Roman"/>
              </a:rPr>
              <a:t>учитель начальных классов МБОУ Сергеевская средняя школ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стирование по варианта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    2    3    4    5    6    7    8    9    10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 в. (наречие  время действи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в. (наречие  образа действи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898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стирование по вариантам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    2    3    4    5    6    7    8    9    10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 в.  -    +    +    -    +    -     -     +    -     +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2 в.  +   -     -    +    -    +    +     -    +    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98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98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98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98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ыписать 4 предложения с наречиями из художественного произведения и указать их знач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5"/>
          <p:cNvGrpSpPr/>
          <p:nvPr/>
        </p:nvGrpSpPr>
        <p:grpSpPr>
          <a:xfrm>
            <a:off x="65520" y="-228600"/>
            <a:ext cx="8724240" cy="7088400"/>
            <a:chOff x="65520" y="-228600"/>
            <a:chExt cx="8724240" cy="7088400"/>
          </a:xfrm>
        </p:grpSpPr>
        <p:sp>
          <p:nvSpPr>
            <p:cNvPr id="193" name="Rectangle 11"/>
            <p:cNvSpPr/>
            <p:nvPr/>
          </p:nvSpPr>
          <p:spPr>
            <a:xfrm>
              <a:off x="6082200" y="4937040"/>
              <a:ext cx="156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1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65520" y="76320"/>
              <a:ext cx="13374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10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Rectangle 13"/>
            <p:cNvSpPr/>
            <p:nvPr/>
          </p:nvSpPr>
          <p:spPr>
            <a:xfrm>
              <a:off x="3191400" y="4876920"/>
              <a:ext cx="1221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</a:t>
              </a:r>
              <a:endParaRPr b="1" i="1" lang="en-US" sz="9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Group 24"/>
            <p:cNvGrpSpPr/>
            <p:nvPr/>
          </p:nvGrpSpPr>
          <p:grpSpPr>
            <a:xfrm>
              <a:off x="201960" y="-228600"/>
              <a:ext cx="8587800" cy="7088400"/>
              <a:chOff x="201960" y="-228600"/>
              <a:chExt cx="8587800" cy="7088400"/>
            </a:xfrm>
          </p:grpSpPr>
          <p:sp>
            <p:nvSpPr>
              <p:cNvPr id="197" name="Rectangle 5"/>
              <p:cNvSpPr/>
              <p:nvPr/>
            </p:nvSpPr>
            <p:spPr>
              <a:xfrm>
                <a:off x="768960" y="4191120"/>
                <a:ext cx="505440" cy="11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</a:t>
                </a:r>
                <a:endParaRPr b="1" i="1" lang="en-US" sz="7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Rectangle 6"/>
              <p:cNvSpPr/>
              <p:nvPr/>
            </p:nvSpPr>
            <p:spPr>
              <a:xfrm>
                <a:off x="8330040" y="5715000"/>
                <a:ext cx="459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</a:t>
                </a:r>
                <a:endParaRPr b="1" i="1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7928280" y="-228600"/>
                <a:ext cx="736920" cy="19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</a:t>
                </a:r>
                <a:endParaRPr b="1" i="1" lang="en-US" sz="1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Rectangle 8"/>
              <p:cNvSpPr/>
              <p:nvPr/>
            </p:nvSpPr>
            <p:spPr>
              <a:xfrm>
                <a:off x="6188400" y="1219320"/>
                <a:ext cx="4122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</a:t>
                </a:r>
                <a:endParaRPr b="1" i="1" lang="en-US" sz="5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Rectangle 9"/>
              <p:cNvSpPr/>
              <p:nvPr/>
            </p:nvSpPr>
            <p:spPr>
              <a:xfrm>
                <a:off x="4807440" y="4648320"/>
                <a:ext cx="505440" cy="11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</a:t>
                </a:r>
                <a:endParaRPr b="1" i="1" lang="en-US" sz="7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Rectangle 12"/>
              <p:cNvSpPr/>
              <p:nvPr/>
            </p:nvSpPr>
            <p:spPr>
              <a:xfrm>
                <a:off x="4182120" y="0"/>
                <a:ext cx="12214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</a:t>
                </a:r>
                <a:endParaRPr b="1" i="1" lang="en-US" sz="9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Rectangle 14"/>
              <p:cNvSpPr/>
              <p:nvPr/>
            </p:nvSpPr>
            <p:spPr>
              <a:xfrm>
                <a:off x="1362600" y="5394240"/>
                <a:ext cx="12214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90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</a:t>
                </a:r>
                <a:endParaRPr b="1" i="1" lang="en-US" sz="9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Rectangle 15"/>
              <p:cNvSpPr/>
              <p:nvPr/>
            </p:nvSpPr>
            <p:spPr>
              <a:xfrm>
                <a:off x="3207240" y="1066680"/>
                <a:ext cx="505440" cy="11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7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</a:t>
                </a:r>
                <a:endParaRPr b="1" i="1" lang="en-US" sz="7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Rectangle 16"/>
              <p:cNvSpPr/>
              <p:nvPr/>
            </p:nvSpPr>
            <p:spPr>
              <a:xfrm>
                <a:off x="8321760" y="4038480"/>
                <a:ext cx="4122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</a:t>
                </a:r>
                <a:endParaRPr b="1" i="1" lang="en-US" sz="5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Rectangle 17"/>
              <p:cNvSpPr/>
              <p:nvPr/>
            </p:nvSpPr>
            <p:spPr>
              <a:xfrm>
                <a:off x="6916680" y="304920"/>
                <a:ext cx="36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</a:t>
                </a:r>
                <a:endParaRPr b="1" i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Rectangle 18"/>
              <p:cNvSpPr/>
              <p:nvPr/>
            </p:nvSpPr>
            <p:spPr>
              <a:xfrm>
                <a:off x="8364600" y="1828800"/>
                <a:ext cx="366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</a:t>
                </a:r>
                <a:endParaRPr b="1" i="1" lang="en-US" sz="4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Rectangle 19"/>
              <p:cNvSpPr/>
              <p:nvPr/>
            </p:nvSpPr>
            <p:spPr>
              <a:xfrm>
                <a:off x="2225880" y="304920"/>
                <a:ext cx="41220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5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</a:t>
                </a:r>
                <a:endParaRPr b="1" i="1" lang="en-US" sz="5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Rectangle 20"/>
              <p:cNvSpPr/>
              <p:nvPr/>
            </p:nvSpPr>
            <p:spPr>
              <a:xfrm>
                <a:off x="201960" y="2286000"/>
                <a:ext cx="459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</a:t>
                </a:r>
                <a:endParaRPr b="1" i="1" lang="en-US" sz="6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Rectangle 21"/>
              <p:cNvSpPr/>
              <p:nvPr/>
            </p:nvSpPr>
            <p:spPr>
              <a:xfrm>
                <a:off x="2321640" y="4346640"/>
                <a:ext cx="3193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000" spc="-1" strike="noStrike">
                    <a:solidFill>
                      <a:srgbClr val="ffffff"/>
                    </a:solidFill>
                    <a:latin typeface="Wingdings 2"/>
                    <a:ea typeface="Wingdings 2"/>
                  </a:rPr>
                  <a:t></a:t>
                </a:r>
                <a:endParaRPr b="1" i="1" lang="en-US" sz="3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24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1"/>
          <p:cNvPicPr/>
          <p:nvPr/>
        </p:nvPicPr>
        <p:blipFill>
          <a:blip r:embed="rId1"/>
          <a:stretch/>
        </p:blipFill>
        <p:spPr>
          <a:xfrm>
            <a:off x="179280" y="0"/>
            <a:ext cx="2665440" cy="4127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042720" y="-457200"/>
            <a:ext cx="145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i="1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639760" y="-396720"/>
            <a:ext cx="1070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1" i="1" lang="en-US" sz="1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916360" y="189000"/>
            <a:ext cx="4895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Подумай и ответь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7373880" y="2651040"/>
            <a:ext cx="17686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0" spc="-1" strike="noStrike">
                <a:solidFill>
                  <a:srgbClr val="ccffff"/>
                </a:solidFill>
                <a:latin typeface="Times New Roman"/>
              </a:rPr>
              <a:t>?</a:t>
            </a:r>
            <a:endParaRPr b="1" i="1" lang="en-US" sz="2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7691040" y="-457200"/>
            <a:ext cx="14518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ffccff"/>
                </a:solidFill>
                <a:latin typeface="Times New Roman"/>
              </a:rPr>
              <a:t>?</a:t>
            </a:r>
            <a:endParaRPr b="1" i="1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6471720" y="4343400"/>
            <a:ext cx="1070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0" spc="-1" strike="noStrike">
                <a:solidFill>
                  <a:srgbClr val="ccffcc"/>
                </a:solidFill>
                <a:latin typeface="Times New Roman"/>
              </a:rPr>
              <a:t>?</a:t>
            </a:r>
            <a:endParaRPr b="1" i="1" lang="en-US" sz="1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4267080" y="3581280"/>
            <a:ext cx="1454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0" spc="-1" strike="noStrike">
                <a:solidFill>
                  <a:srgbClr val="ffcccc"/>
                </a:solidFill>
                <a:latin typeface="Times New Roman"/>
              </a:rPr>
              <a:t>?</a:t>
            </a:r>
            <a:endParaRPr b="1" i="1" lang="en-US" sz="2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5792400" y="2743200"/>
            <a:ext cx="1070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1" i="1" lang="en-US" sz="1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20"/>
          <p:cNvSpPr/>
          <p:nvPr/>
        </p:nvSpPr>
        <p:spPr>
          <a:xfrm>
            <a:off x="2987640" y="3794040"/>
            <a:ext cx="5473800" cy="253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тепло, лихо, 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Times New Roman"/>
              </a:rPr>
              <a:t>зло,  подряд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1"/>
          <p:cNvSpPr/>
          <p:nvPr/>
        </p:nvSpPr>
        <p:spPr>
          <a:xfrm>
            <a:off x="3345840" y="1700280"/>
            <a:ext cx="498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Наречие или 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существительное?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9"/>
          <p:cNvSpPr/>
          <p:nvPr/>
        </p:nvSpPr>
        <p:spPr>
          <a:xfrm>
            <a:off x="6026760" y="5105520"/>
            <a:ext cx="50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ffffff"/>
                </a:solidFill>
                <a:latin typeface="Wingdings 2"/>
                <a:ea typeface="Wingdings 2"/>
              </a:rPr>
              <a:t></a:t>
            </a:r>
            <a:endParaRPr b="1" i="1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1344960" y="54864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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7928280" y="-228600"/>
            <a:ext cx="73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ffff"/>
                </a:solidFill>
                <a:latin typeface="Wingdings 2"/>
                <a:ea typeface="Wingdings 2"/>
              </a:rPr>
              <a:t></a:t>
            </a:r>
            <a:endParaRPr b="1" i="1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8269560" y="1268280"/>
            <a:ext cx="41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Wingdings 2"/>
                <a:ea typeface="Wingdings 2"/>
              </a:rPr>
              <a:t>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4578840" y="5699160"/>
            <a:ext cx="505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0" spc="-1" strike="noStrike">
                <a:solidFill>
                  <a:srgbClr val="ffffff"/>
                </a:solidFill>
                <a:latin typeface="Wingdings 2"/>
                <a:ea typeface="Wingdings 2"/>
              </a:rPr>
              <a:t></a:t>
            </a:r>
            <a:endParaRPr b="1" i="1" lang="en-US" sz="7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68840" y="189000"/>
            <a:ext cx="1337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endParaRPr b="1" i="1" lang="en-US" sz="10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2805840" y="4724280"/>
            <a:ext cx="156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endParaRPr b="1" i="1" lang="en-US" sz="1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6723720" y="3500280"/>
            <a:ext cx="122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endParaRPr b="1" i="1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7001280" y="5394240"/>
            <a:ext cx="122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endParaRPr b="1" i="1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67320" y="3886200"/>
            <a:ext cx="122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0" spc="-1" strike="noStrike">
                <a:solidFill>
                  <a:srgbClr val="ffffff"/>
                </a:solidFill>
                <a:latin typeface="Wingdings"/>
                <a:ea typeface="Wingdings"/>
              </a:rPr>
              <a:t></a:t>
            </a:r>
            <a:endParaRPr b="1" i="1" lang="en-US" sz="9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8258400" y="3733920"/>
            <a:ext cx="41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Wingdings 2"/>
                <a:ea typeface="Wingdings 2"/>
              </a:rPr>
              <a:t></a:t>
            </a:r>
            <a:endParaRPr b="1" i="1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2"/>
          <p:cNvSpPr/>
          <p:nvPr/>
        </p:nvSpPr>
        <p:spPr>
          <a:xfrm>
            <a:off x="8364600" y="5181480"/>
            <a:ext cx="3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Wingdings 2"/>
                <a:ea typeface="Wingdings 2"/>
              </a:rPr>
              <a:t>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4"/>
          <p:cNvSpPr/>
          <p:nvPr/>
        </p:nvSpPr>
        <p:spPr>
          <a:xfrm>
            <a:off x="201960" y="2286000"/>
            <a:ext cx="45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Wingdings 2"/>
                <a:ea typeface="Wingdings 2"/>
              </a:rPr>
              <a:t></a:t>
            </a:r>
            <a:endParaRPr b="1" i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8255520" y="2514600"/>
            <a:ext cx="3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Wingdings 2"/>
                <a:ea typeface="Wingdings 2"/>
              </a:rPr>
              <a:t>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 существительные,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 наречия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000" y="2421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Times New Roman"/>
              </a:rPr>
              <a:t>Что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п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х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ря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3280" y="2492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33"/>
                </a:solidFill>
                <a:latin typeface="Times New Roman"/>
              </a:rPr>
              <a:t>Как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еп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л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х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ря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4483080" y="293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7"/>
          <p:cNvSpPr/>
          <p:nvPr/>
        </p:nvSpPr>
        <p:spPr>
          <a:xfrm>
            <a:off x="330840" y="5257800"/>
            <a:ext cx="3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Wingdings 2"/>
                <a:ea typeface="Wingdings 2"/>
              </a:rPr>
              <a:t>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6825600" y="189000"/>
            <a:ext cx="26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Wingdings 2"/>
                <a:ea typeface="Wingdings 2"/>
              </a:rPr>
              <a:t>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98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98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98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98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ЗНАЧЕНИЕ НАРЕЧИЙ</a:t>
            </a:r>
            <a:endParaRPr b="0" lang="en-US" sz="55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2971800" y="2819520"/>
            <a:ext cx="327672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125160" y="3048120"/>
            <a:ext cx="3013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ff"/>
                </a:solidFill>
                <a:latin typeface="Times New Roman"/>
              </a:rPr>
              <a:t>НАРЕЧИЕ</a:t>
            </a:r>
            <a:endParaRPr b="1" i="1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019920" y="1371600"/>
            <a:ext cx="2743200" cy="1295280"/>
          </a:xfrm>
          <a:prstGeom prst="cloudCallout">
            <a:avLst>
              <a:gd name="adj1" fmla="val -60763"/>
              <a:gd name="adj2" fmla="val 7377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Место действия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380880" y="1523880"/>
            <a:ext cx="2743200" cy="1295640"/>
          </a:xfrm>
          <a:prstGeom prst="cloudCallout">
            <a:avLst>
              <a:gd name="adj1" fmla="val 62152"/>
              <a:gd name="adj2" fmla="val 6053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Время действия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6095880" y="4648320"/>
            <a:ext cx="2743200" cy="1295280"/>
          </a:xfrm>
          <a:prstGeom prst="cloudCallout">
            <a:avLst>
              <a:gd name="adj1" fmla="val -67013"/>
              <a:gd name="adj2" fmla="val -9975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Степень качества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533520" y="4724280"/>
            <a:ext cx="2743200" cy="1295640"/>
          </a:xfrm>
          <a:prstGeom prst="cloudCallout">
            <a:avLst>
              <a:gd name="adj1" fmla="val 62152"/>
              <a:gd name="adj2" fmla="val -102694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Образ действия</a:t>
            </a:r>
            <a:endParaRPr b="1" i="1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нализ предложений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не предстояло решить трудную задач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11280" y="3573000"/>
            <a:ext cx="374472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селая песня приободрила турис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4859280" y="2060640"/>
            <a:ext cx="38862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удно идти по болоту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5003640" y="3573360"/>
            <a:ext cx="374508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ы весело шли по тропе.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Работа по вариантам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легкая задача  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легко реши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хороший ответ                                 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хорошо отвеча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чудесный отдых                                  чудесно отдохнул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еселая песня                                       весело пел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ерьезная работа                                 работал серьезно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спокойный голос                                спокойно говорит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торжественная встреча                       встречали  торжественно                                   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ромкий крик                                       громко кричал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пасный переход                                 опасно переходить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415080" y="141300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1 вариант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илагательное + сущ.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5078160" y="1484280"/>
            <a:ext cx="24256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2 вариант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аречие + глагол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49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49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49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49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49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49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449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449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49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" fill="hold">
                                          <p:stCondLst>
                                            <p:cond delay="44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Установить соответствие вопросов   и наречий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гд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де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д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куд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ряч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аст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кру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прав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ысок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ньш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речия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84360" y="1844640"/>
            <a:ext cx="23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к ?                                       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684360" y="2781360"/>
            <a:ext cx="25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гда?                                     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84360" y="3645000"/>
            <a:ext cx="26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де?                                        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684360" y="458136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да? 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684360" y="5516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куда? 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4575600" y="1844640"/>
            <a:ext cx="37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рячо, часто, высоко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4574160" y="2708280"/>
            <a:ext cx="142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аньше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6"/>
          <p:cNvSpPr/>
          <p:nvPr/>
        </p:nvSpPr>
        <p:spPr>
          <a:xfrm>
            <a:off x="4575600" y="3573360"/>
            <a:ext cx="263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ева, впереди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573440" y="4437000"/>
            <a:ext cx="15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право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8"/>
          <p:cNvSpPr/>
          <p:nvPr/>
        </p:nvSpPr>
        <p:spPr>
          <a:xfrm>
            <a:off x="4574160" y="5445000"/>
            <a:ext cx="116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ева</a:t>
            </a: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разеологиз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435640" y="5516280"/>
            <a:ext cx="41004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92720" y="1125000"/>
            <a:ext cx="464328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614160" y="1268280"/>
            <a:ext cx="36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мар носа не подточит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39640" y="1773360"/>
            <a:ext cx="25480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к по маслу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511920" y="2349360"/>
            <a:ext cx="34293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знести в пух и прах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10840" y="2924280"/>
            <a:ext cx="269784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о корней волос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788000" y="3860640"/>
            <a:ext cx="37447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о весь дух, сломя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олову, во все лопатки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758480" y="4724280"/>
            <a:ext cx="294012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Ни свет, ни заря, 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уть свет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4789800" y="5670720"/>
            <a:ext cx="3967920" cy="11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Черепашьим шагом,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рез час по чайной ложке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4689000" y="1268280"/>
            <a:ext cx="4017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делать безукоризненно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688280" y="1773360"/>
            <a:ext cx="3341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ыполнить хорошо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4760640" y="2421000"/>
            <a:ext cx="3194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ильно браниться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4760640" y="2997360"/>
            <a:ext cx="3341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Сильно покраснеть)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509400" y="4005360"/>
            <a:ext cx="2518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ыстро бежать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509760" y="4797360"/>
            <a:ext cx="109008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Рано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539640" y="5734080"/>
            <a:ext cx="1954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едленно</a:t>
            </a: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1:39:48Z</dcterms:created>
  <dc:creator>Учитель</dc:creator>
  <dc:description/>
  <dc:language>en-US</dc:language>
  <cp:lastModifiedBy>Владимир</cp:lastModifiedBy>
  <dcterms:modified xsi:type="dcterms:W3CDTF">2017-01-14T11:58:20Z</dcterms:modified>
  <cp:revision>48</cp:revision>
  <dc:subject/>
  <dc:title>НАРЕЧИЕ</dc:title>
</cp:coreProperties>
</file>