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6265-21F5-40BF-B8B9-C7869A6419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3993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0960"/>
            <a:ext cx="63993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4F2E-4B1A-488D-8EBF-C76EF59F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096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0840" y="480096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071A-B438-48BF-9700-4AE1763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200" y="388620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8800" y="388620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096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200" y="480096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8800" y="480096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458F-46F9-41D6-A4AC-17ECAF70A1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D317-EAD8-4CCF-B049-E9F878A2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9D28-4F42-4866-AD04-DC3653B2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D08D-D04A-4ADD-8A4E-853AE51F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1432-B39F-424C-B208-4AE52406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3538-F63C-4B0C-B593-5CE52804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096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DBC0-B885-4F90-843D-F2ED0460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0840" y="480096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94AF-E56B-437D-9C8B-CD8A4FE2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0960"/>
            <a:ext cx="63993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6C2E-07A1-4444-B9DA-B4879B6C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52424-0276-416E-9AC9-8B14C36D0642}" type="datetime">
              <a:rPr b="0" lang="en-US" sz="1200" spc="-1" strike="noStrike">
                <a:solidFill>
                  <a:srgbClr val="8b8b8b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C8BA5-8996-41A3-A7F6-59B5516325E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3000"/>
              </a:lnSpc>
              <a:spcBef>
                <a:spcPts val="1137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907920"/>
            <a:ext cx="6769440" cy="521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"/>
              </a:rPr>
              <a:t>Память противостоит уничтожающей силе времени. Память – преодоление времени, преодоление пространства. Память – основа совести и нравственности, память – основа культуры. Хранить память, беречь память – это наш нравственный долг перед самим собой и перед потомками.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митрий Сергеевич Лиха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1211400"/>
            <a:ext cx="5759280" cy="49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2219400"/>
            <a:ext cx="5759280" cy="49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Архивы, музеи,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3200400"/>
          <a:ext cx="8137440" cy="2173320"/>
        </p:xfrm>
        <a:graphic>
          <a:graphicData uri="http://schemas.openxmlformats.org/drawingml/2006/table">
            <a:tbl>
              <a:tblPr/>
              <a:tblGrid>
                <a:gridCol w="2160360"/>
                <a:gridCol w="1681200"/>
                <a:gridCol w="2495520"/>
                <a:gridCol w="180036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6666ff"/>
                          </a:solidFill>
                          <a:latin typeface="Century"/>
                        </a:rPr>
                        <a:t>Учрежд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6666ff"/>
                          </a:solidFill>
                          <a:latin typeface="Century"/>
                        </a:rPr>
                        <a:t>Перевод наз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6666ff"/>
                          </a:solidFill>
                          <a:latin typeface="Century"/>
                        </a:rPr>
                        <a:t>Что хранится внут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6666ff"/>
                          </a:solidFill>
                          <a:latin typeface="Century"/>
                        </a:rPr>
                        <a:t>Приме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795320"/>
            <a:ext cx="676944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"/>
              </a:rPr>
              <a:t>Источники знаний о прошл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4365720"/>
            <a:ext cx="676944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"/>
              </a:rPr>
              <a:t>Цель занятия:</a:t>
            </a:r>
            <a:r>
              <a:rPr b="0" lang="ru-RU" sz="2000" spc="-1" strike="noStrike">
                <a:solidFill>
                  <a:srgbClr val="ffffff"/>
                </a:solidFill>
                <a:latin typeface="Century"/>
              </a:rPr>
              <a:t> сформировать представление о порядке в исторической науке на примере деления исторических источников на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3440160" y="2332080"/>
            <a:ext cx="570384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Похожее изображение"/>
          <p:cNvPicPr/>
          <p:nvPr/>
        </p:nvPicPr>
        <p:blipFill>
          <a:blip r:embed="rId3"/>
          <a:stretch/>
        </p:blipFill>
        <p:spPr>
          <a:xfrm>
            <a:off x="0" y="0"/>
            <a:ext cx="664848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280" y="3933720"/>
            <a:ext cx="3276720" cy="366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Десятинная церковь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– первая каменная церковь в Древней Руси, строительство которой началось в 98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и по запросу александрийский маяк наше время"/>
          <p:cNvPicPr/>
          <p:nvPr/>
        </p:nvPicPr>
        <p:blipFill>
          <a:blip r:embed="rId2"/>
          <a:stretch/>
        </p:blipFill>
        <p:spPr>
          <a:xfrm>
            <a:off x="3203640" y="3186000"/>
            <a:ext cx="5940360" cy="36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и по запросу фаросский маяк"/>
          <p:cNvPicPr/>
          <p:nvPr/>
        </p:nvPicPr>
        <p:blipFill>
          <a:blip r:embed="rId3"/>
          <a:stretch/>
        </p:blipFill>
        <p:spPr>
          <a:xfrm>
            <a:off x="0" y="0"/>
            <a:ext cx="6443640" cy="362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280" y="3789360"/>
            <a:ext cx="3060720" cy="34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"/>
              </a:rPr>
              <a:t>Фаросский маяк -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маяк, построенный в III веке до н. э. на острове Фарос около египетского города Александрии, является одним из 7 чудес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260280"/>
            <a:ext cx="676944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Исторический источник – 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вещь, созданная людьми и несущая в себе сведения о прошлом человече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и по запросу лезгинка"/>
          <p:cNvPicPr/>
          <p:nvPr/>
        </p:nvPicPr>
        <p:blipFill>
          <a:blip r:embed="rId2"/>
          <a:stretch/>
        </p:blipFill>
        <p:spPr>
          <a:xfrm>
            <a:off x="0" y="2421000"/>
            <a:ext cx="5148360" cy="426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и по запросу скифское золото"/>
          <p:cNvPicPr/>
          <p:nvPr/>
        </p:nvPicPr>
        <p:blipFill>
          <a:blip r:embed="rId3"/>
          <a:stretch/>
        </p:blipFill>
        <p:spPr>
          <a:xfrm>
            <a:off x="5148360" y="2205000"/>
            <a:ext cx="3995640" cy="1968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и по запросу кумранские тексты"/>
          <p:cNvPicPr/>
          <p:nvPr/>
        </p:nvPicPr>
        <p:blipFill>
          <a:blip r:embed="rId4"/>
          <a:stretch/>
        </p:blipFill>
        <p:spPr>
          <a:xfrm>
            <a:off x="5148360" y="4197240"/>
            <a:ext cx="399564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76360" y="620640"/>
          <a:ext cx="6095880" cy="2433600"/>
        </p:xfrm>
        <a:graphic>
          <a:graphicData uri="http://schemas.openxmlformats.org/drawingml/2006/table">
            <a:tbl>
              <a:tblPr/>
              <a:tblGrid>
                <a:gridCol w="1655640"/>
                <a:gridCol w="2376720"/>
                <a:gridCol w="206352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Исторические источ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уст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еществ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исьм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900000" y="3213000"/>
            <a:ext cx="3454560" cy="39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Записи на папиру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Хр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Записи, выдолбленные на ка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213000"/>
            <a:ext cx="3527280" cy="353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Пословиц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Пись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Оруж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Миф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Украш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Одеж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Летопис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Дневни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87280" y="620640"/>
          <a:ext cx="6840720" cy="4319640"/>
        </p:xfrm>
        <a:graphic>
          <a:graphicData uri="http://schemas.openxmlformats.org/drawingml/2006/table">
            <a:tbl>
              <a:tblPr/>
              <a:tblGrid>
                <a:gridCol w="1872000"/>
                <a:gridCol w="2376360"/>
                <a:gridCol w="259236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Исторические источ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уст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еществ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исьм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Ска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ес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огово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ослов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Миф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Хра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Оруж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ос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Укра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Одеж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Летопи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Днев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ись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Записи на папиру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Записи, выдолбленные на кам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60280"/>
            <a:ext cx="6769440" cy="265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Документ – 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исторический источник, содержащий текст, изображение или 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Памятник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– исторический источник, дошедший до наши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2565360"/>
            <a:ext cx="5580000" cy="3730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Похожее изображение"/>
          <p:cNvPicPr/>
          <p:nvPr/>
        </p:nvPicPr>
        <p:blipFill>
          <a:blip r:embed="rId3"/>
          <a:stretch/>
        </p:blipFill>
        <p:spPr>
          <a:xfrm>
            <a:off x="3708360" y="3338640"/>
            <a:ext cx="543564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125360"/>
            <a:ext cx="5759280" cy="168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Рефлексивный эк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Плюс – Минус – Интересный ф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и по запросу смайлики"/>
          <p:cNvPicPr/>
          <p:nvPr/>
        </p:nvPicPr>
        <p:blipFill>
          <a:blip r:embed="rId2"/>
          <a:stretch/>
        </p:blipFill>
        <p:spPr>
          <a:xfrm>
            <a:off x="2987640" y="27082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и по запросу смайлики"/>
          <p:cNvPicPr/>
          <p:nvPr/>
        </p:nvPicPr>
        <p:blipFill>
          <a:blip r:embed="rId3"/>
          <a:stretch/>
        </p:blipFill>
        <p:spPr>
          <a:xfrm>
            <a:off x="5303880" y="2421000"/>
            <a:ext cx="3840120" cy="25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и по запросу смайлики"/>
          <p:cNvPicPr/>
          <p:nvPr/>
        </p:nvPicPr>
        <p:blipFill>
          <a:blip r:embed="rId4"/>
          <a:stretch/>
        </p:blipFill>
        <p:spPr>
          <a:xfrm>
            <a:off x="250920" y="2637000"/>
            <a:ext cx="2663640" cy="242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eo</cp:lastModifiedBy>
  <dcterms:modified xsi:type="dcterms:W3CDTF">2017-01-15T09:54:51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7</vt:r8>
  </property>
</Properties>
</file>