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9AAAC-C10B-4A06-9E9D-6582B46132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096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A554-9B3B-4E73-B243-BAD21391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084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A181-A9B3-4CFD-BCF7-6E2BEB71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2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8800" y="388620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2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8800" y="4800960"/>
            <a:ext cx="206028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D762-75E4-4951-B274-6BC84E4EF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EB92-8EB8-4949-BF6D-DA96D388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72B09-AEB0-41A6-B599-9C287C20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9A24C-125E-41AA-A8C5-E2B0590E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79E7-1BBE-486D-B226-A2E0FEDCE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B049-3569-4CE2-A7A9-5B48D1C1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0575A-785B-481F-9F7B-5A87F5A4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17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0840" y="480096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B5CC-E8E2-4798-93A3-56E4468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0840" y="3886200"/>
            <a:ext cx="312264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0960"/>
            <a:ext cx="6399360" cy="8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3B827-3056-440D-AB13-738D030F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A13C0-0085-46AA-8CD4-8DA4E76722A9}" type="datetime">
              <a:rPr b="0" lang="en-US" sz="1200" spc="-1" strike="noStrike">
                <a:solidFill>
                  <a:srgbClr val="8b8b8b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6998C-3DBE-40C1-98BD-A298A7AEAE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3000"/>
              </a:lnSpc>
              <a:spcBef>
                <a:spcPts val="1137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3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3000"/>
              </a:lnSpc>
              <a:spcBef>
                <a:spcPts val="28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907920"/>
            <a:ext cx="6769440" cy="5213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entury"/>
              </a:rPr>
              <a:t>Память противостоит уничтожающей силе времени. Память – преодоление времени, преодоление пространства. Память – основа совести и нравственности, память – основа культуры. Хранить память, беречь память – это наш нравственный долг перед самим собой и перед потомками.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митрий Сергеевич Лиха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92360" y="1211400"/>
            <a:ext cx="5759280" cy="49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2219400"/>
            <a:ext cx="5759280" cy="49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Архивы, музеи, библиот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3200400"/>
          <a:ext cx="8137440" cy="2173320"/>
        </p:xfrm>
        <a:graphic>
          <a:graphicData uri="http://schemas.openxmlformats.org/drawingml/2006/table">
            <a:tbl>
              <a:tblPr/>
              <a:tblGrid>
                <a:gridCol w="2160360"/>
                <a:gridCol w="1681200"/>
                <a:gridCol w="2495520"/>
                <a:gridCol w="1800360"/>
              </a:tblGrid>
              <a:tr h="204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Учрежд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Перевод назва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Что хранится внутр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6666ff"/>
                          </a:solidFill>
                          <a:latin typeface="Century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795320"/>
            <a:ext cx="6769440" cy="283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entury"/>
              </a:rPr>
              <a:t>Источники знаний о прошло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4365720"/>
            <a:ext cx="6769440" cy="100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"/>
              </a:rPr>
              <a:t>Цель занятия:</a:t>
            </a:r>
            <a:r>
              <a:rPr b="0" lang="ru-RU" sz="2000" spc="-1" strike="noStrike">
                <a:solidFill>
                  <a:srgbClr val="ffffff"/>
                </a:solidFill>
                <a:latin typeface="Century"/>
              </a:rPr>
              <a:t> сформировать представление о порядке в исторической науке на примере деления исторических источников на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3440160" y="2332080"/>
            <a:ext cx="570384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0" y="0"/>
            <a:ext cx="664848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1280" y="3933720"/>
            <a:ext cx="3276720" cy="366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есятинная церковь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– первая каменная церковь в Древней Руси, строительство которой началось в 989 г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Картинки по запросу александрийский маяк наше время"/>
          <p:cNvPicPr/>
          <p:nvPr/>
        </p:nvPicPr>
        <p:blipFill>
          <a:blip r:embed="rId2"/>
          <a:stretch/>
        </p:blipFill>
        <p:spPr>
          <a:xfrm>
            <a:off x="3203640" y="3186000"/>
            <a:ext cx="5940360" cy="3672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и по запросу фаросский маяк"/>
          <p:cNvPicPr/>
          <p:nvPr/>
        </p:nvPicPr>
        <p:blipFill>
          <a:blip r:embed="rId3"/>
          <a:stretch/>
        </p:blipFill>
        <p:spPr>
          <a:xfrm>
            <a:off x="0" y="0"/>
            <a:ext cx="6443640" cy="3627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280" y="3789360"/>
            <a:ext cx="3060720" cy="34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"/>
              </a:rPr>
              <a:t>Фаросский маяк - </a:t>
            </a:r>
            <a:r>
              <a:rPr b="0" lang="ru-RU" sz="2400" spc="-1" strike="noStrike">
                <a:solidFill>
                  <a:srgbClr val="ffffff"/>
                </a:solidFill>
                <a:latin typeface="Century"/>
              </a:rPr>
              <a:t>маяк, построенный в III веке до н. э. на острове Фарос около египетского города Александрии, является одним из 7 чудес с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260280"/>
            <a:ext cx="676944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Исторический источник –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вещь, созданная людьми и несущая в себе сведения о прошлом человеческ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Картинки по запросу лезгинка"/>
          <p:cNvPicPr/>
          <p:nvPr/>
        </p:nvPicPr>
        <p:blipFill>
          <a:blip r:embed="rId2"/>
          <a:stretch/>
        </p:blipFill>
        <p:spPr>
          <a:xfrm>
            <a:off x="0" y="2421000"/>
            <a:ext cx="5148360" cy="426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Картинки по запросу скифское золото"/>
          <p:cNvPicPr/>
          <p:nvPr/>
        </p:nvPicPr>
        <p:blipFill>
          <a:blip r:embed="rId3"/>
          <a:stretch/>
        </p:blipFill>
        <p:spPr>
          <a:xfrm>
            <a:off x="5148360" y="2205000"/>
            <a:ext cx="3995640" cy="1968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Картинки по запросу кумранские тексты"/>
          <p:cNvPicPr/>
          <p:nvPr/>
        </p:nvPicPr>
        <p:blipFill>
          <a:blip r:embed="rId4"/>
          <a:stretch/>
        </p:blipFill>
        <p:spPr>
          <a:xfrm>
            <a:off x="5148360" y="4197240"/>
            <a:ext cx="399564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76360" y="620640"/>
          <a:ext cx="6095880" cy="2433600"/>
        </p:xfrm>
        <a:graphic>
          <a:graphicData uri="http://schemas.openxmlformats.org/drawingml/2006/table">
            <a:tbl>
              <a:tblPr/>
              <a:tblGrid>
                <a:gridCol w="1655640"/>
                <a:gridCol w="2376720"/>
                <a:gridCol w="206352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ст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ещ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исьм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900000" y="3213000"/>
            <a:ext cx="3454560" cy="39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Записи на папиру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Пес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Поговор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Хра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entury"/>
              </a:rPr>
              <a:t>Записи, выдолбленные на кам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00720" y="3213000"/>
            <a:ext cx="3527280" cy="3534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ословиц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исьм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Оруж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Посу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Миф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Украш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Одежд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Летопис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3333cc"/>
                </a:solidFill>
                <a:latin typeface="Century"/>
              </a:rPr>
              <a:t>Дневни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187280" y="620640"/>
          <a:ext cx="6840720" cy="4319640"/>
        </p:xfrm>
        <a:graphic>
          <a:graphicData uri="http://schemas.openxmlformats.org/drawingml/2006/table">
            <a:tbl>
              <a:tblPr/>
              <a:tblGrid>
                <a:gridCol w="1872000"/>
                <a:gridCol w="2376360"/>
                <a:gridCol w="2592360"/>
              </a:tblGrid>
              <a:tr h="581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Исторические источ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уст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веществ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письм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32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Сказ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ес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гов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словиц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Миф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Хра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Оруж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осу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Укра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Одеж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Летопи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Дневн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Пись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Записи на папирус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>
                          <a:solidFill>
                            <a:srgbClr val="3333cc"/>
                          </a:solidFill>
                          <a:latin typeface="Century"/>
                        </a:rPr>
                        <a:t>Записи, выдолбленные на камн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87280" y="260280"/>
            <a:ext cx="6769440" cy="2653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Документ – 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исторический источник, содержащий текст, изображение или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Памятник</a:t>
            </a: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 – исторический источник, дошедший до наших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0" y="2565360"/>
            <a:ext cx="5580000" cy="3730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Похожее изображение"/>
          <p:cNvPicPr/>
          <p:nvPr/>
        </p:nvPicPr>
        <p:blipFill>
          <a:blip r:embed="rId3"/>
          <a:stretch/>
        </p:blipFill>
        <p:spPr>
          <a:xfrm>
            <a:off x="3708360" y="3338640"/>
            <a:ext cx="543564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956720" y="6669000"/>
            <a:ext cx="1187280" cy="189000"/>
          </a:xfrm>
          <a:prstGeom prst="rect">
            <a:avLst/>
          </a:prstGeom>
          <a:solidFill>
            <a:srgbClr val="d9d6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125360"/>
            <a:ext cx="5759280" cy="1680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"/>
              </a:rPr>
              <a:t>Рефлексивный эк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"/>
              </a:rPr>
              <a:t>Плюс – Минус – Интересный фа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артинки по запросу смайлики"/>
          <p:cNvPicPr/>
          <p:nvPr/>
        </p:nvPicPr>
        <p:blipFill>
          <a:blip r:embed="rId2"/>
          <a:stretch/>
        </p:blipFill>
        <p:spPr>
          <a:xfrm>
            <a:off x="2987640" y="27082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Картинки по запросу смайлики"/>
          <p:cNvPicPr/>
          <p:nvPr/>
        </p:nvPicPr>
        <p:blipFill>
          <a:blip r:embed="rId3"/>
          <a:stretch/>
        </p:blipFill>
        <p:spPr>
          <a:xfrm>
            <a:off x="5303880" y="2421000"/>
            <a:ext cx="3840120" cy="2555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Картинки по запросу смайлики"/>
          <p:cNvPicPr/>
          <p:nvPr/>
        </p:nvPicPr>
        <p:blipFill>
          <a:blip r:embed="rId4"/>
          <a:stretch/>
        </p:blipFill>
        <p:spPr>
          <a:xfrm>
            <a:off x="250920" y="2637000"/>
            <a:ext cx="2663640" cy="2423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Neo</cp:lastModifiedBy>
  <dcterms:modified xsi:type="dcterms:W3CDTF">2017-01-15T09:54:51Z</dcterms:modified>
  <cp:revision>5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7</vt:r8>
  </property>
</Properties>
</file>