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010-44EB-4000-9F6F-4AC5758A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E1C-EC30-4180-A541-5CDD420E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BAE-1816-4A98-B745-CB6F914F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384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56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DE3-3F9A-4A9B-9B26-D20805CD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600D-72A3-4F01-A6CB-93F90F0D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A8E-8881-4B83-ABC4-999146F6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EBA3-30C4-4A9E-985A-E8D487DE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BB9-37E9-4F63-8D60-9F0F1F4D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A8AB-9015-41EC-B9F6-E38FF35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C57B-3CA1-4433-B633-2468645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D6F-BBDF-4A99-85B7-89492B6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5DB-B7D1-4E76-8FCD-E8848B0B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145-798E-4347-8CF8-A9200A7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6F2D-4A72-4BE5-A836-5B2D7403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4C4F-DBFE-41D8-9649-E745020D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8886-9B9A-44C0-8B39-426D3CC2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384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556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DF9-9FE6-4F02-8A26-D67A8F9B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92C-D7BC-4E2A-B8E7-5579E9EC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41D-D79A-4253-AF6E-9CAB43A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B50-05D3-46D2-9CE5-13623EBF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6A6-1F2C-4A95-957E-4BEFBC7E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05A-C733-47EB-8923-570922A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080-A8FA-4427-912A-84244DF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1D6-D476-4150-8D30-80E9493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5E4282-D319-4AF3-8B24-FE591E9B92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1760" y="1709280"/>
              <a:ext cx="7694280" cy="14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3E2B52-DC85-43A4-9844-E5086DF921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228600" y="457200"/>
            <a:ext cx="8381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Фрукты и овощи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 точки зрения ученых биологов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Фрукт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3100" spc="-1" strike="noStrike">
                <a:solidFill>
                  <a:srgbClr val="ff9900"/>
                </a:solidFill>
                <a:latin typeface="Arial"/>
              </a:rPr>
              <a:t>сочный плод дерева                            или кустарника. Также                   фруктами являются                           все плоды содержащие                              сем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Овощи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3100" spc="-1" strike="noStrike">
                <a:solidFill>
                  <a:srgbClr val="33cc33"/>
                </a:solidFill>
                <a:latin typeface="Arial"/>
              </a:rPr>
              <a:t>это плоды или                                иные части травянистых                            расте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отличается фрукт от овощ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819160" cy="176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80880" y="838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полезны фрукт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80880" y="175104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Фрукты укрепляют иммунную систему, которая помогает нашему организму бороться с болезнями. Также они хороши для ко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сновные полезные вещества: калий, который помогает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утомления, бледного цвета ко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Некоторые фрук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используются при заболевания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РЗ и гри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чень важно употреблять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только много фруктов кажд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день, но также их большое 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разнообраз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rcRect l="3124" t="6970" r="6248" b="0"/>
          <a:stretch/>
        </p:blipFill>
        <p:spPr>
          <a:xfrm>
            <a:off x="4343400" y="3124080"/>
            <a:ext cx="441972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о фрукт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9966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9966"/>
                </a:solidFill>
                <a:latin typeface="Arial"/>
              </a:rPr>
              <a:t>Содержится  в яблоках, персиках, абрикосах, гранат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1614600" cy="1269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276720" y="1906560"/>
            <a:ext cx="266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ff"/>
                </a:solidFill>
                <a:latin typeface="Arial"/>
              </a:rPr>
              <a:t>Содержится в арбузе, яблоках, виноград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rcRect l="0" t="15585" r="80015" b="48915"/>
          <a:stretch/>
        </p:blipFill>
        <p:spPr>
          <a:xfrm>
            <a:off x="2895480" y="28195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248520" y="2058840"/>
            <a:ext cx="266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cc00"/>
                </a:solidFill>
                <a:uFillTx/>
                <a:latin typeface="Arial"/>
              </a:rPr>
              <a:t>Витамин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одержится в груше, апельсинах, яблоках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52280" y="4649400"/>
            <a:ext cx="297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одержится в лимонах, грейпфрутах, черной смородин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127800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rcRect l="14582" t="7219" r="71885" b="78036"/>
          <a:stretch/>
        </p:blipFill>
        <p:spPr>
          <a:xfrm>
            <a:off x="2666880" y="525780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114800" y="4648320"/>
            <a:ext cx="29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Содержится в авокадо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5"/>
          <a:srcRect l="63543" t="70664" r="27087" b="14598"/>
          <a:stretch/>
        </p:blipFill>
        <p:spPr>
          <a:xfrm>
            <a:off x="7315200" y="502920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8088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полезны овощ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04920" y="17510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Многие виды овощей имеют целебные и диетические свойства: они предупреждают тяжелые заболевания, повышают тонус и работоспособность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ни укрепляют стенки кровеносных сосудов, способствуют хорошему пищеварению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здоровлению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собую ценность представля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свежие зеленные овощи.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0" t="5052" r="0" b="0"/>
          <a:stretch/>
        </p:blipFill>
        <p:spPr>
          <a:xfrm>
            <a:off x="4648320" y="3200400"/>
            <a:ext cx="4019400" cy="2865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 овощ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одержится в моркови, помидорах, красном перц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700280" cy="1319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990720" y="442116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В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Содержится в горохе, фасоли, шпинате,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52280" y="5114880"/>
            <a:ext cx="13384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962520" y="2668680"/>
            <a:ext cx="26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a50021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одержится в капусте, салате, зеленом горошке и фасоли, редисе, картофел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1003320" cy="1774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6095880" y="19062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99cc00"/>
                </a:solidFill>
                <a:uFillTx/>
                <a:latin typeface="Arial"/>
              </a:rPr>
              <a:t>Витамин 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Больше всего его содержится в шпинате, салате, помидорах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715000" y="487872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одержится в моркови, красном перце, в зелени петрушки, шпинате, помидор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5"/>
          <a:srcRect l="72470" t="44101" r="14582" b="41154"/>
          <a:stretch/>
        </p:blipFill>
        <p:spPr>
          <a:xfrm>
            <a:off x="6781680" y="3124080"/>
            <a:ext cx="16765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77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гадки про фрук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28600" y="4572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Он почти как апельси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С толстой кожей, соч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Недостаток лишь один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Кислый очень, оч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(лимо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895480" y="457200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Ужин этот лучший сам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Рада я и Миша рад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Ведь сегодня наша ма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Нам купила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(виногра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95480" y="31240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Огурцы они как буд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Только связками расту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И на завтрак эти фрук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Обезьянам под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(бана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019920" y="3276720"/>
            <a:ext cx="3124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Из растительных продукт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Из известных ягод, фрукт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Из всего, что сладко, соч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Что съедобно и не очен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Детям всем на объедень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Можем мы сварить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(варень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6320" y="18288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Круглое, румяно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Я расту на вет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Любят меня взрослы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И маленькие де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(Яблок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52280" y="31240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Бусы красные вися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 кустов на нас глядя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чень любят бусы э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Дети, птицы и медвед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(Мали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743200" y="18288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линноножка хвалится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Я ли не красавиц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А сама-то — косточ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а красненькая кофточ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(Вишн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5791320" y="18288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Сам алый, сахар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Кафтан зеленый, бархат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(Арбуз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гадки про овощ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943600" y="182880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Золотистый и полез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итаминный, хотя резки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Горький вкус имеет он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Обжигает… Не лимо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(Лук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04920" y="31240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Как на грядке под листо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Закатился чурбачок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Зеленец удаленьки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Вкусный овощ маленьк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(Огурец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76720" y="502920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Зелёная толстух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Надела уйму юб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Стоит как балер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Из листьев пелери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(Капуст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19920" y="480060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Красный, детки, но не м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В огороде - не бур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очный лакомый синьо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Угад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(Помидор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175248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В огороде - жёлтый мяч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Только не бежит он вскач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Он как полная лу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Вкусные в нём семе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(Тык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04920" y="46483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У извилистой дорож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Растёт солнышко на нож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Как дозреет солнышк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Будет горстка зёрныше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(Подсолну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172200" y="335268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В зелёной палат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Колобки спят сладк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Много круглых крошек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Что эт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(Гороше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352680" y="1828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Это вовсе не игрушка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Ароматная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(Петрушк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352680" y="38098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Хоть чернил он не вида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Фиолетовым вдруг ста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Любят овощ Ваня, Жан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Так ведь это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(Баклажа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3200400" y="25909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Что это за рысачо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Завалился на бочок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Сам упитанный, салатны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Верно, детк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(Кабачо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Юрьевич</cp:lastModifiedBy>
  <dcterms:modified xsi:type="dcterms:W3CDTF">2015-05-27T10:05:41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