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12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7C1-D3A3-4462-8339-6C689CB3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1BA7-B164-4574-B6DA-3D10E843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1C0F-F4CA-4F87-8F78-64E51FB6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384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56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483-58A9-4726-9833-EC0DBB65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1D08-4F55-4F1D-BF86-518A4F344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9530-06E3-42BE-AD6D-523AF2C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525E-7DBE-4257-8CDC-F43B0885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4A03-14A0-49DF-B87E-11187BF9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81AD3-7F48-46D8-A03E-51AB16B6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5F2F-A318-4551-9CC6-649A1FDA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709DB-B2D1-49FD-B3A5-8CAFB7BC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9A37-9539-4942-95CA-3AFD16CB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E5AE-89B5-4C54-ACE3-C29C367A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56C9-B188-4ED4-916F-9333F52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884C-1EEE-49A5-83A6-B04E2B5F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C897-F708-44BE-9445-18C46F368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384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5560" y="190512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384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5560" y="4062960"/>
            <a:ext cx="2477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1315-3DDE-4072-A4DE-94B472A4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9F6-7B72-4A96-8825-91638049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88A5-32A9-406A-80EF-81597514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E529-ECCB-47D2-B22C-4DE747E9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6946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087-9828-4F42-8F68-ED694897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2A7-62E8-4399-A2C7-5FCA8911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200" y="406296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F88-82BB-4803-B353-0742C8F0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200" y="1905120"/>
            <a:ext cx="375480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62960"/>
            <a:ext cx="7694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EEA0-3D89-4D92-9AC2-733AF1F4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464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5987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EB3848-3BA3-4C51-8428-43C224D1260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68120" y="228600"/>
            <a:ext cx="8821800" cy="6094440"/>
            <a:chOff x="168120" y="228600"/>
            <a:chExt cx="8821800" cy="6094440"/>
          </a:xfrm>
        </p:grpSpPr>
        <p:sp>
          <p:nvSpPr>
            <p:cNvPr id="6" name="AutoShape 7"/>
            <p:cNvSpPr/>
            <p:nvPr/>
          </p:nvSpPr>
          <p:spPr>
            <a:xfrm>
              <a:off x="168120" y="228600"/>
              <a:ext cx="8821800" cy="609444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Line 8"/>
            <p:cNvSpPr/>
            <p:nvPr/>
          </p:nvSpPr>
          <p:spPr>
            <a:xfrm>
              <a:off x="761760" y="1709280"/>
              <a:ext cx="7694280" cy="144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3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0960" cy="22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56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080"/>
            <a:ext cx="15987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83DA6C-C932-4729-9EB4-CE5C078A3D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wmf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3"/>
          <p:cNvSpPr txBox="1"/>
          <p:nvPr/>
        </p:nvSpPr>
        <p:spPr>
          <a:xfrm>
            <a:off x="228600" y="457200"/>
            <a:ext cx="8381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Фрукты и овощи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С точки зрения ученых биологов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Фрукт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3100" spc="-1" strike="noStrike">
                <a:solidFill>
                  <a:srgbClr val="ff9900"/>
                </a:solidFill>
                <a:latin typeface="Arial"/>
              </a:rPr>
              <a:t>сочный плод дерева                            или кустарника. Также                   фруктами являются                           все плоды содержащие                              семен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100" spc="-1" strike="noStrike" u="sng">
                <a:solidFill>
                  <a:srgbClr val="000000"/>
                </a:solidFill>
                <a:uFillTx/>
                <a:latin typeface="Arial"/>
              </a:rPr>
              <a:t>Овощи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ru-RU" sz="3100" spc="-1" strike="noStrike">
                <a:solidFill>
                  <a:srgbClr val="33cc33"/>
                </a:solidFill>
                <a:latin typeface="Arial"/>
              </a:rPr>
              <a:t>это плоды или                                иные части травянистых                            растени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отличается фрукт от овощ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819160" cy="176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438280" cy="1832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380880" y="8380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полезны фрукт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380880" y="1751040"/>
            <a:ext cx="84582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Фрукты укрепляют иммунную систему, которая помогает нашему организму бороться с болезнями. Также они хороши для ко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сновные полезные вещества: калий, который помогает о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утомления, бледного цвета кож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Некоторые фрук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используются при заболевания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РЗ и грип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чень важно употреблять 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только много фруктов кажды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день, но также их большое 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разнообраз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rcRect l="3124" t="6970" r="6248" b="0"/>
          <a:stretch/>
        </p:blipFill>
        <p:spPr>
          <a:xfrm>
            <a:off x="4343400" y="3124080"/>
            <a:ext cx="4419720" cy="3049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о фрукт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9966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9966"/>
                </a:solidFill>
                <a:latin typeface="Arial"/>
              </a:rPr>
              <a:t>Содержится  в яблоках, персиках, абрикосах, гранат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1614600" cy="1269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276720" y="1906560"/>
            <a:ext cx="266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cc00ff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cc00ff"/>
                </a:solidFill>
                <a:latin typeface="Arial"/>
              </a:rPr>
              <a:t>Содержится в арбузе, яблоках, виноград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rcRect l="0" t="15585" r="80015" b="48915"/>
          <a:stretch/>
        </p:blipFill>
        <p:spPr>
          <a:xfrm>
            <a:off x="2895480" y="2819520"/>
            <a:ext cx="1143000" cy="15238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6248520" y="2058840"/>
            <a:ext cx="2662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cc00"/>
                </a:solidFill>
                <a:uFillTx/>
                <a:latin typeface="Arial"/>
              </a:rPr>
              <a:t>Витамин 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cc00"/>
                </a:solidFill>
                <a:latin typeface="Arial"/>
              </a:rPr>
              <a:t>Содержится в груше, апельсинах, яблоках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52280" y="4649400"/>
            <a:ext cx="297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одержится в лимонах, грейпфрутах, черной смородин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127800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4"/>
          <a:srcRect l="14582" t="7219" r="71885" b="78036"/>
          <a:stretch/>
        </p:blipFill>
        <p:spPr>
          <a:xfrm>
            <a:off x="2666880" y="525780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114800" y="4648320"/>
            <a:ext cx="297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Содержится в авокадо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5"/>
          <a:srcRect l="63543" t="70664" r="27087" b="14598"/>
          <a:stretch/>
        </p:blipFill>
        <p:spPr>
          <a:xfrm>
            <a:off x="7315200" y="502920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380880" y="7621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Чем полезны овощ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304920" y="175104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Многие виды овощей имеют целебные и диетические свойства: они предупреждают тяжелые заболевания, повышают тонус и работоспособность челове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ни укрепляют стенки кровеносных сосудов, способствуют хорошему пищеварению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здоровлению орган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Особую ценность представля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99cc00"/>
                </a:solidFill>
                <a:latin typeface="Times New Roman"/>
              </a:rPr>
              <a:t>свежие зеленные овощи.</a:t>
            </a:r>
            <a:r>
              <a:rPr b="0" lang="ru-RU" sz="20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0" t="5052" r="0" b="0"/>
          <a:stretch/>
        </p:blipFill>
        <p:spPr>
          <a:xfrm>
            <a:off x="4648320" y="3200400"/>
            <a:ext cx="4019400" cy="2865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380880" y="30492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Какие витамины содержатся в овощ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380880" y="189036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итамин 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Содержится в моркови, помидорах, красном перц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1700280" cy="1319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4"/>
          <p:cNvSpPr/>
          <p:nvPr/>
        </p:nvSpPr>
        <p:spPr>
          <a:xfrm>
            <a:off x="990720" y="442116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33cc33"/>
                </a:solidFill>
                <a:uFillTx/>
                <a:latin typeface="Arial"/>
              </a:rPr>
              <a:t>Витамин В</a:t>
            </a: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cc33"/>
                </a:solidFill>
                <a:latin typeface="Arial"/>
              </a:rPr>
              <a:t>Содержится в горохе, фасоли, шпинате,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52280" y="5114880"/>
            <a:ext cx="1338480" cy="1743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3962520" y="2668680"/>
            <a:ext cx="2662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a50021"/>
                </a:solidFill>
                <a:uFillTx/>
                <a:latin typeface="Arial"/>
              </a:rPr>
              <a:t>Витамин С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одержится в капусте, салате, зеленом горошке и фасоли, редисе, картофеле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2895480" y="2514600"/>
            <a:ext cx="1003320" cy="17748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8"/>
          <p:cNvSpPr/>
          <p:nvPr/>
        </p:nvSpPr>
        <p:spPr>
          <a:xfrm>
            <a:off x="6095880" y="1906200"/>
            <a:ext cx="2743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99cc00"/>
                </a:solidFill>
                <a:uFillTx/>
                <a:latin typeface="Arial"/>
              </a:rPr>
              <a:t>Витамин 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99cc00"/>
                </a:solidFill>
                <a:latin typeface="Arial"/>
              </a:rPr>
              <a:t>Больше всего его содержится в шпинате, салате, помидорах и д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5715000" y="487872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600" spc="-1" strike="noStrike" u="sng">
                <a:solidFill>
                  <a:srgbClr val="ff0066"/>
                </a:solidFill>
                <a:uFillTx/>
                <a:latin typeface="Arial"/>
              </a:rPr>
              <a:t>Витамин 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Содержится в моркови, красном перце, в зелени петрушки, шпинате, помидора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4"/>
          <a:stretch/>
        </p:blipFill>
        <p:spPr>
          <a:xfrm>
            <a:off x="4114800" y="4800600"/>
            <a:ext cx="1297080" cy="137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1" descr=""/>
          <p:cNvPicPr/>
          <p:nvPr/>
        </p:nvPicPr>
        <p:blipFill>
          <a:blip r:embed="rId5"/>
          <a:srcRect l="72470" t="44101" r="14582" b="41154"/>
          <a:stretch/>
        </p:blipFill>
        <p:spPr>
          <a:xfrm>
            <a:off x="6781680" y="3124080"/>
            <a:ext cx="16765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77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гадки про фрукт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28600" y="457200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Он почти как апельсин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С толстой кожей, соч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Недостаток лишь один 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Кислый очень, оч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лимо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895480" y="4572000"/>
            <a:ext cx="3505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Ужин этот лучший сам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Рада я и Миша рад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Ведь сегодня наша мам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Нам купила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(виногра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95480" y="3124080"/>
            <a:ext cx="3429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гурцы они как будт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Только связками расту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И на завтрак эти фрук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безьянам подаю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бана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6019920" y="3276720"/>
            <a:ext cx="3124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растительных продукт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известных ягод, фрукт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Из всего, что сладко, соч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Что съедобно и не очен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Детям всем на объедень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Можем мы сварить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66"/>
                </a:solidFill>
                <a:latin typeface="Arial"/>
              </a:rPr>
              <a:t>(варенье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76320" y="18288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Круглое, румяно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Я расту на вет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Любят меня взрослы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И маленькие дет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66"/>
                </a:solidFill>
                <a:latin typeface="Arial"/>
              </a:rPr>
              <a:t>(Яблоко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52280" y="31240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Бусы красные вися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з кустов на нас глядя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чень любят бусы э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Дети, птицы и медвед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(Мали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743200" y="182880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линноножка хвалится 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Я ли не красавиц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А сама-то — косточ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Да красненькая кофточ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Arial"/>
              </a:rPr>
              <a:t>(Вишня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5791320" y="18288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Сам алый, сахар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Кафтан зеленый, бархатны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(Арбуз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685800" y="685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Загадки про овощ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5943600" y="1828800"/>
            <a:ext cx="304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Золотистый и полезны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Витаминный, хотя резки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Горький вкус имеет он…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Обжигает… Не лимон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Лук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304920" y="31240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Как на грядке под лист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Закатился чурбачок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Зеленец удаленький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Вкусный овощ маленьки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cc00"/>
                </a:solidFill>
                <a:latin typeface="Arial"/>
              </a:rPr>
              <a:t>(Огурец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76720" y="5029200"/>
            <a:ext cx="28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Зелёная толстух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Надела уйму юбо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Стоит как балерин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Из листьев пелери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(Капуст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6019920" y="480060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Красный, детки, но не м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В огороде - не бура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Сочный лакомый синьо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Угадал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(Помидор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228600" y="175248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 огороде - жёлтый мяч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Только не бежит он вскач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Он как полная лу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кусные в нём семен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Тыкв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304920" y="46483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У извилистой дорожк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Растёт солнышко на нож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Как дозреет солнышк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Будет горстка зёрныше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Arial"/>
              </a:rPr>
              <a:t>(Подсолнух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6172200" y="3352680"/>
            <a:ext cx="2819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В зелёной палат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Колобки спят сладк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Много круглых крошек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Что эт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ff00"/>
                </a:solidFill>
                <a:latin typeface="Arial"/>
              </a:rPr>
              <a:t>(Гороше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3352680" y="1828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Это вовсе не игрушка -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Ароматная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33cc33"/>
                </a:solidFill>
                <a:latin typeface="Arial"/>
              </a:rPr>
              <a:t>(Петрушк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3352680" y="3809880"/>
            <a:ext cx="2971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Хоть чернил он не вида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Фиолетовым вдруг ста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Любят овощ Ваня, Жан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Так ведь это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cc00ff"/>
                </a:solidFill>
                <a:latin typeface="Arial"/>
              </a:rPr>
              <a:t>(Баклажан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3200400" y="2590920"/>
            <a:ext cx="32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Что это за рысач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Завалился на бочок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Сам упитанный, салатны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Верно, детки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ff9966"/>
                </a:solidFill>
                <a:latin typeface="Arial"/>
              </a:rPr>
              <a:t>(Кабачок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6" dur="20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5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6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2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2" dur="2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тон Юрьевич</cp:lastModifiedBy>
  <dcterms:modified xsi:type="dcterms:W3CDTF">2015-05-27T10:05:41Z</dcterms:modified>
  <cp:revision>1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