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wmf" ContentType="image/x-wmf"/>
  <Override PartName="/ppt/media/image13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5-21T20:32:15.015000000" idx="1">
    <p:pos x="10" y="10"/>
    <p:text>СИТНИКОВ М.И.
МОУ НАЗАРОВСКАЯ СОШ 2010-2011 г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608D-F454-429B-A04A-42B98EE1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F49D-3275-4E27-BDF2-F8775495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3B1B-37C4-4111-933D-EB7585A8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A89CE-4A43-443C-B553-B2C4D881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DB4D-FA8E-44E0-B230-828F4530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DCA6-4941-4EA8-AB3A-614ED28A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1B18-7AD7-417F-B3D8-E2D56248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ADD7-EA4B-43C3-84BF-62CA2E49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27CB9-D5A8-4EA3-864A-E0140AD6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21DC-81AE-41AA-8833-AC749B5F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3B1F-4905-4047-894E-59C78997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74FF-DE3B-4331-B947-6E0C396C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1107F-BDC0-4E55-9B63-273E0D7B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AC5D-2B17-4C72-A74D-322C39EA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6F89-E210-4A42-B9C2-AFCD8468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B70D-012B-4190-9A0C-53C64CD1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5D71-B1FA-4C68-8C12-C9D79C6B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B93E1-CD45-41E0-960B-2569B78B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D8845-A9AE-48A8-B05B-968941C5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9D388-5B51-43A1-B442-C5D639F2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FAACD-2B7F-4ACF-8D03-56E8C0A8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74C1F-D4EA-48B0-97D2-E39C0598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A5B3-7719-488C-9DAD-F6023E7D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18997-B350-4507-9250-C04DF4A7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B4F1-D4AA-42EE-80BF-3BAB1E39E3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9270-E88F-44EB-A4C8-2A60B9D6F6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2340000" y="1700280"/>
            <a:ext cx="56084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рок ОБЖ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8 клас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9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Защитные средства для предупреждения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электротравматиз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84000" y="188640"/>
            <a:ext cx="6659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Схема оказания первой помощ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при поражении электрическ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Arial"/>
              </a:rPr>
              <a:t>то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свободить пострадавшего от действия электрического т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Искусственная вентиляция легк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Непрямой массаж серд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Наложить стерильную повязку на ож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ри переломах наложить ш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16000" y="62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66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933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2560" y="2204640"/>
            <a:ext cx="858996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овести ревиз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электроприборов до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COBJ065"/>
          <p:cNvPicPr/>
          <p:nvPr/>
        </p:nvPicPr>
        <p:blipFill>
          <a:blip r:embed="rId2"/>
          <a:stretch/>
        </p:blipFill>
        <p:spPr>
          <a:xfrm>
            <a:off x="0" y="3429000"/>
            <a:ext cx="3398760" cy="342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COBJ091"/>
          <p:cNvPicPr/>
          <p:nvPr/>
        </p:nvPicPr>
        <p:blipFill>
          <a:blip r:embed="rId3"/>
          <a:stretch/>
        </p:blipFill>
        <p:spPr>
          <a:xfrm>
            <a:off x="5826240" y="3211560"/>
            <a:ext cx="33177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250920" y="2492280"/>
            <a:ext cx="856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Электробезопасность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2556000" y="981000"/>
            <a:ext cx="4176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а урока: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36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99"/>
                </a:solidFill>
                <a:latin typeface="Arial"/>
              </a:rPr>
              <a:t>Ход уро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рганизационный мо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Актуализация зн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Изуч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Arial"/>
              </a:rPr>
              <a:t>Назовите известные вам электроприбор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чайник"/>
          <p:cNvPicPr/>
          <p:nvPr/>
        </p:nvPicPr>
        <p:blipFill>
          <a:blip r:embed="rId2"/>
          <a:stretch/>
        </p:blipFill>
        <p:spPr>
          <a:xfrm>
            <a:off x="3132000" y="4149720"/>
            <a:ext cx="2529000" cy="2708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соковыжим"/>
          <p:cNvPicPr/>
          <p:nvPr/>
        </p:nvPicPr>
        <p:blipFill>
          <a:blip r:embed="rId3"/>
          <a:stretch/>
        </p:blipFill>
        <p:spPr>
          <a:xfrm>
            <a:off x="6442200" y="4149720"/>
            <a:ext cx="2701800" cy="2708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мясорубка"/>
          <p:cNvPicPr/>
          <p:nvPr/>
        </p:nvPicPr>
        <p:blipFill>
          <a:blip r:embed="rId4"/>
          <a:stretch/>
        </p:blipFill>
        <p:spPr>
          <a:xfrm>
            <a:off x="0" y="4149720"/>
            <a:ext cx="2124000" cy="2708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4" descr="J0232977"/>
          <p:cNvPicPr/>
          <p:nvPr/>
        </p:nvPicPr>
        <p:blipFill>
          <a:blip r:embed="rId5"/>
          <a:stretch/>
        </p:blipFill>
        <p:spPr>
          <a:xfrm>
            <a:off x="3492360" y="1916280"/>
            <a:ext cx="1900440" cy="2038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5" descr="J0232837"/>
          <p:cNvPicPr/>
          <p:nvPr/>
        </p:nvPicPr>
        <p:blipFill>
          <a:blip r:embed="rId6"/>
          <a:stretch/>
        </p:blipFill>
        <p:spPr>
          <a:xfrm>
            <a:off x="250920" y="1989000"/>
            <a:ext cx="1782720" cy="181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J0232923"/>
          <p:cNvPicPr/>
          <p:nvPr/>
        </p:nvPicPr>
        <p:blipFill>
          <a:blip r:embed="rId7"/>
          <a:stretch/>
        </p:blipFill>
        <p:spPr>
          <a:xfrm>
            <a:off x="6732720" y="1989000"/>
            <a:ext cx="1819080" cy="16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i="1" lang="ru-RU" sz="3600" spc="-1" strike="noStrike" u="sng">
                <a:solidFill>
                  <a:srgbClr val="a50021"/>
                </a:solidFill>
                <a:uFillTx/>
                <a:latin typeface="Arial"/>
              </a:rPr>
              <a:t>Электробезопасность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- это система организационных и технических мероприятий и средств, обеспечивающих защиту людей от опасного воздействия электрического т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67564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В  мире ежегодно от электротравм гибнет 30 тысяч челове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a50021"/>
                </a:solidFill>
                <a:latin typeface="Arial"/>
              </a:rPr>
              <a:t>В России смертность от электротравм составляет  30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4932360" y="2849400"/>
            <a:ext cx="4211640" cy="4008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0" y="2876400"/>
            <a:ext cx="370836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5651640" y="3570120"/>
            <a:ext cx="3492360" cy="3287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Причины электротравматизм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основение к оголенным проводам, контактам электроприборов, находящихся под напря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Прикосновении к частям электроприборов с поврежденной изоля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Прикосновении к предметам, случайно оказавшимся под напряж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Нахождении вблизи оборванного провода электро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Несоблюдения правил техн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опас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4000" y="923760"/>
            <a:ext cx="8604000" cy="5934240"/>
          </a:xfrm>
          <a:prstGeom prst="rect">
            <a:avLst/>
          </a:prstGeom>
          <a:ln w="0">
            <a:noFill/>
          </a:ln>
        </p:spPr>
      </p:pic>
      <p:sp>
        <p:nvSpPr>
          <p:cNvPr id="129" name="WordArt 6"/>
          <p:cNvSpPr txBox="1"/>
          <p:nvPr/>
        </p:nvSpPr>
        <p:spPr>
          <a:xfrm>
            <a:off x="250920" y="333360"/>
            <a:ext cx="84978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ражение током в быту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0" y="1989000"/>
            <a:ext cx="3276720" cy="4869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5940360" y="1989000"/>
            <a:ext cx="3203640" cy="4869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3132000" y="1989000"/>
            <a:ext cx="2872080" cy="4869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8"/>
          <p:cNvSpPr txBox="1"/>
          <p:nvPr/>
        </p:nvSpPr>
        <p:spPr>
          <a:xfrm>
            <a:off x="0" y="6308640"/>
            <a:ext cx="9144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акие петли наиболее опасны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35" name="WordArt 9"/>
          <p:cNvSpPr txBox="1"/>
          <p:nvPr/>
        </p:nvSpPr>
        <p:spPr>
          <a:xfrm>
            <a:off x="539640" y="333360"/>
            <a:ext cx="786780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арианты прохождения электрического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ка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06:51:11Z</dcterms:created>
  <dc:creator>student</dc:creator>
  <dc:description/>
  <dc:language>en-US</dc:language>
  <cp:lastModifiedBy>user1</cp:lastModifiedBy>
  <dcterms:modified xsi:type="dcterms:W3CDTF">2017-01-15T12:21:40Z</dcterms:modified>
  <cp:revision>20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