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wmf" ContentType="image/x-wmf"/>
  <Override PartName="/ppt/media/image13.png" ContentType="image/png"/>
  <Override PartName="/ppt/media/image10.wmf" ContentType="image/x-wmf"/>
  <Override PartName="/ppt/media/image4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22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5-21T20:32:15.015000000" idx="1">
    <p:pos x="10" y="10"/>
    <p:text>СИТНИКОВ М.И.
МОУ НАЗАРОВСКАЯ СОШ 2010-2011 г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55F2C-028E-41F2-9DEE-16C683F2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4A348-4D29-49BB-8063-C91A60DE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FA34A-3024-4D98-8604-86D76167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91AF0-A1AD-46A6-A358-FA57F282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1EF0-4A5A-42C3-93AE-BA826765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C4F9-95E5-437A-BCED-E89955B8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8BEC-33BA-47BF-86EB-74F31CE8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4B18-97CE-4E56-B784-D8F4299B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783C-594E-4050-B93D-97F85193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4E88-9A19-4075-816E-A337BC46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4687-10EB-4167-92BC-1DF97CC5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D34FF-FA21-4112-8346-D40F4724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AF58-2910-4732-8D93-02B79AA4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83AF-849D-41D9-A3AF-C33391B1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7F5C-FA90-48A7-946A-8D8E5C81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4918-50D6-4EA4-811D-BAA44620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5B5D-1DF8-4B23-ACB8-92742D97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E391A-6202-4DFA-AA7F-57F971E1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24FE-C933-4463-852E-C98750BE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4E050-0923-4CB5-A30E-446E08A6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460FF-51A2-436B-9EB0-0F69FBE4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63444-1D1A-492A-B22F-40442010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9E7EB-016E-4F8D-A91F-252D8752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03505-6336-4363-A66E-2E543271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690B-07CA-4519-A8FF-8E5E47C66E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EE5C-9541-46C8-8292-A81782C26D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0"/>
          <p:cNvSpPr txBox="1"/>
          <p:nvPr/>
        </p:nvSpPr>
        <p:spPr>
          <a:xfrm>
            <a:off x="2340000" y="1700280"/>
            <a:ext cx="560844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рок ОБЖ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8 клас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96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Защитные средства для предупреждения 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электротравматиз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84000" y="188640"/>
            <a:ext cx="6659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Схема оказания первой помощ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при поражении электрическ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т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Освободить пострадавшего от действия электрического 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Искусственная вентиляция легк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Непрямой массаж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Наложить стерильную повязку на ож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При переломах наложить ш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66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9933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2560" y="2204640"/>
            <a:ext cx="85899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ровести ревиз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электроприборов до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COBJ065"/>
          <p:cNvPicPr/>
          <p:nvPr/>
        </p:nvPicPr>
        <p:blipFill>
          <a:blip r:embed="rId2"/>
          <a:stretch/>
        </p:blipFill>
        <p:spPr>
          <a:xfrm>
            <a:off x="0" y="3429000"/>
            <a:ext cx="339876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OBJ091"/>
          <p:cNvPicPr/>
          <p:nvPr/>
        </p:nvPicPr>
        <p:blipFill>
          <a:blip r:embed="rId3"/>
          <a:stretch/>
        </p:blipFill>
        <p:spPr>
          <a:xfrm>
            <a:off x="5826240" y="3211560"/>
            <a:ext cx="33177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250920" y="2492280"/>
            <a:ext cx="856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Электробезопасность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2556000" y="981000"/>
            <a:ext cx="4176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 урока: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99"/>
                </a:solidFill>
                <a:latin typeface="Arial"/>
              </a:rPr>
              <a:t>Ход уро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рганизационный мо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Актуализация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Изучение нов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Практиче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Назовите известные вам электроприбо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чайник"/>
          <p:cNvPicPr/>
          <p:nvPr/>
        </p:nvPicPr>
        <p:blipFill>
          <a:blip r:embed="rId2"/>
          <a:stretch/>
        </p:blipFill>
        <p:spPr>
          <a:xfrm>
            <a:off x="3132000" y="4149720"/>
            <a:ext cx="2529000" cy="2708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соковыжим"/>
          <p:cNvPicPr/>
          <p:nvPr/>
        </p:nvPicPr>
        <p:blipFill>
          <a:blip r:embed="rId3"/>
          <a:stretch/>
        </p:blipFill>
        <p:spPr>
          <a:xfrm>
            <a:off x="6442200" y="4149720"/>
            <a:ext cx="2701800" cy="2708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мясорубка"/>
          <p:cNvPicPr/>
          <p:nvPr/>
        </p:nvPicPr>
        <p:blipFill>
          <a:blip r:embed="rId4"/>
          <a:stretch/>
        </p:blipFill>
        <p:spPr>
          <a:xfrm>
            <a:off x="0" y="4149720"/>
            <a:ext cx="2124000" cy="2708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J0232977"/>
          <p:cNvPicPr/>
          <p:nvPr/>
        </p:nvPicPr>
        <p:blipFill>
          <a:blip r:embed="rId5"/>
          <a:stretch/>
        </p:blipFill>
        <p:spPr>
          <a:xfrm>
            <a:off x="3492360" y="1916280"/>
            <a:ext cx="1900440" cy="2038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J0232837"/>
          <p:cNvPicPr/>
          <p:nvPr/>
        </p:nvPicPr>
        <p:blipFill>
          <a:blip r:embed="rId6"/>
          <a:stretch/>
        </p:blipFill>
        <p:spPr>
          <a:xfrm>
            <a:off x="250920" y="1989000"/>
            <a:ext cx="1782720" cy="181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J0232923"/>
          <p:cNvPicPr/>
          <p:nvPr/>
        </p:nvPicPr>
        <p:blipFill>
          <a:blip r:embed="rId7"/>
          <a:stretch/>
        </p:blipFill>
        <p:spPr>
          <a:xfrm>
            <a:off x="6732720" y="1989000"/>
            <a:ext cx="1819080" cy="16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i="1" lang="ru-RU" sz="3600" spc="-1" strike="noStrike" u="sng">
                <a:solidFill>
                  <a:srgbClr val="a50021"/>
                </a:solidFill>
                <a:uFillTx/>
                <a:latin typeface="Arial"/>
              </a:rPr>
              <a:t>Электробезопасность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- это система организационных и технических мероприятий и средств, обеспечивающих защиту людей от опасного воздействия электрического то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67564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В  мире ежегодно от электротравм гибнет 30 тысяч чело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В России смертность от электротравм составляет  30%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4932360" y="2849400"/>
            <a:ext cx="4211640" cy="4008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3"/>
          <a:stretch/>
        </p:blipFill>
        <p:spPr>
          <a:xfrm>
            <a:off x="0" y="2876400"/>
            <a:ext cx="37083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5651640" y="3570120"/>
            <a:ext cx="3492360" cy="3287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Причины электротравматизм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основение к оголенным проводам, контактам электроприборов, находящихся под напря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Прикосновении к частям электроприборов с поврежденной изоля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Прикосновении к предметам, случайно оказавшимся под напря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Нахождении вблизи оборванного провода электро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Несоблюдения правил тех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24000" y="923760"/>
            <a:ext cx="8604000" cy="5934240"/>
          </a:xfrm>
          <a:prstGeom prst="rect">
            <a:avLst/>
          </a:prstGeom>
          <a:ln w="0">
            <a:noFill/>
          </a:ln>
        </p:spPr>
      </p:pic>
      <p:sp>
        <p:nvSpPr>
          <p:cNvPr id="129" name="WordArt 6"/>
          <p:cNvSpPr txBox="1"/>
          <p:nvPr/>
        </p:nvSpPr>
        <p:spPr>
          <a:xfrm>
            <a:off x="250920" y="333360"/>
            <a:ext cx="84978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ажение током в быту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0" y="1989000"/>
            <a:ext cx="3276720" cy="486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5940360" y="1989000"/>
            <a:ext cx="3203640" cy="486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3132000" y="1989000"/>
            <a:ext cx="2872080" cy="4869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8"/>
          <p:cNvSpPr txBox="1"/>
          <p:nvPr/>
        </p:nvSpPr>
        <p:spPr>
          <a:xfrm>
            <a:off x="0" y="6308640"/>
            <a:ext cx="9144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Какие петли наиболее опасны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35" name="WordArt 9"/>
          <p:cNvSpPr txBox="1"/>
          <p:nvPr/>
        </p:nvSpPr>
        <p:spPr>
          <a:xfrm>
            <a:off x="539640" y="333360"/>
            <a:ext cx="78678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арианты прохождения электрического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ка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06:51:11Z</dcterms:created>
  <dc:creator>student</dc:creator>
  <dc:description/>
  <dc:language>en-US</dc:language>
  <cp:lastModifiedBy>user1</cp:lastModifiedBy>
  <dcterms:modified xsi:type="dcterms:W3CDTF">2017-01-15T12:21:40Z</dcterms:modified>
  <cp:revision>20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