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506-C295-4E51-9ED8-0828E87A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858-E85C-404D-B274-2F09238B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72D0-6F4E-482D-91F6-0E06F0C6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C004-FD80-4FD0-88A9-7DF1E6BB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747A-2DA2-4226-920D-DDD0632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5DC-9970-49D0-A623-6A28E704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146-54A1-4B00-855F-9E94543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24F0-B00B-4F95-A764-7B4E6E9E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701-6FB2-4600-AF1E-5FEDE619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432C-2C22-4F76-80B7-8014B84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97C-D3AA-4889-B51D-1D17E4A1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D8B-760F-4107-9D7F-6E933D70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BC50-C147-4BD3-8B97-D83772030F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032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7375e"/>
                </a:solidFill>
                <a:latin typeface="Calibri"/>
              </a:rPr>
              <a:t>«Бодрящая гимнастика после сна в ДО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6372360" y="3933720"/>
            <a:ext cx="231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</a:rPr>
              <a:t>Андрусик Т.А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Задач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0560" y="1341000"/>
            <a:ext cx="85899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Оздорови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креплять опорно-двигательный аппара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овершенствовать и развивать координацию движен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повысить жизненный тону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крепить иммунит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тренировать терморегуляционный аппар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Обучающ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чить детей дышать через нос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упражнять в плавном свободном выдох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формировать умения выполнять движения по показу взросл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Воспитательны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воспитывать привычку здорового образа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71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979640" y="836640"/>
            <a:ext cx="6624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Методика проведения гимнастики после дневного с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ка дети спят, педагог создает условия для проведения гимнастики: для контрастного закаливания детей готовит «холодную» комнату; температура в ней с помощью проветривания снижается  на 3-5 градусов по сравнению с «теплой» комнат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уждение детей желательно чтобы происходило под звуки плавной музыки, громкость которой постепенно нараста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Documents and Settings\User\Рабочий стол\Таня А\фото группы 4\фото плакат\SAM_3929.JPG"/>
          <p:cNvPicPr/>
          <p:nvPr/>
        </p:nvPicPr>
        <p:blipFill>
          <a:blip r:embed="rId2"/>
          <a:stretch/>
        </p:blipFill>
        <p:spPr>
          <a:xfrm>
            <a:off x="3708360" y="3284640"/>
            <a:ext cx="232416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70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римерная схема проведения гимнастики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после дневного с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015920"/>
            <a:ext cx="821844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11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Гимнастика в постели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( включает в себя такие элементы, как потягивания, поочередное и одновременное поднимание и опускание рук и ног, элементы самомассажа, пальчиковой гимнастики, гимнастики для глаз).  Длительность этой части гимнастики –около 2-3 мину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2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. Выполнение  ОРУ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(общеразвивающих упражнений) у кроваток (дыхательная гимнастика), 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3.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 Ходьба по «тропе здоровья»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" (ходьба по массажным, ребристым, солевым или мокрым дорожкам)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.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4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. Корригирующие упражнения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на профилактику плоскостопия и нарушения осанки ( включает в себя ходьбу (на носках, на пятках, с высоким подниманием коленей, в полу приседе, в полном приседе, на внешней стороне стопы, с перекатом с пятки на носок, по корригирующим дорожкам) или комплекс упражнений (в положении сидя на стуле или сидя на ковре). Длительность этой части гимнастики – 2-3 минуты.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5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Массаж махровой рукавицей, массажными мячиками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. 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6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Дыхательная гимнастика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(очень важно для укрепления иммунитета, профилактики простудных заболеваний и заболеваний верхних дыхательных путей). </a:t>
            </a:r>
            <a:br>
              <a:rPr sz="1600"/>
            </a:b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7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Упражнения для глаз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      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8. </a:t>
            </a:r>
            <a:r>
              <a:rPr b="1" lang="ru-RU" sz="1600" spc="-1" strike="noStrike" u="sng">
                <a:solidFill>
                  <a:srgbClr val="17375e"/>
                </a:solidFill>
                <a:uFillTx/>
                <a:latin typeface="Calibri"/>
              </a:rPr>
              <a:t>Водные процедуры </a:t>
            </a:r>
            <a:r>
              <a:rPr b="1" lang="ru-RU" sz="1400" spc="-1" strike="noStrike" u="sng">
                <a:solidFill>
                  <a:srgbClr val="17375e"/>
                </a:solidFill>
                <a:uFillTx/>
                <a:latin typeface="Calibri"/>
              </a:rPr>
              <a:t>(</a:t>
            </a:r>
            <a:r>
              <a:rPr b="1" lang="ru-RU" sz="1600" spc="-1" strike="noStrike">
                <a:solidFill>
                  <a:srgbClr val="17375e"/>
                </a:solidFill>
                <a:latin typeface="Calibri"/>
              </a:rPr>
              <a:t>обтирание холодной водой или контрастное обливание (рук или ног)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17375e"/>
                </a:solidFill>
                <a:latin typeface="Calibri"/>
              </a:rPr>
              <a:t> 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37450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Calibri"/>
              </a:rPr>
              <a:t>Гимнастика в посте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G:\Новая папка (2)\SAM_6882.JPG"/>
          <p:cNvPicPr/>
          <p:nvPr/>
        </p:nvPicPr>
        <p:blipFill>
          <a:blip r:embed="rId2"/>
          <a:stretch/>
        </p:blipFill>
        <p:spPr>
          <a:xfrm>
            <a:off x="3236760" y="1231920"/>
            <a:ext cx="2127240" cy="1639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G:\Новая папка (2)\SAM_6875.JPG"/>
          <p:cNvPicPr/>
          <p:nvPr/>
        </p:nvPicPr>
        <p:blipFill>
          <a:blip r:embed="rId3"/>
          <a:stretch/>
        </p:blipFill>
        <p:spPr>
          <a:xfrm>
            <a:off x="987480" y="1285920"/>
            <a:ext cx="2060640" cy="15904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5651640" y="26028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Общеразвивающие упраж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G:\Новая папка (2)\SAM_6896.JPG"/>
          <p:cNvPicPr/>
          <p:nvPr/>
        </p:nvPicPr>
        <p:blipFill>
          <a:blip r:embed="rId4"/>
          <a:stretch/>
        </p:blipFill>
        <p:spPr>
          <a:xfrm>
            <a:off x="6540480" y="993600"/>
            <a:ext cx="1658880" cy="2151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47600" y="3429000"/>
            <a:ext cx="36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Ходьба по «тропе здоровь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G:\Новая папка (2)\SAM_6906.JPG"/>
          <p:cNvPicPr/>
          <p:nvPr/>
        </p:nvPicPr>
        <p:blipFill>
          <a:blip r:embed="rId5"/>
          <a:stretch/>
        </p:blipFill>
        <p:spPr>
          <a:xfrm>
            <a:off x="1139760" y="3882960"/>
            <a:ext cx="1847880" cy="2408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4"/>
          <p:cNvSpPr/>
          <p:nvPr/>
        </p:nvSpPr>
        <p:spPr>
          <a:xfrm>
            <a:off x="5302080" y="3429000"/>
            <a:ext cx="344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Arial"/>
              </a:rPr>
              <a:t>Корригирующие упраж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7040520" y="4011480"/>
            <a:ext cx="1914480" cy="2303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Users\Сергей\Desktop\фото\SAM_4605.JPG"/>
          <p:cNvPicPr/>
          <p:nvPr/>
        </p:nvPicPr>
        <p:blipFill>
          <a:blip r:embed="rId7"/>
          <a:stretch/>
        </p:blipFill>
        <p:spPr>
          <a:xfrm>
            <a:off x="4237200" y="4297320"/>
            <a:ext cx="24746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Calibri"/>
              </a:rPr>
              <a:t>Массаж махровой рукавицей, мяч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G:\Новая папка (2)\SAM_6919.JPG"/>
          <p:cNvPicPr/>
          <p:nvPr/>
        </p:nvPicPr>
        <p:blipFill>
          <a:blip r:embed="rId2"/>
          <a:stretch/>
        </p:blipFill>
        <p:spPr>
          <a:xfrm>
            <a:off x="2073240" y="1420920"/>
            <a:ext cx="1913040" cy="22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G:\Новая папка (2)\SAM_6926.JPG"/>
          <p:cNvPicPr/>
          <p:nvPr/>
        </p:nvPicPr>
        <p:blipFill>
          <a:blip r:embed="rId3"/>
          <a:stretch/>
        </p:blipFill>
        <p:spPr>
          <a:xfrm>
            <a:off x="5675400" y="3432240"/>
            <a:ext cx="2060640" cy="24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5284440"/>
            <a:ext cx="442800" cy="841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5"/>
          <a:stretch/>
        </p:blipFill>
        <p:spPr>
          <a:xfrm>
            <a:off x="4449600" y="1347840"/>
            <a:ext cx="2189160" cy="2200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:\Новая папка (2)\SAM_6928.JPG"/>
          <p:cNvPicPr/>
          <p:nvPr/>
        </p:nvPicPr>
        <p:blipFill>
          <a:blip r:embed="rId6"/>
          <a:stretch/>
        </p:blipFill>
        <p:spPr>
          <a:xfrm>
            <a:off x="2792520" y="4084560"/>
            <a:ext cx="16826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7375e"/>
                </a:solidFill>
                <a:uFillTx/>
                <a:latin typeface="Calibri"/>
              </a:rPr>
              <a:t>Главное правило</a:t>
            </a:r>
            <a:r>
              <a:rPr b="1" lang="ru-RU" sz="2400" spc="-1" strike="noStrike">
                <a:solidFill>
                  <a:srgbClr val="17375e"/>
                </a:solidFill>
                <a:latin typeface="Calibri"/>
              </a:rPr>
              <a:t>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620280"/>
            <a:ext cx="7942320" cy="582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исключить резкие движения, которые могут вызвать растяжения мышц, перевозбуждение, перепад кровяного давления и, как следствие, головокружени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17375e"/>
                </a:solidFill>
                <a:uFillTx/>
                <a:latin typeface="Calibri"/>
              </a:rPr>
              <a:t>Следует избегать всякого принуж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Если ребенок отказывается от гимнастики, не стоит настаивать, а лучше тактично выяснит причин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Общая длительность оздоровительной гимнастики после дневного сна должна составлять не менее 12-15 минут (ст. возраст), 7-10 минут (мл. возраст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Гимнастика после дневного сна в сочетании  с контрастными воздушными ваннами помогает улучшить настроение детей, поднять мышечный тонус, а также способствует профилактике нарушений осанки и стопы. Летом эту гимнастику следует проводить при открытых фрамуг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3" descr="SHablon-dlya-prezentatsii-Radug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11488b"/>
                </a:solidFill>
                <a:uFillTx/>
                <a:latin typeface="Calibri"/>
              </a:rPr>
              <a:t>Ожидаемые результа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4764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крепить здоровье, иммунитет и опорно-двигательный аппарат де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овысить жизненный тонус и эмоциональное состояни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развить координацию движ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научит дышать через нос, выполнять движения по показу воспитател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будет способствовать воспитанию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ивычки к здоровому образу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9:48:56Z</dcterms:created>
  <dc:creator>Admin</dc:creator>
  <dc:description/>
  <dc:language>en-US</dc:language>
  <cp:lastModifiedBy>Sergey</cp:lastModifiedBy>
  <dcterms:modified xsi:type="dcterms:W3CDTF">2017-01-15T15:17:44Z</dcterms:modified>
  <cp:revision>64</cp:revision>
  <dc:subject/>
  <dc:title>«Бодрящая гимнастика после сна в ДОУ»</dc:title>
</cp:coreProperties>
</file>