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2B2-AB54-43D4-BB84-0321492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3DC-BC9A-44D9-A5C8-872DFF4B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583-2F2D-4F73-99EF-AE303340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747-2F75-421E-91C5-50649517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256-EBDC-4899-AD0A-C0A451C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19C-C4C9-488A-9F4E-7CFB482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C08-CC3D-4BE3-9FF3-7BD3495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10E-412F-42EE-88C9-EE4AF7EF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AEF-3D73-4C46-A504-B11F4EA3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C84-2129-491E-A4F3-077D991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DDA-AC80-43A7-8340-85BD6D40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413-7817-4400-BBC1-76272649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ED5-E797-4F9F-A8D8-D487FD837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32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«Бодрящая гимнастика после сна в ДО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372360" y="3933720"/>
            <a:ext cx="23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Андрусик Т.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341000"/>
            <a:ext cx="85899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Оздорови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креплять опорно-двигательный аппара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вершенствовать и развивать координацию дви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повысить жизненный тону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крепить иммунит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тренировать терморегуляционный аппа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чить детей дышать через но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пражнять в плавном свободном выдох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формировать умения выполнять движения по показу взросл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оспитывать привычку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979640" y="836640"/>
            <a:ext cx="66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тодика проведения гимнастики после дневного с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дети спят, педагог создает условия для проведения гимнастики: для контрастного закаливания детей готовит «холодную» комнату; температура в ней с помощью проветривания снижается  на 3-5 градусов по сравнению с «теплой» комна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уждение детей желательно чтобы происходило под звуки плавной музыки, громкость которой постепенно нараст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Documents and Settings\User\Рабочий стол\Таня А\фото группы 4\фото плакат\SAM_3929.JPG"/>
          <p:cNvPicPr/>
          <p:nvPr/>
        </p:nvPicPr>
        <p:blipFill>
          <a:blip r:embed="rId2"/>
          <a:stretch/>
        </p:blipFill>
        <p:spPr>
          <a:xfrm>
            <a:off x="3708360" y="3284640"/>
            <a:ext cx="2324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имерная схема проведения гимнастики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сле дневного с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015920"/>
            <a:ext cx="821844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1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Гимнастика в постели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 включает в себя такие элементы, как потягивания, поочередное и одновременное поднимание и опускание рук и ног, элементы самомассажа, пальчиковой гимнастики, гимнастики для глаз).  Длительность этой части гимнастики –около 2-3 мину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 Выполнение  ОРУ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общеразвивающих упражнений) у кроваток (дыхательная гимнастика), 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 Ходьба по «тропе здоровья»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" (ходьба по массажным, ребристым, солевым или мокрым дорожкам)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4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 Корригирующие упражнения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на профилактику плоскостопия и нарушения осанки ( включает в себя ходьбу (на носках, на пятках, с высоким подниманием коленей, в полу приседе, в полном приседе, на внешней стороне стопы, с перекатом с пятки на носок, по корригирующим дорожкам) или комплекс упражнений (в положении сидя на стуле или сидя на ковре). Длительность этой части гимнастики – 2-3 минуты.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5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Массаж махровой рукавицей, массажными мячиками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.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6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Дыхательная гимнастика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очень важно для укрепления иммунитета, профилактики простудных заболеваний и заболеваний верхних дыхательных путей).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7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Упражнения для глаз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8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Водные процедуры </a:t>
            </a:r>
            <a:r>
              <a:rPr b="1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(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обтирание холодной водой или контрастное обливание (рук или ног)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Гимнастика в пос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G:\Новая папка (2)\SAM_6882.JPG"/>
          <p:cNvPicPr/>
          <p:nvPr/>
        </p:nvPicPr>
        <p:blipFill>
          <a:blip r:embed="rId2"/>
          <a:stretch/>
        </p:blipFill>
        <p:spPr>
          <a:xfrm>
            <a:off x="3236760" y="1231920"/>
            <a:ext cx="2127240" cy="163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G:\Новая папка (2)\SAM_6875.JPG"/>
          <p:cNvPicPr/>
          <p:nvPr/>
        </p:nvPicPr>
        <p:blipFill>
          <a:blip r:embed="rId3"/>
          <a:stretch/>
        </p:blipFill>
        <p:spPr>
          <a:xfrm>
            <a:off x="987480" y="1285920"/>
            <a:ext cx="2060640" cy="1590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5651640" y="26028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Общеразвивающи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:\Новая папка (2)\SAM_6896.JPG"/>
          <p:cNvPicPr/>
          <p:nvPr/>
        </p:nvPicPr>
        <p:blipFill>
          <a:blip r:embed="rId4"/>
          <a:stretch/>
        </p:blipFill>
        <p:spPr>
          <a:xfrm>
            <a:off x="6540480" y="993600"/>
            <a:ext cx="1658880" cy="2151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47600" y="3429000"/>
            <a:ext cx="36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Ходьба по «тропе здоровь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G:\Новая папка (2)\SAM_6906.JPG"/>
          <p:cNvPicPr/>
          <p:nvPr/>
        </p:nvPicPr>
        <p:blipFill>
          <a:blip r:embed="rId5"/>
          <a:stretch/>
        </p:blipFill>
        <p:spPr>
          <a:xfrm>
            <a:off x="1139760" y="3882960"/>
            <a:ext cx="1847880" cy="2408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302080" y="342900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Корригирующие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7040520" y="4011480"/>
            <a:ext cx="191448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Сергей\Desktop\фото\SAM_4605.JPG"/>
          <p:cNvPicPr/>
          <p:nvPr/>
        </p:nvPicPr>
        <p:blipFill>
          <a:blip r:embed="rId7"/>
          <a:stretch/>
        </p:blipFill>
        <p:spPr>
          <a:xfrm>
            <a:off x="4237200" y="4297320"/>
            <a:ext cx="24746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ссаж махровой рукавицей, мяч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G:\Новая папка (2)\SAM_6919.JPG"/>
          <p:cNvPicPr/>
          <p:nvPr/>
        </p:nvPicPr>
        <p:blipFill>
          <a:blip r:embed="rId2"/>
          <a:stretch/>
        </p:blipFill>
        <p:spPr>
          <a:xfrm>
            <a:off x="2073240" y="1420920"/>
            <a:ext cx="1913040" cy="22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G:\Новая папка (2)\SAM_6926.JPG"/>
          <p:cNvPicPr/>
          <p:nvPr/>
        </p:nvPicPr>
        <p:blipFill>
          <a:blip r:embed="rId3"/>
          <a:stretch/>
        </p:blipFill>
        <p:spPr>
          <a:xfrm>
            <a:off x="5675400" y="3432240"/>
            <a:ext cx="2060640" cy="24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5284440"/>
            <a:ext cx="442800" cy="84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4449600" y="1347840"/>
            <a:ext cx="2189160" cy="220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:\Новая папка (2)\SAM_6928.JPG"/>
          <p:cNvPicPr/>
          <p:nvPr/>
        </p:nvPicPr>
        <p:blipFill>
          <a:blip r:embed="rId6"/>
          <a:stretch/>
        </p:blipFill>
        <p:spPr>
          <a:xfrm>
            <a:off x="2792520" y="4084560"/>
            <a:ext cx="16826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Главное правило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620280"/>
            <a:ext cx="794232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исключить резкие движения, которые могут вызвать растяжения мышц, перевозбуждение, перепад кровяного давления и, как следствие, головокруж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Следует избегать всякого прину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Если ребенок отказывается от гимнастики, не стоит настаивать, а лучше тактично выяснит прич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Общая длительность оздоровительной гимнастики после дневного сна должна составлять не менее 12-15 минут (ст. возраст), 7-10 минут (мл. возрас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Гимнастика после дневного сна в сочетании  с контрастными воздушными ваннами помогает улучшить настроение детей, поднять мышечный тонус, а также способствует профилактике нарушений осанки и стопы. Летом эту гимнастику следует проводить при открытых фрамуг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488b"/>
                </a:solidFill>
                <a:uFillTx/>
                <a:latin typeface="Calibri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крепить здоровье, иммунитет и опорно-двигательный аппарат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овысить жизненный тонус и эмо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разви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аучит дышать через нос, выполнять движения по показу воспитател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будет способствовать воспита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ивычки к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9:48:56Z</dcterms:created>
  <dc:creator>Admin</dc:creator>
  <dc:description/>
  <dc:language>en-US</dc:language>
  <cp:lastModifiedBy>Sergey</cp:lastModifiedBy>
  <dcterms:modified xsi:type="dcterms:W3CDTF">2017-01-15T15:17:44Z</dcterms:modified>
  <cp:revision>64</cp:revision>
  <dc:subject/>
  <dc:title>«Бодрящая гимнастика после сна в ДОУ»</dc:title>
</cp:coreProperties>
</file>