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964-20C7-4BA1-AB83-192C7BAB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2FC-10D2-49D4-9D50-7B3CCD8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C89-1F54-4868-92DA-807AC27A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928-D1A3-4B32-8AD0-8C6031A8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3F5-2E34-447E-9EE4-DC0D2C8A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0D2-2A3E-416C-9253-25021DE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F3F-A903-4817-8C4B-D49597D2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B7E-C006-4FF3-B47E-20B4E6F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680-CAC9-4976-AA6F-A3350626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12B-FF09-4903-9185-E849AD20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626-9596-41B3-9475-558768B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F35-45E9-4263-A4A3-EBCC07F4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108E-C534-401D-932D-080639588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4-04-22T00:44:03Z</dcterms:modified>
  <cp:revision>67</cp:revision>
  <dc:subject/>
  <dc:title>Слайд 1</dc:title>
</cp:coreProperties>
</file>