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78FC-A77B-4867-B72E-95320A2A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80D8-CCD5-47EF-88C6-5D968F40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14B-4B43-44BC-BD47-9EF49EF6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9C1F-8C2D-40F7-9B29-9F87D681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1DE2-A210-4B8F-B4BF-6DC0226B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8C8F-F65E-4E44-B690-DEAA0655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D308-D3A5-447F-BBDE-8782311D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E71C-BA69-49B9-984D-70D353E9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1281-ED36-4E2E-9685-52FC621F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4BD0-7452-4928-8CE5-9262AF18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A189-F39E-4DE0-B8DD-DBD4AE22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631-3868-4223-A767-8EB5B562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FE66-EC74-4BA5-A254-8F4E7D9D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8C05-5064-4ED0-B4E5-6801744D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2C2E-C308-4AEF-8A36-6F9D05A3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BB43-7D59-4C2D-AD0B-03FF5806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B50D-1001-4379-9CE8-FD3016E3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31C-97AA-4174-91D3-A03D073B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823-5210-4632-AE67-0C67666B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71E-3E1A-4CD8-B390-66F014B6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4992-FB66-4104-AEFA-FD471DB7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39A8-45A9-4B8F-8972-959A832D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6785-9BA4-4759-9274-F1DEE1DD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5C61-BC58-401D-90D1-E19EDA8B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2772-A5C5-442F-97BC-555919894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5992-6CDD-44C2-9132-CBA2606F9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1432080" y="1460520"/>
            <a:ext cx="750708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нь  Конституции  РФ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 27 «Право на отдых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1400" y="1599840"/>
            <a:ext cx="8396280" cy="50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ягушка из сказки В. Гаршина «Лягушка-путешественница», оправившись в путешествие, воспользовалась своим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авом на…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л-п"/>
          <p:cNvPicPr/>
          <p:nvPr/>
        </p:nvPicPr>
        <p:blipFill>
          <a:blip r:embed="rId1"/>
          <a:stretch/>
        </p:blipFill>
        <p:spPr>
          <a:xfrm>
            <a:off x="4102200" y="3529080"/>
            <a:ext cx="4736880" cy="314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360" y="174240"/>
            <a:ext cx="801540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34 «Свободное использование имуществ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ой сказке добрая птица уступила свою собственность двум лицам, пожелавшим разделить её на части, но сумевшим это сделать. В итоге – богатство было случайно уничтожено серой личность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курочка"/>
          <p:cNvPicPr/>
          <p:nvPr/>
        </p:nvPicPr>
        <p:blipFill>
          <a:blip r:embed="rId1"/>
          <a:stretch/>
        </p:blipFill>
        <p:spPr>
          <a:xfrm>
            <a:off x="5006880" y="4124160"/>
            <a:ext cx="3600720" cy="260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37 «Право на труд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1400" y="1599840"/>
            <a:ext cx="82962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герой из сказки АС Пушкина воспользовался своим правом на труд, нанявшись на работу к поп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балда"/>
          <p:cNvPicPr/>
          <p:nvPr/>
        </p:nvPicPr>
        <p:blipFill>
          <a:blip r:embed="rId1"/>
          <a:stretch/>
        </p:blipFill>
        <p:spPr>
          <a:xfrm>
            <a:off x="5683320" y="3106800"/>
            <a:ext cx="3186000" cy="34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атья 21«Никто не должен подвергаться пыткам, насилию, жестокому обращению»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овите сказку, в которой лицо с дурной репутацией совершило покушение на семь несовершеннолетних душ, но было разоблачено и жестоко наказа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козлята"/>
          <p:cNvPicPr/>
          <p:nvPr/>
        </p:nvPicPr>
        <p:blipFill>
          <a:blip r:embed="rId1"/>
          <a:stretch/>
        </p:blipFill>
        <p:spPr>
          <a:xfrm>
            <a:off x="5786280" y="4108320"/>
            <a:ext cx="3357720" cy="27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 20  «Право на жизн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842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ой сказке личность во всех отношениях серая осуществляет план убийства двух лиц и лишь благодаря своевременному вмешательству общественности все кончается благополу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красная шапочка"/>
          <p:cNvPicPr/>
          <p:nvPr/>
        </p:nvPicPr>
        <p:blipFill>
          <a:blip r:embed="rId1"/>
          <a:stretch/>
        </p:blipFill>
        <p:spPr>
          <a:xfrm>
            <a:off x="6981840" y="3873600"/>
            <a:ext cx="2162160" cy="298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 22  «Право на личную неприкосновенн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87280" y="1600200"/>
            <a:ext cx="8856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уратино, схватив крысу Шушару за хвост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рушил её право на…?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буратино"/>
          <p:cNvPicPr/>
          <p:nvPr/>
        </p:nvPicPr>
        <p:blipFill>
          <a:blip r:embed="rId1"/>
          <a:stretch/>
        </p:blipFill>
        <p:spPr>
          <a:xfrm>
            <a:off x="6261120" y="3701880"/>
            <a:ext cx="2882880" cy="315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25 «Жилище неприкосновенно»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1360" y="1599840"/>
            <a:ext cx="81392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какой сказке серая личность нарушила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аво на неприкосновенность жилищ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три поросенка"/>
          <p:cNvPicPr/>
          <p:nvPr/>
        </p:nvPicPr>
        <p:blipFill>
          <a:blip r:embed="rId1"/>
          <a:stretch/>
        </p:blipFill>
        <p:spPr>
          <a:xfrm>
            <a:off x="4835520" y="3746520"/>
            <a:ext cx="4308480" cy="3120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 22  «Право на личную неприкосновенност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694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абас - Барабас наблюдал за Бурати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торого подвесил на крюч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чувствовал себя хозяин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ако вдруг Буратино заяви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то он нарушает право на …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карабас"/>
          <p:cNvPicPr/>
          <p:nvPr/>
        </p:nvPicPr>
        <p:blipFill>
          <a:blip r:embed="rId1"/>
          <a:stretch/>
        </p:blipFill>
        <p:spPr>
          <a:xfrm>
            <a:off x="7126200" y="4238640"/>
            <a:ext cx="2040120" cy="26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т. 21 «Никто не должен подвергаться пыткам, насилию, другому жестокому обращению» </a:t>
            </a: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20 «Право на жизнь»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1720" y="1599840"/>
            <a:ext cx="7867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й герой спешил в Африку, чтобы спасти Танечку и Ванечку, которых злой разбойник Бармолей связал и приковал цепями к пальме, желая съесть их к обеду в ближайшую сред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айболит"/>
          <p:cNvPicPr/>
          <p:nvPr/>
        </p:nvPicPr>
        <p:blipFill>
          <a:blip r:embed="rId1"/>
          <a:stretch/>
        </p:blipFill>
        <p:spPr>
          <a:xfrm>
            <a:off x="6121440" y="459108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35 п. 1 «Право собственности охраняется законом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ие два злодея решили отнять у деревянного человечка все его денежки, для чего переоделись разбойниками и, привязав его за ноги к дереву, всяческими угрозами пытались выбить из него деньги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кот базилио"/>
          <p:cNvPicPr/>
          <p:nvPr/>
        </p:nvPicPr>
        <p:blipFill>
          <a:blip r:embed="rId1"/>
          <a:stretch/>
        </p:blipFill>
        <p:spPr>
          <a:xfrm>
            <a:off x="5929200" y="4572000"/>
            <a:ext cx="3214800" cy="228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328680" y="767520"/>
            <a:ext cx="8434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Любая конституция – это документ, который закрепляет основы конституционного строя государства, права и свободы человека и гражданина, основы общественного строя, форму правления и территориального устройства, организацию высших органов государственной власти, столицу государства и государственную символи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43 «Право на образование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956880"/>
            <a:ext cx="9144000" cy="56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ая героиня помогла Буратино стать умным бесплатн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м самым осуществляя его право на…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мальвина"/>
          <p:cNvPicPr/>
          <p:nvPr/>
        </p:nvPicPr>
        <p:blipFill>
          <a:blip r:embed="rId1"/>
          <a:stretch/>
        </p:blipFill>
        <p:spPr>
          <a:xfrm>
            <a:off x="5581800" y="4237200"/>
            <a:ext cx="3562200" cy="2579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буратино учиться"/>
          <p:cNvPicPr/>
          <p:nvPr/>
        </p:nvPicPr>
        <p:blipFill>
          <a:blip r:embed="rId2"/>
          <a:stretch/>
        </p:blipFill>
        <p:spPr>
          <a:xfrm>
            <a:off x="0" y="3032280"/>
            <a:ext cx="2685960" cy="23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 37 п.5 «Право Отдых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08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чеха только и знала, что работы прибавляла. То горох с чечевицей смешает, то пшено в золу высып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 никогда она не думала о то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то нарушает права Золушки на.. 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золушка"/>
          <p:cNvPicPr/>
          <p:nvPr/>
        </p:nvPicPr>
        <p:blipFill>
          <a:blip r:embed="rId1"/>
          <a:stretch/>
        </p:blipFill>
        <p:spPr>
          <a:xfrm>
            <a:off x="7143840" y="3462480"/>
            <a:ext cx="2000160" cy="33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25 «Жилище неприкосновенно»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5440" y="1600200"/>
            <a:ext cx="842508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акое право нарушила Лис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выгоняя Зайца из его избуш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лиса и заяц"/>
          <p:cNvPicPr/>
          <p:nvPr/>
        </p:nvPicPr>
        <p:blipFill>
          <a:blip r:embed="rId1"/>
          <a:stretch/>
        </p:blipFill>
        <p:spPr>
          <a:xfrm>
            <a:off x="6305400" y="2825640"/>
            <a:ext cx="28386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 20 «Право на жизнь»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5640" y="1600200"/>
            <a:ext cx="88153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уси-лебеди с силой вырвали братца Иванушку из рук сестрицы Алёнушки.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кое право они нарушил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г-л"/>
          <p:cNvPicPr/>
          <p:nvPr/>
        </p:nvPicPr>
        <p:blipFill>
          <a:blip r:embed="rId1"/>
          <a:stretch/>
        </p:blipFill>
        <p:spPr>
          <a:xfrm>
            <a:off x="5877000" y="4152960"/>
            <a:ext cx="3267000" cy="27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29 «Свобода мысли и слов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72520" y="1600200"/>
            <a:ext cx="8758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кое право хотел нарушить крот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когда собирался жениться на Дюймовочке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дюймовочка"/>
          <p:cNvPicPr/>
          <p:nvPr/>
        </p:nvPicPr>
        <p:blipFill>
          <a:blip r:embed="rId1"/>
          <a:stretch/>
        </p:blipFill>
        <p:spPr>
          <a:xfrm>
            <a:off x="6607080" y="3317760"/>
            <a:ext cx="2536920" cy="354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92040" y="530280"/>
            <a:ext cx="5488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нституция Российской Федерации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это основной закон нашего государства, который имеет высшую юридическую силу, прямое действие и применяется на всей территории Р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6329520" y="345960"/>
            <a:ext cx="2452680" cy="36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9720" y="-360"/>
            <a:ext cx="830124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c0000"/>
                </a:solidFill>
                <a:uFillTx/>
                <a:latin typeface="Arial"/>
              </a:rPr>
              <a:t>Возникновения конститу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30200" y="785520"/>
            <a:ext cx="86011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918 –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924 –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925 –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936 –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937 –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977 – Конституция ССС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978 –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1993 – Конституция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58640" y="29304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  Конституции РФ записаны наши права, свободы и обязан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 Конституции нашей страны мы имеем право на жизнь, имеем право выбирать профессию, имеем право на отдых, жилье и медицинскую помощ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се люди равны перед законом, и каждого из нас защищает государство, через милицию и суд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869080" y="4272120"/>
            <a:ext cx="2925720" cy="22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223920" y="565560"/>
            <a:ext cx="8699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ши свободы – свобода слова, вероисповедания и сов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о этому закону все права и свободы, данные нам государством, не должны нарушать или ущемлять права и свободы других гражд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Например, свобода слова – мы имеем право искать, собирать и распространять информацию, но не имеем права вмешиваться в личную жизнь других людей, разглашать государственную тай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Также у каждого из нас есть обязанности, записанные в Конститу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196920" y="341280"/>
            <a:ext cx="8578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Конституция, о которой у нас много говорят в последнее время, это основной закон государства, к которому должны быть подлажены все остальные зак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Если какой-то закон все же противоречит Конституции, то поступать следует так, как указывает 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Подробнее каждый ученик может узнать об э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в специальном справочнике для школь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6234120" y="2795760"/>
            <a:ext cx="2417760" cy="38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 20  «Право на жизн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72880" y="1599840"/>
            <a:ext cx="887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помните сказку А. Пушк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казка о царе Салтане». Там есть такие сло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бочку с сыном посади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смолили, покат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устили в Окиян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 велел де царь Салта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акое право было наруше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vio.fio.ru/vio_33/cd_site/Articles/art_2_3_clip_image044.jpg"/>
          <p:cNvPicPr/>
          <p:nvPr/>
        </p:nvPicPr>
        <p:blipFill>
          <a:blip r:embed="rId1"/>
          <a:stretch/>
        </p:blipFill>
        <p:spPr>
          <a:xfrm>
            <a:off x="6437160" y="5157720"/>
            <a:ext cx="2706840" cy="17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татья  20  «Право на жизн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79819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русской народной сказ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Царевна лягуш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ван-царевич сжег лягушечью кож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акое право нарушил Иван и как он за это поплатил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http://vio.fio.ru/vio_33/cd_site/Articles/art_2_3_clip_image046.jpg"/>
          <p:cNvPicPr/>
          <p:nvPr/>
        </p:nvPicPr>
        <p:blipFill>
          <a:blip r:embed="rId1"/>
          <a:stretch/>
        </p:blipFill>
        <p:spPr>
          <a:xfrm>
            <a:off x="6191280" y="3565440"/>
            <a:ext cx="2863800" cy="329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Forward</cp:lastModifiedBy>
  <dcterms:modified xsi:type="dcterms:W3CDTF">2012-09-26T09:46:48Z</dcterms:modified>
  <cp:revision>38</cp:revision>
  <dc:subject/>
  <dc:title>Слайд 1</dc:title>
</cp:coreProperties>
</file>