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7B5-52CA-4254-94AC-EA68CF21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407-DD46-462B-B3E4-7F4F38DE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D07-3C86-49E0-BE60-4884DB43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681-C8F7-4265-B868-BA9BC9FB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EBE1-C0D9-421F-B2E5-7C047FB0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BFA4-5ED9-48D6-8FF9-925D2E00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4D73-AE71-45BD-85CA-1639676D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693A-AD1D-4FA7-A546-24DD0B97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7013-6C46-45C3-8F40-827EC507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41A5-2E80-4946-B361-AE52EB91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A228-FB40-4C94-BBE3-AFFA3D5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93E-E3A7-4D39-BD79-4188D15E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11C0-3684-4CE0-A64D-7D0B9C2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C197-4AAA-489C-8A1E-1A5588E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ED88-0417-45AC-B41A-6D03D436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2B11-A378-4B26-92F8-737ABDDA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40F3-FCAC-4BD0-8FBE-94CA6D6E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229-8F1A-4651-8047-77C693C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8DC-8161-47B6-951C-4D39E7C3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2EB-7B3E-4642-8C80-6E30108F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56D-AA3E-4724-A0C3-C8C26D39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00B-965B-4170-AF87-970B9C0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8E5-1FCB-4C21-9D02-A39432BE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8FD-1F37-41B3-8502-72807854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6654-ED06-4DE1-BC78-3C808493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10E0-980F-4961-95A6-9894530E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432080" y="1460520"/>
            <a:ext cx="75070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 Конституции  Р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7 «Право на отдых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400" y="1599840"/>
            <a:ext cx="839628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ягушка из сказки В. Гаршина «Лягушка-путешественница», оправившись в путешествие, воспользовалась свои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авом на…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л-п"/>
          <p:cNvPicPr/>
          <p:nvPr/>
        </p:nvPicPr>
        <p:blipFill>
          <a:blip r:embed="rId1"/>
          <a:stretch/>
        </p:blipFill>
        <p:spPr>
          <a:xfrm>
            <a:off x="4102200" y="3529080"/>
            <a:ext cx="4736880" cy="31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360" y="174240"/>
            <a:ext cx="8015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34 «Свободное использование имуществ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сказке добрая птица уступила свою собственность двум лицам, пожелавшим разделить её на части, но сумевшим это сделать. В итоге – богатство было случайно уничтожено серой лич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урочка"/>
          <p:cNvPicPr/>
          <p:nvPr/>
        </p:nvPicPr>
        <p:blipFill>
          <a:blip r:embed="rId1"/>
          <a:stretch/>
        </p:blipFill>
        <p:spPr>
          <a:xfrm>
            <a:off x="5006880" y="4124160"/>
            <a:ext cx="3600720" cy="26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37 «Право на труд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400" y="1599840"/>
            <a:ext cx="82962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герой из сказки АС Пушкина воспользовался своим правом на труд, нанявшись на работу к поп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балда"/>
          <p:cNvPicPr/>
          <p:nvPr/>
        </p:nvPicPr>
        <p:blipFill>
          <a:blip r:embed="rId1"/>
          <a:stretch/>
        </p:blipFill>
        <p:spPr>
          <a:xfrm>
            <a:off x="5683320" y="3106800"/>
            <a:ext cx="3186000" cy="34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1«Никто не должен подвергаться пыткам, насилию, жестокому обращению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казку, в которой лицо с дурной репутацией совершило покушение на семь несовершеннолетних душ, но было разоблачено и жестоко наказ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козлята"/>
          <p:cNvPicPr/>
          <p:nvPr/>
        </p:nvPicPr>
        <p:blipFill>
          <a:blip r:embed="rId1"/>
          <a:stretch/>
        </p:blipFill>
        <p:spPr>
          <a:xfrm>
            <a:off x="5786280" y="4108320"/>
            <a:ext cx="3357720" cy="27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 «Право на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сказке личность во всех отношениях серая осуществляет план убийства двух лиц и лишь благодаря своевременному вмешательству общественности все кончается благополу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красная шапочка"/>
          <p:cNvPicPr/>
          <p:nvPr/>
        </p:nvPicPr>
        <p:blipFill>
          <a:blip r:embed="rId1"/>
          <a:stretch/>
        </p:blipFill>
        <p:spPr>
          <a:xfrm>
            <a:off x="6981840" y="3873600"/>
            <a:ext cx="2162160" cy="29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2  «Право на личную неприкосновен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7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ратино, схватив крысу Шушару за хвост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рушил её право на…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буратино"/>
          <p:cNvPicPr/>
          <p:nvPr/>
        </p:nvPicPr>
        <p:blipFill>
          <a:blip r:embed="rId1"/>
          <a:stretch/>
        </p:blipFill>
        <p:spPr>
          <a:xfrm>
            <a:off x="6261120" y="3701880"/>
            <a:ext cx="2882880" cy="31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25 «Жилище неприкосновен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1360" y="1599840"/>
            <a:ext cx="81392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й сказке серая личность нарушил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аво на неприкосновенность жилищ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три поросенка"/>
          <p:cNvPicPr/>
          <p:nvPr/>
        </p:nvPicPr>
        <p:blipFill>
          <a:blip r:embed="rId1"/>
          <a:stretch/>
        </p:blipFill>
        <p:spPr>
          <a:xfrm>
            <a:off x="4835520" y="3746520"/>
            <a:ext cx="4308480" cy="31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2  «Право на личную неприкосновен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694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абас - Барабас наблюдал за Бурат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ого подвесил на крюч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чувствовал себя хозяи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вдруг Буратино заяви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он нарушает право на …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карабас"/>
          <p:cNvPicPr/>
          <p:nvPr/>
        </p:nvPicPr>
        <p:blipFill>
          <a:blip r:embed="rId1"/>
          <a:stretch/>
        </p:blipFill>
        <p:spPr>
          <a:xfrm>
            <a:off x="7126200" y="4238640"/>
            <a:ext cx="204012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т. 21 «Никто не должен подвергаться пыткам, насилию, другому жестокому обращению»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 «Право на жизнь»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1720" y="1599840"/>
            <a:ext cx="7867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герой спешил в Африку, чтобы спасти Танечку и Ванечку, которых злой разбойник Бармолей связал и приковал цепями к пальме, желая съесть их к обеду в ближайшую сре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айболит"/>
          <p:cNvPicPr/>
          <p:nvPr/>
        </p:nvPicPr>
        <p:blipFill>
          <a:blip r:embed="rId1"/>
          <a:stretch/>
        </p:blipFill>
        <p:spPr>
          <a:xfrm>
            <a:off x="6121440" y="45910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35 п. 1 «Право собственности охраняется законом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два злодея решили отнять у деревянного человечка все его денежки, для чего переоделись разбойниками и, привязав его за ноги к дереву, всяческими угрозами пытались выбить из него деньги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от базилио"/>
          <p:cNvPicPr/>
          <p:nvPr/>
        </p:nvPicPr>
        <p:blipFill>
          <a:blip r:embed="rId1"/>
          <a:stretch/>
        </p:blipFill>
        <p:spPr>
          <a:xfrm>
            <a:off x="5929200" y="4572000"/>
            <a:ext cx="3214800" cy="22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28680" y="767520"/>
            <a:ext cx="843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юбая конституция – это документ, 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43 «Право на образовани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56880"/>
            <a:ext cx="91440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героиня помогла Буратино стать умным бесплат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 самым осуществляя его право на…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мальвина"/>
          <p:cNvPicPr/>
          <p:nvPr/>
        </p:nvPicPr>
        <p:blipFill>
          <a:blip r:embed="rId1"/>
          <a:stretch/>
        </p:blipFill>
        <p:spPr>
          <a:xfrm>
            <a:off x="5581800" y="4237200"/>
            <a:ext cx="3562200" cy="257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буратино учиться"/>
          <p:cNvPicPr/>
          <p:nvPr/>
        </p:nvPicPr>
        <p:blipFill>
          <a:blip r:embed="rId2"/>
          <a:stretch/>
        </p:blipFill>
        <p:spPr>
          <a:xfrm>
            <a:off x="0" y="3032280"/>
            <a:ext cx="2685960" cy="23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37 п.5 «Право Отд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08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чеха только и знала, что работы прибавляла. То горох с чечевицей смешает, то пшено в золу высып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никогда она не думала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нарушает права Золушки на..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золушка"/>
          <p:cNvPicPr/>
          <p:nvPr/>
        </p:nvPicPr>
        <p:blipFill>
          <a:blip r:embed="rId1"/>
          <a:stretch/>
        </p:blipFill>
        <p:spPr>
          <a:xfrm>
            <a:off x="7143840" y="3462480"/>
            <a:ext cx="2000160" cy="33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25 «Жилище неприкосновен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5440" y="1600200"/>
            <a:ext cx="8425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ое право нарушила Лис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выгоняя Зайца из его избу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лиса и заяц"/>
          <p:cNvPicPr/>
          <p:nvPr/>
        </p:nvPicPr>
        <p:blipFill>
          <a:blip r:embed="rId1"/>
          <a:stretch/>
        </p:blipFill>
        <p:spPr>
          <a:xfrm>
            <a:off x="6305400" y="2825640"/>
            <a:ext cx="28386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«Право на жизнь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5640" y="1600200"/>
            <a:ext cx="8815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уси-лебеди с силой вырвали братца Иванушку из рук сестрицы Алёнушки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е право они наруши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г-л"/>
          <p:cNvPicPr/>
          <p:nvPr/>
        </p:nvPicPr>
        <p:blipFill>
          <a:blip r:embed="rId1"/>
          <a:stretch/>
        </p:blipFill>
        <p:spPr>
          <a:xfrm>
            <a:off x="5877000" y="4152960"/>
            <a:ext cx="32670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29 «Свобода мысли и слов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520" y="1600200"/>
            <a:ext cx="875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е право хотел нарушить кр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гда собирался жениться на Дюймовочк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дюймовочка"/>
          <p:cNvPicPr/>
          <p:nvPr/>
        </p:nvPicPr>
        <p:blipFill>
          <a:blip r:embed="rId1"/>
          <a:stretch/>
        </p:blipFill>
        <p:spPr>
          <a:xfrm>
            <a:off x="6607080" y="3317760"/>
            <a:ext cx="253692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92040" y="530280"/>
            <a:ext cx="548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это основной закон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329520" y="345960"/>
            <a:ext cx="245268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9720" y="-360"/>
            <a:ext cx="830124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Возникновения конститу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0200" y="785520"/>
            <a:ext cx="86011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1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24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25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36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37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77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7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93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58640" y="29304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 Конституции РФ записаны наши права, свободы и обяза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люди равны перед законом, и каждого из нас защищает государство, через милицию и су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869080" y="4272120"/>
            <a:ext cx="292572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23920" y="565560"/>
            <a:ext cx="869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акже у каждого из нас есть обязанности, записанные в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96920" y="341280"/>
            <a:ext cx="857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, о которой у нас много говорят в последнее время, это основной закон государства, к которому должны быть подлажены все остальны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сли какой-то закон все же противоречит Конституции, то поступать следует так, как указывает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дробнее каждый ученик может узнать об э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специальном справочнике для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234120" y="2795760"/>
            <a:ext cx="241776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 «Право на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2880" y="1599840"/>
            <a:ext cx="887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те сказку А. Пушк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казка о царе Салтане». Там есть таки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чку с сыном посад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молили, покат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устили в Окиян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велел де царь Сал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ое право было наруш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vio.fio.ru/vio_33/cd_site/Articles/art_2_3_clip_image044.jpg"/>
          <p:cNvPicPr/>
          <p:nvPr/>
        </p:nvPicPr>
        <p:blipFill>
          <a:blip r:embed="rId1"/>
          <a:stretch/>
        </p:blipFill>
        <p:spPr>
          <a:xfrm>
            <a:off x="6437160" y="5157720"/>
            <a:ext cx="270684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 «Право на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79819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усской народной сказ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Царевна ляг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ван-царевич сжег лягушечью к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ое право нарушил Иван и как он за это поплати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vio.fio.ru/vio_33/cd_site/Articles/art_2_3_clip_image046.jpg"/>
          <p:cNvPicPr/>
          <p:nvPr/>
        </p:nvPicPr>
        <p:blipFill>
          <a:blip r:embed="rId1"/>
          <a:stretch/>
        </p:blipFill>
        <p:spPr>
          <a:xfrm>
            <a:off x="6191280" y="3565440"/>
            <a:ext cx="286380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Forward</cp:lastModifiedBy>
  <dcterms:modified xsi:type="dcterms:W3CDTF">2012-09-26T09:46:48Z</dcterms:modified>
  <cp:revision>38</cp:revision>
  <dc:subject/>
  <dc:title>Слайд 1</dc:title>
</cp:coreProperties>
</file>