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1E0-2123-4351-A1B7-7647E0CF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1AF7-AD38-4D6F-AC9F-A4C283AD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F98-A624-49BB-AE97-3CB70880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F57-4615-4444-A519-EE1696F2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0434-B236-4B51-BA81-947C11C80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F789-FA3A-49AE-9C83-67AEEE72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597C-641F-484A-90F3-EBD35E8C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2628-5A07-4991-BC56-1AB8FE1F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077F-5189-456B-B124-64DD8637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8D5C-88C8-477D-BF2F-FC25C6CB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9581-1881-4BD9-BD56-76D1F36B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3C0-1344-470A-87D0-9812F659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ABA3-7CB2-4B1D-A1F5-6DD4EB7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9856-061A-45E2-B60B-6FF21B74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9066-F727-4BCA-88AE-675A37C7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67FB-8812-4294-8443-B832CDC2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9133-2C2C-47DC-8462-24EAF61E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04778-AB66-410B-B362-C1D7ABCF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4913-B420-4D28-8446-C6561020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01B2-5450-412D-9C4F-E6E873E1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38E8F-50D6-4746-AF41-D1F6B08D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60AD0-E767-4417-BF15-B65ADDC4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A559-B4C1-4118-8B12-24074BA1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8573-BFFF-4A0C-AA62-B7193395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C30C9-7958-4F3B-B313-4D275F3C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CD2D-923E-4521-97C5-43AC51A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986C7-5F7F-4CF3-BF78-5DE97E5A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81A7-D251-40EC-810A-DD07A2D1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C4E5E-F085-4D09-B71B-4354488B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9EE2-1DFC-47BA-B2A0-C176DC699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B547A-8700-4771-9FC4-7E5441D2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BF7C1-0B8C-4F5D-95AB-4BD44C20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D8894-5992-4090-8A34-8F4FD15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BA64-C433-4D0B-BB37-E55F53A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8B83-E692-4964-9D1E-8104C23C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BB743-E16C-46E9-AADD-AB6DDFD7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FED59-CAD9-4850-8B93-FE5CBA83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6ED1C-77CF-46C3-BD34-09F7167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19D91-D3A9-4E3B-B2EE-C65A74B0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FB5D-6F30-4C07-AEA3-98DBFC15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3DA13-1693-4F6E-93A4-EDFAD3A3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11F33-99EE-47CB-A3F9-8CFBAD9E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1DA2E-2A46-47F8-8452-8996D46F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E987-9AD3-41E9-9C48-6A36AD09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17A3-7DDE-4566-9486-A8799CE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4BE85-DFB5-415C-AF99-BF46ADF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E5F74-4337-4ABB-9E19-02965D1D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85F85-B2A1-41F6-AC29-21F1BC9C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EA31-DEAA-4D4D-9C52-497F46D0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F63F7-1ECD-41CE-A612-28C4BC3B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E04CD-20DE-4DE3-A235-426CB8C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1783-F51C-4E49-BA5A-BCBF0B44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12B63-5244-4430-9F4E-AA989150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8E2B-C103-4842-B125-59D8F920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36841-CA7D-4771-8807-B1C29DF0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E2F-2022-4110-9FFB-A9C6BDE6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70D21-5DF2-4D37-8BAF-BE7F4042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8094-DE84-4197-AA84-EE58F647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1CCA9-A07B-4F54-8240-1D08D5A2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2BEF-9730-46D7-ADF1-8FADAD43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492D-21A0-4587-BC6C-FED7DA32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31285-1243-4F6F-B5E7-7877DF09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2B0BE-244D-4EC3-A58E-FC1CB1D7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B3281-FE1C-4FE7-83E8-32EFAD41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A476-65B0-4F18-97B9-131973E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62589-C174-48CF-B867-F5100D58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487-0384-4EAF-BB10-36041C4C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8D7BA-E622-4A62-A54A-7B8EC9FC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8DBAE-D2AC-44FF-9D4E-1B836786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D2EFB-2E17-4D58-818E-31948A87E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348DA-DC19-4268-901E-6E073333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085FF-3C10-4BF0-86C5-2288E247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46394-21C4-49B6-9E64-FA035D71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5A4E-68E4-4BD0-B2EF-0D38A7C0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ABD53-3129-4B2B-88CC-A6552D3A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B131-481E-44D8-B295-8B27DF09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4B870-C8DE-436A-905E-C89693A7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B32-8809-4F3B-A101-0BA48FA8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23496-9360-4213-A5A8-419726A0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064CA-7E49-45CA-9EC4-F9E63A89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A61A9-6E1A-4DEB-AD9F-8C8A9E0D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F7208-4D0E-423E-8FF2-48EEC981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CAFCE-ED87-433F-93AD-5D10412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C90-E3D1-4173-BF84-393730DC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2910-0184-4F51-8470-8E3BC88D402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246-2755-40D2-B399-6F0D64962C7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7111-1E3F-425E-BD3E-AA814CBEF37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D4423-BA46-424D-999A-79857957A7D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3303-932B-4C0F-B49A-352DC147BA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ACC6-EFFB-47EE-B9CF-4FBF3B28AB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3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16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19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E3E6-70B6-4905-9EDE-45AF801E8D9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funmedia.ru/up/photos/multik/multik322.png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unmedia.ru/up/photos/multik/multik322.png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Rectangle 2" descr=""/>
          <p:cNvPicPr/>
          <p:nvPr/>
        </p:nvPicPr>
        <p:blipFill>
          <a:blip r:embed="rId1"/>
          <a:stretch/>
        </p:blipFill>
        <p:spPr>
          <a:xfrm>
            <a:off x="341280" y="1133640"/>
            <a:ext cx="9077400" cy="321300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3643200" y="5929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Шайдуллин Ришат Рафик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ческой куль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AutoShape 2" descr=""/>
          <p:cNvPicPr/>
          <p:nvPr/>
        </p:nvPicPr>
        <p:blipFill>
          <a:blip r:embed="rId1"/>
          <a:stretch/>
        </p:blipFill>
        <p:spPr>
          <a:xfrm>
            <a:off x="1066680" y="255600"/>
            <a:ext cx="5973840" cy="14572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28760" y="1928880"/>
            <a:ext cx="8353440" cy="40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Утренняя зарядка придает человеку бодрость, повышает настроение, укрепляет мышцы, иммунитет человека. Однако в настоящее время взрослые и дети из-за ускоренного темпа жизни не делают зарядку по утрам, забывая о полезных качествах утренней зарядк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Медики рекомендуют, после утренней зарядки принять душ, тем самым еще больше улучшить свое настроение и укрепить здоровье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7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3" name="Picture 4" descr="0017"/>
          <p:cNvPicPr/>
          <p:nvPr/>
        </p:nvPicPr>
        <p:blipFill>
          <a:blip r:embed="rId2"/>
          <a:stretch/>
        </p:blipFill>
        <p:spPr>
          <a:xfrm>
            <a:off x="7062840" y="0"/>
            <a:ext cx="1611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AutoShape 2" descr=""/>
          <p:cNvPicPr/>
          <p:nvPr/>
        </p:nvPicPr>
        <p:blipFill>
          <a:blip r:embed="rId1"/>
          <a:stretch/>
        </p:blipFill>
        <p:spPr>
          <a:xfrm>
            <a:off x="1206360" y="414360"/>
            <a:ext cx="5712120" cy="1719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394920" y="2636640"/>
            <a:ext cx="8496360" cy="35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Каждый свой день необходимо начинать с утренней гимнастики (зарядку). Она облегчает перевод от сна к рабочему состоянию позволяет "зарядить" организм бодростью на целый день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Примерная продолжительность зарядки, приблизительно 10 - 15 мину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e3b30"/>
                </a:solidFill>
                <a:latin typeface="Franklin Gothic Book"/>
              </a:rPr>
              <a:t>Желательно выполнять упражнения на свежем воздухе или в комнате при открытой форточке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6" name="Picture 4" descr="0017"/>
          <p:cNvPicPr/>
          <p:nvPr/>
        </p:nvPicPr>
        <p:blipFill>
          <a:blip r:embed="rId2"/>
          <a:stretch/>
        </p:blipFill>
        <p:spPr>
          <a:xfrm>
            <a:off x="7020000" y="0"/>
            <a:ext cx="1577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низить утомляемость организм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ысить эмоциональный фо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величить работоспособность учащегос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нять напряж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менить умственную деятельность на физическую активност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пособствовать физическому развити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скорить выздоровление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еспечивать приток крови к больному органу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1" name="Picture 8" descr="Горнолыжник 01"/>
          <p:cNvPicPr/>
          <p:nvPr/>
        </p:nvPicPr>
        <p:blipFill>
          <a:blip r:embed="rId2"/>
          <a:stretch/>
        </p:blipFill>
        <p:spPr>
          <a:xfrm>
            <a:off x="5214960" y="4214880"/>
            <a:ext cx="26035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AutoShape 2" descr=""/>
          <p:cNvPicPr/>
          <p:nvPr/>
        </p:nvPicPr>
        <p:blipFill>
          <a:blip r:embed="rId1"/>
          <a:stretch/>
        </p:blipFill>
        <p:spPr>
          <a:xfrm>
            <a:off x="738360" y="328680"/>
            <a:ext cx="8302320" cy="1384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642960" y="1857240"/>
            <a:ext cx="7980480" cy="40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а подошвах ног существуют точки, связанные с определенными зонами организма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ассируя их, можно снять боль, оказать лечебное воздействие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о, конечно, нельзя считать самомассаж панацеей от всех болезней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Franklin Gothic Book"/>
              </a:rPr>
              <a:t>Вы его можете использовать именно для профилактики некоторых заболеваний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AutoShape 2" descr=""/>
          <p:cNvPicPr/>
          <p:nvPr/>
        </p:nvPicPr>
        <p:blipFill>
          <a:blip r:embed="rId1"/>
          <a:stretch/>
        </p:blipFill>
        <p:spPr>
          <a:xfrm>
            <a:off x="2517840" y="12600"/>
            <a:ext cx="3133800" cy="171288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213840" y="1125360"/>
            <a:ext cx="4899240" cy="57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 -гипофиз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2— рефлексы мозга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3 - трахея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4 - легкие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5 - сердце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6 - печен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7 -тимус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8 - желудок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9 - толстый кишечник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0 - тонкий кишечник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1 - крестец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2 - почка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3 - надпочечник,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4 - половые железы,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15 - закаливающая зона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Особое внимание обратите на массаж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расположенной в центре подошвы точки 15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зону закаливания. Здесь находятся окончания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нервов, рефлекторно связанных с верхними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дыхательными путями. Такой массаж помогает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от насморка, простуды, гриппа, ангины, в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случае охлаждения стопы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2"/>
          <a:stretch/>
        </p:blipFill>
        <p:spPr>
          <a:xfrm>
            <a:off x="5214960" y="1341360"/>
            <a:ext cx="39290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2999880" y="1928880"/>
            <a:ext cx="5913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Почему следует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беречь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и укреплять</a:t>
            </a:r>
            <a:br>
              <a:rPr sz="3400"/>
            </a:b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здоровье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Что способствует развитию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3300"/>
                </a:solidFill>
                <a:latin typeface="Franklin Gothic Book"/>
              </a:rPr>
              <a:t>Человека?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6" name="Picture 4" descr="Картинка 59 из 1376050">
            <a:hlinkClick r:id="rId2"/>
          </p:cNvPr>
          <p:cNvPicPr/>
          <p:nvPr/>
        </p:nvPicPr>
        <p:blipFill>
          <a:blip r:embed="rId3"/>
          <a:stretch/>
        </p:blipFill>
        <p:spPr>
          <a:xfrm rot="1351200">
            <a:off x="858600" y="178740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0920" y="1557000"/>
            <a:ext cx="8424720" cy="301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Всем известно, всем понятн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Что здоровым быть приятно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Только надо знать,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              </a:t>
            </a:r>
            <a:r>
              <a:rPr b="1" lang="ru-RU" sz="3600" spc="-1" strike="noStrike">
                <a:solidFill>
                  <a:srgbClr val="4e3b30"/>
                </a:solidFill>
                <a:latin typeface="Franklin Gothic Book"/>
              </a:rPr>
              <a:t>как здоровым стать!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68" name="Picture 4" descr="Картинка 59 из 1376050">
            <a:hlinkClick r:id="rId1"/>
          </p:cNvPr>
          <p:cNvPicPr/>
          <p:nvPr/>
        </p:nvPicPr>
        <p:blipFill>
          <a:blip r:embed="rId2"/>
          <a:stretch/>
        </p:blipFill>
        <p:spPr>
          <a:xfrm rot="1351200">
            <a:off x="6447960" y="4430880"/>
            <a:ext cx="23367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8894520" cy="1689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323640" y="174420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особствует гармоничному физическому и психическому развитию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расширяет двигательные возможности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пособствует увеличению дееспособности (повышает физическую и умственнную работоспособность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вышает устойчивость организма к неблагоприятным воздействиям внешних факторов, неспецифическую сопротивляемость, лучше переносятся стрессы, холод, радиация и т.д.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лучшает  психологическое здоровье (например, из депрессии можно вывести двигательным режимом)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ырабатывает у детей и подростков оптимизм и бодрость,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спитывать коллективизм, дисциплинированность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311040" y="73080"/>
            <a:ext cx="8541000" cy="179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457200" y="1773360"/>
          <a:ext cx="8229600" cy="4946400"/>
        </p:xfrm>
        <a:graphic>
          <a:graphicData uri="http://schemas.openxmlformats.org/drawingml/2006/table">
            <a:tbl>
              <a:tblPr/>
              <a:tblGrid>
                <a:gridCol w="2930400"/>
                <a:gridCol w="2222640"/>
                <a:gridCol w="3076560"/>
              </a:tblGrid>
              <a:tr h="1439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ные группы (в годах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комоции (число шагов в тыс.) в течение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двигательной активности (часы) в течение дн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– 10 (оба пол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– 14 (оба пола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7 (юнош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17 (девушки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лет и старше (мужчин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лет и старш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женщины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–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– 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– 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– 2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 – 3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 – 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8 – 5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6 – 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– 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 – 4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440" indent="208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2" descr=""/>
          <p:cNvPicPr/>
          <p:nvPr/>
        </p:nvPicPr>
        <p:blipFill>
          <a:blip r:embed="rId1"/>
          <a:stretch/>
        </p:blipFill>
        <p:spPr>
          <a:xfrm>
            <a:off x="1274760" y="433440"/>
            <a:ext cx="7875720" cy="168732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1403280" y="19810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УГГ ежедневно по 15 минут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Занятия физическими упражнениями по 45 минут ежедневно,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Ходьба примерно по 5 километров (10 тысяч шагов) в день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ВЛИЯНИЕ ГИПОКИНЕЗИИ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нижает работоспособность организм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уменьшает устойчивость к перемене условий внешней сред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пособствует развитию заболева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водит к большому числу нарушений опорно-двигательного аппарата (н/осанки, сколиозы, деформации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жире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частые простудные заболевания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ронические заболевания ЖВП, печени, ЖКТ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заболевания нервной системы, невроз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рушения эндокринной систем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клонения в состоянии ССС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2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тренняя гигиеническая гимнастик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ятия в спортивных секциях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ятия оздоровительной физической культур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Занятия лечебной физической культуро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Скрытая гимнастик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Дозированная ходьба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Оздоровительный бег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Физкультурные паузы во время выполнения домашних заданий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уризм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лаван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Подвижные игры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Уроки корригирующей гимнастики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вести организм из состояния заторможенности физиологических процессов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дать бодрое настроение, создать хороший тонус на весь ден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ысить функциональное состояние всех органов и систем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мственная работоспособность на 15% выше у тех, кто регулярно делает УГГ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7:13:57Z</dcterms:created>
  <dc:creator>Мама</dc:creator>
  <dc:description/>
  <dc:language>en-US</dc:language>
  <cp:lastModifiedBy>user1</cp:lastModifiedBy>
  <dcterms:modified xsi:type="dcterms:W3CDTF">2017-01-15T11:21:47Z</dcterms:modified>
  <cp:revision>7</cp:revision>
  <dc:subject/>
  <dc:title>Слайд 1</dc:title>
</cp:coreProperties>
</file>