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6EB-9940-4272-9252-2D2C4E59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3DA-30DF-462F-879E-9CB87889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576-EC6C-4DA7-B64A-014D84FC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02D-A0CD-4BDE-80D0-812C0063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6E1A-A317-4620-B1E8-5299BA72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4574-B665-47B6-879A-DD2BA8A5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D428-843E-4ADC-AB70-8F0768E0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AEFF-98DF-498D-80E1-2C475A5C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7CF5-9923-41D5-B854-573C1296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2369-F3C1-4931-8809-40910EDA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C3EA-2279-4C5F-83EA-C7F8DA0D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CED-DDE7-485C-B535-51123E71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C1A4-F7C7-4141-A0C0-15E4B172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57CC-4864-4137-903B-C8F42EA9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3F41-846C-4FA5-A06E-E5C26B36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CCC9-5CCB-48B8-B70A-5694614F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CB63-A4BE-4666-9D51-4559A407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AD92-B590-4CEC-9963-47DE8139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ED66-1551-4B43-B6B6-121B03DB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A7AC-4820-4929-A2A2-2AEC272B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25F28-DE18-41F7-9999-8C7CAE08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CC42A-1B83-4443-B378-0A46DCB1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844-DD16-4CD5-B24F-F62E4D56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DC18-4983-4C8F-ADF5-5259EE5B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DF465-F649-4080-9B25-B87B43DE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160CC-0626-485E-B7AB-7D2CB14E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46DEE-BEF3-4B18-B4F5-DFFF97FE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E6BE5-E81D-476A-9A3F-A9757A25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0F3C0-BF97-4379-81C3-3BE21FAB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5FDA0-F94A-4C35-9568-E95B3AEB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576D1-A9F8-4C2A-AFC8-2799F361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E05B6-894F-4084-8BF3-02ADB093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24DBA-79C7-4616-AA4A-B9387FDC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61C-5A8E-484E-B47F-936B5223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CC520-C02D-4357-807B-CF4C0A28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43A93-D4BD-4985-9C24-71E98BCC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45BB2-5169-4F5C-89CC-B0AB3D6E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447E8-21E9-48E9-9A48-26801174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8E1EB-EEF0-4839-AD62-10E3AC35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9067C-34DA-4B0E-B224-F819995C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6786D-F29B-47E9-99A3-04F3A3E2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61EFA-7C57-44E7-96D6-1B900E54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55ECD-DFCE-4706-98A5-A76859A1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2AB75-E925-4525-97D0-80BD6654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EA0-196D-456E-971C-0CFF8CAD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955C8-4D63-4301-8AA8-B0C46ED6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93EC7-48BF-4A39-94F7-CD42D025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D6B71-808E-4510-9C84-C0F591CF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CDE03-9A9C-4665-8074-89F0ABC4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7792D-9E58-4830-BE6F-99A44990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49B9A-E9ED-44D6-85BE-2EED2A98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B093E-2522-48BE-B100-A6325E0A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95CCF-812D-4609-951D-ED49F480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9C10B-6709-45BC-B062-F5BD4729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E72F7-B91B-47EE-A4E3-DDCEF6D6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6511-23FB-48DF-9946-20C965AD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93376-00EA-4BB2-B13F-3E17C0A0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E5355-618A-47B0-BF2A-82685552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A00F9-95D8-40DC-8DBD-09748AFF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EE7E5-0323-4062-9817-65661B17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21549-27E4-4E56-9532-5B93305A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4C5B9-0B90-49AA-8BD6-61E16838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4A885-AB41-4CC7-9EC6-D7DFA77B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451FC-6CB1-4154-93B3-08692292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25D9F-EB6D-4790-9F78-B6705352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406DF-601F-4E07-A1C9-C0E10A0F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9DB-1849-45AF-86AA-F6954371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7EC8E-D631-4E9E-8B3E-33E25582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A708E-DB0D-48B7-BCC4-7367DC41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31472-9E79-4042-B4DA-D6DB2940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86E8D-317D-4ACB-A322-7E0B46FD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EC031-CEC4-405C-A6B0-323CCDFD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4BCD9-E471-4793-95F0-0D0DFD55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E870B-8235-49C6-8C80-C29654C6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93D42-AB83-4602-8C2D-E396A354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1221D-BB60-4CBF-9885-A4DAFE9B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ABE12-A69F-4EC2-9471-EA0F1683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416-B6F3-414F-99C7-4E11EE7C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5720E-CCFE-437D-98F9-D0730EA7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6F85E-5AEB-452D-9389-26701423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54AF6-C99E-4A3E-A86B-DB7B2B9C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698C9-B4D9-485D-A92F-DF9F4C38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4697C-8004-4EBC-BD5D-0E00A8C0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610-7886-4B46-8FC6-46AF0053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010E-9389-42FD-B042-5C8814BC8EF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9AE6-334B-4878-AC17-C485755E495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78EB-321D-4E46-9F02-1ECAD7B25DE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F9F8-F394-43F3-A6B2-1A62A2A282C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DBDE-EA69-44B8-A18E-7A752FEA7FD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9C58-A752-4FAF-AE2D-AB5F8090CB1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1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3443-730C-40D7-9EAD-78BBFE9387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funmedia.ru/up/photos/multik/multik322.png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unmedia.ru/up/photos/multik/multik322.pn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341280" y="1133640"/>
            <a:ext cx="9077400" cy="3213000"/>
          </a:xfrm>
          <a:prstGeom prst="rect">
            <a:avLst/>
          </a:prstGeom>
          <a:ln w="0">
            <a:noFill/>
          </a:ln>
        </p:spPr>
      </p:pic>
      <p:sp>
        <p:nvSpPr>
          <p:cNvPr id="363" name="TextBox 6"/>
          <p:cNvSpPr/>
          <p:nvPr/>
        </p:nvSpPr>
        <p:spPr>
          <a:xfrm>
            <a:off x="3643200" y="59292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: Шайдуллин Ришат Рафик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че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AutoShape 2" descr=""/>
          <p:cNvPicPr/>
          <p:nvPr/>
        </p:nvPicPr>
        <p:blipFill>
          <a:blip r:embed="rId1"/>
          <a:stretch/>
        </p:blipFill>
        <p:spPr>
          <a:xfrm>
            <a:off x="1066680" y="255600"/>
            <a:ext cx="5973840" cy="1457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28760" y="1928880"/>
            <a:ext cx="8353440" cy="409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Утренняя зарядка придает человеку бодрость, повышает настроение, укрепляет мышцы, иммунитет человека. Однако в настоящее время взрослые и дети из-за ускоренного темпа жизни не делают зарядку по утрам, забывая о полезных качествах утренней зарядк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Медики рекомендуют, после утренней зарядки принять душ, тем самым еще больше улучшить свое настроение и укрепить здоровь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7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3" name="Picture 4" descr="0017"/>
          <p:cNvPicPr/>
          <p:nvPr/>
        </p:nvPicPr>
        <p:blipFill>
          <a:blip r:embed="rId2"/>
          <a:stretch/>
        </p:blipFill>
        <p:spPr>
          <a:xfrm>
            <a:off x="7062840" y="0"/>
            <a:ext cx="1611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AutoShape 2" descr=""/>
          <p:cNvPicPr/>
          <p:nvPr/>
        </p:nvPicPr>
        <p:blipFill>
          <a:blip r:embed="rId1"/>
          <a:stretch/>
        </p:blipFill>
        <p:spPr>
          <a:xfrm>
            <a:off x="1206360" y="414360"/>
            <a:ext cx="5712120" cy="1719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394920" y="2636640"/>
            <a:ext cx="8496360" cy="351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Каждый свой день необходимо начинать с утренней гимнастики (зарядку). Она облегчает перевод от сна к рабочему состоянию позволяет "зарядить" организм бодростью на целый день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Примерная продолжительность зарядки, приблизительно 10 - 15 минут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Желательно выполнять упражнения на свежем воздухе или в комнате при открытой форточке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6" name="Picture 4" descr="0017"/>
          <p:cNvPicPr/>
          <p:nvPr/>
        </p:nvPicPr>
        <p:blipFill>
          <a:blip r:embed="rId2"/>
          <a:stretch/>
        </p:blipFill>
        <p:spPr>
          <a:xfrm>
            <a:off x="7020000" y="0"/>
            <a:ext cx="1577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низить утомляемость организм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высить эмоциональный фо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величить работоспособность учащегос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нять напряже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нить умственную деятельность на физическую актив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пособствовать физическому развитию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скорить выздоровле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еспечивать приток крови к больному орган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91" name="Picture 8" descr="Горнолыжник 01"/>
          <p:cNvPicPr/>
          <p:nvPr/>
        </p:nvPicPr>
        <p:blipFill>
          <a:blip r:embed="rId2"/>
          <a:stretch/>
        </p:blipFill>
        <p:spPr>
          <a:xfrm>
            <a:off x="5214960" y="4214880"/>
            <a:ext cx="26035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AutoShape 2" descr=""/>
          <p:cNvPicPr/>
          <p:nvPr/>
        </p:nvPicPr>
        <p:blipFill>
          <a:blip r:embed="rId1"/>
          <a:stretch/>
        </p:blipFill>
        <p:spPr>
          <a:xfrm>
            <a:off x="738360" y="328680"/>
            <a:ext cx="8302320" cy="13842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642960" y="1857240"/>
            <a:ext cx="7980480" cy="409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подошвах ног существуют точки, связанные с определенными зонами организм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ассируя их, можно снять боль, оказать лечебное воздействи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о, конечно, нельзя считать самомассаж панацеей от всех болезней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Вы его можете использовать именно для профилактики некоторых заболеван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AutoShape 2" descr=""/>
          <p:cNvPicPr/>
          <p:nvPr/>
        </p:nvPicPr>
        <p:blipFill>
          <a:blip r:embed="rId1"/>
          <a:stretch/>
        </p:blipFill>
        <p:spPr>
          <a:xfrm>
            <a:off x="2517840" y="12600"/>
            <a:ext cx="3133800" cy="17128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213840" y="1125360"/>
            <a:ext cx="489924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1 -гипофиз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2— рефлексы мозга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3 - трахея,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4 - легкие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5 - сердце,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6 - печень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7 -тимус,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8 - желудок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9 - толстый кишечник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10 - тонкий кишечник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11 - крестец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12 - почка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13 - надпочечник,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14 - половые железы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15 - закаливающая зон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Особое внимание обратите на массаж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расположенной в центре подошвы точки 15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зону закаливания. Здесь находятся окончания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нервов, рефлекторно связанных с верхними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дыхательными путями. Такой массаж помогает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от насморка, простуды, гриппа, ангины, в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случае охлаждения стопы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2"/>
          <a:stretch/>
        </p:blipFill>
        <p:spPr>
          <a:xfrm>
            <a:off x="5214960" y="1341360"/>
            <a:ext cx="3929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2999880" y="1928880"/>
            <a:ext cx="5913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3400" spc="-1" strike="noStrike">
                <a:solidFill>
                  <a:srgbClr val="cc3300"/>
                </a:solidFill>
                <a:latin typeface="Franklin Gothic Book"/>
              </a:rPr>
              <a:t>Почему следует</a:t>
            </a:r>
            <a:br>
              <a:rPr sz="3400"/>
            </a:br>
            <a:r>
              <a:rPr b="1" lang="ru-RU" sz="3400" spc="-1" strike="noStrike">
                <a:solidFill>
                  <a:srgbClr val="cc3300"/>
                </a:solidFill>
                <a:latin typeface="Franklin Gothic Book"/>
              </a:rPr>
              <a:t>беречь</a:t>
            </a:r>
            <a:br>
              <a:rPr sz="3400"/>
            </a:br>
            <a:r>
              <a:rPr b="1" lang="ru-RU" sz="3400" spc="-1" strike="noStrike">
                <a:solidFill>
                  <a:srgbClr val="cc3300"/>
                </a:solidFill>
                <a:latin typeface="Franklin Gothic Book"/>
              </a:rPr>
              <a:t>и укреплять</a:t>
            </a:r>
            <a:br>
              <a:rPr sz="3400"/>
            </a:br>
            <a:r>
              <a:rPr b="1" lang="ru-RU" sz="3400" spc="-1" strike="noStrike">
                <a:solidFill>
                  <a:srgbClr val="cc3300"/>
                </a:solidFill>
                <a:latin typeface="Franklin Gothic Book"/>
              </a:rPr>
              <a:t>здоровье?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3300"/>
                </a:solidFill>
                <a:latin typeface="Franklin Gothic Book"/>
              </a:rPr>
              <a:t>Что способствует развитию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3300"/>
                </a:solidFill>
                <a:latin typeface="Franklin Gothic Book"/>
              </a:rPr>
              <a:t>Человека?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66" name="Picture 4" descr="Картинка 59 из 1376050">
            <a:hlinkClick r:id="rId2"/>
          </p:cNvPr>
          <p:cNvPicPr/>
          <p:nvPr/>
        </p:nvPicPr>
        <p:blipFill>
          <a:blip r:embed="rId3"/>
          <a:stretch/>
        </p:blipFill>
        <p:spPr>
          <a:xfrm rot="1351200">
            <a:off x="858600" y="1787400"/>
            <a:ext cx="23367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50920" y="1557000"/>
            <a:ext cx="8424720" cy="301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Всем известно, всем понятно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Что здоровым быть приятно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Только надо знать,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            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как здоровым стать!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68" name="Picture 4" descr="Картинка 59 из 1376050">
            <a:hlinkClick r:id="rId1"/>
          </p:cNvPr>
          <p:cNvPicPr/>
          <p:nvPr/>
        </p:nvPicPr>
        <p:blipFill>
          <a:blip r:embed="rId2"/>
          <a:stretch/>
        </p:blipFill>
        <p:spPr>
          <a:xfrm rot="1351200">
            <a:off x="6447960" y="4430880"/>
            <a:ext cx="23367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894520" cy="16891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323640" y="174420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особствует гармоничному физическому и психическому развитию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асширяет двигательные возможности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особствует увеличению дееспособности (повышает физическую и умственнную работоспособность)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вышает устойчивость организма к неблагоприятным воздействиям внешних факторов, неспецифическую сопротивляемость, лучше переносятся стрессы, холод, радиация и т.д.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лучшает  психологическое здоровье (например, из депрессии можно вывести двигательным режимом)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ырабатывает у детей и подростков оптимизм и бодрость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оспитывать коллективизм, дисциплинированность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311040" y="73080"/>
            <a:ext cx="8541000" cy="179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457200" y="1773360"/>
          <a:ext cx="8229600" cy="4946400"/>
        </p:xfrm>
        <a:graphic>
          <a:graphicData uri="http://schemas.openxmlformats.org/drawingml/2006/table">
            <a:tbl>
              <a:tblPr/>
              <a:tblGrid>
                <a:gridCol w="2930400"/>
                <a:gridCol w="2222640"/>
                <a:gridCol w="307656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ные группы (в годах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омоции (число шагов в тыс.) в течение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двигательной активности (часы) в течение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2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– 10 (оба пол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– 14 (оба пол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17 (юноши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17 (девушки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лет и старше (мужчин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лет и старш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женщин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– 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–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– 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– 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– 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 – 3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 – 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 – 5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 – 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– 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 – 4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1274760" y="433440"/>
            <a:ext cx="7875720" cy="16873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14032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УГГ ежедневно по 15 минут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Занятия физическими упражнениями по 45 минут ежедневно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Ходьба примерно по 5 километров (10 тысяч шагов) в день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ВЛИЯНИЕ ГИПОКИНЕЗИ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нижает работоспособность организм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меньшает устойчивость к перемене условий внешней сред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пособствует развитию заболевани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водит к большому числу нарушений опорно-двигательного аппарата (н/осанки, сколиозы, деформации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жирени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частые простудные заболева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хронические заболевания ЖВП, печени, ЖК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заболевания нервной системы, невроз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нарушения эндокринной систем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тклонения в состоянии ССС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785080" cy="11527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тренняя гигиеническая гимнасти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нятия в спортивных секциях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нятия оздоровительной физической культуро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нятия лечебной физической культуро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крытая гимнастик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озированная ходьб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здоровительный бе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Физкультурные паузы во время выполнения домашних задани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уриз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лавани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движные игр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роки корригирующей гимнастик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вести организм из состояния заторможенности физиологических процессов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идать бодрое настроение, создать хороший тонус на весь ден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высить функциональное состояние всех органов и систе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мственная работоспособность на 15% выше у тех, кто регулярно делает УГГ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7:13:57Z</dcterms:created>
  <dc:creator>Мама</dc:creator>
  <dc:description/>
  <dc:language>en-US</dc:language>
  <cp:lastModifiedBy>user1</cp:lastModifiedBy>
  <dcterms:modified xsi:type="dcterms:W3CDTF">2017-01-15T11:21:47Z</dcterms:modified>
  <cp:revision>7</cp:revision>
  <dc:subject/>
  <dc:title>Слайд 1</dc:title>
</cp:coreProperties>
</file>