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739-6444-47DF-AAF2-80DE48953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AB6-A5D8-4491-8C2D-58FFC57399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01F4-9942-4790-84EE-E8701F7D07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A4EC-2D65-4FE2-8CFD-620204C48E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A5C5-914D-4503-9578-BDFB9941C6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DA5-B3E1-4E8D-B8E9-99F87DFA76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062-6F0C-4752-98EE-0678AF2FC7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826-B0A3-40EF-9F39-3040298689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A87-7652-4E28-A0EF-A621490AA6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A1C-91ED-4B5B-ADC1-8E1555B7E6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E94F-E54E-4D13-ABE6-DB7EC2287D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6DBD-B7B6-4B0C-BF9F-4E4597CF4B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A67-1E77-4564-A1E9-77EB12A008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C9E8-8FF0-4B9B-9042-811FE643DD3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E78B-2CE1-4E8D-9D1B-75DD1FB675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4597-5F79-4202-B6DE-34FE4A2DC79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9DD-EF39-492F-B4CB-FD7F134692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3302-D3DF-4C29-933D-2C9406D50C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500-01CA-41F3-A703-6F4589D086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19E0-081C-4009-96FB-59C811CF2B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EA42-3ECA-4A14-AC23-497A2FF697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52A6-2F71-48AE-AA87-961A1AE006B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D8C-ABA2-4540-A15D-858EEB2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73D-01F0-4136-93E0-6895577B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753-BE59-428C-9949-3CE13EE7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E37-C9FF-403A-A58C-1F08FB6F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98B-24B0-4712-A88F-9611426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F7B-E7B9-4C41-86DA-407FD02D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669-060D-4286-AAB0-B0980EA5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B1B-A91C-41E4-A8C3-3EADA8E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42C-1F31-4ED8-8C19-2ED6785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C1B-5FAB-428F-937A-FE82332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346-B6FF-49EC-BFD0-D0C5754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11B-E9FA-470B-9590-4F49031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82B-86F9-45F5-AC6D-04D6DFA0FF5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2040" y="387360"/>
            <a:ext cx="385776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Рисунок 3" descr="начало.jpg"/>
          <p:cNvPicPr/>
          <p:nvPr/>
        </p:nvPicPr>
        <p:blipFill>
          <a:blip r:embed="rId1"/>
          <a:stretch/>
        </p:blipFill>
        <p:spPr>
          <a:xfrm>
            <a:off x="401760" y="633240"/>
            <a:ext cx="4498920" cy="8047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57160" y="5072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6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1242067659_pic_id26134.jpeg"/>
          <p:cNvPicPr/>
          <p:nvPr/>
        </p:nvPicPr>
        <p:blipFill>
          <a:blip r:embed="rId2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5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8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5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9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2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6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8" name="Рисунок 4" descr="middle_e20be7f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0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Рисунок 4" descr="пожар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4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Рисунок 4" descr="aktsii_protesta_politikafoto_1_1_1_1_1_1_1_1_1_1.jpg"/>
          <p:cNvPicPr/>
          <p:nvPr/>
        </p:nvPicPr>
        <p:blipFill>
          <a:blip r:embed="rId3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8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Рисунок 4" descr="electro_0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2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Рисунок 4" descr="076205.jpg"/>
          <p:cNvPicPr/>
          <p:nvPr/>
        </p:nvPicPr>
        <p:blipFill>
          <a:blip r:embed="rId3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6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4143240" y="1285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Прямоугольник 7"/>
          <p:cNvSpPr/>
          <p:nvPr/>
        </p:nvSpPr>
        <p:spPr>
          <a:xfrm>
            <a:off x="3786120" y="2565360"/>
            <a:ext cx="414360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3786120" y="3532320"/>
            <a:ext cx="414360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3786120" y="4500720"/>
            <a:ext cx="414360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56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19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1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357120" y="1857240"/>
            <a:ext cx="8429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928800" y="35712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ru-RU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4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67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389560" y="271296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1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6"/>
          <p:cNvSpPr/>
          <p:nvPr/>
        </p:nvSpPr>
        <p:spPr>
          <a:xfrm>
            <a:off x="392904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5000760" y="38577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6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48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2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49" name="TextBox 9"/>
            <p:cNvSpPr/>
            <p:nvPr/>
          </p:nvSpPr>
          <p:spPr>
            <a:xfrm rot="21110400">
              <a:off x="2946600" y="2595600"/>
              <a:ext cx="3654360" cy="19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2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Admin</cp:lastModifiedBy>
  <dcterms:modified xsi:type="dcterms:W3CDTF">2012-12-08T16:48:30Z</dcterms:modified>
  <cp:revision>79</cp:revision>
  <dc:subject/>
  <dc:title>Слайд 1</dc:title>
</cp:coreProperties>
</file>