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7F1A-592B-43E1-96A4-C7831DDD5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AABE-CB5C-4DA3-B072-FCFAC8CB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5C61-DB62-489C-A898-AE528E6BA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7E35-EF42-45AF-A2C8-F7DFC28F4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7E9A-DEDF-4E68-A872-AE81FE402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E8C2-A2E3-4D7E-808F-B20E4A1E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DC65-BA32-454D-A260-8DA8AD75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3B13-298E-45BD-945E-8F9FEFAA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1438-990E-44CC-A8CD-BA278F2F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7296-A485-4A92-9AEF-FBDED3C6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9B3F-04A2-4811-82BB-1E959CD1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AEA1-88E6-4F8A-818B-7BD29569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A4373-81E3-4E5E-8E1A-FE6D023C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6BC54-2302-4BB9-9424-1127D742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B7A8-35CA-4B45-9B80-8AC26D23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B0F9-3C8F-4CB0-A86E-32F228780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5A64D-A4A0-413E-A1CB-6AB1A7E3A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C961-F57B-4B05-A9B9-153212FB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A05A-C976-4456-A0B4-DDDBF989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E99A-0D71-4505-83E0-B8A88AAE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61A1-2F4C-47B8-B15A-EBF6171E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03E6-EA6D-48B9-86CB-CF527D1E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F237-519E-4288-ABE4-6CB6BF59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4DFE-D6E4-49D4-871A-F8F5122B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1A95-AB64-40A8-9D9C-74AE592D98E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4B47-486E-41D7-8FFE-D4CA85ACC8A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1915920"/>
            <a:ext cx="820908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Garamond"/>
              </a:rPr>
              <a:t>Мировые финансовые центры</a:t>
            </a:r>
            <a:endParaRPr b="0" lang="en-US" sz="6000" spc="-1" strike="noStrike">
              <a:solidFill>
                <a:srgbClr val="cc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0360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Garamond"/>
              </a:rPr>
              <a:t>До Первой мировой войны господствующим финансовым центром был Лондон. </a:t>
            </a:r>
            <a:br>
              <a:rPr sz="3200"/>
            </a:br>
            <a:endParaRPr b="0" lang="en-US" sz="3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8000" y="1417680"/>
            <a:ext cx="39592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ричин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окий уровень развития капитализма в Великобритании, её сильные и обширные торговые связи с другими страна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ойчивость фунта стерлинг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ая кредитная система стр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3" descr=""/>
          <p:cNvPicPr/>
          <p:nvPr/>
        </p:nvPicPr>
        <p:blipFill>
          <a:blip r:embed="rId1"/>
          <a:stretch/>
        </p:blipFill>
        <p:spPr>
          <a:xfrm>
            <a:off x="4094280" y="1844640"/>
            <a:ext cx="48099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964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Garamond"/>
              </a:rPr>
              <a:t>После Первой мировой войны мировой финансовый центр переместился в США. </a:t>
            </a:r>
            <a:endParaRPr b="0" lang="en-US" sz="3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267920"/>
            <a:ext cx="60120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ью-Йорк является городом с самым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ольшими и ликвидными фондовым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нками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версии Всемирной Федерации Бирж, общий объём торгуемых акций за 2010 г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YSE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ью-Йорк) — $19,81 трл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SDAQ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ью-Йорк) — $13,43 трл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kyo Stock Exchange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кио) — $3,78 трл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don Stock Exchange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ндон) — $2,74 трл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nghai Stock Exchange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нхай) — $4,49 трл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1" descr=""/>
          <p:cNvPicPr/>
          <p:nvPr/>
        </p:nvPicPr>
        <p:blipFill>
          <a:blip r:embed="rId1"/>
          <a:stretch/>
        </p:blipFill>
        <p:spPr>
          <a:xfrm>
            <a:off x="5838840" y="1700280"/>
            <a:ext cx="328140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68360" y="260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aramond"/>
              </a:rPr>
              <a:t>В 60-ые годы возникли новые центры — в Западной Европе и Япо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Рисунок 1" descr=""/>
          <p:cNvPicPr/>
          <p:nvPr/>
        </p:nvPicPr>
        <p:blipFill>
          <a:blip r:embed="rId1"/>
          <a:stretch/>
        </p:blipFill>
        <p:spPr>
          <a:xfrm>
            <a:off x="41400" y="1700280"/>
            <a:ext cx="90612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Объект 3" descr=""/>
          <p:cNvPicPr/>
          <p:nvPr/>
        </p:nvPicPr>
        <p:blipFill>
          <a:blip r:embed="rId1"/>
          <a:stretch/>
        </p:blipFill>
        <p:spPr>
          <a:xfrm>
            <a:off x="900000" y="318960"/>
            <a:ext cx="7056720" cy="65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сты Всемирного банка причислили Россию к финансовой окраине. Специалисты составили агрегированную карту мировых финансов, на которой размеры стран соответствуют их финансовому развит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рта составлена на основе глобальной базы данных Всемирного банка, в которой содержатся финансовые показатели для более чем 200 государств за период с 1960 по 2011 год. База данных учитывает размер финансовых институтов и рынков, степень, в которой люди могут и используют финансовые услуги, эффективность финансовых посредников и финансовых операций, а также стабильность финансовых институтов и рын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сию на финансовой карте мира почти не видно — ее финансовую систему практически«раздавил» Кита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2120" y="404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Garamond"/>
              </a:rPr>
              <a:t>Финансовая карта мира</a:t>
            </a:r>
            <a:endParaRPr b="0" lang="en-US" sz="3600" spc="-1" strike="noStrike">
              <a:solidFill>
                <a:srgbClr val="cc0000"/>
              </a:solidFill>
              <a:latin typeface="Garamond"/>
            </a:endParaRPr>
          </a:p>
        </p:txBody>
      </p:sp>
      <p:pic>
        <p:nvPicPr>
          <p:cNvPr id="117" name="Объект 3" descr=""/>
          <p:cNvPicPr/>
          <p:nvPr/>
        </p:nvPicPr>
        <p:blipFill>
          <a:blip r:embed="rId1"/>
          <a:srcRect l="2820" t="11446" r="7657" b="4195"/>
          <a:stretch/>
        </p:blipFill>
        <p:spPr>
          <a:xfrm>
            <a:off x="69840" y="1398600"/>
            <a:ext cx="907416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1" descr=""/>
          <p:cNvPicPr/>
          <p:nvPr/>
        </p:nvPicPr>
        <p:blipFill>
          <a:blip r:embed="rId1"/>
          <a:stretch/>
        </p:blipFill>
        <p:spPr>
          <a:xfrm>
            <a:off x="3240" y="1562040"/>
            <a:ext cx="9140760" cy="52563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79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Garamond"/>
              </a:rPr>
              <a:t>Критерии конкурентноспособности мировых финансовых центров</a:t>
            </a:r>
            <a:endParaRPr b="0" lang="en-US" sz="3600" spc="-1" strike="noStrike">
              <a:solidFill>
                <a:srgbClr val="cc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277920"/>
            <a:ext cx="83628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Garamond"/>
              </a:rPr>
              <a:t>Мировые финансовые центры:</a:t>
            </a:r>
            <a:endParaRPr b="0" lang="en-US" sz="36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1125360"/>
            <a:ext cx="4248000" cy="515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центры сосредоточения банков и специализированных кредитно-финансовых институтов, осуществляющих международные валютные, кредитные и финансовые операции, сделки с ценными бумагами, золот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3" descr=""/>
          <p:cNvPicPr/>
          <p:nvPr/>
        </p:nvPicPr>
        <p:blipFill>
          <a:blip r:embed="rId1"/>
          <a:stretch/>
        </p:blipFill>
        <p:spPr>
          <a:xfrm>
            <a:off x="5364000" y="1268280"/>
            <a:ext cx="340704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89308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Garamond"/>
              </a:rPr>
              <a:t>Мировые финансовые потоки —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межгосударственное движение денежных средств, обслуживающее международный товарный оборот и международное движение капитала.</a:t>
            </a:r>
            <a:br>
              <a:rPr sz="3600"/>
            </a:br>
            <a:endParaRPr b="0" lang="en-US" sz="2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0" y="2115720"/>
            <a:ext cx="464328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ировом хозяйстве постоянно происходит перелив денежного капитала, формирующегося в процессе кругооборота капит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ержнем мировых финансовых потоков являются материальные процессы воспроизвод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3" descr=""/>
          <p:cNvPicPr/>
          <p:nvPr/>
        </p:nvPicPr>
        <p:blipFill>
          <a:blip r:embed="rId1"/>
          <a:srcRect l="6126" t="13961" r="9329" b="8247"/>
          <a:stretch/>
        </p:blipFill>
        <p:spPr>
          <a:xfrm>
            <a:off x="4462560" y="2637000"/>
            <a:ext cx="4681440" cy="26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98960" y="188640"/>
            <a:ext cx="26748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cc0000"/>
                </a:solidFill>
                <a:latin typeface="Garamond"/>
              </a:rPr>
              <a:t>Функции: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4941360"/>
            <a:ext cx="914400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служивают движение товаров, услуг и межстрановое перераспределение денежного капитала между субъектами мирового ры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ают сигналы о состоянии коньюнктуры рынка , которые служат ориентиром для принятия ре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1" descr=""/>
          <p:cNvPicPr/>
          <p:nvPr/>
        </p:nvPicPr>
        <p:blipFill>
          <a:blip r:embed="rId1"/>
          <a:stretch/>
        </p:blipFill>
        <p:spPr>
          <a:xfrm>
            <a:off x="884160" y="849240"/>
            <a:ext cx="728820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2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Garamond"/>
              </a:rPr>
              <a:t>Факторы, влияющие на объем и направление финансовых потоков:</a:t>
            </a:r>
            <a:endParaRPr b="0" lang="en-US" sz="36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9280" y="1773000"/>
            <a:ext cx="3457800" cy="42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тояние экономи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заимная либерализация торгов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ная перестройка в эконом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1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3745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3" descr=""/>
          <p:cNvPicPr/>
          <p:nvPr/>
        </p:nvPicPr>
        <p:blipFill>
          <a:blip r:embed="rId1"/>
          <a:stretch/>
        </p:blipFill>
        <p:spPr>
          <a:xfrm>
            <a:off x="168120" y="1557360"/>
            <a:ext cx="8952120" cy="453564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1"/>
          <p:cNvSpPr/>
          <p:nvPr/>
        </p:nvSpPr>
        <p:spPr>
          <a:xfrm>
            <a:off x="25560" y="115920"/>
            <a:ext cx="911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Garamond"/>
              </a:rPr>
              <a:t>Факторы, влияющие на объем и направление финансовых пото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3" descr=""/>
          <p:cNvPicPr/>
          <p:nvPr/>
        </p:nvPicPr>
        <p:blipFill>
          <a:blip r:embed="rId1"/>
          <a:stretch/>
        </p:blipFill>
        <p:spPr>
          <a:xfrm>
            <a:off x="395280" y="272880"/>
            <a:ext cx="809136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"/>
          <p:cNvPicPr/>
          <p:nvPr/>
        </p:nvPicPr>
        <p:blipFill>
          <a:blip r:embed="rId1"/>
          <a:stretch/>
        </p:blipFill>
        <p:spPr>
          <a:xfrm>
            <a:off x="-17640" y="981000"/>
            <a:ext cx="91792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Garamond"/>
              </a:rPr>
              <a:t>Каналы мировых финансовых потоков</a:t>
            </a:r>
            <a:endParaRPr b="0" lang="en-US" sz="36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лютно-кредитное и расчётное обслуживание купли-продажи товаров и услуг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рубежные инвестиции в основной и оборотный капитал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ции с ценными бумагами и разными финансовыми инструмент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лютные опер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распределение части национального дохода через бюджет в форме помощи развивающимся странам и взносов государств в международные организации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5T02:34:24Z</dcterms:created>
  <dc:creator>Olga</dc:creator>
  <dc:description/>
  <dc:language>en-US</dc:language>
  <cp:lastModifiedBy>User</cp:lastModifiedBy>
  <dcterms:modified xsi:type="dcterms:W3CDTF">2017-01-15T16:13:49Z</dcterms:modified>
  <cp:revision>12</cp:revision>
  <dc:subject/>
  <dc:title>Атлантический океан: особенности природы и хозяйственная деятельность в океане</dc:title>
</cp:coreProperties>
</file>