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908-9D50-45CE-A0FF-74B876C6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C80-3F4F-4BC9-B2DD-DD9C1743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CF5-D2D6-4D36-8FB3-52CD3A32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62B-3CF3-4081-A321-D7D09F97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7E49-0941-4754-925A-DEC925F7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3FDF-8353-46B5-B4E9-8816575F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1ED8-A0C7-40CD-8C5D-FA1F558F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3B9B-5A72-4785-ADBA-C6E3F753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97CB-EE1D-4F7B-911E-47507FBC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83BC-F872-4565-B304-5008DDE5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AD2E-3E15-4BA6-8985-99E180BD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C45-8373-4E1A-86F4-51EAAF7C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686E-5766-4227-9635-CCB657A3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8B81-3237-421F-881F-A77DEF72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1D2E-DD76-4275-B00B-9C4C89D0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7808-E8F1-4D95-AE78-30C4DBD2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6C40-9028-4B8E-B750-36EFD3F1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DD1-9C69-4963-8D37-D6E60C86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DE0-FFE9-42AC-A7D8-DE7176CE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4CF-D265-45DD-859A-848F42A9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E758-B3CC-41F1-9506-17B5E661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A54-CD86-4CE6-BE08-ED70B2C3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BFC-3C21-4A62-9A82-299A754A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648-2CD2-479B-9574-3CD871F2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7048-D1D1-4910-82CE-A0A437653ED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3FBF-A498-41D8-AB29-32D35C0578B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1915920"/>
            <a:ext cx="82090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Garamond"/>
              </a:rPr>
              <a:t>Мировые финансовые центры</a:t>
            </a:r>
            <a:endParaRPr b="0" lang="en-US" sz="60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0360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aramond"/>
              </a:rPr>
              <a:t>До Первой мировой войны господствующим финансовым центром был Лондон. 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000" y="1417680"/>
            <a:ext cx="3959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ич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ий уровень развития капитализма в Великобритании, её сильные и обширные торговые связи с другими стран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ойчивость фунта стерлинг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ая кредитная система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4094280" y="1844640"/>
            <a:ext cx="48099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aramond"/>
              </a:rPr>
              <a:t>После Первой мировой войны мировой финансовый центр переместился в США. </a:t>
            </a:r>
            <a:endParaRPr b="0" lang="en-US" sz="3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267920"/>
            <a:ext cx="6012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-Йорк является городом с самым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ольшими и ликвидными фондов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ками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ерсии Всемирной Федерации Бирж, общий объём торгуемых акций за 2010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SE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-Йорк) — $19,81 тр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DAQ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-Йорк) — $13,43 тр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yo Stock Exchange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кио) — $3,78 тр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don Stock Exchange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ндон) — $2,74 тр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nghai Stock Exchange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нхай) — $4,49 тр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5838840" y="1700280"/>
            <a:ext cx="32814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360" y="260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В 60-ые годы возникли новые центры — в Западной Европе и Япо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41400" y="1700280"/>
            <a:ext cx="90612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Объект 3" descr=""/>
          <p:cNvPicPr/>
          <p:nvPr/>
        </p:nvPicPr>
        <p:blipFill>
          <a:blip r:embed="rId1"/>
          <a:stretch/>
        </p:blipFill>
        <p:spPr>
          <a:xfrm>
            <a:off x="900000" y="318960"/>
            <a:ext cx="705672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сты Всемирного банка причислили Россию к финансовой окраине. Специалисты составили агрегированную карту мировых финансов, на которой размеры стран соответствуют их финансов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а составлена на основе глобальной базы данных Всемирного банка, в которой содержатся финансовые показатели для более чем 200 государств за период с 1960 по 2011 год. База данных учитывает размер финансовых институтов и рынков, степень, в которой люди могут и используют финансовые услуги, эффективность финансовых посредников и финансовых операций, а также стабильность финансовых институтов и рын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ю на финансовой карте мира почти не видно — ее финансовую систему практически«раздавил» Кита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2120" y="404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aramond"/>
              </a:rPr>
              <a:t>Финансовая карта мира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17" name="Объект 3" descr=""/>
          <p:cNvPicPr/>
          <p:nvPr/>
        </p:nvPicPr>
        <p:blipFill>
          <a:blip r:embed="rId1"/>
          <a:srcRect l="2820" t="11446" r="7657" b="4195"/>
          <a:stretch/>
        </p:blipFill>
        <p:spPr>
          <a:xfrm>
            <a:off x="69840" y="1398600"/>
            <a:ext cx="90741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"/>
          <p:cNvPicPr/>
          <p:nvPr/>
        </p:nvPicPr>
        <p:blipFill>
          <a:blip r:embed="rId1"/>
          <a:stretch/>
        </p:blipFill>
        <p:spPr>
          <a:xfrm>
            <a:off x="3240" y="1562040"/>
            <a:ext cx="9140760" cy="5256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79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aramond"/>
              </a:rPr>
              <a:t>Критерии конкурентноспособности мировых финансовых центров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Garamond"/>
              </a:rPr>
              <a:t>Мировые финансовые центры: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125360"/>
            <a:ext cx="4248000" cy="51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центры сосредоточения банков и специализированных кредитно-финансовых институтов, осуществляющих международные валютные, кредитные и финансовые операции, сделки с ценными бумагами, золот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340704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aramond"/>
              </a:rPr>
              <a:t>Мировые финансовые потоки —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межгосударственное движение денежных средств, обслуживающее международный товарный оборот и международное движение капитала.</a:t>
            </a:r>
            <a:br>
              <a:rPr sz="3600"/>
            </a:b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2115720"/>
            <a:ext cx="464328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овом хозяйстве постоянно происходит перелив денежного капитала, формирующегося в процессе кругооборота капи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ржнем мировых финансовых потоков являются материальные процессы вос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"/>
          <p:cNvPicPr/>
          <p:nvPr/>
        </p:nvPicPr>
        <p:blipFill>
          <a:blip r:embed="rId1"/>
          <a:srcRect l="6126" t="13961" r="9329" b="8247"/>
          <a:stretch/>
        </p:blipFill>
        <p:spPr>
          <a:xfrm>
            <a:off x="4462560" y="2637000"/>
            <a:ext cx="46814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98960" y="188640"/>
            <a:ext cx="26748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Garamond"/>
              </a:rPr>
              <a:t>Функции: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4941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луживают движение товаров, услуг и межстрановое перераспределение денежного капитала между субъектами мирового ры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ют сигналы о состоянии коньюнктуры рынка , которые служат ориентиром для принятия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884160" y="849240"/>
            <a:ext cx="72882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2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aramond"/>
              </a:rPr>
              <a:t>Факторы, влияющие на объем и направление финансовых потоков: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280" y="1773000"/>
            <a:ext cx="34578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ояние эконом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ная либерализация торгов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перестройка в эконом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168120" y="1557360"/>
            <a:ext cx="8952120" cy="45356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25560" y="115920"/>
            <a:ext cx="91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aramond"/>
              </a:rPr>
              <a:t>Факторы, влияющие на объем и направление финансовых пот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"/>
          <p:cNvPicPr/>
          <p:nvPr/>
        </p:nvPicPr>
        <p:blipFill>
          <a:blip r:embed="rId1"/>
          <a:stretch/>
        </p:blipFill>
        <p:spPr>
          <a:xfrm>
            <a:off x="395280" y="272880"/>
            <a:ext cx="809136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-17640" y="981000"/>
            <a:ext cx="9179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aramond"/>
              </a:rPr>
              <a:t>Каналы мировых финансовых потоков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но-кредитное и расчётное обслуживание купли-продажи товаров и услуг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убежные инвестиции в основной и оборотный капита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и с ценными бумагами и разными финансовыми инструмен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ные опер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распределение части национального дохода через бюджет в форме помощи развивающимся странам и взносов государств в международные организаци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02:34:24Z</dcterms:created>
  <dc:creator>Olga</dc:creator>
  <dc:description/>
  <dc:language>en-US</dc:language>
  <cp:lastModifiedBy>User</cp:lastModifiedBy>
  <dcterms:modified xsi:type="dcterms:W3CDTF">2017-01-15T16:13:49Z</dcterms:modified>
  <cp:revision>12</cp:revision>
  <dc:subject/>
  <dc:title>Атлантический океан: особенности природы и хозяйственная деятельность в океане</dc:title>
</cp:coreProperties>
</file>