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3.gif" ContentType="image/gif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31.png" ContentType="image/png"/>
  <Override PartName="/ppt/media/image29.png" ContentType="image/png"/>
  <Override PartName="/ppt/media/image39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5.png" ContentType="image/png"/>
  <Override PartName="/ppt/media/image37.jpeg" ContentType="image/jpeg"/>
  <Override PartName="/ppt/media/image30.png" ContentType="image/png"/>
  <Override PartName="/ppt/media/image28.png" ContentType="image/png"/>
  <Override PartName="/ppt/media/image38.jpeg" ContentType="image/jpeg"/>
  <Override PartName="/ppt/media/image9.jpeg" ContentType="image/jpeg"/>
  <Override PartName="/ppt/media/image32.png" ContentType="image/png"/>
  <Override PartName="/ppt/media/image7.png" ContentType="image/png"/>
  <Override PartName="/ppt/media/image35.jpeg" ContentType="image/jpeg"/>
  <Override PartName="/ppt/media/image1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0858-68A9-4BDA-9593-9F2EDCD049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402C-663C-4212-B613-2EDBFC3262C5}" type="slidenum">
              <a:rPr b="0" lang="ru-RU" sz="12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50EF-231D-40C1-83CC-B1ED203BC692}" type="slidenum">
              <a:rPr b="0" lang="ru-RU" sz="1200" spc="-1" strike="noStrike">
                <a:solidFill>
                  <a:srgbClr val="99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ED5C-A336-4E67-A0C1-B5672466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FAE3-0253-450C-B598-25D4364D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FE20-2CBD-4D9D-B146-312F7121E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589-F291-462A-9394-991CD58F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DAE9-B898-4E4C-A1D4-D1567B89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05D-655B-4AA7-AA6D-6F936C0D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BB47-4F70-4C26-887E-01CAF452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9A0-97AB-457D-BC7F-1228B42D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4398-6A86-480E-915D-41684535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1A81-4A58-4ADF-B6C3-A1BE1A32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7EA-8513-4AA9-B7C1-EF1A017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0E4-1585-43A8-868A-372C4000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2F79-9E01-4DA9-8AD2-DC9F447AC6DF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a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D280-9DC8-456D-8078-0EDBBE59EFE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Documents and Settings\Aida\Рабочий стол\НОвая ГРАФИКА сборник\КАРТИНКИ СБОРНИК_ школьные\__Flo11.gif"/>
          <p:cNvPicPr/>
          <p:nvPr/>
        </p:nvPicPr>
        <p:blipFill>
          <a:blip r:embed="rId2"/>
          <a:stretch/>
        </p:blipFill>
        <p:spPr>
          <a:xfrm>
            <a:off x="7215120" y="4286160"/>
            <a:ext cx="857160" cy="1119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07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Georgia"/>
              </a:rPr>
              <a:t>Модуль</a:t>
            </a:r>
            <a:endParaRPr b="0" lang="en-US" sz="5400" spc="-1" strike="noStrike">
              <a:solidFill>
                <a:srgbClr val="990000"/>
              </a:solidFill>
              <a:latin typeface="Calibri"/>
            </a:endParaRPr>
          </a:p>
        </p:txBody>
      </p:sp>
      <p:pic>
        <p:nvPicPr>
          <p:cNvPr id="50" name="Picture 3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3"/>
          <a:stretch/>
        </p:blipFill>
        <p:spPr>
          <a:xfrm>
            <a:off x="3929040" y="5500800"/>
            <a:ext cx="1023840" cy="1023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4"/>
          <a:stretch/>
        </p:blipFill>
        <p:spPr>
          <a:xfrm>
            <a:off x="7072200" y="42876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5"/>
          <a:stretch/>
        </p:blipFill>
        <p:spPr>
          <a:xfrm>
            <a:off x="7786800" y="5429160"/>
            <a:ext cx="690480" cy="690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H:\Documents and Settings\Aida\Рабочий стол\НОвая ГРАФИКА сборник\КАРТИНКИ СБОРНИК_ школьные\flow58.gif"/>
          <p:cNvPicPr/>
          <p:nvPr/>
        </p:nvPicPr>
        <p:blipFill>
          <a:blip r:embed="rId6"/>
          <a:stretch/>
        </p:blipFill>
        <p:spPr>
          <a:xfrm>
            <a:off x="4357800" y="0"/>
            <a:ext cx="6904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57120" y="357120"/>
            <a:ext cx="857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Чтобы правильно оценить картину нужно  договориться, что будем оценивать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1071720" y="142920"/>
            <a:ext cx="70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РИТЕРИИ ОЦЕНИВАНИЯ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5143680" y="2214720"/>
            <a:ext cx="3500280" cy="3357360"/>
            <a:chOff x="5143680" y="2214720"/>
            <a:chExt cx="3500280" cy="3357360"/>
          </a:xfrm>
        </p:grpSpPr>
        <p:pic>
          <p:nvPicPr>
            <p:cNvPr id="106" name="Picture 4" descr="http://q.foto.radikal.ru/0702/60f9098bf669.png"/>
            <p:cNvPicPr/>
            <p:nvPr/>
          </p:nvPicPr>
          <p:blipFill>
            <a:blip r:embed="rId1"/>
            <a:stretch/>
          </p:blipFill>
          <p:spPr>
            <a:xfrm>
              <a:off x="5143680" y="2214720"/>
              <a:ext cx="3500280" cy="335736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  <p:sp>
          <p:nvSpPr>
            <p:cNvPr id="107" name="Полилиния 8"/>
            <p:cNvSpPr/>
            <p:nvPr/>
          </p:nvSpPr>
          <p:spPr>
            <a:xfrm>
              <a:off x="8161560" y="4791240"/>
              <a:ext cx="320400" cy="595080"/>
            </a:xfrm>
            <a:prstGeom prst="pie">
              <a:avLst/>
            </a:prstGeom>
            <a:solidFill>
              <a:srgbClr val="002060"/>
            </a:solidFill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8" name="TextBox 15"/>
            <p:cNvSpPr/>
            <p:nvPr/>
          </p:nvSpPr>
          <p:spPr>
            <a:xfrm>
              <a:off x="5143680" y="22280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Заяц на лугу.</a:t>
              </a:r>
              <a:endParaRPr b="0" lang="en-US" sz="24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pic>
        <p:nvPicPr>
          <p:cNvPr id="109" name="Picture 4" descr="http://q.foto.radikal.ru/0702/60f9098bf669.png"/>
          <p:cNvPicPr/>
          <p:nvPr/>
        </p:nvPicPr>
        <p:blipFill>
          <a:blip r:embed="rId2"/>
          <a:stretch/>
        </p:blipFill>
        <p:spPr>
          <a:xfrm>
            <a:off x="500040" y="2214720"/>
            <a:ext cx="3500640" cy="335736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sp>
        <p:nvSpPr>
          <p:cNvPr id="110" name="TextBox 13"/>
          <p:cNvSpPr/>
          <p:nvPr/>
        </p:nvSpPr>
        <p:spPr>
          <a:xfrm>
            <a:off x="571680" y="22860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Заяц на лугу.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642960" y="9288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охож ли заяц на настоящего зайца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ыбор цвета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ккуратность выполнения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2" name="Picture 10" descr="http://im1-tub-ru.yandex.net/i?id=1c661131920c743e77b37ec533547edb-92-144&amp;n=21"/>
          <p:cNvPicPr/>
          <p:nvPr/>
        </p:nvPicPr>
        <p:blipFill>
          <a:blip r:embed="rId3"/>
          <a:stretch/>
        </p:blipFill>
        <p:spPr>
          <a:xfrm>
            <a:off x="3929040" y="5214960"/>
            <a:ext cx="1287360" cy="128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Все публикации пользователя ordaz &quot; WWW.OPEN.AZ - ОТКРОЙ ДЛЯ СЕБЯ АЗЕРБАЙДЖАН!"/>
          <p:cNvPicPr/>
          <p:nvPr/>
        </p:nvPicPr>
        <p:blipFill>
          <a:blip r:embed="rId4"/>
          <a:stretch/>
        </p:blipFill>
        <p:spPr>
          <a:xfrm>
            <a:off x="3929040" y="2357280"/>
            <a:ext cx="1262160" cy="1214640"/>
          </a:xfrm>
          <a:prstGeom prst="rect">
            <a:avLst/>
          </a:prstGeom>
          <a:ln w="0">
            <a:noFill/>
          </a:ln>
        </p:spPr>
      </p:pic>
      <p:grpSp>
        <p:nvGrpSpPr>
          <p:cNvPr id="114" name="Группа 22"/>
          <p:cNvGrpSpPr/>
          <p:nvPr/>
        </p:nvGrpSpPr>
        <p:grpSpPr>
          <a:xfrm>
            <a:off x="3929040" y="3849840"/>
            <a:ext cx="1214640" cy="1222200"/>
            <a:chOff x="3929040" y="3849840"/>
            <a:chExt cx="1214640" cy="1222200"/>
          </a:xfrm>
        </p:grpSpPr>
        <p:pic>
          <p:nvPicPr>
            <p:cNvPr id="115" name="Picture 14" descr="Веселые смайлики:D ВКонтакте"/>
            <p:cNvPicPr/>
            <p:nvPr/>
          </p:nvPicPr>
          <p:blipFill>
            <a:blip r:embed="rId5"/>
            <a:stretch/>
          </p:blipFill>
          <p:spPr>
            <a:xfrm>
              <a:off x="3929040" y="3849840"/>
              <a:ext cx="121464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Прямая соединительная линия 17"/>
            <p:cNvSpPr/>
            <p:nvPr/>
          </p:nvSpPr>
          <p:spPr>
            <a:xfrm>
              <a:off x="4360680" y="486756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3"/>
          <p:cNvSpPr/>
          <p:nvPr/>
        </p:nvSpPr>
        <p:spPr>
          <a:xfrm>
            <a:off x="642960" y="214200"/>
            <a:ext cx="77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именение полученных знаний – творческая работа  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8" name="Picture 4" descr="C:\Documents and Settings\Admin\Рабочий стол\school1.jpg"/>
          <p:cNvPicPr/>
          <p:nvPr/>
        </p:nvPicPr>
        <p:blipFill>
          <a:blip r:embed="rId1"/>
          <a:stretch/>
        </p:blipFill>
        <p:spPr>
          <a:xfrm>
            <a:off x="2714760" y="2000160"/>
            <a:ext cx="3786120" cy="20113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4214880" y="2214720"/>
            <a:ext cx="235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 ГРУППАХ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375840" y="901800"/>
            <a:ext cx="6831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ботаем вместе и дружно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могаем друг другу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блюдаем тишину</a:t>
            </a: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1" name="Picture 7" descr="J:\Все рисунки\Вопросы\questionredtwin.jpg"/>
          <p:cNvPicPr/>
          <p:nvPr/>
        </p:nvPicPr>
        <p:blipFill>
          <a:blip r:embed="rId1"/>
          <a:stretch/>
        </p:blipFill>
        <p:spPr>
          <a:xfrm>
            <a:off x="5813280" y="2254320"/>
            <a:ext cx="1292400" cy="110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C:\Documents and Settings\Admin\Рабочий стол\картинки\дружно.jpg"/>
          <p:cNvPicPr/>
          <p:nvPr/>
        </p:nvPicPr>
        <p:blipFill>
          <a:blip r:embed="rId2"/>
          <a:stretch/>
        </p:blipFill>
        <p:spPr>
          <a:xfrm>
            <a:off x="7358040" y="771480"/>
            <a:ext cx="1490760" cy="1490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:\Documents and Settings\Лидия Геннадьевна\Рабочий стол\shh-smiley-face-clipart-1.jpg"/>
          <p:cNvPicPr/>
          <p:nvPr/>
        </p:nvPicPr>
        <p:blipFill>
          <a:blip r:embed="rId3"/>
          <a:stretch/>
        </p:blipFill>
        <p:spPr>
          <a:xfrm>
            <a:off x="5943600" y="3624120"/>
            <a:ext cx="1527120" cy="1633680"/>
          </a:xfrm>
          <a:prstGeom prst="rect">
            <a:avLst/>
          </a:prstGeom>
          <a:ln w="0">
            <a:noFill/>
          </a:ln>
        </p:spPr>
      </p:pic>
      <p:sp>
        <p:nvSpPr>
          <p:cNvPr id="12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FE2A-09C1-4D2D-B58B-3AB583ED0831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9" descr="C:\Users\Дом\Desktop\кисть2.jpg"/>
          <p:cNvPicPr/>
          <p:nvPr/>
        </p:nvPicPr>
        <p:blipFill>
          <a:blip r:embed="rId1"/>
          <a:stretch/>
        </p:blipFill>
        <p:spPr>
          <a:xfrm>
            <a:off x="7286760" y="1000080"/>
            <a:ext cx="1447560" cy="14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C:\Users\Дом\Desktop\кисть1.jpg"/>
          <p:cNvPicPr/>
          <p:nvPr/>
        </p:nvPicPr>
        <p:blipFill>
          <a:blip r:embed="rId2"/>
          <a:stretch/>
        </p:blipFill>
        <p:spPr>
          <a:xfrm>
            <a:off x="7286760" y="5072040"/>
            <a:ext cx="1447560" cy="1460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500040" y="200016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Порядок выполнения работы: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Обвести ладошку на цветную бумагу и вырезать;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Продумать и составить композицию;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Приклеить определенное количество ладошек;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Раскрасить и дорисовать детали (ствол дерева, трава, цветы);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Georgia"/>
              </a:rPr>
              <a:t>Проверить выполнение работы по критериям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00040" y="357120"/>
            <a:ext cx="82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ние: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из вырезанных по контуру ладошек составить композицию под названием «Дерево дружбы».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eorgia"/>
              </a:rPr>
              <a:t>Критерии оценивания коллективной  работы </a:t>
            </a:r>
            <a:br>
              <a:rPr sz="3200"/>
            </a:br>
            <a:r>
              <a:rPr b="1" lang="ru-RU" sz="3200" spc="-1" strike="noStrike">
                <a:solidFill>
                  <a:srgbClr val="990000"/>
                </a:solidFill>
                <a:latin typeface="Georgia"/>
              </a:rPr>
              <a:t>«Дерево дружбы»</a:t>
            </a:r>
            <a:endParaRPr b="0" lang="en-US" sz="3200" spc="-1" strike="noStrike">
              <a:solidFill>
                <a:srgbClr val="99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455840" y="21002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00040" y="21430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1. Похоже ли дерево на «Дерево  дружбы»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2.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Выбор цвета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3. 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ккуратность выполнения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428760" y="4214880"/>
            <a:ext cx="79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ценка результата по критериям:</a:t>
            </a:r>
            <a:endParaRPr b="0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3" name="Picture 10" descr="http://im1-tub-ru.yandex.net/i?id=1c661131920c743e77b37ec533547edb-92-144&amp;n=21"/>
          <p:cNvPicPr/>
          <p:nvPr/>
        </p:nvPicPr>
        <p:blipFill>
          <a:blip r:embed="rId1"/>
          <a:stretch/>
        </p:blipFill>
        <p:spPr>
          <a:xfrm>
            <a:off x="5651640" y="4857840"/>
            <a:ext cx="1668240" cy="1666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Все публикации пользователя ordaz &quot; WWW.OPEN.AZ - ОТКРОЙ ДЛЯ СЕБЯ АЗЕРБАЙДЖАН!"/>
          <p:cNvPicPr/>
          <p:nvPr/>
        </p:nvPicPr>
        <p:blipFill>
          <a:blip r:embed="rId2"/>
          <a:stretch/>
        </p:blipFill>
        <p:spPr>
          <a:xfrm>
            <a:off x="3492360" y="4869000"/>
            <a:ext cx="1524240" cy="1466640"/>
          </a:xfrm>
          <a:prstGeom prst="rect">
            <a:avLst/>
          </a:prstGeom>
          <a:ln w="0">
            <a:noFill/>
          </a:ln>
        </p:spPr>
      </p:pic>
      <p:grpSp>
        <p:nvGrpSpPr>
          <p:cNvPr id="135" name="Группа 22"/>
          <p:cNvGrpSpPr/>
          <p:nvPr/>
        </p:nvGrpSpPr>
        <p:grpSpPr>
          <a:xfrm>
            <a:off x="1547640" y="4869000"/>
            <a:ext cx="1419480" cy="1428480"/>
            <a:chOff x="1547640" y="4869000"/>
            <a:chExt cx="1419480" cy="1428480"/>
          </a:xfrm>
        </p:grpSpPr>
        <p:pic>
          <p:nvPicPr>
            <p:cNvPr id="136" name="Picture 14" descr="Веселые смайлики:D ВКонтакте"/>
            <p:cNvPicPr/>
            <p:nvPr/>
          </p:nvPicPr>
          <p:blipFill>
            <a:blip r:embed="rId3"/>
            <a:stretch/>
          </p:blipFill>
          <p:spPr>
            <a:xfrm>
              <a:off x="1547640" y="4869000"/>
              <a:ext cx="1419480" cy="142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Прямая соединительная линия 14"/>
            <p:cNvSpPr/>
            <p:nvPr/>
          </p:nvSpPr>
          <p:spPr>
            <a:xfrm>
              <a:off x="1979280" y="6093000"/>
              <a:ext cx="504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7"/>
          <p:cNvSpPr txBox="1"/>
          <p:nvPr/>
        </p:nvSpPr>
        <p:spPr>
          <a:xfrm>
            <a:off x="468360" y="2060640"/>
            <a:ext cx="293220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Я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5076720" y="126828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зна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0" name="WordArt 9"/>
          <p:cNvSpPr txBox="1"/>
          <p:nvPr/>
        </p:nvSpPr>
        <p:spPr>
          <a:xfrm>
            <a:off x="5148360" y="2492280"/>
            <a:ext cx="345600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омни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WordArt 10"/>
          <p:cNvSpPr txBox="1"/>
          <p:nvPr/>
        </p:nvSpPr>
        <p:spPr>
          <a:xfrm>
            <a:off x="5219640" y="3789360"/>
            <a:ext cx="338472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уч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2" name="WordArt 11"/>
          <p:cNvSpPr txBox="1"/>
          <p:nvPr/>
        </p:nvSpPr>
        <p:spPr>
          <a:xfrm>
            <a:off x="5364000" y="5013360"/>
            <a:ext cx="3095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дивил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Line 13"/>
          <p:cNvSpPr/>
          <p:nvPr/>
        </p:nvSpPr>
        <p:spPr>
          <a:xfrm flipV="1">
            <a:off x="3419640" y="2133360"/>
            <a:ext cx="1512720" cy="165564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4" name="Line 14"/>
          <p:cNvSpPr/>
          <p:nvPr/>
        </p:nvSpPr>
        <p:spPr>
          <a:xfrm flipV="1">
            <a:off x="3419640" y="3068640"/>
            <a:ext cx="1584000" cy="72072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3419640" y="4005360"/>
            <a:ext cx="1584000" cy="28728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419640" y="4076640"/>
            <a:ext cx="1728720" cy="1368360"/>
          </a:xfrm>
          <a:prstGeom prst="line">
            <a:avLst/>
          </a:prstGeom>
          <a:ln w="572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Заголовок 1"/>
          <p:cNvSpPr/>
          <p:nvPr/>
        </p:nvSpPr>
        <p:spPr>
          <a:xfrm>
            <a:off x="1500120" y="500040"/>
            <a:ext cx="55720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Georgia"/>
              </a:rPr>
              <a:t>Модуль</a:t>
            </a:r>
            <a:endParaRPr b="0" lang="en-US" sz="5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85840" y="2786040"/>
            <a:ext cx="88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то знает значение этого слова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 где можно узнать значение любого слова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1643040" cy="2463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КАРТИНКИ\Вопросительные знаки\pregunta6.jpg"/>
          <p:cNvPicPr/>
          <p:nvPr/>
        </p:nvPicPr>
        <p:blipFill>
          <a:blip r:embed="rId2"/>
          <a:stretch/>
        </p:blipFill>
        <p:spPr>
          <a:xfrm>
            <a:off x="7000920" y="214200"/>
            <a:ext cx="1928880" cy="2571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7"/>
          <p:cNvSpPr/>
          <p:nvPr/>
        </p:nvSpPr>
        <p:spPr>
          <a:xfrm>
            <a:off x="2143080" y="4429080"/>
            <a:ext cx="66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Часть прибора или конструкции, собранная из типовых деталей и имеющая многоцелевое применение (в технике)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59" name="Рисунок 8" descr="сова.jpg"/>
          <p:cNvPicPr/>
          <p:nvPr/>
        </p:nvPicPr>
        <p:blipFill>
          <a:blip r:embed="rId3"/>
          <a:stretch/>
        </p:blipFill>
        <p:spPr>
          <a:xfrm>
            <a:off x="285840" y="4357800"/>
            <a:ext cx="195588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285840" y="42876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Что собирают из модулей в жизни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 как называется детская игра, состоящая из модулей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28800" y="1857240"/>
            <a:ext cx="7581960" cy="4643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ОЕМ\Desktop\32550_2.jpg"/>
          <p:cNvPicPr/>
          <p:nvPr/>
        </p:nvPicPr>
        <p:blipFill>
          <a:blip r:embed="rId2"/>
          <a:stretch/>
        </p:blipFill>
        <p:spPr>
          <a:xfrm>
            <a:off x="285840" y="1857240"/>
            <a:ext cx="8746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4"/>
          <p:cNvSpPr/>
          <p:nvPr/>
        </p:nvSpPr>
        <p:spPr>
          <a:xfrm>
            <a:off x="357120" y="285840"/>
            <a:ext cx="8501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Сегодня на занятии мы  будем работать с модулями-знаниями, которые помогут нам научиться чему-то новом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57120" y="1928880"/>
            <a:ext cx="857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А чему мы сегодня будем учиться, вы ответите после просмотра знакомого вам мультфильма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5" name="Picture 4" descr="http://im2-tub-ru.yandex.net/i?id=151398155-10-72&amp;n=21"/>
          <p:cNvPicPr/>
          <p:nvPr/>
        </p:nvPicPr>
        <p:blipFill>
          <a:blip r:embed="rId1"/>
          <a:stretch/>
        </p:blipFill>
        <p:spPr>
          <a:xfrm>
            <a:off x="3214800" y="3429000"/>
            <a:ext cx="32860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285840" y="357120"/>
            <a:ext cx="4786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Как вы думаете, чему мы сегодня будем учиться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очему длина Удава получилась разной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5059440" y="285840"/>
            <a:ext cx="3817800" cy="28573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wazne.jpg"/>
          <p:cNvPicPr/>
          <p:nvPr/>
        </p:nvPicPr>
        <p:blipFill>
          <a:blip r:embed="rId2"/>
          <a:stretch/>
        </p:blipFill>
        <p:spPr>
          <a:xfrm>
            <a:off x="6572160" y="3071880"/>
            <a:ext cx="1498680" cy="221436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500040" y="3286080"/>
            <a:ext cx="578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занятия: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авильное оценивание предметов, событий, явлений…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Картинка 1 из 31330"/>
          <p:cNvPicPr/>
          <p:nvPr/>
        </p:nvPicPr>
        <p:blipFill>
          <a:blip r:embed="rId1"/>
          <a:stretch/>
        </p:blipFill>
        <p:spPr>
          <a:xfrm>
            <a:off x="428760" y="214200"/>
            <a:ext cx="3214440" cy="40179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428760" y="478620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Незнайке надо было сделать аппликацию  по  образцу «Заяц на лугу»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Рассмотрите образец внимательно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72" name="Группа 7"/>
          <p:cNvGrpSpPr/>
          <p:nvPr/>
        </p:nvGrpSpPr>
        <p:grpSpPr>
          <a:xfrm>
            <a:off x="4643280" y="339840"/>
            <a:ext cx="4143600" cy="4303440"/>
            <a:chOff x="4643280" y="339840"/>
            <a:chExt cx="4143600" cy="4303440"/>
          </a:xfrm>
        </p:grpSpPr>
        <p:pic>
          <p:nvPicPr>
            <p:cNvPr id="73" name="Picture 4" descr="http://q.foto.radikal.ru/0702/60f9098bf669.png"/>
            <p:cNvPicPr/>
            <p:nvPr/>
          </p:nvPicPr>
          <p:blipFill>
            <a:blip r:embed="rId2"/>
            <a:stretch/>
          </p:blipFill>
          <p:spPr>
            <a:xfrm>
              <a:off x="4643280" y="339840"/>
              <a:ext cx="4143600" cy="430344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  <p:sp>
          <p:nvSpPr>
            <p:cNvPr id="74" name="TextBox 6"/>
            <p:cNvSpPr/>
            <p:nvPr/>
          </p:nvSpPr>
          <p:spPr>
            <a:xfrm>
              <a:off x="4643280" y="357120"/>
              <a:ext cx="242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Заяц на лугу.</a:t>
              </a:r>
              <a:endParaRPr b="0" lang="en-US" sz="24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00A0-5C40-4F23-8290-02274B544A17}" type="datetime">
              <a:rPr b="0" lang="ru-RU" sz="1200" spc="-1" strike="noStrike">
                <a:solidFill>
                  <a:srgbClr val="ba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A5B2-FCF9-4650-92C6-5B76B10CA566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TextBox 7"/>
          <p:cNvSpPr/>
          <p:nvPr/>
        </p:nvSpPr>
        <p:spPr>
          <a:xfrm>
            <a:off x="4071960" y="642960"/>
            <a:ext cx="485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Незнайка выполнил работу и показал своим друзьям. Вот как они ее оценили.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5006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Овальная выноска 8"/>
          <p:cNvSpPr/>
          <p:nvPr/>
        </p:nvSpPr>
        <p:spPr>
          <a:xfrm>
            <a:off x="2057400" y="380880"/>
            <a:ext cx="2438280" cy="762120"/>
          </a:xfrm>
          <a:prstGeom prst="wedgeEllipseCallout">
            <a:avLst>
              <a:gd name="adj1" fmla="val -33208"/>
              <a:gd name="adj2" fmla="val 882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охож на настоящего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0" name="Скругленная прямоугольная выноска 9"/>
          <p:cNvSpPr/>
          <p:nvPr/>
        </p:nvSpPr>
        <p:spPr>
          <a:xfrm>
            <a:off x="4952880" y="685800"/>
            <a:ext cx="1828800" cy="685800"/>
          </a:xfrm>
          <a:prstGeom prst="wedgeRoundRectCallout">
            <a:avLst>
              <a:gd name="adj1" fmla="val 40666"/>
              <a:gd name="adj2" fmla="val 76212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т бабочки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Овальная выноска 10"/>
          <p:cNvSpPr/>
          <p:nvPr/>
        </p:nvSpPr>
        <p:spPr>
          <a:xfrm>
            <a:off x="6248520" y="3071880"/>
            <a:ext cx="2590560" cy="890640"/>
          </a:xfrm>
          <a:prstGeom prst="wedgeEllipseCallout">
            <a:avLst>
              <a:gd name="adj1" fmla="val -9875"/>
              <a:gd name="adj2" fmla="val 851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ошо потрудился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Скругленная прямоугольная выноска 11"/>
          <p:cNvSpPr/>
          <p:nvPr/>
        </p:nvSpPr>
        <p:spPr>
          <a:xfrm>
            <a:off x="2743200" y="5638680"/>
            <a:ext cx="1971720" cy="790560"/>
          </a:xfrm>
          <a:prstGeom prst="wedgeRoundRectCallout">
            <a:avLst>
              <a:gd name="adj1" fmla="val -73773"/>
              <a:gd name="adj2" fmla="val -112185"/>
              <a:gd name="adj3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ь пятно!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83" name="Группа 12"/>
          <p:cNvGrpSpPr/>
          <p:nvPr/>
        </p:nvGrpSpPr>
        <p:grpSpPr>
          <a:xfrm>
            <a:off x="2571840" y="1571760"/>
            <a:ext cx="3786120" cy="3714480"/>
            <a:chOff x="2571840" y="1571760"/>
            <a:chExt cx="3786120" cy="3714480"/>
          </a:xfrm>
        </p:grpSpPr>
        <p:pic>
          <p:nvPicPr>
            <p:cNvPr id="84" name="Picture 4" descr="http://q.foto.radikal.ru/0702/60f9098bf669.png"/>
            <p:cNvPicPr/>
            <p:nvPr/>
          </p:nvPicPr>
          <p:blipFill>
            <a:blip r:embed="rId1"/>
            <a:stretch/>
          </p:blipFill>
          <p:spPr>
            <a:xfrm>
              <a:off x="2571840" y="1571760"/>
              <a:ext cx="3786120" cy="371448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  <p:sp>
          <p:nvSpPr>
            <p:cNvPr id="85" name="Полилиния 14"/>
            <p:cNvSpPr/>
            <p:nvPr/>
          </p:nvSpPr>
          <p:spPr>
            <a:xfrm>
              <a:off x="5835960" y="4422960"/>
              <a:ext cx="347400" cy="658800"/>
            </a:xfrm>
            <a:prstGeom prst="pie">
              <a:avLst/>
            </a:prstGeom>
            <a:solidFill>
              <a:srgbClr val="002060"/>
            </a:solidFill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6" name="TextBox 15"/>
            <p:cNvSpPr/>
            <p:nvPr/>
          </p:nvSpPr>
          <p:spPr>
            <a:xfrm>
              <a:off x="2571840" y="1586520"/>
              <a:ext cx="221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Заяц на лугу.</a:t>
              </a:r>
              <a:endParaRPr b="0" lang="en-US" sz="24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87" name="Прямоугольник 15"/>
          <p:cNvSpPr/>
          <p:nvPr/>
        </p:nvSpPr>
        <p:spPr>
          <a:xfrm>
            <a:off x="5286240" y="1643040"/>
            <a:ext cx="8575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1805040" cy="29289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6"/>
          <p:cNvSpPr/>
          <p:nvPr/>
        </p:nvSpPr>
        <p:spPr>
          <a:xfrm>
            <a:off x="1357200" y="285840"/>
            <a:ext cx="78588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Овальная выноска 8"/>
          <p:cNvSpPr/>
          <p:nvPr/>
        </p:nvSpPr>
        <p:spPr>
          <a:xfrm>
            <a:off x="2057400" y="380880"/>
            <a:ext cx="2585880" cy="762120"/>
          </a:xfrm>
          <a:prstGeom prst="wedgeEllipseCallout">
            <a:avLst>
              <a:gd name="adj1" fmla="val -33208"/>
              <a:gd name="adj2" fmla="val 882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хож на настоящего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1" name="Picture 18" descr=""/>
          <p:cNvPicPr/>
          <p:nvPr/>
        </p:nvPicPr>
        <p:blipFill>
          <a:blip r:embed="rId3"/>
          <a:stretch/>
        </p:blipFill>
        <p:spPr>
          <a:xfrm>
            <a:off x="6929280" y="214200"/>
            <a:ext cx="1827360" cy="26434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9"/>
          <p:cNvSpPr/>
          <p:nvPr/>
        </p:nvSpPr>
        <p:spPr>
          <a:xfrm rot="673200">
            <a:off x="6818040" y="460080"/>
            <a:ext cx="72216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3" name="Picture 20" descr=""/>
          <p:cNvPicPr/>
          <p:nvPr/>
        </p:nvPicPr>
        <p:blipFill>
          <a:blip r:embed="rId4"/>
          <a:stretch/>
        </p:blipFill>
        <p:spPr>
          <a:xfrm>
            <a:off x="857160" y="3714840"/>
            <a:ext cx="1428840" cy="254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1" descr=""/>
          <p:cNvPicPr/>
          <p:nvPr/>
        </p:nvPicPr>
        <p:blipFill>
          <a:blip r:embed="rId5"/>
          <a:stretch/>
        </p:blipFill>
        <p:spPr>
          <a:xfrm>
            <a:off x="6567480" y="4429080"/>
            <a:ext cx="257652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851C-FAC7-4DBB-B0DE-4D5314715C67}" type="slidenum">
              <a:rPr b="0" lang="ru-RU" sz="1200" spc="-1" strike="noStrike">
                <a:solidFill>
                  <a:srgbClr val="ba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285840" y="4286160"/>
            <a:ext cx="857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Незнайка  растерялся, как оценили его работу друзья: хорошо или плохо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Почему у него возник такой вопрос?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97" name="Группа 10"/>
          <p:cNvGrpSpPr/>
          <p:nvPr/>
        </p:nvGrpSpPr>
        <p:grpSpPr>
          <a:xfrm>
            <a:off x="5500800" y="339840"/>
            <a:ext cx="3286080" cy="3303360"/>
            <a:chOff x="5500800" y="339840"/>
            <a:chExt cx="3286080" cy="3303360"/>
          </a:xfrm>
        </p:grpSpPr>
        <p:pic>
          <p:nvPicPr>
            <p:cNvPr id="98" name="Picture 4" descr="http://q.foto.radikal.ru/0702/60f9098bf669.png"/>
            <p:cNvPicPr/>
            <p:nvPr/>
          </p:nvPicPr>
          <p:blipFill>
            <a:blip r:embed="rId1"/>
            <a:stretch/>
          </p:blipFill>
          <p:spPr>
            <a:xfrm>
              <a:off x="5500800" y="339840"/>
              <a:ext cx="3286080" cy="3303360"/>
            </a:xfrm>
            <a:prstGeom prst="rect">
              <a:avLst/>
            </a:prstGeom>
            <a:ln w="9360">
              <a:solidFill>
                <a:srgbClr val="77933c"/>
              </a:solidFill>
              <a:miter/>
            </a:ln>
          </p:spPr>
        </p:pic>
        <p:sp>
          <p:nvSpPr>
            <p:cNvPr id="99" name="Полилиния 12"/>
            <p:cNvSpPr/>
            <p:nvPr/>
          </p:nvSpPr>
          <p:spPr>
            <a:xfrm>
              <a:off x="8332920" y="2874960"/>
              <a:ext cx="301320" cy="583920"/>
            </a:xfrm>
            <a:prstGeom prst="pie">
              <a:avLst/>
            </a:prstGeom>
            <a:solidFill>
              <a:srgbClr val="d9d9d9"/>
            </a:solidFill>
            <a:ln cap="rnd"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100" name="TextBox 13"/>
            <p:cNvSpPr/>
            <p:nvPr/>
          </p:nvSpPr>
          <p:spPr>
            <a:xfrm>
              <a:off x="5500800" y="352800"/>
              <a:ext cx="192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Times New Roman"/>
                  <a:ea typeface="Times New Roman"/>
                </a:rPr>
                <a:t>Заяц на лугу.</a:t>
              </a:r>
              <a:endParaRPr b="0" lang="en-US" sz="24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pic>
        <p:nvPicPr>
          <p:cNvPr id="101" name="Picture 2" descr="D:\КАРТИНКИ\Вопросительные знаки\pregunta6.jpg"/>
          <p:cNvPicPr/>
          <p:nvPr/>
        </p:nvPicPr>
        <p:blipFill>
          <a:blip r:embed="rId2"/>
          <a:stretch/>
        </p:blipFill>
        <p:spPr>
          <a:xfrm>
            <a:off x="3143160" y="285840"/>
            <a:ext cx="1554120" cy="2071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/>
          <p:cNvPicPr/>
          <p:nvPr/>
        </p:nvPicPr>
        <p:blipFill>
          <a:blip r:embed="rId3"/>
          <a:stretch/>
        </p:blipFill>
        <p:spPr>
          <a:xfrm>
            <a:off x="642960" y="428760"/>
            <a:ext cx="2381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2T04:08:38Z</dcterms:created>
  <dc:creator>Admin</dc:creator>
  <dc:description>http://aida.ucoz.ru</dc:description>
  <dc:language>en-US</dc:language>
  <cp:lastModifiedBy>Пользователь</cp:lastModifiedBy>
  <dcterms:modified xsi:type="dcterms:W3CDTF">2017-01-15T07:48:21Z</dcterms:modified>
  <cp:revision>95</cp:revision>
  <dc:subject/>
  <dc:title>Учим буквы -</dc:title>
</cp:coreProperties>
</file>