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1336-1320-46AF-885C-5684CC075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77DA-3124-424F-A663-82F9DECD1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7356-B1F3-448F-BAE2-499D19265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8ACE-5C70-44C3-9408-84AE89009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E292E-5860-47C3-A1D9-D1505824D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18099-D4E3-46F0-B14E-5261B739C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00535-775E-4C92-A2F2-67CAAD664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BC2D8-591A-4136-AE27-440CAAD6E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7B5F4-431E-4C86-BD06-8BA947D5B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91291-5840-4C74-9A77-F822FBA1D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991D3-EA05-4603-AF85-C9222CCCF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E140-ABDA-4B2B-8807-C16CDBF67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7C8BE-5B8F-4F5E-9961-40BF463A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AD7B6-2EE6-4461-B3F6-003A8FDD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8102D-C984-4F20-9EBD-161729543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56C85-4167-4F93-A6A8-596B1EF21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B08FB-9669-4D85-9A55-000958E07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D516-E4F1-401D-A3A9-D40662FFF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717B-0C72-4D6F-9505-F3892F03B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6E44-1374-481F-B081-74C305904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5A35-C6CF-45EF-AAF1-F4304AA71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8DB8-5AC4-4307-AF32-FA1C30E3F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0CFE-6E31-4580-B89F-F09415F1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F0B9-3332-4000-B262-BE0835781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51442-FFC5-4DDE-A5EE-3829A6286AF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3AB83-5ABB-4C4D-9080-74DDDB271D9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ystem of Education in Great Britain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1754280" y="1600200"/>
            <a:ext cx="563400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Private Education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78920" y="1844640"/>
            <a:ext cx="87138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dependent schools are call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reparatory school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age up to 13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ublic school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age 13-19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3492360" y="3860640"/>
            <a:ext cx="523872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oarding school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4" name=""/>
          <p:cNvSpPr/>
          <p:nvPr/>
        </p:nvSpPr>
        <p:spPr>
          <a:xfrm>
            <a:off x="1166760" y="5681520"/>
            <a:ext cx="67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ildren live as well as stud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8420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oys’ school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72723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Girls’ school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712944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oeducational school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1189080" y="1600200"/>
            <a:ext cx="676584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system of educ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1258920" y="1341360"/>
            <a:ext cx="669780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imary educ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4194360" cy="232236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5148360" y="1844640"/>
            <a:ext cx="3589200" cy="287964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394920" y="1125000"/>
            <a:ext cx="8497800" cy="7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fant schools- 4/5-7 yea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"/>
          <p:cNvSpPr/>
          <p:nvPr/>
        </p:nvSpPr>
        <p:spPr>
          <a:xfrm>
            <a:off x="900000" y="6021360"/>
            <a:ext cx="722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ssons are inform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3"/>
          <a:stretch/>
        </p:blipFill>
        <p:spPr>
          <a:xfrm>
            <a:off x="2268360" y="3468600"/>
            <a:ext cx="3908520" cy="24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imary educ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1258920" y="1341360"/>
            <a:ext cx="64008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unior schools- 8/11 years o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"/>
          <p:cNvSpPr/>
          <p:nvPr/>
        </p:nvSpPr>
        <p:spPr>
          <a:xfrm>
            <a:off x="735120" y="6040440"/>
            <a:ext cx="76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ssons are more form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1692360" y="2205000"/>
            <a:ext cx="571500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ompulsory secondary education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4932360" y="1628640"/>
            <a:ext cx="3809880" cy="352440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54064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1/12-18 years o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sts 5 years (5 form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2"/>
          <a:stretch/>
        </p:blipFill>
        <p:spPr>
          <a:xfrm>
            <a:off x="324000" y="3933720"/>
            <a:ext cx="419400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0" name=""/>
          <p:cNvGrpSpPr/>
          <p:nvPr/>
        </p:nvGrpSpPr>
        <p:grpSpPr>
          <a:xfrm>
            <a:off x="1570320" y="896760"/>
            <a:ext cx="5823000" cy="1244880"/>
            <a:chOff x="1570320" y="896760"/>
            <a:chExt cx="5823000" cy="1244880"/>
          </a:xfrm>
        </p:grpSpPr>
        <p:cxnSp>
          <p:nvCxnSpPr>
            <p:cNvPr id="401" name="_s15385"/>
            <p:cNvCxnSpPr>
              <a:stCxn id="402" idx="0"/>
              <a:endCxn id="403" idx="2"/>
            </p:cNvCxnSpPr>
            <p:nvPr/>
          </p:nvCxnSpPr>
          <p:spPr>
            <a:xfrm flipV="1" rot="16200000">
              <a:off x="5123160" y="762120"/>
              <a:ext cx="229320" cy="15138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404" name="_s15383"/>
            <p:cNvCxnSpPr>
              <a:stCxn id="405" idx="0"/>
              <a:endCxn id="403" idx="2"/>
            </p:cNvCxnSpPr>
            <p:nvPr/>
          </p:nvCxnSpPr>
          <p:spPr>
            <a:xfrm flipH="1" flipV="1" rot="5400000">
              <a:off x="3610800" y="762480"/>
              <a:ext cx="229320" cy="15134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403" name="_s15379"/>
            <p:cNvSpPr/>
            <p:nvPr/>
          </p:nvSpPr>
          <p:spPr>
            <a:xfrm>
              <a:off x="3133800" y="896760"/>
              <a:ext cx="2695680" cy="508320"/>
            </a:xfrm>
            <a:prstGeom prst="roundRect">
              <a:avLst>
                <a:gd name="adj" fmla="val 16667"/>
              </a:avLst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After the 5-th for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_s15380"/>
            <p:cNvSpPr/>
            <p:nvPr/>
          </p:nvSpPr>
          <p:spPr>
            <a:xfrm>
              <a:off x="1570320" y="1633680"/>
              <a:ext cx="2797200" cy="507960"/>
            </a:xfrm>
            <a:prstGeom prst="roundRect">
              <a:avLst>
                <a:gd name="adj" fmla="val 16667"/>
              </a:avLst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Leave schoo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_s15382"/>
            <p:cNvSpPr/>
            <p:nvPr/>
          </p:nvSpPr>
          <p:spPr>
            <a:xfrm>
              <a:off x="4596120" y="1633680"/>
              <a:ext cx="2797200" cy="507960"/>
            </a:xfrm>
            <a:prstGeom prst="roundRect">
              <a:avLst>
                <a:gd name="adj" fmla="val 16667"/>
              </a:avLst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Go to the 6-th for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1835280" y="2781360"/>
            <a:ext cx="5535360" cy="37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econdary Educ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1403280" y="1413000"/>
            <a:ext cx="64008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rehensive schoo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"/>
          <p:cNvSpPr/>
          <p:nvPr/>
        </p:nvSpPr>
        <p:spPr>
          <a:xfrm>
            <a:off x="2843280" y="5805360"/>
            <a:ext cx="354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ke pupils of all abil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exa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1835280" y="2276640"/>
            <a:ext cx="54007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21840" y="549360"/>
            <a:ext cx="852012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General Certificate of Secondary Education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(GCSE)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2" name=""/>
          <p:cNvSpPr/>
          <p:nvPr/>
        </p:nvSpPr>
        <p:spPr>
          <a:xfrm>
            <a:off x="2843280" y="6021360"/>
            <a:ext cx="380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the end of the 5-th for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2050920" y="1989000"/>
            <a:ext cx="5327640" cy="37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urther Education Colleg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"/>
          <p:cNvSpPr/>
          <p:nvPr/>
        </p:nvSpPr>
        <p:spPr>
          <a:xfrm>
            <a:off x="1552320" y="6021360"/>
            <a:ext cx="62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ives practical courses (hairdressing, typ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698400" y="1557360"/>
            <a:ext cx="774720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sixth for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8" name=""/>
          <p:cNvSpPr/>
          <p:nvPr/>
        </p:nvSpPr>
        <p:spPr>
          <a:xfrm>
            <a:off x="2702160" y="5734080"/>
            <a:ext cx="417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sts 2 year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pares for “A” Level Exa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1835280" y="1700280"/>
            <a:ext cx="5400720" cy="35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7T14:32:51Z</dcterms:created>
  <dc:creator>1</dc:creator>
  <dc:description/>
  <dc:language>en-US</dc:language>
  <cp:lastModifiedBy>1</cp:lastModifiedBy>
  <dcterms:modified xsi:type="dcterms:W3CDTF">2012-01-24T17:28:23Z</dcterms:modified>
  <cp:revision>7</cp:revision>
  <dc:subject/>
  <dc:title>System of Education in Great Britain </dc:title>
</cp:coreProperties>
</file>