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445-86F9-4059-BD7F-4ED72E3D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8B2-3B35-43EF-A7EA-EB5E96D7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B21-B8E3-45B5-8938-B7C52AED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CCF-3EAC-4CAC-BCDE-9D73C9FF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3E8E-A5D4-43CE-B13C-F840BFA9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BB74-298A-4B31-BD2F-95102830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B153-65F5-4DCD-9AFE-61D72613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6167-1AC1-4960-AE01-CD450BE2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D1808-D156-44D5-8BB8-DDF081DE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E4A7-F9AB-4ED6-A463-B53CD1C9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CEBB-F7DA-4D8B-A1B9-BCF507F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60FC-D04D-42CA-9D24-B736BAF7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383D-5CCE-48E2-AD19-21AD743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4467-847A-4856-A20E-DE75A52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8EAD-E0CD-4F50-A1AA-7B588054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EE8E-4AED-4C4A-9D97-2D04771E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3543-3369-406C-9875-21718C3A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2D0D-9CAC-4476-AABD-92669BBB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C56-3853-40B3-B3FA-E97FD05D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74E1-28AC-446E-A75B-5DB9BFC4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8FEC-EC32-442E-9293-3C91F804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D3D-12B0-4DE1-9BFE-BA4441A0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AD8-D879-4E20-9A5E-8F4390AF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D35-22B1-40A1-A512-3E96F9D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7B24-3753-47E4-9998-C191529DF4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48D8-F7F4-4FC6-930A-220E7CD3A42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ystem of Education in Great Britai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754280" y="1600200"/>
            <a:ext cx="5634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Private Education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78920" y="1844640"/>
            <a:ext cx="871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dependent schools are call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eparatory scho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ge up to 1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scho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age 13-19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492360" y="3860640"/>
            <a:ext cx="52387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arding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1166760" y="5681520"/>
            <a:ext cx="67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live as well as stu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oys’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7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irls’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1294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educational school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189080" y="1600200"/>
            <a:ext cx="67658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ystem of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97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ary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194360" cy="2322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148360" y="1844640"/>
            <a:ext cx="3589200" cy="28796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497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ant schools- 4/5-7 yea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602136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are inf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2268360" y="3468600"/>
            <a:ext cx="39085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mary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1258920" y="134136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nior schools- 8/11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735120" y="6040440"/>
            <a:ext cx="76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ons are more f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ompulsory secondary education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932360" y="162864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54064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/12-18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s 5 years (5 form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324000" y="3933720"/>
            <a:ext cx="419400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"/>
          <p:cNvGrpSpPr/>
          <p:nvPr/>
        </p:nvGrpSpPr>
        <p:grpSpPr>
          <a:xfrm>
            <a:off x="1570320" y="896760"/>
            <a:ext cx="5823000" cy="1244880"/>
            <a:chOff x="1570320" y="896760"/>
            <a:chExt cx="5823000" cy="1244880"/>
          </a:xfrm>
        </p:grpSpPr>
        <p:cxnSp>
          <p:nvCxnSpPr>
            <p:cNvPr id="401" name="_s15385"/>
            <p:cNvCxnSpPr>
              <a:stCxn id="402" idx="0"/>
              <a:endCxn id="403" idx="2"/>
            </p:cNvCxnSpPr>
            <p:nvPr/>
          </p:nvCxnSpPr>
          <p:spPr>
            <a:xfrm flipV="1" rot="16200000">
              <a:off x="5123160" y="762120"/>
              <a:ext cx="229320" cy="1513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404" name="_s15383"/>
            <p:cNvCxnSpPr>
              <a:stCxn id="405" idx="0"/>
              <a:endCxn id="403" idx="2"/>
            </p:cNvCxnSpPr>
            <p:nvPr/>
          </p:nvCxnSpPr>
          <p:spPr>
            <a:xfrm flipH="1" flipV="1" rot="5400000">
              <a:off x="3610800" y="762480"/>
              <a:ext cx="229320" cy="1513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403" name="_s15379"/>
            <p:cNvSpPr/>
            <p:nvPr/>
          </p:nvSpPr>
          <p:spPr>
            <a:xfrm>
              <a:off x="3133800" y="896760"/>
              <a:ext cx="2695680" cy="50832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fter the 5-th f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_s15380"/>
            <p:cNvSpPr/>
            <p:nvPr/>
          </p:nvSpPr>
          <p:spPr>
            <a:xfrm>
              <a:off x="1570320" y="1633680"/>
              <a:ext cx="2797200" cy="5079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eave 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15382"/>
            <p:cNvSpPr/>
            <p:nvPr/>
          </p:nvSpPr>
          <p:spPr>
            <a:xfrm>
              <a:off x="4596120" y="1633680"/>
              <a:ext cx="2797200" cy="50796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o to the 6-th for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835280" y="2781360"/>
            <a:ext cx="55353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econdary Educ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403280" y="1413000"/>
            <a:ext cx="64008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rehensive scho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843280" y="5805360"/>
            <a:ext cx="35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pupils of all ab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x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4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21840" y="549360"/>
            <a:ext cx="85201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Certificate of Secondary Education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(GCSE)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2843280" y="6021360"/>
            <a:ext cx="380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the end of the 5-th for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532764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urther Education Colleg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1552320" y="602136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practical courses (hairdressing, typ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698400" y="1557360"/>
            <a:ext cx="77472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sixth for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2702160" y="5734080"/>
            <a:ext cx="41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ts 2 yea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s for “A” Level Ex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835280" y="1700280"/>
            <a:ext cx="5400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14:32:51Z</dcterms:created>
  <dc:creator>1</dc:creator>
  <dc:description/>
  <dc:language>en-US</dc:language>
  <cp:lastModifiedBy>1</cp:lastModifiedBy>
  <dcterms:modified xsi:type="dcterms:W3CDTF">2012-01-24T17:28:23Z</dcterms:modified>
  <cp:revision>7</cp:revision>
  <dc:subject/>
  <dc:title>System of Education in Great Britain </dc:title>
</cp:coreProperties>
</file>