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9894C-C4C6-4221-AC9A-9D85CD5C6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16B56-D694-4124-BCCF-F6DF292F6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FFCE0-D112-40E5-9459-322597419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40DE2-88AD-4C8F-987D-FDACB99EC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77945-4EBF-4603-A2C8-36E564743D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ECA43-9FFA-4F80-97C7-7984E19BF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F9B32-FB9B-434B-A719-A4A13E961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DE636-608E-4C56-B061-48AE64465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4A976-8B42-4C8E-AD44-2B3B16003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E168F-BE28-4B8F-A2DB-CBBAA050F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9B7D4-06DB-4768-9E89-735AD2D8C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3FA72-A8C2-4C69-B5F6-57BEBB869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48134-7473-4CD0-91EE-BB22B97D7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7C500-4FC6-4CBF-BACD-6EC8BEB36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E76A7-FF74-4855-AFD0-BEC2C5612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E9767-ACBE-499D-90A8-F097E8353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F54A4-A981-4E86-9FB2-009A1FBD5C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CB877E-0F4A-4FFD-B420-1D00EA8636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A695CD-0DC9-4E1F-9850-42325A9377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3B2738-ECF4-40C7-AA4B-0F611FE53A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35BC88-3F32-4BF6-9527-210918EB4C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A95C49-49A0-429A-ACDA-C3CC42103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C0C78-2917-4A03-8060-721CD459A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1642F9-5DD5-4FF5-B58C-3E3950F9E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ABAAA7-A77A-494B-9925-55E5DC22A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300FB7-E203-4E45-8F18-5BFADC4E07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4B6CE9-36C8-4315-99C6-238AD8A1CF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FB0753-64FB-4B6E-B72E-3E5D8B02B2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00A230-1C3F-4288-A064-CAAA11CBDF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97B893-DF03-4E52-96A4-D5E8D6F86C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294E2D-D213-4ED8-99EA-717CF533C2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6DB040-6864-4D32-AE11-9C78550D0C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6AA4E8-5043-4E75-B4D2-0D365DDBDC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DD9E5-181A-42D2-A95F-DC2072027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5F7180-5400-45F1-9282-7B688E8697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592293-A3A5-422E-82E5-92CA04C8A8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255488-964B-4AD3-80B6-E3441FE0B2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11C815-1745-43D4-BBD2-DB5CCC9DF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A84162-041D-4166-9C08-40332B3246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2F28E4-5351-49F8-8399-5540AC43E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8A2549-7DD3-478A-AC4C-CBEECBC809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9B63D1-BD2F-4EAD-B436-BFBD5F324D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D3AD3C-CCA7-427D-A760-4B14185E56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D74858-930B-424E-AF18-61EFBC0DF3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D6372-5DA9-4D2E-95EE-81DFF0A87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EF32CA-5F0B-4740-8712-965A48D6A5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EC44A6-F305-41A6-897C-7CF4725F1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4995D9-F1BE-4BDA-8E88-9819A01733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F434E5-F179-46D6-90E7-C96CB15AB0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CEDD2F-A5B6-4B4A-9DCE-A09FCE24BD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70856F-9EEC-4D31-B307-1D27EA6EA8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A51DFB-968F-4F49-9D95-6F9E11A00E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50A7DD-E46D-4BAB-B666-1D75B1D10E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F7D22E-DAF1-49AB-A90A-F0B5E6CFF0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D2DA6F-0347-4176-B3A6-E3F307AD73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49BB3-38C1-4C25-B1AB-5232D9BE7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04C52D-D714-46A1-992C-3F85A6E14C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24294-9062-44E4-A976-F5459B6E7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5867C-919E-4C5A-A0AC-A34BEB30C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10232-CA63-4A35-890F-F14C36BEF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600"/>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a0b0"/>
                </a:solidFill>
                <a:latin typeface="Verdana"/>
              </a:rPr>
              <a:t>Click to edit the title text format</a:t>
            </a:r>
            <a:endParaRPr b="1" lang="en-US" sz="3600" spc="-1" strike="noStrike">
              <a:solidFill>
                <a:srgbClr val="95a0b0"/>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838d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838d9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59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590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a88e8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c61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8542-63D3-4F61-97CB-3D012ADB0FCC}" type="slidenum">
              <a:rPr b="0" lang="ru-RU" sz="1000" spc="-1" strike="noStrike">
                <a:solidFill>
                  <a:srgbClr val="bc61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600"/>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a0b0"/>
                </a:solidFill>
                <a:latin typeface="Verdana"/>
              </a:rPr>
              <a:t>Click to edit the title text format</a:t>
            </a:r>
            <a:endParaRPr b="1" lang="en-US" sz="3600" spc="-1" strike="noStrike">
              <a:solidFill>
                <a:srgbClr val="95a0b0"/>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838d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838d9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59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590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a88e8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c61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18FC-A223-4AEB-AFC6-F938190D5423}" type="slidenum">
              <a:rPr b="0" lang="ru-RU" sz="1000" spc="-1" strike="noStrike">
                <a:solidFill>
                  <a:srgbClr val="bc61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600"/>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a0b0"/>
                </a:solidFill>
                <a:latin typeface="Verdana"/>
              </a:rPr>
              <a:t>Click to edit the title text format</a:t>
            </a:r>
            <a:endParaRPr b="1" lang="en-US" sz="3600" spc="-1" strike="noStrike">
              <a:solidFill>
                <a:srgbClr val="95a0b0"/>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838d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838d9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59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590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a88e8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c61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D3E4-416A-462C-995A-D8A9AB5C3697}" type="slidenum">
              <a:rPr b="0" lang="ru-RU" sz="1000" spc="-1" strike="noStrike">
                <a:solidFill>
                  <a:srgbClr val="bc61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600"/>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a0b0"/>
                </a:solidFill>
                <a:latin typeface="Verdana"/>
              </a:rPr>
              <a:t>Click to edit the title text format</a:t>
            </a:r>
            <a:endParaRPr b="1" lang="en-US" sz="3600" spc="-1" strike="noStrike">
              <a:solidFill>
                <a:srgbClr val="95a0b0"/>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838d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838d9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59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590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a88e8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c61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3B9F-A7FE-4054-B203-31452AE09746}" type="slidenum">
              <a:rPr b="0" lang="ru-RU" sz="1000" spc="-1" strike="noStrike">
                <a:solidFill>
                  <a:srgbClr val="bc61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600"/>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a0b0"/>
                </a:solidFill>
                <a:latin typeface="Verdana"/>
              </a:rPr>
              <a:t>Click to edit the title text format</a:t>
            </a:r>
            <a:endParaRPr b="1" lang="en-US" sz="3600" spc="-1" strike="noStrike">
              <a:solidFill>
                <a:srgbClr val="95a0b0"/>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838d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838d9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59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590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a88e8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c61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2A4B-3701-490E-8391-F85DF8417F43}" type="slidenum">
              <a:rPr b="0" lang="ru-RU" sz="1000" spc="-1" strike="noStrike">
                <a:solidFill>
                  <a:srgbClr val="bc61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http://img0.liveinternet.ru/images/attach/c/2/74/515/74515842_large_vechnuyyogon.jpg"/>
          <p:cNvPicPr/>
          <p:nvPr/>
        </p:nvPicPr>
        <p:blipFill>
          <a:blip r:embed="rId1"/>
          <a:stretch/>
        </p:blipFill>
        <p:spPr>
          <a:xfrm>
            <a:off x="-25560" y="-33480"/>
            <a:ext cx="9396720" cy="6891480"/>
          </a:xfrm>
          <a:prstGeom prst="rect">
            <a:avLst/>
          </a:prstGeom>
          <a:ln w="0">
            <a:noFill/>
          </a:ln>
        </p:spPr>
      </p:pic>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Прямоугольник 1"/>
          <p:cNvSpPr/>
          <p:nvPr/>
        </p:nvSpPr>
        <p:spPr>
          <a:xfrm>
            <a:off x="539640" y="1268280"/>
            <a:ext cx="8136000" cy="2881440"/>
          </a:xfrm>
          <a:prstGeom prst="rect">
            <a:avLst/>
          </a:prstGeom>
          <a:solidFill>
            <a:srgbClr val="838d9b"/>
          </a:solidFill>
          <a:ln w="42480">
            <a:solidFill>
              <a:srgbClr val="5f667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ookman Old Style"/>
              </a:rPr>
              <a:t>…</a:t>
            </a:r>
            <a:r>
              <a:rPr b="0" lang="ru-RU" sz="4400" spc="-1" strike="noStrike">
                <a:solidFill>
                  <a:srgbClr val="000000"/>
                </a:solidFill>
                <a:latin typeface="Bookman Old Style"/>
              </a:rPr>
              <a:t>Без сугышка күптән киткән идек,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ookman Old Style"/>
              </a:rPr>
              <a:t>без сугыштан әле кайтмаган…</a:t>
            </a:r>
            <a:endParaRPr b="0" lang="en-US" sz="4400" spc="-1" strike="noStrike">
              <a:solidFill>
                <a:srgbClr val="000000"/>
              </a:solidFill>
              <a:latin typeface="Arial"/>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E:\рэзилэ филмга\раз\габдулфарт.jpg"/>
          <p:cNvPicPr/>
          <p:nvPr/>
        </p:nvPicPr>
        <p:blipFill>
          <a:blip r:embed="rId1"/>
          <a:srcRect l="8556" t="3640" r="7581" b="5483"/>
          <a:stretch/>
        </p:blipFill>
        <p:spPr>
          <a:xfrm>
            <a:off x="650880" y="1052640"/>
            <a:ext cx="4276800" cy="4824360"/>
          </a:xfrm>
          <a:prstGeom prst="rect">
            <a:avLst/>
          </a:prstGeom>
          <a:ln cap="sq" w="38160">
            <a:solidFill>
              <a:srgbClr val="000000"/>
            </a:solidFill>
            <a:miter/>
          </a:ln>
          <a:effectLst>
            <a:outerShdw dist="38183" dir="2700000" blurRad="0" rotWithShape="0">
              <a:srgbClr val="000000">
                <a:alpha val="43000"/>
              </a:srgbClr>
            </a:outerShdw>
          </a:effectLst>
        </p:spPr>
      </p:pic>
      <p:sp>
        <p:nvSpPr>
          <p:cNvPr id="223" name="Rectangle 2"/>
          <p:cNvSpPr/>
          <p:nvPr/>
        </p:nvSpPr>
        <p:spPr>
          <a:xfrm>
            <a:off x="5127480" y="1019160"/>
            <a:ext cx="3621240" cy="32734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cc6600"/>
                </a:solidFill>
                <a:latin typeface="Cambria"/>
              </a:rPr>
              <a:t>Гыйбрәтле язмышлы Бөек Ватан сугышы ветераны Габделфәрт абый</a:t>
            </a:r>
            <a:endParaRPr b="0" lang="en-US" sz="3600" spc="-1" strike="noStrike">
              <a:solidFill>
                <a:srgbClr val="000000"/>
              </a:solidFill>
              <a:latin typeface="Arial"/>
            </a:endParaRPr>
          </a:p>
        </p:txBody>
      </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Прямоугольник 2"/>
          <p:cNvSpPr/>
          <p:nvPr/>
        </p:nvSpPr>
        <p:spPr>
          <a:xfrm>
            <a:off x="755640" y="907920"/>
            <a:ext cx="770400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Verdana"/>
              </a:rPr>
              <a:t>Закирҗанов Габделфәрт Закирҗан улы 1924 елның 6 гыйнварында Кукмара районы Мәмәшир авылында туа.</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Verdana"/>
              </a:rPr>
              <a:t>      </a:t>
            </a:r>
            <a:r>
              <a:rPr b="0" lang="tt-RU" sz="2400" spc="-1" strike="noStrike">
                <a:solidFill>
                  <a:srgbClr val="000000"/>
                </a:solidFill>
                <a:latin typeface="Verdana"/>
              </a:rPr>
              <a:t>Габделфәрткә бары 17 яшь тулган вакытта, яшьлегенең гөрләп чәчәк аткан чагында, бөтен совет халкы зур сынау алдына куела.1941 елның 22 июнендә Гитлер Германиясе илебезгә каршы сугыш башлый. 1942 елның 21 августында ул үзе теләп хәрби хезмәткә китә.  Ленинград фронтына җибәрелә,  Ленинград шәһәрен немецлардан саклауда катнаша. Бәхетсезлеккә каршы, 1943 елда яралана.</a:t>
            </a:r>
            <a:endParaRPr b="0" lang="en-US" sz="2400" spc="-1" strike="noStrike">
              <a:solidFill>
                <a:srgbClr val="000000"/>
              </a:solidFill>
              <a:latin typeface="Arial"/>
            </a:endParaRPr>
          </a:p>
        </p:txBody>
      </p:sp>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Рисунок 1" descr="F:\разиля габд\filterimage.jpg"/>
          <p:cNvPicPr/>
          <p:nvPr/>
        </p:nvPicPr>
        <p:blipFill>
          <a:blip r:embed="rId1">
            <a:lum contrast="40000"/>
          </a:blip>
          <a:srcRect l="3211" t="6442" r="2607" b="4483"/>
          <a:stretch/>
        </p:blipFill>
        <p:spPr>
          <a:xfrm>
            <a:off x="380880" y="1197000"/>
            <a:ext cx="8382240" cy="4654440"/>
          </a:xfrm>
          <a:prstGeom prst="rect">
            <a:avLst/>
          </a:prstGeom>
          <a:ln w="0">
            <a:noFill/>
          </a:ln>
        </p:spPr>
      </p:pic>
      <p:sp>
        <p:nvSpPr>
          <p:cNvPr id="226" name="Прямоугольник 2"/>
          <p:cNvSpPr/>
          <p:nvPr/>
        </p:nvSpPr>
        <p:spPr>
          <a:xfrm>
            <a:off x="401760" y="512640"/>
            <a:ext cx="7986600" cy="368280"/>
          </a:xfrm>
          <a:prstGeom prst="rect">
            <a:avLst/>
          </a:prstGeom>
          <a:solidFill>
            <a:srgbClr val="ffffff"/>
          </a:solidFill>
          <a:ln w="42480">
            <a:solidFill>
              <a:srgbClr val="d2610c"/>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Verdana"/>
              </a:rPr>
              <a:t>Габделфәрт Закирҗановның 1943 елда “Үлгән” язуы</a:t>
            </a:r>
            <a:endParaRPr b="0" lang="en-US" sz="1800" spc="-1" strike="noStrike">
              <a:solidFill>
                <a:srgbClr val="000000"/>
              </a:solidFill>
              <a:latin typeface="Arial"/>
            </a:endParaRPr>
          </a:p>
        </p:txBody>
      </p:sp>
      <p:sp>
        <p:nvSpPr>
          <p:cNvPr id="227" name="Прямоугольник 1"/>
          <p:cNvSpPr/>
          <p:nvPr/>
        </p:nvSpPr>
        <p:spPr>
          <a:xfrm>
            <a:off x="4183200" y="4724280"/>
            <a:ext cx="4572000" cy="1465560"/>
          </a:xfrm>
          <a:prstGeom prst="rect">
            <a:avLst/>
          </a:prstGeom>
          <a:solidFill>
            <a:srgbClr val="ffffff"/>
          </a:solidFill>
          <a:ln w="42480">
            <a:solidFill>
              <a:srgbClr val="d2610c"/>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Verdana"/>
              </a:rPr>
              <a:t>“</a:t>
            </a:r>
            <a:r>
              <a:rPr b="0" lang="tt-RU" sz="1800" spc="-1" strike="noStrike">
                <a:solidFill>
                  <a:srgbClr val="000000"/>
                </a:solidFill>
                <a:latin typeface="Verdana"/>
              </a:rPr>
              <a:t>Хәтер китабы”на аның да исеме кертелгән. “Погиб 17 ноября 1943 года...Захоронен:Витебская област</a:t>
            </a:r>
            <a:r>
              <a:rPr b="0" lang="ru-RU" sz="1800" spc="-1" strike="noStrike">
                <a:solidFill>
                  <a:srgbClr val="000000"/>
                </a:solidFill>
                <a:latin typeface="Verdana"/>
              </a:rPr>
              <a:t>ь, Лиозненский район, дер.Заболотье</a:t>
            </a:r>
            <a:r>
              <a:rPr b="0" lang="tt-RU" sz="1800" spc="-1" strike="noStrike">
                <a:solidFill>
                  <a:srgbClr val="000000"/>
                </a:solidFill>
                <a:latin typeface="Verdana"/>
              </a:rPr>
              <a:t>”</a:t>
            </a:r>
            <a:r>
              <a:rPr b="0" lang="ru-RU" sz="1800" spc="-1" strike="noStrike">
                <a:solidFill>
                  <a:srgbClr val="000000"/>
                </a:solidFill>
                <a:latin typeface="Verdana"/>
              </a:rPr>
              <a:t>,</a:t>
            </a:r>
            <a:r>
              <a:rPr b="0" lang="tt-RU" sz="1800" spc="-1" strike="noStrike">
                <a:solidFill>
                  <a:srgbClr val="000000"/>
                </a:solidFill>
                <a:latin typeface="Verdana"/>
              </a:rPr>
              <a:t>-диелгән анда.</a:t>
            </a:r>
            <a:endParaRPr b="0" lang="en-US" sz="1800" spc="-1" strike="noStrike">
              <a:solidFill>
                <a:srgbClr val="000000"/>
              </a:solidFill>
              <a:latin typeface="Arial"/>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Прямоугольник 2"/>
          <p:cNvSpPr/>
          <p:nvPr/>
        </p:nvSpPr>
        <p:spPr>
          <a:xfrm>
            <a:off x="468360" y="549360"/>
            <a:ext cx="8215200" cy="5456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000000"/>
                </a:solidFill>
                <a:latin typeface="Verdana"/>
              </a:rPr>
              <a:t>... “43 нең кышы аеруча салкын килде. Мин солдатларны ашатырга барырга тиеш идем. Барысы да гадәттәгечә булды. Килдем, өләштем. Әллә ни генә булды, фашистлар аяз көндә яшен суккан шикелле пәйдә булдылар. Аягым нык яраланды. Бара алмас хәлдә җиргә аугач, фашистлар мине хәлдән тайганчы кыйнадылар. Аңыма килгәндә, ниндидер юнәлештә мине өстерәп баралар иде. Аннары башыма китереп сукты – пленга “тошеп баруым” икән югыйсә. Берзаман күрәм, алда – сазлык. Әллә күрмичә калдылар, әллә бәхет дигәннәре янымнан гына узды, белмим, ләкин төшеп чумдык без бу сазлыкка. Аска өстери башлады, мин әйтәм, сазлыкта калу пленга төшүдән артык, ояты азрак булыр, дим. Тынны да чыгармыйча, торам үләннәр арасына посып, һаман аска суыра, инде муеннан чумдым. Юк, бәхетле кеше мин, фашистлар мине күрмичә китеп бардылар.”...</a:t>
            </a:r>
            <a:endParaRPr b="0" lang="en-US" sz="2200" spc="-1" strike="noStrike">
              <a:solidFill>
                <a:srgbClr val="000000"/>
              </a:solidFill>
              <a:latin typeface="Arial"/>
            </a:endParaRPr>
          </a:p>
        </p:txBody>
      </p:sp>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8" descr="http://vvmn-nn.ru/data/objects/282/fire1.jpg"/>
          <p:cNvPicPr/>
          <p:nvPr/>
        </p:nvPicPr>
        <p:blipFill>
          <a:blip r:embed="rId1"/>
          <a:stretch/>
        </p:blipFill>
        <p:spPr>
          <a:xfrm>
            <a:off x="0" y="0"/>
            <a:ext cx="9144000" cy="6858000"/>
          </a:xfrm>
          <a:prstGeom prst="rect">
            <a:avLst/>
          </a:prstGeom>
          <a:ln w="0">
            <a:noFill/>
          </a:ln>
        </p:spPr>
      </p:pic>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8T04:17:16Z</dcterms:created>
  <dc:creator>1</dc:creator>
  <dc:description/>
  <dc:language>en-US</dc:language>
  <cp:lastModifiedBy>Фарида</cp:lastModifiedBy>
  <dcterms:modified xsi:type="dcterms:W3CDTF">2012-05-06T08:35:33Z</dcterms:modified>
  <cp:revision>30</cp:revision>
  <dc:subject/>
  <dc:title>Слайд 1</dc:title>
</cp:coreProperties>
</file>