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B36-29B7-4A7E-8D75-72348F8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EEA-0B67-49C5-9A40-C24D9763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BED-44FF-4B5D-96E4-20BCE98C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278-0A05-4FC8-923D-311F1428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44D-E8CA-4B72-AB2F-BB742041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C6A-B8D5-4EE0-9840-734531C7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9AB-19E3-450B-8811-5DF025CA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2E6-1083-4181-9832-5B2CB98C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543-40F7-4A59-9607-CCBDDE80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C1CD-7D75-4AF4-AA3C-ABB0D98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4DA-E837-4C6A-B492-CF92105C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67C-7695-428D-9B52-D7610B3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129-EB8F-42C3-B8C3-366330367D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Arial"/>
              </a:rPr>
              <a:t>«Важное умение 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800000"/>
                </a:solidFill>
                <a:latin typeface="Arial"/>
              </a:rPr>
              <a:t>понимать текст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804246r0240k4p8l"/>
          <p:cNvPicPr/>
          <p:nvPr/>
        </p:nvPicPr>
        <p:blipFill>
          <a:blip r:embed="rId1"/>
          <a:stretch/>
        </p:blipFill>
        <p:spPr>
          <a:xfrm>
            <a:off x="0" y="836640"/>
            <a:ext cx="903924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Мчусь, как ветер, я на лыж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доль лесной опушк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укавицы на рука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Шапка на макуш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Раз –д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т и поскользну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ри – четыр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уть не кувыркнул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ять – шес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 раскисать и быстрей вперед бежать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а 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в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у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б</a:t>
            </a:r>
            <a:r>
              <a:rPr b="0" lang="ru-RU" sz="5400" spc="-1" strike="noStrike">
                <a:solidFill>
                  <a:srgbClr val="006600"/>
                </a:solidFill>
                <a:latin typeface="Arial"/>
              </a:rPr>
              <a:t>и</a:t>
            </a:r>
            <a:r>
              <a:rPr b="0" lang="ru-RU" sz="5400" spc="-1" strike="noStrike">
                <a:solidFill>
                  <a:srgbClr val="0000cc"/>
                </a:solidFill>
                <a:latin typeface="Arial"/>
              </a:rPr>
              <a:t>к</a:t>
            </a:r>
            <a:r>
              <a:rPr b="0" lang="ru-RU" sz="5400" spc="-1" strike="noStrike">
                <a:solidFill>
                  <a:srgbClr val="80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804246r0240k4p8l"/>
          <p:cNvPicPr/>
          <p:nvPr/>
        </p:nvPicPr>
        <p:blipFill>
          <a:blip r:embed="rId1"/>
          <a:stretch/>
        </p:blipFill>
        <p:spPr>
          <a:xfrm>
            <a:off x="457200" y="692280"/>
            <a:ext cx="8291520" cy="5473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kubiki"/>
          <p:cNvPicPr/>
          <p:nvPr/>
        </p:nvPicPr>
        <p:blipFill>
          <a:blip r:embed="rId2"/>
          <a:stretch/>
        </p:blipFill>
        <p:spPr>
          <a:xfrm>
            <a:off x="6443640" y="4417920"/>
            <a:ext cx="223200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image"/>
          <p:cNvPicPr/>
          <p:nvPr/>
        </p:nvPicPr>
        <p:blipFill>
          <a:blip r:embed="rId1"/>
          <a:stretch/>
        </p:blipFill>
        <p:spPr>
          <a:xfrm>
            <a:off x="611280" y="549360"/>
            <a:ext cx="3816360" cy="3816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age14"/>
          <p:cNvPicPr/>
          <p:nvPr/>
        </p:nvPicPr>
        <p:blipFill>
          <a:blip r:embed="rId2"/>
          <a:stretch/>
        </p:blipFill>
        <p:spPr>
          <a:xfrm>
            <a:off x="4211640" y="3068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Книга – окно в ми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ногда о том, что всем хорошо извест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о, говорят:«Это же прописные истины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куда пришло это вы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твет на этот вопрос можно найти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вых русских Азбуках. По ней учились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олько буквам и цифрам, но и добр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делам и хорошим мыслям. Пока уче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читал и прописывал слова и фразы, 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стигал мудрые истины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тарался претворять в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нига – чудо из чудес! Разве не чудо, что покрытые буквами страницы хранят опыт и мысли лучших людей Вселен - н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Книга, подобно фантастической маши-     не времени, переносит нас в прошлое и будуще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804246r0240k4p8l"/>
          <p:cNvPicPr/>
          <p:nvPr/>
        </p:nvPicPr>
        <p:blipFill>
          <a:blip r:embed="rId1"/>
          <a:stretch/>
        </p:blipFill>
        <p:spPr>
          <a:xfrm>
            <a:off x="324000" y="836640"/>
            <a:ext cx="8507160" cy="474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повторить понятия «слово», «предложение», «текст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тренироваться в составлении предложений и текс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продолжить работу  по совершенствованию реч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</a:rPr>
              <a:t>воспитывать культуру чт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Умеешь ли ты понимать прочитанн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804246r0240k4p8l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006600"/>
                </a:solidFill>
                <a:latin typeface="Arial"/>
              </a:rPr>
              <a:t>У елки иголки остры и кол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tkrf1"/>
          <p:cNvPicPr/>
          <p:nvPr/>
        </p:nvPicPr>
        <p:blipFill>
          <a:blip r:embed="rId1"/>
          <a:stretch/>
        </p:blipFill>
        <p:spPr>
          <a:xfrm>
            <a:off x="2771640" y="2835360"/>
            <a:ext cx="5834160" cy="329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804246r0240k4p8l"/>
          <p:cNvPicPr/>
          <p:nvPr/>
        </p:nvPicPr>
        <p:blipFill>
          <a:blip r:embed="rId2"/>
          <a:stretch/>
        </p:blipFill>
        <p:spPr>
          <a:xfrm>
            <a:off x="324000" y="907920"/>
            <a:ext cx="822960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е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голки остры и 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е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голки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иго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остры и 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иголки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У елки иголк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остры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и </a:t>
            </a:r>
            <a:r>
              <a:rPr b="0" lang="ru-RU" sz="4000" spc="-1" strike="noStrike" u="sng">
                <a:solidFill>
                  <a:srgbClr val="006600"/>
                </a:solidFill>
                <a:uFillTx/>
                <a:latin typeface="Arial"/>
              </a:rPr>
              <a:t>колк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59280" y="3213000"/>
            <a:ext cx="310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Письмо по памя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 елки иголки остры и кол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804246r0240k4p8l"/>
          <p:cNvPicPr/>
          <p:nvPr/>
        </p:nvPicPr>
        <p:blipFill>
          <a:blip r:embed="rId1"/>
          <a:stretch/>
        </p:blipFill>
        <p:spPr>
          <a:xfrm>
            <a:off x="324000" y="907920"/>
            <a:ext cx="84358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4000" spc="-1" strike="noStrike">
                <a:solidFill>
                  <a:srgbClr val="0000cc"/>
                </a:solidFill>
                <a:latin typeface="Arial"/>
              </a:rPr>
              <a:t>Главное в нашей речи – сло- во. Слово – самое общее и самое точное обозначение любой вещи, любого дейст- вия, любого предмета. Оно позволяет человеку думать о чем угодно, рассказывать, рассужд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0000cc"/>
                </a:solidFill>
                <a:latin typeface="Arial"/>
              </a:rPr>
              <a:t>стоят  январе  в  деревья серебре 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лес"/>
          <p:cNvPicPr/>
          <p:nvPr/>
        </p:nvPicPr>
        <p:blipFill>
          <a:blip r:embed="rId1"/>
          <a:stretch/>
        </p:blipFill>
        <p:spPr>
          <a:xfrm>
            <a:off x="1187280" y="1700280"/>
            <a:ext cx="65534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Городу ночью холодно ста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Ночь для него одеяло дос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Снегом заботливо город од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и посветлела от доброго д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804246r0240k4p8l"/>
          <p:cNvPicPr/>
          <p:nvPr/>
        </p:nvPicPr>
        <p:blipFill>
          <a:blip r:embed="rId1"/>
          <a:stretch/>
        </p:blipFill>
        <p:spPr>
          <a:xfrm>
            <a:off x="179280" y="620640"/>
            <a:ext cx="875844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3T11:04:08Z</dcterms:created>
  <dc:creator>FuckYouBill</dc:creator>
  <dc:description/>
  <dc:language>en-US</dc:language>
  <cp:lastModifiedBy>Сергей Петров</cp:lastModifiedBy>
  <dcterms:modified xsi:type="dcterms:W3CDTF">2017-01-12T18:23:46Z</dcterms:modified>
  <cp:revision>20</cp:revision>
  <dc:subject/>
  <dc:title>Тема урока:</dc:title>
</cp:coreProperties>
</file>