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4BF-8021-477F-A319-18B8D50D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54A-86E0-4C94-B5CF-4216FDFC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214-7670-482D-B279-406BFA29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F59-3E02-4B73-8328-25E81F1B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65C1-3087-47EE-B452-02127E75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6D4-8FDF-4E8E-B188-5E96FBA4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285-E027-4D11-ABDF-941E8063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C71-C629-4CD9-87E7-C1C8EBF0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F87-60B0-4DD6-B405-81B0DC06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DC31-8DF9-45AD-A6E2-51A21BF3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8BD7-249B-4D2E-A6E4-DA501053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042-0BDF-4535-99A8-89E1012D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49CE-8427-4655-8382-0209A52EC9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26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800000"/>
                </a:solidFill>
                <a:latin typeface="Arial"/>
              </a:rPr>
              <a:t>«Важное умение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800000"/>
                </a:solidFill>
                <a:latin typeface="Arial"/>
              </a:rPr>
              <a:t>понимать текс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804246r0240k4p8l"/>
          <p:cNvPicPr/>
          <p:nvPr/>
        </p:nvPicPr>
        <p:blipFill>
          <a:blip r:embed="rId1"/>
          <a:stretch/>
        </p:blipFill>
        <p:spPr>
          <a:xfrm>
            <a:off x="0" y="836640"/>
            <a:ext cx="903924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Мчусь, как ветер, я на лыж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Вдоль лесной опуш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Рукавицы на рук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Шапка на маку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Раз –д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Вот и поскользну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Три – четыр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Чуть не кувыркну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ять – шес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Не раскисать и быстрей вперед беж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800000"/>
                </a:solidFill>
                <a:latin typeface="Arial"/>
              </a:rPr>
              <a:t>г</a:t>
            </a:r>
            <a:r>
              <a:rPr b="0" lang="ru-RU" sz="5400" spc="-1" strike="noStrike">
                <a:solidFill>
                  <a:srgbClr val="006600"/>
                </a:solidFill>
                <a:latin typeface="Arial"/>
              </a:rPr>
              <a:t>р</a:t>
            </a: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а </a:t>
            </a:r>
            <a:r>
              <a:rPr b="0" lang="ru-RU" sz="5400" spc="-1" strike="noStrike">
                <a:solidFill>
                  <a:srgbClr val="800000"/>
                </a:solidFill>
                <a:latin typeface="Arial"/>
              </a:rPr>
              <a:t>в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у</a:t>
            </a:r>
            <a:r>
              <a:rPr b="0" lang="ru-RU" sz="5400" spc="-1" strike="noStrike">
                <a:solidFill>
                  <a:srgbClr val="800000"/>
                </a:solidFill>
                <a:latin typeface="Arial"/>
              </a:rPr>
              <a:t>б</a:t>
            </a:r>
            <a:r>
              <a:rPr b="0" lang="ru-RU" sz="54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к</a:t>
            </a:r>
            <a:r>
              <a:rPr b="0" lang="ru-RU" sz="5400" spc="-1" strike="noStrike">
                <a:solidFill>
                  <a:srgbClr val="80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804246r0240k4p8l"/>
          <p:cNvPicPr/>
          <p:nvPr/>
        </p:nvPicPr>
        <p:blipFill>
          <a:blip r:embed="rId1"/>
          <a:stretch/>
        </p:blipFill>
        <p:spPr>
          <a:xfrm>
            <a:off x="457200" y="692280"/>
            <a:ext cx="8291520" cy="5473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kubiki"/>
          <p:cNvPicPr/>
          <p:nvPr/>
        </p:nvPicPr>
        <p:blipFill>
          <a:blip r:embed="rId2"/>
          <a:stretch/>
        </p:blipFill>
        <p:spPr>
          <a:xfrm>
            <a:off x="6443640" y="4417920"/>
            <a:ext cx="22320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image"/>
          <p:cNvPicPr/>
          <p:nvPr/>
        </p:nvPicPr>
        <p:blipFill>
          <a:blip r:embed="rId1"/>
          <a:stretch/>
        </p:blipFill>
        <p:spPr>
          <a:xfrm>
            <a:off x="611280" y="549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image14"/>
          <p:cNvPicPr/>
          <p:nvPr/>
        </p:nvPicPr>
        <p:blipFill>
          <a:blip r:embed="rId2"/>
          <a:stretch/>
        </p:blipFill>
        <p:spPr>
          <a:xfrm>
            <a:off x="421164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Книга – окно в ми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Иногда о том, что всем хорошо извес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но, говорят:«Это же прописные истины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ткуда пришло это вы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твет на этот вопрос можно найти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ервых русских Азбуках. По ней учились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только буквам и цифрам, но и добр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делам и хорошим мыслям. Пока уче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читал и прописывал слова и фразы, 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остигал мудрые истины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старался претворять в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нига – чудо из чудес! Разве не чудо, что покрытые буквами страницы хранят опыт и мысли лучших людей Вселен - 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нига, подобно фантастической маши-     не времени, переносит нас в прошлое и будуще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6" descr="804246r0240k4p8l"/>
          <p:cNvPicPr/>
          <p:nvPr/>
        </p:nvPicPr>
        <p:blipFill>
          <a:blip r:embed="rId1"/>
          <a:stretch/>
        </p:blipFill>
        <p:spPr>
          <a:xfrm>
            <a:off x="324000" y="836640"/>
            <a:ext cx="8507160" cy="474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Arial"/>
              </a:rPr>
              <a:t>повторить понятия «слово», «предложение», «текст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Arial"/>
              </a:rPr>
              <a:t>тренироваться в составлении предложений и текс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Arial"/>
              </a:rPr>
              <a:t>продолжить работу  по совершенствованию ре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Arial"/>
              </a:rPr>
              <a:t>воспитывать культуру чт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Умеешь ли ты понимать прочитанно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804246r0240k4p8l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6600"/>
                </a:solidFill>
                <a:latin typeface="Arial"/>
              </a:rPr>
              <a:t>У елки иголки остры и кол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tkrf1"/>
          <p:cNvPicPr/>
          <p:nvPr/>
        </p:nvPicPr>
        <p:blipFill>
          <a:blip r:embed="rId1"/>
          <a:stretch/>
        </p:blipFill>
        <p:spPr>
          <a:xfrm>
            <a:off x="2771640" y="2835360"/>
            <a:ext cx="5834160" cy="329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804246r0240k4p8l"/>
          <p:cNvPicPr/>
          <p:nvPr/>
        </p:nvPicPr>
        <p:blipFill>
          <a:blip r:embed="rId2"/>
          <a:stretch/>
        </p:blipFill>
        <p:spPr>
          <a:xfrm>
            <a:off x="324000" y="907920"/>
            <a:ext cx="82296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У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елки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иголки остры и кол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У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елки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иголки остры и ко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У елки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иголки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остры и кол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У елки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иголки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остры и ко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У елки иголки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остры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и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кол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У елки иголки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остры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и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ко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У елки иголки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остры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и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кол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059280" y="3213000"/>
            <a:ext cx="310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Письмо по памя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У елки иголки остры и ко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804246r0240k4p8l"/>
          <p:cNvPicPr/>
          <p:nvPr/>
        </p:nvPicPr>
        <p:blipFill>
          <a:blip r:embed="rId1"/>
          <a:stretch/>
        </p:blipFill>
        <p:spPr>
          <a:xfrm>
            <a:off x="324000" y="907920"/>
            <a:ext cx="84358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Главное в нашей речи – сло- во. Слово – самое общее и самое точное обозначение любой вещи, любого дейст- вия, любого предмета. Оно позволяет человеку думать о чем угодно, рассказывать, рассужд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стоят  январе  в  деревья серебре  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лес"/>
          <p:cNvPicPr/>
          <p:nvPr/>
        </p:nvPicPr>
        <p:blipFill>
          <a:blip r:embed="rId1"/>
          <a:stretch/>
        </p:blipFill>
        <p:spPr>
          <a:xfrm>
            <a:off x="1187280" y="1700280"/>
            <a:ext cx="65534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Городу ночью холодно ст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Ночь для него одеяло дост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Снегом заботливо город о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и посветлела от доброго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804246r0240k4p8l"/>
          <p:cNvPicPr/>
          <p:nvPr/>
        </p:nvPicPr>
        <p:blipFill>
          <a:blip r:embed="rId1"/>
          <a:stretch/>
        </p:blipFill>
        <p:spPr>
          <a:xfrm>
            <a:off x="179280" y="620640"/>
            <a:ext cx="875844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1:04:08Z</dcterms:created>
  <dc:creator>FuckYouBill</dc:creator>
  <dc:description/>
  <dc:language>en-US</dc:language>
  <cp:lastModifiedBy>Сергей Петров</cp:lastModifiedBy>
  <dcterms:modified xsi:type="dcterms:W3CDTF">2017-01-12T18:23:46Z</dcterms:modified>
  <cp:revision>20</cp:revision>
  <dc:subject/>
  <dc:title>Тема урока:</dc:title>
</cp:coreProperties>
</file>