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DD08-9176-4B0F-A2BA-5613635E52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FEF5-1396-4339-8CD0-3214F500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CD1C-776D-446B-8984-DF3CF30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B95A-D36D-4553-8C9F-1A8BF6343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97B6E-A1E1-474F-84D3-EB80B29FA0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76ED5-6AF1-4452-B3D5-5B0A73BD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CE788-C55C-446E-A697-8FAF896C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02885-320D-4DDE-B1CE-5855267C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6C3A1-7D30-4D5A-8793-149BEE85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3D9AD-AB80-4DAE-A22F-DCF2D530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5E02D-C4FA-4A81-BF1D-A051FE27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0BE9-A4F5-4FC6-8E0E-3B6ED4E3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84214-28A3-4AB3-81F9-20E743D3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BC16F-B847-4AD8-B85D-8C6EFD10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07C75-4068-4765-A236-4C77D7DD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CAC4A-7438-426A-8A6F-DA8630E4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DA504-34CA-43FE-866C-3D13E085B9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A1E0-14BF-4110-9A45-46A0F3BF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F521-EBDB-449D-BAD7-40429B5A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5FC4-0A57-462A-9876-D8FD0010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1CFE-1764-4C78-BD0C-D70A5981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95FD-9BB9-4119-A9AF-0B5CFF31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7BB2-A915-4C99-A3C9-42D262B3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4E4A-5B95-4DD3-8FCD-6DB3C07E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14.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C60B8E2-42C8-44D4-A1E2-BBD739A4C9B6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14.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3B09545-3B1E-47FE-8A2C-347A2D401519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Академия индустрии красоты «ЛОКОН»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4280" y="1499760"/>
            <a:ext cx="64008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"/>
              </a:rPr>
              <a:t>Презентация на те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"/>
              </a:rPr>
              <a:t>«История развития метролог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86680" y="4500720"/>
            <a:ext cx="285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ьячкова И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120" y="9288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ffffff"/>
                </a:solidFill>
                <a:latin typeface="Book Antiqua"/>
              </a:rPr>
              <a:t>Второй период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- метрология эпохи феодальной раздробленности Руси и татаро-монгольского ига (XIII в. - первая половина XV в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продолжали применять меры длины, разработанные в Киевской Руси: версту, сажень, локоть, пядь. Однако вследствие раздробленности государства использовались местные меры длины (волок и гон) и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конце XV в. появилась мера площади - десятина, которая представляла собой квадрат со стороной, равной десятой доле версты (150 сажен), откуда и произошло наименование "десятин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появился ряд местных мер, из которых особенно устойчивыми оказались меры Новгорода, Пскова и Северодвинской земли, например новгородская коробья, вмещавшая 7 пудов ржи, и псковская зобница, содержащая 14 пудов р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были сделаны первые попытки измерения времени. В 1404 г. "по распоряжению великого князя московского Василия I в Кремле были установлены часы башенного типа. Аналогичные часы были смонтированы в Пскове и Новгороде. Разобщенность Руси привела к тому, что была разрушена устоявшаяся метрологическая система измерения длины и в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ffffff"/>
                </a:solidFill>
                <a:latin typeface="Book Antiqua"/>
              </a:rPr>
              <a:t>Третий период</a:t>
            </a:r>
            <a:r>
              <a:rPr b="0" lang="ru-RU" sz="51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метрология образования и укрепления Московского государства (XV-XVII вв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XV в. - период объединения Руси вокруг Московского княжества в условиях ослабевающего с каждым десятилетием татаро-монгольского ига, роста международных связей России и укрепления великокняжеск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Государственная политика была направлена на упорядочение единиц измерений, придание большей стройности, полноты и законности всей системе мер и весов. Мероприятия по унификации единиц измерения распространялись главным образом на города, торги, ярмарки и другие торговые объе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Двинская грамота Ивана Грозного о новых печатных мерах (осьминах) от 21 декабря 1550 г. являлась исторически важным документом, внедряющим систему мер и весов. Она опиралась на органы земского самоуправления и на порядок передачи верных значений единиц измерения от образцовых мер к рабочим. Повсеместно в государстве вводились московские образ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качестве весовых мер использовались пуд, гривна, фунт и литра, в качестве угловых - градус и румб. Градус представлял собой l/360 часть окружности, а румб - 1/32 часть круга. Он использовался в основном для определения направления относительно сторон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была сделана настойчивая попытка ввести в Московском государстве единство мер и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4200" y="0"/>
            <a:ext cx="8472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800" spc="-1" strike="noStrike">
                <a:solidFill>
                  <a:srgbClr val="ffffff"/>
                </a:solidFill>
                <a:latin typeface="Book Antiqua"/>
              </a:rPr>
              <a:t>Четвертый период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- метрологическая деятельность Российской академии наук с 1770 по 1800 г. (XVIII в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Осуществление поставленной Петром I задачи "прорубить окно в Европу", повлекшее за собой расширение культурных, научных, производственных и торговых связей с Западом, отразилось на метрологии как петровской, так и послепетровской эпох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В этот период развитие системы русских мер получило ряд особенностей, к которым следует отнести увеличение количества малых мер, повышающих точность измерений, сближение русских мер длины с английскими, введение некоторых дополнительных английских мер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Петр 1 организовал ввоз из-за границы в Россию измерительных приборов, столь необходимых для армии и флота. B 1725 г. по его идее была создана Российская академия наук, которая разработала ряд руководств по использованию системы единиц в различных измерения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На многих оружейных заводах организовывались контрольно-измерительные лаборатории. Для обеспечения их работы российская система единиц длины была дополнена еще двумя английскими - футом и дюймом. Введение их было вызвано также необходимостью осуществлять заказы на строительство кораблей за границей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В это же время в качестве единицы площади стал использоваться квадратный метр (м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В 1700 г. Петр 1 издал указ, согласно которому сутки делились на две равные части (по 12 часов каждая). Начало суток было перенесено на строго определенное время - полночь. Деление суток производилось с помощью часов: 12 часов дня отмечалось выстрелом из пушки, установленной на бастионе Петропавловской крепост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7120" y="0"/>
            <a:ext cx="8229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700" spc="-1" strike="noStrike">
                <a:solidFill>
                  <a:srgbClr val="ffffff"/>
                </a:solidFill>
                <a:latin typeface="Book Antiqua"/>
              </a:rPr>
              <a:t>Пятый период</a:t>
            </a:r>
            <a:r>
              <a:rPr b="0" lang="ru-RU" sz="67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зарождение метрической системы (1800- 1900 гг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Book Antiqua"/>
              </a:rPr>
              <a:t>Революционное правительство Франции в 1799 г. ввело метрическую систему мер, которую предлагалось использовать всеми государствам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Book Antiqua"/>
              </a:rPr>
              <a:t>Этот период характерен централизацией метрологической деятельности и началом широкого участия русских ученых в работе международных метрологических организаций. Указом "О системе Российских мер и весов" (1835 г.) были утверждены эталоны длины и массы. Эталон длины представлял собой платиновую сажень, равную 7 английским футам, и платиновый фунт, совпадающий по весу с бронзовым золоченым фунтом 1747 г. В 1842 т. на территории Петропавловской крепости и специально построенном здании было открыто Депо образцовых мер и весов. В этом метрологическом учреждении не только хранились эталоны и их копии, но и изготовлялись образцовые меры для местных органо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Book Antiqua"/>
              </a:rPr>
              <a:t>В 1849 г. вышел капитальный труд "Общая метрология", разработанный Ф. И. Петрушевским и удостоенный Императорской академией демидовской преми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Book Antiqua"/>
              </a:rPr>
              <a:t>В 1869 г. петербургские академики Б. С. Якоби, Г. И. Вильд и О. В. Струве направили в Парижскую академию наук доклад с предложением изготовить новые международные прототипы метра, килограмма и распределить их копии между заинтересованными государствами. Это предложение было принято. В мае 1875 г. была подписана Метрическая конвенция. В соответствии с этим документом Россия получила платиноиридиевые эталоны единицы массы № 12 и 26 и эталоны единицы длины N 11 и 28, которые были доставлены в новое здание Депо образцовых мер и весо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Book Antiqua"/>
              </a:rPr>
              <a:t>В 1892 г. управляющим Депо был назначен Д. И. Менделеев, который много сделал для развития отечественной метрологии. Д. И. Менделеев (1834-1907 гг.) является основоположником научного подхода в развитии метрологии. Время с 1892 по 1918 г. называют менделеевским этапом развития метрологии. Это этап научного становления метрологии и активного внедрения ее в народное хозяйство. В 1893 г. Д. И. Менделеев преобразует Депо образцовых мер и весов в Главную палату мер и весов - одно из первых в мире научно-исследовательских учреждений метрологического профиля. Ученый утверждал, что "наука начинается... с тех пор, как начинают измерять; точная наука немыслима без меры". Однако ему не удалось в полной мере внедрить метрическую систему в народное хозяйство. С 1899 г. она применялась в стране факультативно наряду со старой русской и британской (дюймовой) системам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Book Antiqua"/>
              </a:rPr>
              <a:t>Шестой период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- повсеместное внедрение метрической системы во все области народного хозяйства России (с 1900 г. и по настоящее врем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4 сентября 1918 г. Совнарком РСФСР принял декрет "О введении международной метрической системы мер и весов", который положил начало нормативному этапу развития отечественной метрологии. С этого момента важнейшие положения в области метрологии вводятся нормативными актами - поначалу постановлениями правительства, а позже (наряду с ними) нормативно-техническими документами разного уров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тот период характеризуется окончательным становлением метрологии как науки, созданием различных научно-исследовательских институтов, занимающихся вопросами метрологии, широким внедрением метрической системы и созданием новых высокоточных измерительных систем, приборов и средств изме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 время появляется система контроля за соблюдением различных мер и весов. Разрабатываются меры юридической ответственности должностных лиц за нарушение метрологических норм и 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Lucida Sans"/>
              </a:rPr>
              <a:t>Становление и различия метрологии в СССР и капиталистических странах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428760" y="1500120"/>
            <a:ext cx="82296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урное развитие науки, техники и технологии в ХХ веке потребовало развития метрологии как науки. В СССР метрология развивалась в качестве государственной дисциплины, т.к. нужда в повышении точности и воспроизводимости измерений росла по мере индустриализации и роста оборонно-промышленного комплекса. Зарубежная метрология также отталкивалась от требований практики, но эти требования исходили в основном от частных фирм. Косвенным следствием такого подхода оказалось государственное регулирование различных понятий, относящихся к метрологии, то есть ГОСТирование всего, что необходимо стандартизовать. За рубежом эту задачу взяли на себя негосударственные организации, например ASTM. В силу этого различия в метрологии СССР и постсоветских республик государственные стандарты (эталоны) признаются главенствующими, в отличие от конкурентной западной среды, где частная фирма может не пользоваться плохо зарекомендовавшим себя стандартом или прибором и договориться со своими партнёрами о другом варианте удостоверения воспроизводимости изме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ошло время. Минули тысячелетия. Человечество далеко ушло в технике измерений. И чем больше развивается измерительная техника, тем большее значение приобретает метрология. Пользуясь современными методами, ученые точно измеряют свойства вещей и явлений. Эти измерения являются одним из средств овладения природой, подчинения ее нашим нуждам. Старые средства измерений (палка, тень, чашка, камень) заменились новыми, позволяющими нам воспринимать невидимый свет, ощущать магнитные силы и другие явления, которые иначе были бы нам неизвест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од общего развития науки и техники показывает, что метрология является фундаментальной предпосылкой прогресса почти во всех отраслях науки, техники и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История развития метрологии появилась как описание мер, связанная со становлением государственности, с развитием производства, науки, культуры, расширением торгов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Lucida Sans"/>
              </a:rPr>
              <a:t>5. Современная метрология.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овременная метрология – научная дисциплина, опирающаяся на достижения, прежде всего, физики и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Законодательная метрология – комплекс нормативно-правовых и нормативно-технических документов по метрологии, необходимый фактор подготовки и выполнения измерений по единообразным правилам, обеспечивающим сопоставимость результатов изме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трология сегодня глубоко проникла во все области науки, техники, производства и жизни человека, обеспечивая точный контроль, достоверные измерения, лежащие в основе безопасности и качества продукции, услуг, работ. Основной задачей законодательной метрологии было и остается создание необходимых и соответствующих состоянию развития экономики и общества условий для обеспечения единства и достоверности измерений, на национальном и международном уровнях, обеспечения защиты общества и государства от результатов недостоверных изме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Lucida Sans"/>
              </a:rPr>
              <a:t>6. Разделы метрологии.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472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206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оретиче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 – 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здел метрологии, предметом которого является разработка фундаментальных основ метр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c0000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икла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– 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здел метрологии, предметом которого являются вопросы практического применения разработок теоретической метрологии и положений законодательной метр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343336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Законодате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раздел метрологии, предметом которого является установление обязательных технических и юридических требований по применению единиц физических величин, эталонов, методов и средств измерений, направленных на обеспечение единства и необходимости точности измерений в интересах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Lucida Sans"/>
              </a:rPr>
              <a:t>Исторически важные этапы в развитии метрологии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71760"/>
            <a:ext cx="868680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XVIII век — установление эталонаметра (эталон хранится во Франции, в Музее мер и весов; в настоящее время является в большей степени историческим экспонатом, нежели научным инструменто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832 год — создание Карлом Гауссом абсолютных систем едини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875 год — подписание международной Метрической конв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960 год — разработка и установление Международной системы единиц (С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XX век — метрологические исследования отдельных стран координируются Международными метрологическими организ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семирный День метрологии отмечается ежегодно 20 мая. Праздник учрежден Международным Комитетом мер и весов (МКМВ) в октябре 1999 года, на 88 заседании МКМ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>
                <a:solidFill>
                  <a:srgbClr val="ffffff"/>
                </a:solidFill>
                <a:latin typeface="Lucida Sans"/>
              </a:rPr>
              <a:t>Список используемой литературы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1. Кузнецов В.А., Ялунина Г.В. Основы метрологии: Учебное пособие для вузов под редакцией В.А. Кузнецова. – М.: ИПК Издательство стандартов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2. Сергеев А.Г., Латышев М.В., Терегеря В.В. Метрология, стандартизация, сертификация: Учебное пособие. – М.: Логос,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3. Сергеев А.Г., Латышев М.В., Терегеря В.В. Метрология: Учебник для вузов. – М.: Логос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Lucida Sans"/>
              </a:rPr>
              <a:t>Содержание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. Определение понятия метрология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. Зарождение метрологических еди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3. Основные периоды метр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4. Становление и различия метрологии в СССР и капиталистическ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5. Современная метр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6. Разделы метр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7. Исторически важные этапы развития метр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8. Список используем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842976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Lucida Sans"/>
              </a:rPr>
              <a:t>Метрология</a:t>
            </a:r>
            <a:r>
              <a:rPr b="0" lang="ru-RU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(от греч. μέτρον — мера, измерительный инструмент) — наука об измерениях, методах и средствах обеспечения их единства и способах достижения требуемой точности. Предметом метрологии является извлечение количественной информации о свойствах объектов с заданной точностью и достоверностью. Средством метрологии является совокупность измерений и метрологических стандартов, обеспечивающих требуемую точность</a:t>
            </a:r>
            <a:r>
              <a:rPr b="0" lang="ru-RU" sz="24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/>
          <p:nvPr/>
        </p:nvSpPr>
        <p:spPr>
          <a:xfrm>
            <a:off x="285840" y="357120"/>
            <a:ext cx="8358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1. Определение понятия метрология 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85840"/>
            <a:ext cx="9144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Book Antiqua"/>
              </a:rPr>
              <a:t>Потребность в измерениях появилась давно. Для выполнения измерений в древности использовались подручные средства. Из глубины веков дошли до нас единица веса драгоценных камней - карат, что в переводе с языков древнего юго-востока означает "семя боба", "горошина", единица аптекарского веса - гран, что в переводе с латинского, французского, испанского означает "зерно"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Book Antiqua"/>
              </a:rPr>
              <a:t>Многие меры имели антропометрическое происхождение или были связаны с конкретной трудовой деятельностью человека. Так, в Киевской Руси в обиходе применялись вершок ("верх перста") - длина фаланги указательного пальца; пядь (от "пять", "пятерня") - расстояние между концами вытянутых большого и указательного пальцев; локоть - расстояние от локтя до конца среднего пальца; сажень (от "сягать", "достигать") - то, что можно достать; косая сажень (предел того, что можно достать) - расстояние от подошвы левой ноги до конца среднего пальца вытянутой вверх правой руки; верста (от "верти", "поворачивай" плуг или соху обратно) - длина борозды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Book Antiqua"/>
              </a:rPr>
              <a:t>Древнее происхождение имеют и меры времени. На основе астрономических наблюдений древние вавилоняне установили год, месяц и час. Впоследствии 1/86400 часть среднего периода обращения Земли вокруг своей оси получила название секунды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Book Antiqua"/>
              </a:rPr>
              <a:t>Древние вавилоняне во II в. до н.э. предложили измерять время в минах. Мина равнялась промежутку времени (примерно, два астрономических часа), за который из принятых в Вавилоне водяных часов 3 вытекала "мина" воды, масса которой составляла 500 г. Впоследствии мина превратилась в привычную для нас минуту. Со временем водяные часы уступили место песочным, а затем более сложным маятниковым механизмам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44380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В Древней Руси метрологической службы не существовало. Однако имеются сведения о применении образцовых мер и хранении их в церквях и монастырях, а также о ежегодных поверках средств измерений. Например, "золотой пояс" великого князя Святослава Ярославича служил образцовой мерой дл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В Уставе новгородского князя Всеволода "О церковных судах и о людях, и о мерилах торговли", изданном в 1136 г., предписывалось "торговые все весы и мерила блюсти без пакости, не умаливати, ни умножати, а всякий год извещивати...". Нарушитель этих предписаний мог быть наказан вплоть до "...предания казни смертию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Важнейшим метрологическим документом является Двинская грамота Ивана Грозного (1550 г.). В ней регламентированы правила хранения и передачи размера новой меры сыпучих веществ-осьмины. Ее медные экземпляры рассылались по городам на хранение выборным людям-старостам, соцким и целовальникам. С этих мер предписывалось сделать клейменные деревянные "копии для использования и обих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Образцовые меры, с которых снимались первые копии, хранились в приказах Московского государства. Эти данные свидетельствуют о том, что при Иване Грозном начала создаваться государственная система обеспечения единства измерений и государственная метрологическая служ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Московские указы по введению единых мер в стране отсылались на места совместно с образцами государственных мер. Работы по надзору за мерами и их поверку проводили два столичных учреждения: Померная изба и Большая таможня. В провинции надзор был поручен персоналу воеводских и земских изб, а также старостам, целовальникам и другим "верным людям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Государственная дисциплина была суровой. За злоумышленную порч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контрольных мер грозило серьезное наказание - вплоть до смертной ка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Lucida Sans"/>
              </a:rPr>
              <a:t>2. Зарождение метрологических единиц.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ольшую работу в области метрологических реформ провел Петр I. Указом к обращению в России были допущены английские меры, получившие широкое распространение на флоте, в армии и в кораблестроении, - футы и дюймы. Для облегчения вычислений были изданы таблицы мер и соотношений между русскими и иностранными мерами. В это время начали формироваться метрологические центры. Koмepц-коллегия занялась вопросами единства мер и метрологического обслуживания в области торговли. Адмиралтейств-коллегия контролировала правильное применение угломерных приборов, компасов и других навигационных приспособлений. Берг-коллегия опекала измерительное хозяйство горных заводов, рудников и монетных дв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снованная в 1725 г. Петербургская академия наук осуществляла воспроизводство угловых единиц, единиц времени и температуры. Она имела в своем распоряжении образцовые меры и копии эталонов туаза и фунта. Практика настоятельно требовала создания в стране единого метрологического цен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1736 г. по решению Сената была образована Комиссия весов и мер под председательством главного директора Монетного двора графа M. Г. Головкина. В качестве исходных мер длины комиссия изготовила медный аршин и деревянную сажень, за меру жидких веществ было принято ведро московского Каменномостского питейного двора. B качестве эталона веса был взят фунт. Эталоном служила бронзовая золоченая гиря. Этот государственный эталон просуществовал почти 10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712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омиссия начала проводить работу по построению системы измерений на десятичной основе. Впервые идею построения системы на десятичной основе высказал французский астроном Г. Мутон, живший в XVII в. во Франции, где феодалы имели право пользоваться своими собственными мерами, содержать таможни и собирать пошлину, вопрос о рациональной системе мер стоял особо остро. Понадобилась революция, взлет творческой активности народа, чтобы идея пробила себе дорогу. 8 мая 1790 г. Учредительное собрание Франции приняло декрет о реформе системы мер и поручило Парижской академии наук разработать соответствующие предложения. Комиссия академии, руководимая Лагранжем, рекомендовала десятичное подразделение кратных и дольных единиц. Другая комиссия, во главе которой стоял Лаплас, предложила принять в качестве единицы длины одну сорокамиллионную часть земного меридиана. На основе этой единственной единицы - метра - строилась вся система, получившая название метриче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За единицу площади принимался квадратный метр, за единицу объема - кубический метр, за единицу массы - килограмм (масса кубического дециметра чистой воды при температуре 4 °С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трическая система с самого начала была задумана как междунаро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5840" y="642960"/>
            <a:ext cx="82296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6 марта 1791 г. Учредительное собрание Франции утвердило предложения Парижской академии наук. Национальный Конвент признал, что дело реформы мер и весов, "как одно из величайших благодеяний революции, должно быть доведено республикой до конц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7 апреля 1795 г. Конвент принял закон о введении метрической системы во Франции и поручил комиссарам (Кулону, Деламбру, Лагранжу и Лапласу) выполнить работы по экспериментальному определению единиц длины и массы. В 1799 г. эта работа была закончена. Утвержденные законам платиновые прототипы метра и килограмма были сданы на хранение в Архив Франции и получили название архив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трическая система внедрялась с большим трудом. Наполеон, став императором Франции, считал, что "нет ничего более противоречивого складу ума, памяти и соображению, чем-то, что предлагают эти ученые. Абстракциям и пустым надеждам принесено в жертву благо теперешних поколений, ибо, чтобы заставить старую нацию принять новые единицы мер и весов, надо переделать все административные правила, все расчеты промышленности. Такая работа устрашает разум". В 1812 г. он подписал указ о введении новой системы единиц, в которую вернул туаз, приравненный к 2 метрам, и другие единицы со старыми наименованиями, но увязанные с метрической системой. Законом от 4 июля 1837 г. исправленная метрическая система была окончательно введена во Франции с 1 января 11840 г. как обязате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Lucida Sans"/>
              </a:rPr>
              <a:t>3. Основные периоды метрологии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700" spc="-1" strike="noStrike">
                <a:solidFill>
                  <a:srgbClr val="ffffff"/>
                </a:solidFill>
                <a:latin typeface="Book Antiqua"/>
              </a:rPr>
              <a:t>Первый период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3800" spc="-1" strike="noStrike">
                <a:solidFill>
                  <a:srgbClr val="ffffff"/>
                </a:solidFill>
                <a:latin typeface="Book Antiqua"/>
              </a:rPr>
              <a:t>- метрология Киевской Руси (XI-XII вв.). Практика ремесел, торговли и строительства привела к созданию системы мер, удовлетворявшей потребности того времени, оказавшейся устойчивой на протяжении ряда столетий и дошедшей до наших времен. Русские строители усовершенствовали систему мер длины, которая включала версту, сажень, локоть и пядь (1189,5 м, 152 см, 51 см, 19 см). Соотношения между этими величинами примерно следующие: 1 верстая: 780 саженям 2З30 локтях 6260 пядя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Book Antiqua"/>
              </a:rPr>
              <a:t>В Древней Руси были разработаны и меры объема сыпучих тел и жидкостей. Основная система мер для сыпучих тел выражалась следующей схемой: 1 кадь = 2 половникам = 4 четвертям = 8 осьмина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Book Antiqua"/>
              </a:rPr>
              <a:t>Для мер жидкости наиболее употребительными являлись бочка, ведро, корчага. Одна бочка содержала 10 ведер, а ведро - 24 фунта воды (около 10 кг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Book Antiqua"/>
              </a:rPr>
              <a:t>В качестве мер веса использовались берковец, пуд, гривна, гривенка, золотник. Такая мера веса, как пуд, существует и в настоящее время (16 кг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Book Antiqua"/>
              </a:rPr>
              <a:t>В этот период были разработаны и основные правила взвешивания. Весовщики не должны были касаться руками весов и гирь в момент определения равновесия. Практиковалась перемена местами гирь и товара на чашках весов. Эти факты можно рассматривать как зарождение еще в эпоху Киевской Руси службы единства измерени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