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482-2076-44A3-8DC7-2DC96ED8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135C-BDA9-446C-BD15-77B2445E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D874-ED1A-412B-8187-05D8C668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636-507C-4E6A-99B5-21E9D068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D43E-EA12-4BB4-859C-BD99A6A1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F4B1F-F22B-4EBF-B512-F6A17CDA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62FB-DAFD-45DB-8A96-5964A67D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88F6D-2F49-4B11-A66A-88C711EA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8BEC-1151-4227-9F21-79946C95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8DBD-3BB5-4E39-8095-5B04F47A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CEFF-3402-474D-9DDD-9DB0F881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79F-C2B8-4A13-80EF-AA4E90D1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4ECA-CA7F-4338-A942-4441E81E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B604-7475-45C4-9188-47DE7C36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F026-A4A2-48E3-83A4-884BF7DE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6EC4-C7CD-491A-94D5-2CD7BECD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879B-A6F3-4D7B-B255-62232EBB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A6F-6ECD-4E41-8A59-89BE8731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B75-143C-47F1-96CC-B8E6FF19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2D2-5360-459C-872C-FD137275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2CEF-7E8B-4424-9C6E-4C6A525E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6D5-4FC5-4903-AA93-579D0475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6B6A-F2A3-4482-A02D-5CEC8242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E477-2256-478D-916F-579E6A07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424E-659E-4CA9-86C0-B714F01F475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770D-3BF1-4DA3-AA37-627821BE481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"/>
              </a:rPr>
              <a:t>«</a:t>
            </a:r>
            <a:r>
              <a:rPr b="0" lang="en-US" sz="2800" spc="-1" strike="noStrike">
                <a:solidFill>
                  <a:srgbClr val="703dff"/>
                </a:solidFill>
                <a:latin typeface="comic"/>
              </a:rPr>
              <a:t>Я и моя семья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ОЕКТ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Мой двоюродный брат Арсений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00240" y="182880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572000" y="1828800"/>
            <a:ext cx="3809880" cy="3657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Я не брошу тебя никогда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Буду рядом с тобою всегда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Я в беде не оставлю, клянусь!!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ы мой брат, и я этим горжусь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27432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ff"/>
                </a:solidFill>
                <a:latin typeface="Comic Sans MS"/>
              </a:rPr>
              <a:t>Я и моя крестная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10160" y="2243160"/>
            <a:ext cx="3771720" cy="28288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1828800"/>
            <a:ext cx="3733920" cy="3657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Лучшей крестной на всем белом свете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Я желаю счастья, здоровья, тепла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Пусть будет в жизни всё, что нужно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Чем жизнь бывает хороша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Любовь, здоровье, счастье, дружба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И вечно юная душа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990720" y="1828800"/>
            <a:ext cx="2895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3520" y="533520"/>
            <a:ext cx="7467480" cy="44956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Невозможно - это всего лиш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громкое слово, за которым прячу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маленькие люди, </a:t>
            </a:r>
            <a:r>
              <a:rPr b="0" lang="ru-RU" sz="1800" spc="-1" strike="noStrike">
                <a:solidFill>
                  <a:srgbClr val="e46c0a"/>
                </a:solidFill>
                <a:latin typeface="Comic Sans MS"/>
              </a:rPr>
              <a:t>им проще ж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omic Sans MS"/>
              </a:rPr>
              <a:t>в привычном мире, чем найти в себ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Comic Sans MS"/>
              </a:rPr>
              <a:t>силы его измен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Comic Sans MS"/>
              </a:rPr>
              <a:t>Невозможно - это не факт. Это только м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omic Sans MS"/>
              </a:rPr>
              <a:t>Невозможно - это не приговор. Это вы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Comic Sans MS"/>
              </a:rPr>
              <a:t>Невозможно - это шанс проверить 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Comic Sans MS"/>
              </a:rPr>
              <a:t>Невозможно - это не навсег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04a7b"/>
                </a:solidFill>
                <a:latin typeface="Comic Sans MS"/>
              </a:rPr>
              <a:t>Невозможное ВОЗМОЖ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Проект: « Я и моя семья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Выполнил: ученик 8б класс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МОУ « СШ № 3» г Джанко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Станциер Герма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1143000"/>
            <a:ext cx="6705720" cy="441972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я семья – э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ма –Надежда Геннад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абушка- Мария Иван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Я- Станциер Герм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17400" y="152388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Семья Станци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29000" y="3733920"/>
            <a:ext cx="2286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Comic Sans MS"/>
              </a:rPr>
              <a:t>Семья Станциер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/>
          <p:nvPr/>
        </p:nvSpPr>
        <p:spPr>
          <a:xfrm>
            <a:off x="1447920" y="1905120"/>
            <a:ext cx="5867280" cy="3200400"/>
          </a:xfrm>
          <a:prstGeom prst="rect">
            <a:avLst/>
          </a:prstGeom>
          <a:solidFill>
            <a:srgbClr val="53f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 - серье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 – терпели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А - акти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 - надеж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Ц – целенаправл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 – интерес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Е – единодуш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Р- решительны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1526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Пословицы и поговорки о семье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828800"/>
            <a:ext cx="7543800" cy="3048120"/>
          </a:xfrm>
          <a:prstGeom prst="rect">
            <a:avLst/>
          </a:prstGeom>
          <a:solidFill>
            <a:srgbClr val="ee78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оя семья – моя креп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большой семье и сам больш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Человек без семьи, что дерево без 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родной семье и каша гущ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и солнышке тепло, при матери доб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 гостях хорошо, а дома луч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огласье в семье – богат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ся семья вместе, так и душа на 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Unicode MS"/>
              </a:rPr>
              <a:t>Любовь да совет — там горя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емья сильна, когда над ней крыша од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тих о семье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1828800"/>
            <a:ext cx="5105160" cy="3657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емья-это слово нам многое скаже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емья нам с рожденья в путь жизни покаже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 каждый, какой бы с ней не был момент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олшебней, роднее моментов и не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емья с нами рядом всегда и везде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на много значит в каждой судь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666880" y="3505320"/>
            <a:ext cx="297180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Знакомьтесь это я!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10160" y="2243160"/>
            <a:ext cx="3771720" cy="2828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5800" y="1828800"/>
            <a:ext cx="3733920" cy="36576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еня зовут Герман. Мне 12 л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 нас очень веселая и друж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емья и я их очень люб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274320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78e0"/>
                </a:solidFill>
                <a:latin typeface="Comic Sans MS"/>
              </a:rPr>
              <a:t>Я и моя мам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200240" y="182880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95680" y="1828800"/>
            <a:ext cx="3886200" cy="3657600"/>
          </a:xfrm>
          <a:prstGeom prst="rect">
            <a:avLst/>
          </a:prstGeom>
          <a:solidFill>
            <a:srgbClr val="53f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амочка, любимая, ты моя родная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учшая на свете, точно знаю я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Ты одна, мамуля, добрая такая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амая при самая мамочка м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029200" y="2971800"/>
            <a:ext cx="28195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Я и моя бабушка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124600" y="182880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57200" y="1828800"/>
            <a:ext cx="4495680" cy="3886200"/>
          </a:xfrm>
          <a:prstGeom prst="rect">
            <a:avLst/>
          </a:prstGeom>
          <a:solidFill>
            <a:srgbClr val="ee78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Я с бабушкой своею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Дружу давным-давно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на во всех затеях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о мною заодно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Я с ней не знаю скуки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 все мне любо в ней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о бабушкины руки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Люблю всего силь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048120" y="2438280"/>
            <a:ext cx="1733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8T19:29:07Z</dcterms:created>
  <dc:creator>computer</dc:creator>
  <dc:description/>
  <dc:language>en-US</dc:language>
  <cp:lastModifiedBy>computer</cp:lastModifiedBy>
  <dcterms:modified xsi:type="dcterms:W3CDTF">2016-10-03T17:48:46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