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A6B7-444D-47D1-94A7-48F53156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289B-B076-4E3A-A85C-2B0C54D5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8C52-03C7-4CFD-8AAE-AD362BE0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2E54-38F4-4872-87F9-1ED380E9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06A1-EB8F-4FD8-8318-905998E0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7438-7B3A-427A-AE75-EC145AEB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30F2-6EA6-4F0A-92E4-5FE0E6CD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2BE1-A620-4DD4-B551-CF100066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A5BA-5873-45A1-B2DF-2195551F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9D92-C12B-43AD-8AA8-70D52224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BDF4-8A92-42CB-B516-77C4456F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AD3D-2858-457A-A06F-196B9591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9369-00B2-4DA4-B584-6CDDDCE1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371A-AD3A-4C51-9D1D-64DDBC80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B731-AD25-42C3-BE00-41D0CAD1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7895-84F5-4D7C-B499-82B6E311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ED42-1826-4ACC-912A-D7093D7F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5D66-22ED-4E9E-9765-F55C4C41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BD17-7656-4B96-B99F-D95F46E3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3363-CAA8-4A3C-9CED-D98F593B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DC10-B008-4A65-BE03-D4AD25D3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A0B3-B767-4CA2-B97D-69A20B4A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4B1-FC69-4A82-8E39-8E196FA2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A50F-9251-4B9A-AFD0-01548787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9225-CDBA-46C9-83F5-857AF42E8B6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7B50-8BE1-4967-A13A-3523A5FE2D0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«</a:t>
            </a:r>
            <a:r>
              <a:rPr b="0" lang="en-US" sz="2800" spc="-1" strike="noStrike">
                <a:solidFill>
                  <a:srgbClr val="703dff"/>
                </a:solidFill>
                <a:latin typeface="comic"/>
              </a:rPr>
              <a:t>Я и моя семья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ОЕКТ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Мой двоюродный брат Арсений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00240" y="1828800"/>
            <a:ext cx="2743200" cy="36576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572000" y="1828800"/>
            <a:ext cx="3809880" cy="3657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Я не брошу тебя никогда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уду рядом с тобою всегда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Я в беде не оставлю, клянусь!!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ы мой брат, и я этим горжусь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27432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Comic Sans MS"/>
              </a:rPr>
              <a:t>Я и моя крестная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10160" y="2243160"/>
            <a:ext cx="3771720" cy="28288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85800" y="1828800"/>
            <a:ext cx="3733920" cy="3657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Лучшей крестной на всем белом свете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Я желаю счастья, здоровья, тепла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усть будет в жизни всё, что нужно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Чем жизнь бывает хороша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Любовь, здоровье, счастье, дружба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И вечно юная душа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2895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33520" y="533520"/>
            <a:ext cx="7467480" cy="4495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Невозможно - это всего лиш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громкое слово, за которым прячу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маленькие люди, </a:t>
            </a:r>
            <a:r>
              <a:rPr b="0" lang="ru-RU" sz="1800" spc="-1" strike="noStrike">
                <a:solidFill>
                  <a:srgbClr val="e46c0a"/>
                </a:solidFill>
                <a:latin typeface="Comic Sans MS"/>
              </a:rPr>
              <a:t>им проще ж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Comic Sans MS"/>
              </a:rPr>
              <a:t>в привычном мире, чем найти в себ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Comic Sans MS"/>
              </a:rPr>
              <a:t>силы его измен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Невозможно - это не факт. Это только м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omic Sans MS"/>
              </a:rPr>
              <a:t>Невозможно - это не приговор. Это вы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Невозможно - это шанс проверить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omic Sans MS"/>
              </a:rPr>
              <a:t>Невозможно - это не навсег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4a7b"/>
                </a:solidFill>
                <a:latin typeface="Comic Sans MS"/>
              </a:rPr>
              <a:t>Невозможное ВОЗМОЖ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Проект: « Я и моя семья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Выполнил: ученик 8б класс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МОУ « СШ № 3» г Джанко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Станциер Герма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1143000"/>
            <a:ext cx="6705720" cy="4419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я семья – э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ма –Надежда Геннад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абушка- Мария Иван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Я- Станциер Герм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17400" y="152388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Семья Станци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29000" y="373392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Семья Станциер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1905120"/>
            <a:ext cx="5867280" cy="3200400"/>
          </a:xfrm>
          <a:prstGeom prst="rect">
            <a:avLst/>
          </a:prstGeom>
          <a:solidFill>
            <a:srgbClr val="53f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 - серье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 – терпели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 - актив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 - надеж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Ц – целенаправл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 – интерес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Е – единодуш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- решительны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Пословицы и поговорки о семь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828800"/>
            <a:ext cx="7543800" cy="3048120"/>
          </a:xfrm>
          <a:prstGeom prst="rect">
            <a:avLst/>
          </a:prstGeom>
          <a:solidFill>
            <a:srgbClr val="ee78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оя семья – моя креп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 большой семье и сам больш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Человек без семьи, что дерево без кор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 родной семье и каша гущ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и солнышке тепло, при матери добр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 гостях хорошо, а дома луч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огласье в семье – богат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ся семья вместе, так и душа на ме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Unicode MS"/>
              </a:rPr>
              <a:t>Любовь да совет — там горя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емья сильна, когда над ней крыша од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тих о семье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1828800"/>
            <a:ext cx="5105160" cy="3657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емья-это слово нам многое скаже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емья нам с рожденья в путь жизни покаже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 каждый, какой бы с ней не был момент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олшебней, роднее моментов и не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емья с нами рядом всегда и везде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на много значит в каждой судь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666880" y="3505320"/>
            <a:ext cx="297180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Знакомьтесь это я!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10160" y="2243160"/>
            <a:ext cx="3771720" cy="2828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85800" y="1828800"/>
            <a:ext cx="3733920" cy="3657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еня зовут Герман. Мне 12 л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 нас очень веселая и друж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емья и я их очень люб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066680" y="3124080"/>
            <a:ext cx="274320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78e0"/>
                </a:solidFill>
                <a:latin typeface="Comic Sans MS"/>
              </a:rPr>
              <a:t>Я и моя мам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200240" y="1828800"/>
            <a:ext cx="2743200" cy="36576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495680" y="1828800"/>
            <a:ext cx="3886200" cy="3657600"/>
          </a:xfrm>
          <a:prstGeom prst="rect">
            <a:avLst/>
          </a:prstGeom>
          <a:solidFill>
            <a:srgbClr val="53f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амочка, любимая, ты моя родная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Лучшая на свете, точно знаю я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ы одна, мамуля, добрая такая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амая при самая мамочка мо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029200" y="2971800"/>
            <a:ext cx="2819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Я и моя бабушк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124600" y="1828800"/>
            <a:ext cx="2743200" cy="3657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57200" y="1828800"/>
            <a:ext cx="4495680" cy="3886200"/>
          </a:xfrm>
          <a:prstGeom prst="rect">
            <a:avLst/>
          </a:prstGeom>
          <a:solidFill>
            <a:srgbClr val="ee78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Я с бабушкой своею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ружу давным-давно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на во всех затеях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о мною заодно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Я с ней не знаю скуки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 все мне любо в ней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о бабушкины руки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Люблю всего силь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048120" y="2438280"/>
            <a:ext cx="1733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8T19:29:07Z</dcterms:created>
  <dc:creator>computer</dc:creator>
  <dc:description/>
  <dc:language>en-US</dc:language>
  <cp:lastModifiedBy>computer</cp:lastModifiedBy>
  <dcterms:modified xsi:type="dcterms:W3CDTF">2016-10-03T17:48:4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