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32A6F-5A2A-4B02-BE87-DB49F0E09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49405-67FE-48DA-904A-8EB9CD208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4F46C-B7CB-40A9-B485-FFE82926D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3BEA5-D434-4416-900F-2806A6A4D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D9870-FA67-4835-B6FE-6B1A13A23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8A6F1-C86C-411A-9333-9A5EA2632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9CE51-C164-4219-BB94-80B01DADA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3B510-D35E-4803-962C-754B3CDB1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2A3DF-9506-40D5-BB76-4D425BBC5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7D475-C4DD-46E9-B45D-D51821887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C944C-3641-4D37-94F2-C7A5783D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29A73-2690-47F2-B2D6-D52951A6E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957E6-0536-4E5F-B3A1-BEA7748B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5F117-719B-4B1E-A20E-B76CFD05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6E515-DB6A-490B-84C7-0F58E436E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A2FE0-8AF9-4CBF-BE44-F7ACE5E7B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A97D7-ED21-4F05-AF0B-ED89142E7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C6B2D-1D35-4412-B3FB-AA3BEA68C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3652A-98EE-4717-B2FE-2805B0764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9B8B6-0D25-4A53-949B-253653E66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07A94-5147-441D-BD82-6246C7D0A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B0D3D-254D-4D07-A194-2FE5EE65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75DB8-927C-4622-A0AA-E2A85D89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DFFB1-85FE-40AC-8C46-1CF37713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33C59-956E-4E6C-A5CB-73484E5083AA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62321-D67F-4F7D-98EC-8A4B7068CE8E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15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Презентация к внеклассному мероприятию по литературе</a:t>
            </a:r>
            <a:br>
              <a:rPr sz="42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357440" y="3428640"/>
            <a:ext cx="4329000" cy="27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читель русского языка и литературы Половинкина Людмила Николаев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714560" y="928800"/>
            <a:ext cx="442908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есть лет промчалось, как мечтанье,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объятьях сладкой тишины,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уж Отечества призванье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емит нам, шествуйте, сыны!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стимся, братья! Руку в руку!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нимемся в последний раз!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дьба на вечную разлуку,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ыть может, здесь сроднила нас!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4" descr="Рисунок1"/>
          <p:cNvPicPr/>
          <p:nvPr/>
        </p:nvPicPr>
        <p:blipFill>
          <a:blip r:embed="rId1"/>
          <a:srcRect l="0" t="0" r="1814" b="0"/>
          <a:stretch/>
        </p:blipFill>
        <p:spPr>
          <a:xfrm>
            <a:off x="214200" y="928800"/>
            <a:ext cx="4432320" cy="5763960"/>
          </a:xfrm>
          <a:prstGeom prst="rect">
            <a:avLst/>
          </a:prstGeom>
          <a:ln w="0">
            <a:noFill/>
          </a:ln>
        </p:spPr>
      </p:pic>
      <p:sp>
        <p:nvSpPr>
          <p:cNvPr id="151" name="Прямоугольник 3"/>
          <p:cNvSpPr/>
          <p:nvPr/>
        </p:nvSpPr>
        <p:spPr>
          <a:xfrm>
            <a:off x="357120" y="214200"/>
            <a:ext cx="835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 окончании Лице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Calibri"/>
              </a:rPr>
              <a:t>Пушкин в Михайловском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3" name="Picture 4" descr="C:\Users\7\Desktop\Пушкин картинки\0089-004.jpg"/>
          <p:cNvPicPr/>
          <p:nvPr/>
        </p:nvPicPr>
        <p:blipFill>
          <a:blip r:embed="rId1"/>
          <a:stretch/>
        </p:blipFill>
        <p:spPr>
          <a:xfrm>
            <a:off x="214200" y="1071720"/>
            <a:ext cx="8786880" cy="5572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Calibri"/>
              </a:rPr>
              <a:t>Наталья Николаевна Гончаров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857480" y="1856880"/>
            <a:ext cx="414324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Исполнились мои желания. Творец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Тебя мне ниспослал, тебя, моя Мадонна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Чистейшей прелести чистейший образец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4" descr="C:\Users\7\Desktop\Пушкин картинки\1(407x407)[55439].jpg"/>
          <p:cNvPicPr/>
          <p:nvPr/>
        </p:nvPicPr>
        <p:blipFill>
          <a:blip r:embed="rId1"/>
          <a:stretch/>
        </p:blipFill>
        <p:spPr>
          <a:xfrm>
            <a:off x="214200" y="1143000"/>
            <a:ext cx="4500720" cy="5429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Пушкин и Гончаров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8" name="Picture 3" descr="C:\Users\7\Desktop\Пушкин картинки\17126371366021373 - копия.jpg"/>
          <p:cNvPicPr/>
          <p:nvPr/>
        </p:nvPicPr>
        <p:blipFill>
          <a:blip r:embed="rId1"/>
          <a:stretch/>
        </p:blipFill>
        <p:spPr>
          <a:xfrm>
            <a:off x="142920" y="1285920"/>
            <a:ext cx="4122720" cy="54291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C:\Users\7\Desktop\Пушкин картинки\13f84b22947d.jpg"/>
          <p:cNvPicPr/>
          <p:nvPr/>
        </p:nvPicPr>
        <p:blipFill>
          <a:blip r:embed="rId2"/>
          <a:stretch/>
        </p:blipFill>
        <p:spPr>
          <a:xfrm>
            <a:off x="4643280" y="1285920"/>
            <a:ext cx="4357800" cy="5429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На балу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1" name="Picture 4" descr="C:\Users\7\Desktop\Пушкин картинки\59954134_1275810763_index_picphp.jpg"/>
          <p:cNvPicPr/>
          <p:nvPr/>
        </p:nvPicPr>
        <p:blipFill>
          <a:blip r:embed="rId1"/>
          <a:srcRect l="0" t="0" r="498" b="406"/>
          <a:stretch/>
        </p:blipFill>
        <p:spPr>
          <a:xfrm>
            <a:off x="214200" y="1214280"/>
            <a:ext cx="8715600" cy="5500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Calibri"/>
              </a:rPr>
              <a:t>Жорж Дантес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3" name="Picture 4" descr="C:\Users\7\Desktop\Пушкин картинки\ee65ae0051a4f1d34bcd6bd052410e63.jpg"/>
          <p:cNvPicPr/>
          <p:nvPr/>
        </p:nvPicPr>
        <p:blipFill>
          <a:blip r:embed="rId1"/>
          <a:stretch/>
        </p:blipFill>
        <p:spPr>
          <a:xfrm>
            <a:off x="142920" y="1285920"/>
            <a:ext cx="8858160" cy="5429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Calibri"/>
              </a:rPr>
              <a:t>Дуэль Пушкина с Дантесом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5" name="Picture 4" descr="C:\Users\7\Desktop\Пушкин картинки\2671.jpg"/>
          <p:cNvPicPr/>
          <p:nvPr/>
        </p:nvPicPr>
        <p:blipFill>
          <a:blip r:embed="rId1"/>
          <a:stretch/>
        </p:blipFill>
        <p:spPr>
          <a:xfrm>
            <a:off x="142920" y="1285920"/>
            <a:ext cx="8858160" cy="5429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Calibri"/>
              </a:rPr>
              <a:t>После дуэл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7" name="Picture 4" descr="C:\Users\7\Desktop\Пушкин картинки\0_70c4b_a69eea5d_XL.jpg"/>
          <p:cNvPicPr/>
          <p:nvPr/>
        </p:nvPicPr>
        <p:blipFill>
          <a:blip r:embed="rId1"/>
          <a:stretch/>
        </p:blipFill>
        <p:spPr>
          <a:xfrm>
            <a:off x="142920" y="1357200"/>
            <a:ext cx="8858160" cy="5357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Calibri"/>
              </a:rPr>
              <a:t>У дома Пушкин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rcRect l="4695" t="4199" r="4695" b="4199"/>
          <a:stretch/>
        </p:blipFill>
        <p:spPr>
          <a:xfrm>
            <a:off x="285840" y="1143000"/>
            <a:ext cx="8572320" cy="5500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Calibri"/>
              </a:rPr>
              <a:t>Святогорский монастырь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rcRect l="7612" t="6299" r="7612" b="6299"/>
          <a:stretch/>
        </p:blipFill>
        <p:spPr>
          <a:xfrm>
            <a:off x="5072040" y="1214280"/>
            <a:ext cx="3857760" cy="5500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"/>
          <p:cNvPicPr/>
          <p:nvPr/>
        </p:nvPicPr>
        <p:blipFill>
          <a:blip r:embed="rId2"/>
          <a:srcRect l="4168" t="6299" r="4168" b="6299"/>
          <a:stretch/>
        </p:blipFill>
        <p:spPr>
          <a:xfrm>
            <a:off x="214200" y="1214280"/>
            <a:ext cx="4521240" cy="5500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857840" y="1428480"/>
            <a:ext cx="4286160" cy="4714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Это имя – знакомое с детства –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Вместе с грамотой впаяно в речь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Надо заново в имя вглядеться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Чтобы заново знать и беречь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Это имя – веселое рвенье,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вдохновенье ночного труда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Нестареющее вдохновенье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Не сгорающее никогда.</a:t>
            </a:r>
            <a:br>
              <a:rPr sz="24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9" name="Picture 4" descr="C:\Users\7\Desktop\Пушкин картинки\69120776_Pushkin.jpg"/>
          <p:cNvPicPr/>
          <p:nvPr/>
        </p:nvPicPr>
        <p:blipFill>
          <a:blip r:embed="rId1"/>
          <a:stretch/>
        </p:blipFill>
        <p:spPr>
          <a:xfrm>
            <a:off x="0" y="928800"/>
            <a:ext cx="4857840" cy="571500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5"/>
          <p:cNvSpPr/>
          <p:nvPr/>
        </p:nvSpPr>
        <p:spPr>
          <a:xfrm>
            <a:off x="285840" y="142920"/>
            <a:ext cx="8643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  <a:ea typeface="Calibri"/>
              </a:rPr>
              <a:t>  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Calibri"/>
              </a:rPr>
              <a:t>Памяти А.С.Пушкина (1799 -1837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00840" y="1071720"/>
            <a:ext cx="3000240" cy="5643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Забвенья нет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как нет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Старенья,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угасанья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И камня тоже нет,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и бронзы тоже нет, -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В невольной смене лет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Есть времени дыханье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Есть жизнь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есть свет земной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И есть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для нас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Поэт.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4" name="Picture 3" descr="C:\Users\7\Desktop\Пушкин картинки\tzarsky_licei29july11-02.jpg"/>
          <p:cNvPicPr/>
          <p:nvPr/>
        </p:nvPicPr>
        <p:blipFill>
          <a:blip r:embed="rId1"/>
          <a:srcRect l="7370" t="0" r="3402" b="0"/>
          <a:stretch/>
        </p:blipFill>
        <p:spPr>
          <a:xfrm>
            <a:off x="142920" y="928800"/>
            <a:ext cx="5808600" cy="5786280"/>
          </a:xfrm>
          <a:prstGeom prst="rect">
            <a:avLst/>
          </a:prstGeom>
          <a:ln w="0">
            <a:noFill/>
          </a:ln>
        </p:spPr>
      </p:pic>
      <p:sp>
        <p:nvSpPr>
          <p:cNvPr id="175" name="Прямоугольник 3"/>
          <p:cNvSpPr/>
          <p:nvPr/>
        </p:nvSpPr>
        <p:spPr>
          <a:xfrm>
            <a:off x="214200" y="142920"/>
            <a:ext cx="842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мятник А.С.Пушкин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3" descr="C:\Users\7\Desktop\Пушкин картинки\70233945_1296879858_pushkin_i_natali_pamyatnik.jpg"/>
          <p:cNvPicPr/>
          <p:nvPr/>
        </p:nvPicPr>
        <p:blipFill>
          <a:blip r:embed="rId1"/>
          <a:srcRect l="0" t="2367" r="0" b="0"/>
          <a:stretch/>
        </p:blipFill>
        <p:spPr>
          <a:xfrm>
            <a:off x="142920" y="925560"/>
            <a:ext cx="8858160" cy="5789520"/>
          </a:xfrm>
          <a:prstGeom prst="rect">
            <a:avLst/>
          </a:prstGeom>
          <a:ln w="0">
            <a:noFill/>
          </a:ln>
        </p:spPr>
      </p:pic>
      <p:sp>
        <p:nvSpPr>
          <p:cNvPr id="177" name="Прямоугольник 2"/>
          <p:cNvSpPr/>
          <p:nvPr/>
        </p:nvSpPr>
        <p:spPr>
          <a:xfrm>
            <a:off x="142920" y="142920"/>
            <a:ext cx="878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мятник Пушкину и Гончарово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00360" y="499680"/>
            <a:ext cx="4500360" cy="56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дали узнаю силуэ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ловы наклон, осанку, плеч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инный плащ накинут нараспах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усинки дождинок – вдоль опуш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пельки в кудрявых волосах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 люблю Вас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………………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. Александр Пушкин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Picture 4" descr="picture"/>
          <p:cNvPicPr/>
          <p:nvPr/>
        </p:nvPicPr>
        <p:blipFill>
          <a:blip r:embed="rId1"/>
          <a:srcRect l="4675" t="1218" r="2309" b="11639"/>
          <a:stretch/>
        </p:blipFill>
        <p:spPr>
          <a:xfrm>
            <a:off x="142920" y="857160"/>
            <a:ext cx="4143240" cy="5786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180" name="Прямоугольник 3"/>
          <p:cNvSpPr/>
          <p:nvPr/>
        </p:nvSpPr>
        <p:spPr>
          <a:xfrm>
            <a:off x="142920" y="142920"/>
            <a:ext cx="878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юбовь к Пушкин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356760" y="21384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  <a:ea typeface="Calibri"/>
              </a:rPr>
              <a:t>  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Calibri"/>
              </a:rPr>
              <a:t>Дом, где родился Александр Сергеевич Пушки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2" descr="C:\Users\7\Desktop\Пушкин картинки\0_2a1ee_bbedcf5c_XL_1.jpg"/>
          <p:cNvPicPr/>
          <p:nvPr/>
        </p:nvPicPr>
        <p:blipFill>
          <a:blip r:embed="rId1"/>
          <a:srcRect l="587" t="781" r="587" b="781"/>
          <a:stretch/>
        </p:blipFill>
        <p:spPr>
          <a:xfrm>
            <a:off x="214200" y="1500120"/>
            <a:ext cx="8786880" cy="5172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Calibri"/>
              </a:rPr>
              <a:t>Род Пушкиных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4" name="Picture 4" descr="C:\Users\7\Desktop\Пушкин картинки\a8224f1fb1fb.jpg"/>
          <p:cNvPicPr/>
          <p:nvPr/>
        </p:nvPicPr>
        <p:blipFill>
          <a:blip r:embed="rId1"/>
          <a:stretch/>
        </p:blipFill>
        <p:spPr>
          <a:xfrm>
            <a:off x="214200" y="1214280"/>
            <a:ext cx="8786880" cy="5500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Calibri"/>
              </a:rPr>
              <a:t>Родители А.С.Пушкин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6" name="Picture 8" descr="Изображение 012"/>
          <p:cNvPicPr/>
          <p:nvPr/>
        </p:nvPicPr>
        <p:blipFill>
          <a:blip r:embed="rId1"/>
          <a:stretch/>
        </p:blipFill>
        <p:spPr>
          <a:xfrm>
            <a:off x="214200" y="1428840"/>
            <a:ext cx="4143600" cy="51433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Изображение 013"/>
          <p:cNvPicPr/>
          <p:nvPr/>
        </p:nvPicPr>
        <p:blipFill>
          <a:blip r:embed="rId2"/>
          <a:stretch/>
        </p:blipFill>
        <p:spPr>
          <a:xfrm>
            <a:off x="4786200" y="1428840"/>
            <a:ext cx="4068720" cy="5143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Calibri"/>
              </a:rPr>
              <a:t>Бабушка Мария Алексеевна и няня Арина Родионовн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9" name="Picture 4" descr="C:\Users\7\Desktop\Пушкин картинки\4f3b64e2a32da.jpg"/>
          <p:cNvPicPr/>
          <p:nvPr/>
        </p:nvPicPr>
        <p:blipFill>
          <a:blip r:embed="rId1"/>
          <a:stretch/>
        </p:blipFill>
        <p:spPr>
          <a:xfrm>
            <a:off x="4786200" y="1643040"/>
            <a:ext cx="4071960" cy="50720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C:\Users\7\Desktop\Пушкин картинки\75087383_04_1.jpg"/>
          <p:cNvPicPr/>
          <p:nvPr/>
        </p:nvPicPr>
        <p:blipFill>
          <a:blip r:embed="rId2"/>
          <a:stretch/>
        </p:blipFill>
        <p:spPr>
          <a:xfrm>
            <a:off x="214200" y="1643040"/>
            <a:ext cx="4071960" cy="5072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Памятник няне Пушкин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4" descr="C:\Users\7\Desktop\Пушкин картинки\star.jpg"/>
          <p:cNvPicPr/>
          <p:nvPr/>
        </p:nvPicPr>
        <p:blipFill>
          <a:blip r:embed="rId1"/>
          <a:stretch/>
        </p:blipFill>
        <p:spPr>
          <a:xfrm>
            <a:off x="142920" y="1143000"/>
            <a:ext cx="8786880" cy="5429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Calibri"/>
              </a:rPr>
              <a:t>Царскосельский Лицей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5000760" y="1600200"/>
            <a:ext cx="400032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Куда бы нас ни бросила судьбин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И счастье куда б ни привело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Всё те же мы: нам целый мир чужбин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Отечество нам – Царское Село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5" descr="C:\Users\7\Desktop\Пушкин картинки\f2.jpg"/>
          <p:cNvPicPr/>
          <p:nvPr/>
        </p:nvPicPr>
        <p:blipFill>
          <a:blip r:embed="rId1"/>
          <a:srcRect l="1969" t="2585" r="1969" b="2585"/>
          <a:stretch/>
        </p:blipFill>
        <p:spPr>
          <a:xfrm>
            <a:off x="0" y="1285920"/>
            <a:ext cx="4857840" cy="5429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Calibri"/>
              </a:rPr>
              <a:t>А.С.Пушкин на экзамене в Лицее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8" name="Picture 4" descr="C:\Users\7\Desktop\Пушкин картинки\b13b55_thumb.jpg"/>
          <p:cNvPicPr/>
          <p:nvPr/>
        </p:nvPicPr>
        <p:blipFill>
          <a:blip r:embed="rId1"/>
          <a:stretch/>
        </p:blipFill>
        <p:spPr>
          <a:xfrm>
            <a:off x="214200" y="1214280"/>
            <a:ext cx="8715600" cy="5429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1T07:59:03Z</dcterms:created>
  <dc:creator>1</dc:creator>
  <dc:description/>
  <dc:language>en-US</dc:language>
  <cp:lastModifiedBy>админ</cp:lastModifiedBy>
  <dcterms:modified xsi:type="dcterms:W3CDTF">2017-01-15T10:57:02Z</dcterms:modified>
  <cp:revision>60</cp:revision>
  <dc:subject/>
  <dc:title>Слайд 1</dc:title>
</cp:coreProperties>
</file>