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05DF8-F104-4A88-BBB6-45F5E4A0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FE90A-EE3C-4BB6-92F0-D710A650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64589-01B4-45D8-B9C5-CD0F5A567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93182-6C31-42E6-BA21-629A9691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ACCE-FFB2-4127-9A0B-BFAB4590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A166-1F6A-4E65-B3E2-39B9642A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97743-3F9F-4612-A811-202AC586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46E0-AA2E-4618-BEB1-AFEBD6AA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A07A-B16B-4C71-94EE-52FB15A0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811D-C64C-4987-A19E-DEB237DDA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267A0-3521-4BFF-8EA4-4B233C30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FD39B-F7B7-4903-B3AA-4D32529A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2A70-C1DB-4645-80E9-055065EF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6314-EB26-43AD-9673-A0D2B63A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17263-52D3-4F01-B166-4756BFF4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A4E4-61CD-42E9-BF29-801E0FF7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300E-8538-464C-A84D-57005C4C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93387-24D4-4526-A19D-0DB6D29C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08E6A-A0AF-4B55-95C1-4F9E637C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56B46-136D-4371-B7F4-41BCFE5E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A0522-FC10-4FD4-BF40-BE76A6D6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A4D6D-C54B-47A6-8B1E-F7BADA6A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3FD92-6052-4390-B279-DD41A937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8CB70-1B03-4513-8854-03F9E9EE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E79D-BFFB-4716-A53E-2B1DED60993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DD68-2932-40C4-8EF3-7BA44AFD46E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15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Презентация к внеклассному мероприятию по литературе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357440" y="3428640"/>
            <a:ext cx="432900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читель русского языка и литературы Половинкина Людмила Николаев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714560" y="928800"/>
            <a:ext cx="442908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есть лет промчалось, как мечтанье,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объятьях сладкой тишины,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уж Отечества призванье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емит нам, шествуйте, сыны!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имся, братья! Руку в руку!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нимемся в последний раз!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дьба на вечную разлуку,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ть может, здесь сроднила нас! 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4" descr="Рисунок1"/>
          <p:cNvPicPr/>
          <p:nvPr/>
        </p:nvPicPr>
        <p:blipFill>
          <a:blip r:embed="rId1"/>
          <a:srcRect l="0" t="0" r="1814" b="0"/>
          <a:stretch/>
        </p:blipFill>
        <p:spPr>
          <a:xfrm>
            <a:off x="214200" y="928800"/>
            <a:ext cx="4432320" cy="576396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оугольник 3"/>
          <p:cNvSpPr/>
          <p:nvPr/>
        </p:nvSpPr>
        <p:spPr>
          <a:xfrm>
            <a:off x="357120" y="21420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окончании Лице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Пушкин в Михайловск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Picture 4" descr="C:\Users\7\Desktop\Пушкин картинки\0089-004.jpg"/>
          <p:cNvPicPr/>
          <p:nvPr/>
        </p:nvPicPr>
        <p:blipFill>
          <a:blip r:embed="rId1"/>
          <a:stretch/>
        </p:blipFill>
        <p:spPr>
          <a:xfrm>
            <a:off x="214200" y="1071720"/>
            <a:ext cx="8786880" cy="5572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талья Николаевна Гончаров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857480" y="1856880"/>
            <a:ext cx="41432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Исполнились мои желания. Творе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Тебя мне ниспослал, тебя, моя Мадонна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Чистейшей прелести чистейший образец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4" descr="C:\Users\7\Desktop\Пушкин картинки\1(407x407)[55439].jpg"/>
          <p:cNvPicPr/>
          <p:nvPr/>
        </p:nvPicPr>
        <p:blipFill>
          <a:blip r:embed="rId1"/>
          <a:stretch/>
        </p:blipFill>
        <p:spPr>
          <a:xfrm>
            <a:off x="214200" y="1143000"/>
            <a:ext cx="4500720" cy="542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ушкин и Гончаров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8" name="Picture 3" descr="C:\Users\7\Desktop\Пушкин картинки\17126371366021373 - копия.jpg"/>
          <p:cNvPicPr/>
          <p:nvPr/>
        </p:nvPicPr>
        <p:blipFill>
          <a:blip r:embed="rId1"/>
          <a:stretch/>
        </p:blipFill>
        <p:spPr>
          <a:xfrm>
            <a:off x="142920" y="1285920"/>
            <a:ext cx="4122720" cy="5429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C:\Users\7\Desktop\Пушкин картинки\13f84b22947d.jpg"/>
          <p:cNvPicPr/>
          <p:nvPr/>
        </p:nvPicPr>
        <p:blipFill>
          <a:blip r:embed="rId2"/>
          <a:stretch/>
        </p:blipFill>
        <p:spPr>
          <a:xfrm>
            <a:off x="4643280" y="1285920"/>
            <a:ext cx="4357800" cy="542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а бал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1" name="Picture 4" descr="C:\Users\7\Desktop\Пушкин картинки\59954134_1275810763_index_picphp.jpg"/>
          <p:cNvPicPr/>
          <p:nvPr/>
        </p:nvPicPr>
        <p:blipFill>
          <a:blip r:embed="rId1"/>
          <a:srcRect l="0" t="0" r="498" b="406"/>
          <a:stretch/>
        </p:blipFill>
        <p:spPr>
          <a:xfrm>
            <a:off x="214200" y="1214280"/>
            <a:ext cx="8715600" cy="5500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Жорж Дантес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Picture 4" descr="C:\Users\7\Desktop\Пушкин картинки\ee65ae0051a4f1d34bcd6bd052410e63.jpg"/>
          <p:cNvPicPr/>
          <p:nvPr/>
        </p:nvPicPr>
        <p:blipFill>
          <a:blip r:embed="rId1"/>
          <a:stretch/>
        </p:blipFill>
        <p:spPr>
          <a:xfrm>
            <a:off x="142920" y="1285920"/>
            <a:ext cx="8858160" cy="542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Дуэль Пушкина с Дантесо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5" name="Picture 4" descr="C:\Users\7\Desktop\Пушкин картинки\2671.jpg"/>
          <p:cNvPicPr/>
          <p:nvPr/>
        </p:nvPicPr>
        <p:blipFill>
          <a:blip r:embed="rId1"/>
          <a:stretch/>
        </p:blipFill>
        <p:spPr>
          <a:xfrm>
            <a:off x="142920" y="1285920"/>
            <a:ext cx="8858160" cy="542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сле дуэл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7" name="Picture 4" descr="C:\Users\7\Desktop\Пушкин картинки\0_70c4b_a69eea5d_XL.jpg"/>
          <p:cNvPicPr/>
          <p:nvPr/>
        </p:nvPicPr>
        <p:blipFill>
          <a:blip r:embed="rId1"/>
          <a:stretch/>
        </p:blipFill>
        <p:spPr>
          <a:xfrm>
            <a:off x="142920" y="1357200"/>
            <a:ext cx="8858160" cy="5357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У дома Пушки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rcRect l="4695" t="4199" r="4695" b="4199"/>
          <a:stretch/>
        </p:blipFill>
        <p:spPr>
          <a:xfrm>
            <a:off x="285840" y="1143000"/>
            <a:ext cx="8572320" cy="5500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Святогорский монастырь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7612" t="6299" r="7612" b="6299"/>
          <a:stretch/>
        </p:blipFill>
        <p:spPr>
          <a:xfrm>
            <a:off x="5072040" y="1214280"/>
            <a:ext cx="3857760" cy="5500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2"/>
          <a:srcRect l="4168" t="6299" r="4168" b="6299"/>
          <a:stretch/>
        </p:blipFill>
        <p:spPr>
          <a:xfrm>
            <a:off x="214200" y="1214280"/>
            <a:ext cx="4521240" cy="5500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57840" y="1428480"/>
            <a:ext cx="4286160" cy="471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Это имя – знакомое с детства –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месте с грамотой впаяно в речь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до заново в имя вглядеться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Чтобы заново знать и беречь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Это имя – веселое рвенье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дохновенье ночного труда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естареющее вдохновенье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е сгорающее никогда.</a:t>
            </a:r>
            <a:br>
              <a:rPr sz="24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Picture 4" descr="C:\Users\7\Desktop\Пушкин картинки\69120776_Pushkin.jpg"/>
          <p:cNvPicPr/>
          <p:nvPr/>
        </p:nvPicPr>
        <p:blipFill>
          <a:blip r:embed="rId1"/>
          <a:stretch/>
        </p:blipFill>
        <p:spPr>
          <a:xfrm>
            <a:off x="0" y="928800"/>
            <a:ext cx="4857840" cy="57150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5"/>
          <p:cNvSpPr/>
          <p:nvPr/>
        </p:nvSpPr>
        <p:spPr>
          <a:xfrm>
            <a:off x="285840" y="142920"/>
            <a:ext cx="8643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Памяти А.С.Пушкина (1799 -1837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00840" y="1071720"/>
            <a:ext cx="3000240" cy="564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бвенья нет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как нет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Старенья,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угасанья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 камня тоже нет,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 бронзы тоже нет, -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невольной смене лет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Есть времени дыханье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Есть жизнь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есть свет земной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И есть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для нас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Поэт.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4" name="Picture 3" descr="C:\Users\7\Desktop\Пушкин картинки\tzarsky_licei29july11-02.jpg"/>
          <p:cNvPicPr/>
          <p:nvPr/>
        </p:nvPicPr>
        <p:blipFill>
          <a:blip r:embed="rId1"/>
          <a:srcRect l="7370" t="0" r="3402" b="0"/>
          <a:stretch/>
        </p:blipFill>
        <p:spPr>
          <a:xfrm>
            <a:off x="142920" y="928800"/>
            <a:ext cx="5808600" cy="578628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3"/>
          <p:cNvSpPr/>
          <p:nvPr/>
        </p:nvSpPr>
        <p:spPr>
          <a:xfrm>
            <a:off x="214200" y="142920"/>
            <a:ext cx="84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ик А.С.Пушкин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C:\Users\7\Desktop\Пушкин картинки\70233945_1296879858_pushkin_i_natali_pamyatnik.jpg"/>
          <p:cNvPicPr/>
          <p:nvPr/>
        </p:nvPicPr>
        <p:blipFill>
          <a:blip r:embed="rId1"/>
          <a:srcRect l="0" t="2367" r="0" b="0"/>
          <a:stretch/>
        </p:blipFill>
        <p:spPr>
          <a:xfrm>
            <a:off x="142920" y="925560"/>
            <a:ext cx="8858160" cy="578952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оугольник 2"/>
          <p:cNvSpPr/>
          <p:nvPr/>
        </p:nvSpPr>
        <p:spPr>
          <a:xfrm>
            <a:off x="142920" y="14292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ик Пушкину и Гончаров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00360" y="499680"/>
            <a:ext cx="450036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дали узнаю силуэ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ловы наклон, осанку, плеч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инный плащ накинут нараспах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синки дождинок – вдоль опуш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ельки в кудрявых волосах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люблю Вас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……………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 Александр Пушкин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9" name="Picture 4" descr="picture"/>
          <p:cNvPicPr/>
          <p:nvPr/>
        </p:nvPicPr>
        <p:blipFill>
          <a:blip r:embed="rId1"/>
          <a:srcRect l="4675" t="1218" r="2309" b="11639"/>
          <a:stretch/>
        </p:blipFill>
        <p:spPr>
          <a:xfrm>
            <a:off x="142920" y="857160"/>
            <a:ext cx="4143240" cy="578664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sp>
        <p:nvSpPr>
          <p:cNvPr id="180" name="Прямоугольник 3"/>
          <p:cNvSpPr/>
          <p:nvPr/>
        </p:nvSpPr>
        <p:spPr>
          <a:xfrm>
            <a:off x="142920" y="142920"/>
            <a:ext cx="878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овь к Пушкин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  <a:ea typeface="Calibri"/>
              </a:rPr>
              <a:t>  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Дом, где родился Александр Сергеевич Пушки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2" descr="C:\Users\7\Desktop\Пушкин картинки\0_2a1ee_bbedcf5c_XL_1.jpg"/>
          <p:cNvPicPr/>
          <p:nvPr/>
        </p:nvPicPr>
        <p:blipFill>
          <a:blip r:embed="rId1"/>
          <a:srcRect l="587" t="781" r="587" b="781"/>
          <a:stretch/>
        </p:blipFill>
        <p:spPr>
          <a:xfrm>
            <a:off x="214200" y="1500120"/>
            <a:ext cx="8786880" cy="5172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од Пушкиных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4" descr="C:\Users\7\Desktop\Пушкин картинки\a8224f1fb1fb.jpg"/>
          <p:cNvPicPr/>
          <p:nvPr/>
        </p:nvPicPr>
        <p:blipFill>
          <a:blip r:embed="rId1"/>
          <a:stretch/>
        </p:blipFill>
        <p:spPr>
          <a:xfrm>
            <a:off x="214200" y="1214280"/>
            <a:ext cx="8786880" cy="5500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Родители А.С.Пушки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8" descr="Изображение 012"/>
          <p:cNvPicPr/>
          <p:nvPr/>
        </p:nvPicPr>
        <p:blipFill>
          <a:blip r:embed="rId1"/>
          <a:stretch/>
        </p:blipFill>
        <p:spPr>
          <a:xfrm>
            <a:off x="214200" y="1428840"/>
            <a:ext cx="4143600" cy="51433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Изображение 013"/>
          <p:cNvPicPr/>
          <p:nvPr/>
        </p:nvPicPr>
        <p:blipFill>
          <a:blip r:embed="rId2"/>
          <a:stretch/>
        </p:blipFill>
        <p:spPr>
          <a:xfrm>
            <a:off x="4786200" y="1428840"/>
            <a:ext cx="4068720" cy="5143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Бабушка Мария Алексеевна и няня Арина Родионов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Picture 4" descr="C:\Users\7\Desktop\Пушкин картинки\4f3b64e2a32da.jpg"/>
          <p:cNvPicPr/>
          <p:nvPr/>
        </p:nvPicPr>
        <p:blipFill>
          <a:blip r:embed="rId1"/>
          <a:stretch/>
        </p:blipFill>
        <p:spPr>
          <a:xfrm>
            <a:off x="4786200" y="1643040"/>
            <a:ext cx="4071960" cy="5072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7\Desktop\Пушкин картинки\75087383_04_1.jpg"/>
          <p:cNvPicPr/>
          <p:nvPr/>
        </p:nvPicPr>
        <p:blipFill>
          <a:blip r:embed="rId2"/>
          <a:stretch/>
        </p:blipFill>
        <p:spPr>
          <a:xfrm>
            <a:off x="214200" y="1643040"/>
            <a:ext cx="4071960" cy="5072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Памятник няне Пушкин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C:\Users\7\Desktop\Пушкин картинки\star.jpg"/>
          <p:cNvPicPr/>
          <p:nvPr/>
        </p:nvPicPr>
        <p:blipFill>
          <a:blip r:embed="rId1"/>
          <a:stretch/>
        </p:blipFill>
        <p:spPr>
          <a:xfrm>
            <a:off x="142920" y="1143000"/>
            <a:ext cx="8786880" cy="542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Царскосельский Лицей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000760" y="1600200"/>
            <a:ext cx="40003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Куда бы нас ни бросила судьбин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И счастье куда б ни привел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Всё те же мы: нам целый мир чужби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Отечество нам – Царское Сел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5" descr="C:\Users\7\Desktop\Пушкин картинки\f2.jpg"/>
          <p:cNvPicPr/>
          <p:nvPr/>
        </p:nvPicPr>
        <p:blipFill>
          <a:blip r:embed="rId1"/>
          <a:srcRect l="1969" t="2585" r="1969" b="2585"/>
          <a:stretch/>
        </p:blipFill>
        <p:spPr>
          <a:xfrm>
            <a:off x="0" y="1285920"/>
            <a:ext cx="4857840" cy="5429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А.С.Пушкин на экзамене в Лице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Picture 4" descr="C:\Users\7\Desktop\Пушкин картинки\b13b55_thumb.jpg"/>
          <p:cNvPicPr/>
          <p:nvPr/>
        </p:nvPicPr>
        <p:blipFill>
          <a:blip r:embed="rId1"/>
          <a:stretch/>
        </p:blipFill>
        <p:spPr>
          <a:xfrm>
            <a:off x="214200" y="1214280"/>
            <a:ext cx="8715600" cy="5429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1T07:59:03Z</dcterms:created>
  <dc:creator>1</dc:creator>
  <dc:description/>
  <dc:language>en-US</dc:language>
  <cp:lastModifiedBy>админ</cp:lastModifiedBy>
  <dcterms:modified xsi:type="dcterms:W3CDTF">2017-01-15T10:57:02Z</dcterms:modified>
  <cp:revision>60</cp:revision>
  <dc:subject/>
  <dc:title>Слайд 1</dc:title>
</cp:coreProperties>
</file>