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5.jpeg" ContentType="image/jpeg"/>
  <Override PartName="/ppt/media/image14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2.gif" ContentType="image/gif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C53D-DBB0-4046-B0F0-94FD3F666C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A287-BF74-4632-A690-398C0738D5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457D-02AB-4C8A-A717-660FF9F5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D77-AF50-4137-A922-72D69862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4131-31D0-4CC0-8888-F87651F7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B33D-A3F6-4EC8-A007-C8460C81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7EAE5-FC0F-491F-8433-B4799181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41C7-EB18-4D5F-B455-1B97D310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9DE0-8E09-4B73-9265-B534B75B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AA66-5CEF-49AC-AE96-20E39D13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6300A-E02D-48CE-AD73-8281564C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EE69-C86E-4A61-A702-6DD0DD09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6A79-B389-4229-A854-97ADA7BC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80B-1200-4E91-A4E4-5EBEB7D8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3041-80F7-415D-96ED-79C72336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B3B5-9687-4994-BE0F-596BB183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499C-A2AF-47F6-9518-B662B37B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B23C-6544-4DBC-83AE-F754DB7E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8909-F35B-44D0-93AD-38E231E1B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8E0-8D32-46EF-AC7E-C086B557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72C9-9891-46D4-AA88-A91D33BC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6AE-F89D-4A50-8774-36200707F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E45-08E7-4110-B733-9C339BCE5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8E2A-0590-48B1-A1A8-C23E9F73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AD9B-BE6D-4B89-9E77-7F877EEB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4DD7-C3B5-439D-A034-11CC3167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8344-348B-4E55-BB4D-59FE8780AF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F8CB-9090-4374-90FA-E017560B1EF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28600" y="1143000"/>
            <a:ext cx="861048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ffff77"/>
                  </a:solidFill>
                  <a:miter/>
                </a:ln>
                <a:solidFill>
                  <a:srgbClr val="e07f53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Impact"/>
              </a:rPr>
              <a:t>Guten, Tag!</a:t>
            </a:r>
            <a:endParaRPr b="1" lang="en-US" sz="3200" spc="1" strike="noStrike">
              <a:ln w="12600">
                <a:solidFill>
                  <a:srgbClr val="ffff77"/>
                </a:solidFill>
                <a:miter/>
              </a:ln>
              <a:solidFill>
                <a:srgbClr val="e07f53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6" descr="Water-Lilya"/>
          <p:cNvPicPr/>
          <p:nvPr/>
        </p:nvPicPr>
        <p:blipFill>
          <a:blip r:embed="rId2"/>
          <a:stretch/>
        </p:blipFill>
        <p:spPr>
          <a:xfrm rot="10800000">
            <a:off x="2555640" y="3141720"/>
            <a:ext cx="5257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0000"/>
                </a:solidFill>
                <a:latin typeface="Verdana"/>
              </a:rPr>
              <a:t>Welches Wort gehört nicht in die logische Reihe? </a:t>
            </a:r>
            <a:endParaRPr b="1" lang="en-US" sz="40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a) der Blätterfall, gelbe Blätter, fallen, kalt, </a:t>
            </a:r>
            <a:r>
              <a:rPr b="0" lang="de-DE" sz="3200" spc="-1" strike="noStrike" u="sng">
                <a:solidFill>
                  <a:srgbClr val="161616"/>
                </a:solidFill>
                <a:uFillTx/>
                <a:latin typeface="Verdana"/>
              </a:rPr>
              <a:t>blühen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b) der kalte Wind, es schneit, </a:t>
            </a:r>
            <a:r>
              <a:rPr b="0" lang="de-DE" sz="3200" spc="-1" strike="noStrike" u="sng">
                <a:solidFill>
                  <a:srgbClr val="161616"/>
                </a:solidFill>
                <a:uFillTx/>
                <a:latin typeface="Verdana"/>
              </a:rPr>
              <a:t>die Gurke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, die Schneeflock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c) die Tomate, </a:t>
            </a:r>
            <a:r>
              <a:rPr b="0" lang="de-DE" sz="3200" spc="-1" strike="noStrike" u="sng">
                <a:solidFill>
                  <a:srgbClr val="161616"/>
                </a:solidFill>
                <a:uFillTx/>
                <a:latin typeface="Verdana"/>
              </a:rPr>
              <a:t>der Rabe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, die Mohrrübe, die Kartoffel, der Kohl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d) der Apfel, die Birne, </a:t>
            </a:r>
            <a:r>
              <a:rPr b="0" lang="de-DE" sz="3200" spc="-1" strike="noStrike" u="sng">
                <a:solidFill>
                  <a:srgbClr val="161616"/>
                </a:solidFill>
                <a:uFillTx/>
                <a:latin typeface="Verdana"/>
              </a:rPr>
              <a:t>der Pilz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, die Pflaume, die Melone, der Pfirsich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2"/>
          <a:stretch/>
        </p:blipFill>
        <p:spPr>
          <a:xfrm>
            <a:off x="-228600" y="457200"/>
            <a:ext cx="88455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Rate mal !</a:t>
            </a: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1976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Sie ist  zuerst grün, dann rot oder gelb. Sie ist  rund. Sie  pflanzt im Gemüsegarten. Die Menschen machen Ketchup, Salate und  die Saft(c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ок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). Was ist das?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6" descr="http://www.cksinfo.com/clipart/food/fruits/tomatoes/tomato.png"/>
          <p:cNvPicPr/>
          <p:nvPr/>
        </p:nvPicPr>
        <p:blipFill>
          <a:blip r:embed="rId2"/>
          <a:stretch/>
        </p:blipFill>
        <p:spPr>
          <a:xfrm>
            <a:off x="5715000" y="3962520"/>
            <a:ext cx="226224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685440"/>
            <a:ext cx="7543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Sie ist sehr groß, grün mit schwarz, innerhalb(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внутри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) rot und süß. Sie ist  rund. Sie  pflanzt auf dem Feld. Die Menschen mögen sie und essen gern. Man kann nicht Salate und Konfitüre machen. Was ist das?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6" name="Picture 6" descr="http://4.bp.blogspot.com/_2bybOZrBCtw/SDGVWZNbCPI/AAAAAAAABUc/MuOOB7-UFic/s320/watermelon.jpg"/>
          <p:cNvPicPr/>
          <p:nvPr/>
        </p:nvPicPr>
        <p:blipFill>
          <a:blip r:embed="rId2"/>
          <a:stretch/>
        </p:blipFill>
        <p:spPr>
          <a:xfrm>
            <a:off x="5715000" y="3873600"/>
            <a:ext cx="24382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Er pflanzt  im Garten. Er ist grün und rund. Aus ihm kann man (можно)  die Suppe kochen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варить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)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 und  Salate machen. Was ist das?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6" descr="http://img-fotki.yandex.ru/get/12/ol-solovyo.0/0_996d_4c4544ec_XL"/>
          <p:cNvPicPr/>
          <p:nvPr/>
        </p:nvPicPr>
        <p:blipFill>
          <a:blip r:embed="rId2"/>
          <a:stretch/>
        </p:blipFill>
        <p:spPr>
          <a:xfrm>
            <a:off x="4343400" y="3352680"/>
            <a:ext cx="3276720" cy="24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456840"/>
            <a:ext cx="7391520" cy="132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Sie ist 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lang und gelbrot. Sie „lebt“ in der Erde.  Sie ist  gut für die Gesundheit. Es gibt Vitamine A. Man kann (можно) Salate machen und  in der Suppe kochen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варить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). 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Was ist das?</a:t>
            </a:r>
            <a:r>
              <a:rPr b="0" lang="ru-RU" sz="3200" spc="-1" strike="noStrike">
                <a:solidFill>
                  <a:srgbClr val="161616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Picture 6" descr="http://kakmed.com/img/2011/02/morcov1.jpg"/>
          <p:cNvPicPr/>
          <p:nvPr/>
        </p:nvPicPr>
        <p:blipFill>
          <a:blip r:embed="rId2"/>
          <a:stretch/>
        </p:blipFill>
        <p:spPr>
          <a:xfrm>
            <a:off x="4800600" y="3657600"/>
            <a:ext cx="38926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Verdana"/>
            </a:endParaRPr>
          </a:p>
        </p:txBody>
      </p:sp>
      <p:pic>
        <p:nvPicPr>
          <p:cNvPr id="134" name="Picture 7" descr="C:\Users\Лозовая ИИ\Desktop\124445_1280_1024.jpg"/>
          <p:cNvPicPr/>
          <p:nvPr/>
        </p:nvPicPr>
        <p:blipFill>
          <a:blip r:embed="rId2"/>
          <a:stretch/>
        </p:blipFill>
        <p:spPr>
          <a:xfrm>
            <a:off x="1447920" y="838080"/>
            <a:ext cx="628632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Заголовок 1" descr=""/>
          <p:cNvPicPr/>
          <p:nvPr/>
        </p:nvPicPr>
        <p:blipFill>
          <a:blip r:embed="rId2"/>
          <a:stretch/>
        </p:blipFill>
        <p:spPr>
          <a:xfrm>
            <a:off x="384120" y="274680"/>
            <a:ext cx="8309160" cy="115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Users\Лозовая ИИ\Desktop\124445_1280_1024.jpg"/>
          <p:cNvPicPr/>
          <p:nvPr/>
        </p:nvPicPr>
        <p:blipFill>
          <a:blip r:embed="rId3"/>
          <a:stretch/>
        </p:blipFill>
        <p:spPr>
          <a:xfrm>
            <a:off x="762120" y="1905120"/>
            <a:ext cx="3276360" cy="262080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3" descr=""/>
          <p:cNvPicPr/>
          <p:nvPr/>
        </p:nvPicPr>
        <p:blipFill>
          <a:blip r:embed="rId4"/>
          <a:stretch/>
        </p:blipFill>
        <p:spPr>
          <a:xfrm>
            <a:off x="4475160" y="2127240"/>
            <a:ext cx="193680" cy="176832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6"/>
          <p:cNvSpPr/>
          <p:nvPr/>
        </p:nvSpPr>
        <p:spPr>
          <a:xfrm>
            <a:off x="4038480" y="159876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61616"/>
                </a:solidFill>
                <a:latin typeface="Times New Roman"/>
              </a:rPr>
              <a:t>Wir gehen einkau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3" descr="C:\Users\Любовь\Desktop\урок на 23 ноября\_____.jpg"/>
          <p:cNvPicPr/>
          <p:nvPr/>
        </p:nvPicPr>
        <p:blipFill>
          <a:blip r:embed="rId5"/>
          <a:stretch/>
        </p:blipFill>
        <p:spPr>
          <a:xfrm>
            <a:off x="4191120" y="3352680"/>
            <a:ext cx="35924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00"/>
                </a:solidFill>
                <a:latin typeface="Verdana"/>
              </a:rPr>
              <a:t>Mundgymnastik</a:t>
            </a:r>
            <a:endParaRPr b="1" lang="en-US" sz="4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   </a:t>
            </a: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- a-e-i-o-u-ü-  ü-u-</a:t>
            </a: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о</a:t>
            </a: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-i-e-</a:t>
            </a:r>
            <a:r>
              <a:rPr b="0" lang="ru-RU" sz="3600" spc="-1" strike="noStrike">
                <a:solidFill>
                  <a:srgbClr val="161616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-Blätter,  fallen,  Erde,  Vogel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die Ernte einbringen,  bunt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- Blätterfall,  Blätterfall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161616"/>
                </a:solidFill>
                <a:latin typeface="Verdana"/>
              </a:rPr>
              <a:t>Bunte Blätter überall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Es ist Herbst! Es ist Herbst!</a:t>
            </a:r>
            <a:br>
              <a:rPr sz="3600"/>
            </a:br>
            <a:r>
              <a:rPr b="1" lang="de-DE" sz="3600" spc="-1" strike="noStrike" u="sng">
                <a:solidFill>
                  <a:srgbClr val="00b050"/>
                </a:solidFill>
                <a:uFillTx/>
                <a:latin typeface="Verdana"/>
              </a:rPr>
              <a:t>Bunte Blätter</a:t>
            </a: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 fliegen.</a:t>
            </a:r>
            <a:br>
              <a:rPr sz="3600"/>
            </a:b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Bunte Blätter, rot und gelb,</a:t>
            </a:r>
            <a:br>
              <a:rPr sz="3600"/>
            </a:b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auf der Erde liegen.</a:t>
            </a:r>
            <a:br>
              <a:rPr sz="3600"/>
            </a:b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Falle, falle, gelbes</a:t>
            </a: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Blatt,</a:t>
            </a:r>
            <a:br>
              <a:rPr sz="3600"/>
            </a:b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 rotes</a:t>
            </a: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Blatt, gelbes Blatt,</a:t>
            </a:r>
            <a:br>
              <a:rPr sz="3600"/>
            </a:br>
            <a:r>
              <a:rPr b="1" lang="de-DE" sz="3600" spc="-1" strike="noStrike" u="sng">
                <a:solidFill>
                  <a:srgbClr val="00b050"/>
                </a:solidFill>
                <a:uFillTx/>
                <a:latin typeface="Verdana"/>
              </a:rPr>
              <a:t>bis der Baum kein Blatt mehr hat</a:t>
            </a:r>
            <a:br>
              <a:rPr sz="3600"/>
            </a:br>
            <a:r>
              <a:rPr b="1" lang="de-DE" sz="3600" spc="-1" strike="noStrike" u="sng">
                <a:solidFill>
                  <a:srgbClr val="00b050"/>
                </a:solidFill>
                <a:uFillTx/>
                <a:latin typeface="Verdana"/>
              </a:rPr>
              <a:t>weggeflogen </a:t>
            </a:r>
            <a:r>
              <a:rPr b="1" lang="de-DE" sz="3600" spc="-1" strike="noStrike">
                <a:solidFill>
                  <a:srgbClr val="00b050"/>
                </a:solidFill>
                <a:latin typeface="Verdana"/>
              </a:rPr>
              <a:t>alle</a:t>
            </a:r>
            <a:r>
              <a:rPr b="1" lang="ru-RU" sz="3600" spc="-1" strike="noStrike">
                <a:solidFill>
                  <a:srgbClr val="00b050"/>
                </a:solidFill>
                <a:latin typeface="Verdana"/>
              </a:rPr>
              <a:t>!</a:t>
            </a:r>
            <a:br>
              <a:rPr sz="3600"/>
            </a:br>
            <a:endParaRPr b="1" lang="en-US" sz="36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480024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Nemeckie_pesenki_-_Es_ist_Herbst_(iPlayer.fm).mp3" descr=""/>
          <p:cNvPicPr/>
          <p:nvPr/>
        </p:nvPicPr>
        <p:blipFill>
          <a:blip r:embed="rId2"/>
          <a:stretch/>
        </p:blipFill>
        <p:spPr>
          <a:xfrm>
            <a:off x="8229600" y="5867280"/>
            <a:ext cx="625320" cy="6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955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Verdana"/>
            </a:endParaRPr>
          </a:p>
        </p:txBody>
      </p:sp>
      <p:pic>
        <p:nvPicPr>
          <p:cNvPr id="150" name="Picture 3" descr="C:\Users\Любовь\Desktop\урок на 23 ноября\i (4).jpg"/>
          <p:cNvPicPr/>
          <p:nvPr/>
        </p:nvPicPr>
        <p:blipFill>
          <a:blip r:embed="rId2"/>
          <a:stretch/>
        </p:blipFill>
        <p:spPr>
          <a:xfrm>
            <a:off x="4114800" y="3048120"/>
            <a:ext cx="3886200" cy="2819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2" name="Picture 5" descr="C:\Users\Лозовая ИИ\Desktop\9ad8779b5b70bc1e0d79e73426c91a76.jpg"/>
          <p:cNvPicPr/>
          <p:nvPr/>
        </p:nvPicPr>
        <p:blipFill>
          <a:blip r:embed="rId3"/>
          <a:stretch/>
        </p:blipFill>
        <p:spPr>
          <a:xfrm>
            <a:off x="1219320" y="914400"/>
            <a:ext cx="3863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Turn</a:t>
            </a:r>
            <a:r>
              <a:rPr b="1" lang="de-DE" sz="5400" spc="-1" strike="noStrike">
                <a:solidFill>
                  <a:srgbClr val="ff0000"/>
                </a:solidFill>
                <a:latin typeface="Verdana"/>
              </a:rPr>
              <a:t>ü</a:t>
            </a:r>
            <a:r>
              <a:rPr b="1" lang="en-US" sz="5400" spc="-1" strike="noStrike">
                <a:solidFill>
                  <a:srgbClr val="ff0000"/>
                </a:solidFill>
                <a:latin typeface="Verdana"/>
              </a:rPr>
              <a:t>bung</a:t>
            </a:r>
            <a:endParaRPr b="1" lang="en-US" sz="5400" spc="-1" strike="noStrike">
              <a:solidFill>
                <a:srgbClr val="feec9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In den Wald </a:t>
            </a:r>
            <a:r>
              <a:rPr b="0" lang="en-US" sz="3200" spc="-1" strike="noStrike" u="sng">
                <a:solidFill>
                  <a:srgbClr val="161616"/>
                </a:solidFill>
                <a:uFillTx/>
                <a:latin typeface="Verdana"/>
              </a:rPr>
              <a:t>gehen wir (3 m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Gro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ß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e K</a:t>
            </a:r>
            <a:r>
              <a:rPr b="0" lang="de-DE" sz="3200" spc="-1" strike="noStrike">
                <a:solidFill>
                  <a:srgbClr val="161616"/>
                </a:solidFill>
                <a:latin typeface="Verdana"/>
              </a:rPr>
              <a:t>ö</a:t>
            </a: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rbe </a:t>
            </a:r>
            <a:r>
              <a:rPr b="0" lang="en-US" sz="3200" spc="-1" strike="noStrike" u="sng">
                <a:solidFill>
                  <a:srgbClr val="161616"/>
                </a:solidFill>
                <a:uFillTx/>
                <a:latin typeface="Verdana"/>
              </a:rPr>
              <a:t>tragen wir (3 m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Viele Pilze </a:t>
            </a:r>
            <a:r>
              <a:rPr b="0" lang="en-US" sz="3200" spc="-1" strike="noStrike" u="sng">
                <a:solidFill>
                  <a:srgbClr val="161616"/>
                </a:solidFill>
                <a:uFillTx/>
                <a:latin typeface="Verdana"/>
              </a:rPr>
              <a:t>sind im Wald (3 ma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Verdana"/>
              </a:rPr>
              <a:t>Alle sammeln </a:t>
            </a:r>
            <a:r>
              <a:rPr b="0" lang="en-US" sz="3200" spc="-1" strike="noStrike" u="sng">
                <a:solidFill>
                  <a:srgbClr val="161616"/>
                </a:solidFill>
                <a:uFillTx/>
                <a:latin typeface="Verdana"/>
              </a:rPr>
              <a:t>wir sie bald (3 mal)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304920" y="380880"/>
          <a:ext cx="8686800" cy="62485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124956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buClr>
                          <a:srgbClr val="2a1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ITAPVAKTWOCRSCBLÄTTERF</a:t>
                      </a: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O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2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ROUSWOBIHERBSTWAZEDAFHELZ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510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VEGMJABTASCHNEEOWDSRGOLUF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56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AFTKRUSOESREGNETTWOHNUNGMF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2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ZGORTKIJWANDOUTXESSCHNEITHI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</a:tbl>
          </a:graphicData>
        </a:graphic>
      </p:graphicFrame>
      <p:sp>
        <p:nvSpPr>
          <p:cNvPr id="158" name="Улыбающееся лицо 5"/>
          <p:cNvSpPr/>
          <p:nvPr/>
        </p:nvSpPr>
        <p:spPr>
          <a:xfrm>
            <a:off x="7543800" y="609480"/>
            <a:ext cx="762120" cy="609840"/>
          </a:xfrm>
          <a:prstGeom prst="smileyFace">
            <a:avLst>
              <a:gd name="adj" fmla="val 9282"/>
            </a:avLst>
          </a:prstGeom>
          <a:solidFill>
            <a:srgbClr val="ff9900"/>
          </a:solidFill>
          <a:ln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C:\Users\Лозовая ИИ\Desktop\56a88db3a36a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304920" y="380880"/>
          <a:ext cx="8686800" cy="624852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124956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buClr>
                          <a:srgbClr val="2a1000"/>
                        </a:buClr>
                        <a:buFont typeface="Times New Roman"/>
                        <a:buAutoNum type="arabicPeriod"/>
                        <a:tabLst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ITAPVAKTWOCRSC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BLÄTTERF</a:t>
                      </a:r>
                      <a:r>
                        <a:rPr b="0" lang="de-DE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ALL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OM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2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ROUSWOBI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ERBST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WAZEDAFHELZ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510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VEGMJABTA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CHNEE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OWDSRGOLUF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56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AFTKRUSO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SREGNET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TWOHNUNGMF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  <a:tr h="1249200">
                <a:tc>
                  <a:txBody>
                    <a:bodyPr lIns="44280" rIns="44280" tIns="0" bIns="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179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ZGORTKIJWANDOUTX</a:t>
                      </a: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ESSCHNEIT</a:t>
                      </a:r>
                      <a:r>
                        <a:rPr b="0" lang="ru-RU" sz="2000" spc="-1" strike="noStrike">
                          <a:solidFill>
                            <a:srgbClr val="2a1000"/>
                          </a:solidFill>
                          <a:latin typeface="Times New Roman"/>
                          <a:ea typeface="Times New Roman"/>
                        </a:rPr>
                        <a:t>HIR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44280" marR="442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b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Любовь</cp:lastModifiedBy>
  <dcterms:modified xsi:type="dcterms:W3CDTF">2016-11-22T14:28:23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