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5.jpeg" ContentType="image/jpeg"/>
  <Override PartName="/ppt/media/image1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8AFC-A427-4965-9271-97D2904DA9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A726-C95D-45EC-AB7B-9A89F79D72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AAA-7CB7-4022-9746-C335C7F4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9F4-D4C4-488D-8D25-917CEA96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7A8-9EE1-498A-B2EF-B18AE2B4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FC6-EE62-4584-80F6-E478B308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8ED0-089E-4B75-B514-450CE92B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5196-B175-4955-B027-44F5D3B8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5600-BF7C-45F7-984F-F4C0A0C7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E6F4-BC89-4E64-B831-2F4B96D2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C330-C950-4A83-B619-46AFD2B6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8D29-120E-423B-8ADC-B8FD3D52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4D9C-B2B2-498A-8206-416BD94E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032-939F-4165-9648-542E7800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16A3-B426-46F6-BDB0-9D48B441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D1B4-39B0-4FB0-8CFD-25F1C403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775D-8D38-4379-B49A-B2FFB064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F4A7-D3F7-486A-BD53-8F9DED14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DA83-D3D3-4EE9-A42F-D10B7055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942-A8E8-488C-8D78-3D367BA7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D4B-CB25-4E38-9139-4CC83FB2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554-9DEA-4DB7-8537-350E7493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398-21C3-40FD-9E11-DD2C02C8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4CF-C887-4729-8FEE-8DAFADF8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B62-AE20-4407-8998-9B7D4227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726-E9B2-4C5F-B3EF-A458E73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4B47-E1A7-4E89-9475-80F64495BA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0CF2-E208-474A-8C47-3176772DD3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28600" y="1143000"/>
            <a:ext cx="8610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77"/>
                  </a:solidFill>
                  <a:miter/>
                </a:ln>
                <a:solidFill>
                  <a:srgbClr val="e07f5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Guten, Tag!</a:t>
            </a:r>
            <a:endParaRPr b="1" lang="en-US" sz="3200" spc="1" strike="noStrike">
              <a:ln w="12600">
                <a:solidFill>
                  <a:srgbClr val="ffff77"/>
                </a:solidFill>
                <a:miter/>
              </a:ln>
              <a:solidFill>
                <a:srgbClr val="e07f5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6" descr="Water-Lilya"/>
          <p:cNvPicPr/>
          <p:nvPr/>
        </p:nvPicPr>
        <p:blipFill>
          <a:blip r:embed="rId2"/>
          <a:stretch/>
        </p:blipFill>
        <p:spPr>
          <a:xfrm rot="10800000">
            <a:off x="2555640" y="3141720"/>
            <a:ext cx="5257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Verdana"/>
              </a:rPr>
              <a:t>Welches Wort gehört nicht in die logische Reihe? </a:t>
            </a:r>
            <a:endParaRPr b="1" lang="en-US" sz="40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a) der Blätterfall, gelbe Blätter, fallen, kalt, </a:t>
            </a:r>
            <a:r>
              <a:rPr b="0" lang="de-DE" sz="3200" spc="-1" strike="noStrike" u="sng">
                <a:solidFill>
                  <a:srgbClr val="161616"/>
                </a:solidFill>
                <a:uFillTx/>
                <a:latin typeface="Verdana"/>
              </a:rPr>
              <a:t>blühen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b) der kalte Wind, es schneit, </a:t>
            </a:r>
            <a:r>
              <a:rPr b="0" lang="de-DE" sz="3200" spc="-1" strike="noStrike" u="sng">
                <a:solidFill>
                  <a:srgbClr val="161616"/>
                </a:solidFill>
                <a:uFillTx/>
                <a:latin typeface="Verdana"/>
              </a:rPr>
              <a:t>die Gurke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, die Schneeflock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c) die Tomate, </a:t>
            </a:r>
            <a:r>
              <a:rPr b="0" lang="de-DE" sz="3200" spc="-1" strike="noStrike" u="sng">
                <a:solidFill>
                  <a:srgbClr val="161616"/>
                </a:solidFill>
                <a:uFillTx/>
                <a:latin typeface="Verdana"/>
              </a:rPr>
              <a:t>der Rabe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, die Mohrrübe, die Kartoffel, der Kohl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d) der Apfel, die Birne, </a:t>
            </a:r>
            <a:r>
              <a:rPr b="0" lang="de-DE" sz="3200" spc="-1" strike="noStrike" u="sng">
                <a:solidFill>
                  <a:srgbClr val="161616"/>
                </a:solidFill>
                <a:uFillTx/>
                <a:latin typeface="Verdana"/>
              </a:rPr>
              <a:t>der Pilz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, die Pflaume, die Melone, der Pfirsi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-228600" y="457200"/>
            <a:ext cx="88455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Rate mal !</a:t>
            </a: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Sie ist  zuerst grün, dann rot oder gelb. Sie ist  rund. Sie  pflanzt im Gemüsegarten. Die Menschen machen Ketchup, Salate und  die Saft(c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ок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). Was ist das?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6" descr="http://www.cksinfo.com/clipart/food/fruits/tomatoes/tomato.png"/>
          <p:cNvPicPr/>
          <p:nvPr/>
        </p:nvPicPr>
        <p:blipFill>
          <a:blip r:embed="rId2"/>
          <a:stretch/>
        </p:blipFill>
        <p:spPr>
          <a:xfrm>
            <a:off x="5715000" y="3962520"/>
            <a:ext cx="226224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6854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Sie ist sehr groß, grün mit schwarz, innerhalb(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внутри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) rot und süß. Sie ist  rund. Sie  pflanzt auf dem Feld. Die Menschen mögen sie und essen gern. Man kann nicht Salate und Konfitüre machen. Was ist das?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http://4.bp.blogspot.com/_2bybOZrBCtw/SDGVWZNbCPI/AAAAAAAABUc/MuOOB7-UFic/s320/watermelon.jpg"/>
          <p:cNvPicPr/>
          <p:nvPr/>
        </p:nvPicPr>
        <p:blipFill>
          <a:blip r:embed="rId2"/>
          <a:stretch/>
        </p:blipFill>
        <p:spPr>
          <a:xfrm>
            <a:off x="5715000" y="3873600"/>
            <a:ext cx="2438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Er pflanzt  im Garten. Er ist grün und rund. Aus ihm kann man (можно)  die Suppe kochen</a:t>
            </a: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варить</a:t>
            </a: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)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 und  Salate machen. Was ist das?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http://img-fotki.yandex.ru/get/12/ol-solovyo.0/0_996d_4c4544ec_XL"/>
          <p:cNvPicPr/>
          <p:nvPr/>
        </p:nvPicPr>
        <p:blipFill>
          <a:blip r:embed="rId2"/>
          <a:stretch/>
        </p:blipFill>
        <p:spPr>
          <a:xfrm>
            <a:off x="4343400" y="335268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39152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Sie ist 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lang und gelbrot. Sie „lebt“ in der Erde.  Sie ist  gut für die Gesundheit. Es gibt Vitamine A. Man kann (можно) Salate machen und  in der Suppe kochen</a:t>
            </a: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варить</a:t>
            </a: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). 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Was ist das?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6" descr="http://kakmed.com/img/2011/02/morcov1.jpg"/>
          <p:cNvPicPr/>
          <p:nvPr/>
        </p:nvPicPr>
        <p:blipFill>
          <a:blip r:embed="rId2"/>
          <a:stretch/>
        </p:blipFill>
        <p:spPr>
          <a:xfrm>
            <a:off x="4800600" y="3657600"/>
            <a:ext cx="3892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Verdana"/>
            </a:endParaRPr>
          </a:p>
        </p:txBody>
      </p:sp>
      <p:pic>
        <p:nvPicPr>
          <p:cNvPr id="134" name="Picture 7" descr="C:\Users\Лозовая ИИ\Desktop\124445_1280_1024.jpg"/>
          <p:cNvPicPr/>
          <p:nvPr/>
        </p:nvPicPr>
        <p:blipFill>
          <a:blip r:embed="rId2"/>
          <a:stretch/>
        </p:blipFill>
        <p:spPr>
          <a:xfrm>
            <a:off x="1447920" y="838080"/>
            <a:ext cx="628632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384120" y="274680"/>
            <a:ext cx="8309160" cy="115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Users\Лозовая ИИ\Desktop\124445_1280_1024.jpg"/>
          <p:cNvPicPr/>
          <p:nvPr/>
        </p:nvPicPr>
        <p:blipFill>
          <a:blip r:embed="rId3"/>
          <a:stretch/>
        </p:blipFill>
        <p:spPr>
          <a:xfrm>
            <a:off x="762120" y="1905120"/>
            <a:ext cx="3276360" cy="26208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3" descr=""/>
          <p:cNvPicPr/>
          <p:nvPr/>
        </p:nvPicPr>
        <p:blipFill>
          <a:blip r:embed="rId4"/>
          <a:stretch/>
        </p:blipFill>
        <p:spPr>
          <a:xfrm>
            <a:off x="4475160" y="2127240"/>
            <a:ext cx="193680" cy="17683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6"/>
          <p:cNvSpPr/>
          <p:nvPr/>
        </p:nvSpPr>
        <p:spPr>
          <a:xfrm>
            <a:off x="4038480" y="159876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Times New Roman"/>
              </a:rPr>
              <a:t>Wir gehen einkau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C:\Users\Любовь\Desktop\урок на 23 ноября\_____.jpg"/>
          <p:cNvPicPr/>
          <p:nvPr/>
        </p:nvPicPr>
        <p:blipFill>
          <a:blip r:embed="rId5"/>
          <a:stretch/>
        </p:blipFill>
        <p:spPr>
          <a:xfrm>
            <a:off x="4191120" y="3352680"/>
            <a:ext cx="35924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Verdana"/>
              </a:rPr>
              <a:t>Mundgymnastik</a:t>
            </a: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   </a:t>
            </a:r>
            <a:r>
              <a:rPr b="0" lang="de-DE" sz="3600" spc="-1" strike="noStrike">
                <a:solidFill>
                  <a:srgbClr val="161616"/>
                </a:solidFill>
                <a:latin typeface="Verdana"/>
              </a:rPr>
              <a:t>- a-e-i-o-u-ü-  ü-u-</a:t>
            </a: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о</a:t>
            </a:r>
            <a:r>
              <a:rPr b="0" lang="de-DE" sz="3600" spc="-1" strike="noStrike">
                <a:solidFill>
                  <a:srgbClr val="161616"/>
                </a:solidFill>
                <a:latin typeface="Verdana"/>
              </a:rPr>
              <a:t>-i-e-</a:t>
            </a: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61616"/>
                </a:solidFill>
                <a:latin typeface="Verdana"/>
              </a:rPr>
              <a:t>-Blätter,  fallen,  Erde,  Vogel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61616"/>
                </a:solidFill>
                <a:latin typeface="Verdana"/>
              </a:rPr>
              <a:t>die Ernte einbringen,  bunt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61616"/>
                </a:solidFill>
                <a:latin typeface="Verdana"/>
              </a:rPr>
              <a:t>- Blätterfall,  Blätterfall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61616"/>
                </a:solidFill>
                <a:latin typeface="Verdana"/>
              </a:rPr>
              <a:t>Bunte Blätter überal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Es ist Herbst! Es ist Herbst!</a:t>
            </a:r>
            <a:br>
              <a:rPr sz="3600"/>
            </a:br>
            <a:r>
              <a:rPr b="1" lang="de-DE" sz="3600" spc="-1" strike="noStrike" u="sng">
                <a:solidFill>
                  <a:srgbClr val="00b050"/>
                </a:solidFill>
                <a:uFillTx/>
                <a:latin typeface="Verdana"/>
              </a:rPr>
              <a:t>Bunte Blätter</a:t>
            </a: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 fliegen.</a:t>
            </a:r>
            <a:br>
              <a:rPr sz="3600"/>
            </a:b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Bunte Blätter, rot und gelb,</a:t>
            </a:r>
            <a:br>
              <a:rPr sz="3600"/>
            </a:b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auf der Erde liegen.</a:t>
            </a:r>
            <a:br>
              <a:rPr sz="3600"/>
            </a:b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Falle, falle, gelbes</a:t>
            </a:r>
            <a:r>
              <a:rPr b="1" lang="ru-RU" sz="36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Blatt,</a:t>
            </a:r>
            <a:br>
              <a:rPr sz="3600"/>
            </a:b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 rotes</a:t>
            </a:r>
            <a:r>
              <a:rPr b="1" lang="ru-RU" sz="36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Blatt, gelbes Blatt,</a:t>
            </a:r>
            <a:br>
              <a:rPr sz="3600"/>
            </a:br>
            <a:r>
              <a:rPr b="1" lang="de-DE" sz="3600" spc="-1" strike="noStrike" u="sng">
                <a:solidFill>
                  <a:srgbClr val="00b050"/>
                </a:solidFill>
                <a:uFillTx/>
                <a:latin typeface="Verdana"/>
              </a:rPr>
              <a:t>bis der Baum kein Blatt mehr hat</a:t>
            </a:r>
            <a:br>
              <a:rPr sz="3600"/>
            </a:br>
            <a:r>
              <a:rPr b="1" lang="de-DE" sz="3600" spc="-1" strike="noStrike" u="sng">
                <a:solidFill>
                  <a:srgbClr val="00b050"/>
                </a:solidFill>
                <a:uFillTx/>
                <a:latin typeface="Verdana"/>
              </a:rPr>
              <a:t>weggeflogen </a:t>
            </a: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alle</a:t>
            </a:r>
            <a:r>
              <a:rPr b="1" lang="ru-RU" sz="3600" spc="-1" strike="noStrike">
                <a:solidFill>
                  <a:srgbClr val="00b050"/>
                </a:solidFill>
                <a:latin typeface="Verdana"/>
              </a:rPr>
              <a:t>!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80024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Nemeckie_pesenki_-_Es_ist_Herbst_(iPlayer.fm).mp3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62532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9558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Verdana"/>
            </a:endParaRPr>
          </a:p>
        </p:txBody>
      </p:sp>
      <p:pic>
        <p:nvPicPr>
          <p:cNvPr id="150" name="Picture 3" descr="C:\Users\Любовь\Desktop\урок на 23 ноября\i (4).jpg"/>
          <p:cNvPicPr/>
          <p:nvPr/>
        </p:nvPicPr>
        <p:blipFill>
          <a:blip r:embed="rId2"/>
          <a:stretch/>
        </p:blipFill>
        <p:spPr>
          <a:xfrm>
            <a:off x="4114800" y="3048120"/>
            <a:ext cx="3886200" cy="2819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5" descr="C:\Users\Лозовая ИИ\Desktop\9ad8779b5b70bc1e0d79e73426c91a76.jpg"/>
          <p:cNvPicPr/>
          <p:nvPr/>
        </p:nvPicPr>
        <p:blipFill>
          <a:blip r:embed="rId3"/>
          <a:stretch/>
        </p:blipFill>
        <p:spPr>
          <a:xfrm>
            <a:off x="1219320" y="914400"/>
            <a:ext cx="3863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Turn</a:t>
            </a:r>
            <a:r>
              <a:rPr b="1" lang="de-DE" sz="5400" spc="-1" strike="noStrike">
                <a:solidFill>
                  <a:srgbClr val="ff0000"/>
                </a:solidFill>
                <a:latin typeface="Verdana"/>
              </a:rPr>
              <a:t>ü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bung</a:t>
            </a:r>
            <a:endParaRPr b="1" lang="en-US" sz="5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In den Wald </a:t>
            </a:r>
            <a:r>
              <a:rPr b="0" lang="en-US" sz="3200" spc="-1" strike="noStrike" u="sng">
                <a:solidFill>
                  <a:srgbClr val="161616"/>
                </a:solidFill>
                <a:uFillTx/>
                <a:latin typeface="Verdana"/>
              </a:rPr>
              <a:t>gehen wir (3 m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Gro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ß</a:t>
            </a: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e K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ö</a:t>
            </a: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rbe </a:t>
            </a:r>
            <a:r>
              <a:rPr b="0" lang="en-US" sz="3200" spc="-1" strike="noStrike" u="sng">
                <a:solidFill>
                  <a:srgbClr val="161616"/>
                </a:solidFill>
                <a:uFillTx/>
                <a:latin typeface="Verdana"/>
              </a:rPr>
              <a:t>tragen wir (3 m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Viele Pilze </a:t>
            </a:r>
            <a:r>
              <a:rPr b="0" lang="en-US" sz="3200" spc="-1" strike="noStrike" u="sng">
                <a:solidFill>
                  <a:srgbClr val="161616"/>
                </a:solidFill>
                <a:uFillTx/>
                <a:latin typeface="Verdana"/>
              </a:rPr>
              <a:t>sind im Wald (3 m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Alle sammeln </a:t>
            </a:r>
            <a:r>
              <a:rPr b="0" lang="en-US" sz="3200" spc="-1" strike="noStrike" u="sng">
                <a:solidFill>
                  <a:srgbClr val="161616"/>
                </a:solidFill>
                <a:uFillTx/>
                <a:latin typeface="Verdana"/>
              </a:rPr>
              <a:t>wir sie bald (3 mal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304920" y="380880"/>
          <a:ext cx="8686800" cy="624852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124956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buClr>
                          <a:srgbClr val="2a1000"/>
                        </a:buClr>
                        <a:buFont typeface="Times New Roman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ITAPVAKTWOCRSCBLÄTTERF</a:t>
                      </a: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O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492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ROUSWOBIHERBSTWAZEDAFHELZ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510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VEGMJABTASCHNEEOWDSRGOLUF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4956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AFTKRUSOESREGNETTWOHNUNGMF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492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ZGORTKIJWANDOUTXESSCHNEITHI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</a:tbl>
          </a:graphicData>
        </a:graphic>
      </p:graphicFrame>
      <p:sp>
        <p:nvSpPr>
          <p:cNvPr id="158" name="Улыбающееся лицо 5"/>
          <p:cNvSpPr/>
          <p:nvPr/>
        </p:nvSpPr>
        <p:spPr>
          <a:xfrm>
            <a:off x="7543800" y="609480"/>
            <a:ext cx="762120" cy="6098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304920" y="380880"/>
          <a:ext cx="8686800" cy="624852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124956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buClr>
                          <a:srgbClr val="2a1000"/>
                        </a:buClr>
                        <a:buFont typeface="Times New Roman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ITAPVAKTWOCRSC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LÄTTERF</a:t>
                      </a: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O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492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ROUSWOBI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ERBST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WAZEDAFHELZ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510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VEGMJABTA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CHNEE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OWDSRGOLUF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4956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AFTKRUSO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SREGNET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TWOHNUNGMF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492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ZGORTKIJWANDOUTX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SSCHNEIT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HI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Любовь</cp:lastModifiedBy>
  <dcterms:modified xsi:type="dcterms:W3CDTF">2016-11-22T14:28:23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