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27.gif" ContentType="image/gif"/>
  <Override PartName="/ppt/media/image1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25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6CA9-BC27-4C4B-9E55-F4567B36FB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FCE70-0975-4501-95FF-466F8492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EA6B0-49E1-408E-A8AA-E79041FB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8F8B-329C-4A15-8D9D-1FE8089475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C12F-3794-4DF3-AFD4-7692C820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092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50800" y="4161960"/>
            <a:ext cx="2513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8CF51-E50D-473C-919F-1623E3E6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83415-1A18-4A43-8492-6457E236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EF1BB-7851-4BDF-B734-DF216ACE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695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D37C-9CE5-41C0-9545-AD8A6AE3D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9881F-CC15-4256-A2FB-7AFEA4FF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196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9C3F-736B-4524-9FDA-9C70CBAA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732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217A-23FC-4161-8EAC-7D6047BE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F8ED95-F9DE-4871-8055-50B5CD72D3DE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22280" y="0"/>
            <a:ext cx="8721720" cy="6858000"/>
          </a:xfrm>
          <a:prstGeom prst="roundRect">
            <a:avLst>
              <a:gd name="adj" fmla="val 23"/>
            </a:avLst>
          </a:prstGeom>
          <a:gradFill rotWithShape="0">
            <a:gsLst>
              <a:gs pos="0">
                <a:srgbClr val="fffbf0"/>
              </a:gs>
              <a:gs pos="100000">
                <a:srgbClr val="ffffcc"/>
              </a:gs>
            </a:gsLst>
            <a:lin ang="0"/>
          </a:gradFill>
          <a:ln w="9360">
            <a:solidFill>
              <a:srgbClr val="33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4857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</a:rPr>
              <a:t>                                                                                                                             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572314"/>
                </a:solidFill>
                <a:latin typeface="Times New Roman"/>
              </a:rPr>
              <a:t>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572314"/>
                </a:solidFill>
                <a:latin typeface="Times New Roman"/>
              </a:rPr>
              <a:t>ПРИЛОЖЕНИЕ №2</a:t>
            </a:r>
            <a:br>
              <a:rPr sz="1400"/>
            </a:br>
            <a:br>
              <a:rPr sz="5400"/>
            </a:br>
            <a:r>
              <a:rPr b="1" i="1" lang="ru-RU" sz="6000" spc="-1" strike="noStrike">
                <a:solidFill>
                  <a:srgbClr val="572314"/>
                </a:solidFill>
                <a:latin typeface="Times New Roman"/>
              </a:rPr>
              <a:t>Презентация </a:t>
            </a:r>
            <a:br>
              <a:rPr sz="6000"/>
            </a:br>
            <a:r>
              <a:rPr b="1" i="1" lang="ru-RU" sz="6000" spc="-1" strike="noStrike">
                <a:solidFill>
                  <a:srgbClr val="572314"/>
                </a:solidFill>
                <a:latin typeface="Times New Roman"/>
              </a:rPr>
              <a:t>к уроку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1434960" y="4000680"/>
            <a:ext cx="7498080" cy="20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696744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7643880" y="4786200"/>
            <a:ext cx="1500120" cy="2071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1071720" cy="1000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285920" y="1285920"/>
            <a:ext cx="7286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mincho"/>
              </a:rPr>
              <a:t>Русская фразеолог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11120" y="971640"/>
            <a:ext cx="82296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ccccff"/>
                </a:solidFill>
                <a:uFillTx/>
                <a:latin typeface="Times New Roman"/>
                <a:ea typeface="msmincho"/>
              </a:rPr>
              <a:t>Фразеология как раздел науки о язы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Фразеологизм и его призна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buSzPct val="102792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Источники происхождения фразеологиз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0" y="189000"/>
            <a:ext cx="91440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                             </a:t>
            </a:r>
            <a:r>
              <a:rPr b="0" lang="ru-RU" sz="4000" spc="-1" strike="noStrike">
                <a:solidFill>
                  <a:srgbClr val="ff9900"/>
                </a:solidFill>
                <a:latin typeface="Times New Roman"/>
                <a:ea typeface="msmincho"/>
              </a:rPr>
              <a:t>Фразеолог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Фразис –                 Логос –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«выражение»                                «учение»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 </a:t>
            </a:r>
            <a:r>
              <a:rPr b="0" i="1" lang="ru-RU" sz="2900" spc="-1" strike="noStrike" u="sng">
                <a:solidFill>
                  <a:srgbClr val="ff9900"/>
                </a:solidFill>
                <a:uFillTx/>
                <a:latin typeface="Times New Roman"/>
                <a:ea typeface="msmincho"/>
              </a:rPr>
              <a:t>Фразеология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-  состав фразеологических сочетаний в языке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 </a:t>
            </a:r>
            <a:r>
              <a:rPr b="0" i="1" lang="ru-RU" sz="2900" spc="-1" strike="noStrike">
                <a:solidFill>
                  <a:srgbClr val="ff9900"/>
                </a:solidFill>
                <a:latin typeface="Times New Roman"/>
                <a:ea typeface="msmincho"/>
              </a:rPr>
              <a:t>Фразеологизмы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i="1" lang="ru-RU" sz="2900" spc="-1" strike="noStrike">
                <a:solidFill>
                  <a:srgbClr val="ff9900"/>
                </a:solidFill>
                <a:latin typeface="Times New Roman"/>
                <a:ea typeface="msmincho"/>
              </a:rPr>
              <a:t>или фразеологические обороты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– устойчивые сочетания слов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"/>
          <p:cNvSpPr/>
          <p:nvPr/>
        </p:nvSpPr>
        <p:spPr>
          <a:xfrm flipH="1">
            <a:off x="3057120" y="907920"/>
            <a:ext cx="10112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3"/>
          <p:cNvSpPr/>
          <p:nvPr/>
        </p:nvSpPr>
        <p:spPr>
          <a:xfrm>
            <a:off x="5148360" y="907920"/>
            <a:ext cx="718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468360" y="-326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Фразеологизм и его призна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50920" y="620640"/>
          <a:ext cx="8715240" cy="5931000"/>
        </p:xfrm>
        <a:graphic>
          <a:graphicData uri="http://schemas.openxmlformats.org/drawingml/2006/table">
            <a:tbl>
              <a:tblPr/>
              <a:tblGrid>
                <a:gridCol w="4359240"/>
                <a:gridCol w="4356000"/>
              </a:tblGrid>
              <a:tr h="95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Признаки свободных словосочетани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ff9900"/>
                          </a:solidFill>
                          <a:latin typeface="Verdana"/>
                        </a:rPr>
                        <a:t>Признаки фразеологизм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юбое из слов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можно заменить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другими словами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В их составе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нельзя заменять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ова по своему желанию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Слова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охраняют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вою смысловую самостоятельность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Слова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теряют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свою смысловую самостоятельность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оздаются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в процессе речи, не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требуют запомина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1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Не создаются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в речи, а, как и слова, </a:t>
                      </a:r>
                      <a:r>
                        <a:rPr b="0" lang="ru-RU" sz="2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используются готовыми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требуют запоминан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500040" y="142920"/>
            <a:ext cx="4000680" cy="2428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2"/>
          <p:cNvSpPr/>
          <p:nvPr/>
        </p:nvSpPr>
        <p:spPr>
          <a:xfrm>
            <a:off x="0" y="2574720"/>
            <a:ext cx="528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«Тянуть кота за хвос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надолго затягивать какое-либо решение или де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5429160" y="142920"/>
            <a:ext cx="3467160" cy="47721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4857840" y="5002200"/>
            <a:ext cx="407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«Не разлей вода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дружные ребя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3"/>
          <a:stretch/>
        </p:blipFill>
        <p:spPr>
          <a:xfrm>
            <a:off x="428760" y="3714840"/>
            <a:ext cx="4214520" cy="2428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285840" y="6215040"/>
            <a:ext cx="38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«Витать в облаках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— мечта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42920" y="3000240"/>
            <a:ext cx="4929120" cy="500040"/>
          </a:xfrm>
          <a:prstGeom prst="rect">
            <a:avLst/>
          </a:prstGeom>
          <a:solidFill>
            <a:srgbClr val="e6e0e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3143160" y="6215040"/>
            <a:ext cx="1714680" cy="428760"/>
          </a:xfrm>
          <a:prstGeom prst="rect">
            <a:avLst/>
          </a:prstGeom>
          <a:solidFill>
            <a:srgbClr val="e6e0e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5929200" y="5357880"/>
            <a:ext cx="1928880" cy="642960"/>
          </a:xfrm>
          <a:prstGeom prst="rect">
            <a:avLst/>
          </a:prstGeom>
          <a:solidFill>
            <a:srgbClr val="e6e0e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4357800" cy="24289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2"/>
          <p:cNvSpPr/>
          <p:nvPr/>
        </p:nvSpPr>
        <p:spPr>
          <a:xfrm>
            <a:off x="-142920" y="2778120"/>
            <a:ext cx="52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msmincho"/>
              </a:rPr>
              <a:t>«Плясать под чужую дудку»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mincho"/>
              </a:rPr>
              <a:t>— беспрекословно выполнять волю другого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5000760" y="0"/>
            <a:ext cx="3876480" cy="56437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5357880" y="5799600"/>
            <a:ext cx="350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msmincho"/>
              </a:rPr>
              <a:t>«Сесть на шею»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mincho"/>
              </a:rPr>
              <a:t>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mincho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mincho"/>
              </a:rPr>
              <a:t>быть обузой для другого челове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428760" y="328608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0" y="62611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msmincho"/>
              </a:rPr>
              <a:t>«Водить за нос»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msmincho"/>
              </a:rPr>
              <a:t>— обманыв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5286240" y="5715000"/>
            <a:ext cx="3643560" cy="1000080"/>
          </a:xfrm>
          <a:prstGeom prst="rect">
            <a:avLst/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571680" y="6286680"/>
            <a:ext cx="4000320" cy="357120"/>
          </a:xfrm>
          <a:prstGeom prst="rect">
            <a:avLst/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285840" y="2714760"/>
            <a:ext cx="4357440" cy="785520"/>
          </a:xfrm>
          <a:prstGeom prst="rect">
            <a:avLst/>
          </a:prstGeom>
          <a:solidFill>
            <a:srgbClr val="f2dcd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42920" y="142920"/>
            <a:ext cx="3143160" cy="421488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0" y="457488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«Море по колено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ничто не страш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2"/>
          <a:stretch/>
        </p:blipFill>
        <p:spPr>
          <a:xfrm>
            <a:off x="6143760" y="142920"/>
            <a:ext cx="2743200" cy="3000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4357800" y="307188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«Мухи не обидит»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— кроткий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3"/>
          <a:stretch/>
        </p:blipFill>
        <p:spPr>
          <a:xfrm>
            <a:off x="2643120" y="3429000"/>
            <a:ext cx="3633840" cy="278604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2071800" y="621504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«Как две капли воды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  <a:ea typeface="ms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msmincho"/>
              </a:rPr>
              <a:t>— очень похожи друг на дру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357120" y="4000680"/>
            <a:ext cx="2500560" cy="2143080"/>
          </a:xfrm>
          <a:prstGeom prst="smileyFace">
            <a:avLst>
              <a:gd name="adj" fmla="val 9282"/>
            </a:avLst>
          </a:prstGeom>
          <a:solidFill>
            <a:srgbClr val="dbeef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214720" y="5857920"/>
            <a:ext cx="6286320" cy="1000080"/>
          </a:xfrm>
          <a:prstGeom prst="smileyFace">
            <a:avLst>
              <a:gd name="adj" fmla="val 9282"/>
            </a:avLst>
          </a:prstGeom>
          <a:solidFill>
            <a:srgbClr val="dbeef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286160" y="2928960"/>
            <a:ext cx="4857840" cy="1143000"/>
          </a:xfrm>
          <a:prstGeom prst="smileyFace">
            <a:avLst>
              <a:gd name="adj" fmla="val 9282"/>
            </a:avLst>
          </a:prstGeom>
          <a:solidFill>
            <a:srgbClr val="dbeef4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6967440"/>
          </a:xfrm>
          <a:prstGeom prst="rect">
            <a:avLst/>
          </a:prstGeom>
          <a:ln w="76320">
            <a:solidFill>
              <a:srgbClr val="00b0f0"/>
            </a:solidFill>
            <a:miter/>
          </a:ln>
        </p:spPr>
      </p:pic>
      <p:pic>
        <p:nvPicPr>
          <p:cNvPr id="176" name="Picture 2" descr=""/>
          <p:cNvPicPr/>
          <p:nvPr/>
        </p:nvPicPr>
        <p:blipFill>
          <a:blip r:embed="rId2"/>
          <a:stretch/>
        </p:blipFill>
        <p:spPr>
          <a:xfrm>
            <a:off x="7500960" y="5429160"/>
            <a:ext cx="1643040" cy="14288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" descr=""/>
          <p:cNvPicPr/>
          <p:nvPr/>
        </p:nvPicPr>
        <p:blipFill>
          <a:blip r:embed="rId3"/>
          <a:stretch/>
        </p:blipFill>
        <p:spPr>
          <a:xfrm>
            <a:off x="214200" y="142920"/>
            <a:ext cx="1071720" cy="10000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1285920" y="1428840"/>
            <a:ext cx="657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msmincho"/>
              </a:rPr>
              <a:t>Фразеологизм и его источники происхож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mincho"/>
              </a:rPr>
              <a:t>Классификация фразеологизмов по происхождени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сторические события и факт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заговоры и заклин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традиции и обряды русского челове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профессиональная деятельность челове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усская литерату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миф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русские народные сказки, былины и их персонаж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традиции русского алфавита и книжного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наблюдения за животным миром и окружающей средо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ассоциации человека, называемые им при объяснении непонятных для него явл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досуг русского человека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428400" cy="3857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/>
          <p:cNvPicPr/>
          <p:nvPr/>
        </p:nvPicPr>
        <p:blipFill>
          <a:blip r:embed="rId3"/>
          <a:stretch/>
        </p:blipFill>
        <p:spPr>
          <a:xfrm>
            <a:off x="6786720" y="528624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457200" y="274680"/>
            <a:ext cx="822960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msmincho"/>
              </a:rPr>
              <a:t>Закреплени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71400" y="569880"/>
            <a:ext cx="7809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.С. Тургене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3322800" y="1800360"/>
            <a:ext cx="3157200" cy="431928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457200" y="-33480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c0504d"/>
                </a:solidFill>
                <a:latin typeface="Times New Roman"/>
                <a:ea typeface="msmincho"/>
              </a:rPr>
              <a:t>Какие из сочетаний слов являются устойчивыми, неделимыми оборотами речи, а какие по смыслу делятся на отдельные слова?</a:t>
            </a:r>
            <a:br>
              <a:rPr sz="37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 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«А теперь, </a:t>
            </a:r>
            <a:r>
              <a:rPr b="1" lang="ru-RU" sz="2900" spc="-1" strike="noStrike">
                <a:solidFill>
                  <a:srgbClr val="4d10bc"/>
                </a:solidFill>
                <a:latin typeface="Times New Roman"/>
                <a:ea typeface="msmincho"/>
              </a:rPr>
              <a:t>не разгибая спины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, поднимите руки вверх», - сказал тренер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Ребята трудились </a:t>
            </a:r>
            <a:r>
              <a:rPr b="1" lang="ru-RU" sz="2900" spc="-1" strike="noStrike">
                <a:solidFill>
                  <a:srgbClr val="4d10bc"/>
                </a:solidFill>
                <a:latin typeface="Times New Roman"/>
                <a:ea typeface="msmincho"/>
              </a:rPr>
              <a:t>не разгибая</a:t>
            </a:r>
            <a:r>
              <a:rPr b="0" lang="ru-RU" sz="2900" spc="-1" strike="noStrike">
                <a:solidFill>
                  <a:srgbClr val="4d10bc"/>
                </a:solidFill>
                <a:latin typeface="Times New Roman"/>
                <a:ea typeface="msmincho"/>
              </a:rPr>
              <a:t> </a:t>
            </a:r>
            <a:r>
              <a:rPr b="1" lang="ru-RU" sz="2900" spc="-1" strike="noStrike">
                <a:solidFill>
                  <a:srgbClr val="4d10bc"/>
                </a:solidFill>
                <a:latin typeface="Times New Roman"/>
                <a:ea typeface="msmincho"/>
              </a:rPr>
              <a:t>спины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до самого вечер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итя упал, а старший брат поднял его и </a:t>
            </a:r>
            <a:r>
              <a:rPr b="1" lang="ru-RU" sz="2900" spc="-1" strike="noStrike">
                <a:solidFill>
                  <a:srgbClr val="4d10bc"/>
                </a:solidFill>
                <a:latin typeface="Times New Roman"/>
                <a:ea typeface="msmincho"/>
              </a:rPr>
              <a:t>поставил на ног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Родител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2900" spc="-1" strike="noStrike">
                <a:solidFill>
                  <a:srgbClr val="4d10bc"/>
                </a:solidFill>
                <a:latin typeface="Times New Roman"/>
                <a:ea typeface="msmincho"/>
              </a:rPr>
              <a:t>поставили на ноги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сына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6732720" y="5157720"/>
            <a:ext cx="2143080" cy="14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"/>
          <p:cNvSpPr/>
          <p:nvPr/>
        </p:nvSpPr>
        <p:spPr>
          <a:xfrm>
            <a:off x="457200" y="92160"/>
            <a:ext cx="822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Times New Roman"/>
                <a:ea typeface="msmincho"/>
              </a:rPr>
              <a:t>Найдите соответствие фразеологизма и синонимичного выражения.</a:t>
            </a:r>
            <a:br>
              <a:rPr sz="2800"/>
            </a:b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600200"/>
          <a:ext cx="8231040" cy="3767040"/>
        </p:xfrm>
        <a:graphic>
          <a:graphicData uri="http://schemas.openxmlformats.org/drawingml/2006/table">
            <a:tbl>
              <a:tblPr/>
              <a:tblGrid>
                <a:gridCol w="4116240"/>
                <a:gridCol w="4114800"/>
              </a:tblGrid>
              <a:tr h="47160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е зги не видн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Не жалея сил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Обводить вокруг пальц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Яблоку негде упа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Работать засучив рука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Хоть глаз выкол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В одно мгнов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Не успел оглянуть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Как сельдь в боч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И след просты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Как ветром сду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Сломя голов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От мала до вел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Водить за н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Со всех н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marL="136440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36440"/>
                          <a:tab algn="l" pos="1050840"/>
                          <a:tab algn="l" pos="1965240"/>
                          <a:tab algn="l" pos="2879640"/>
                          <a:tab algn="l" pos="3794040"/>
                          <a:tab algn="l" pos="4708440"/>
                          <a:tab algn="l" pos="5622840"/>
                          <a:tab algn="l" pos="6537240"/>
                          <a:tab algn="l" pos="7451640"/>
                          <a:tab algn="l" pos="8366040"/>
                          <a:tab algn="l" pos="9280440"/>
                          <a:tab algn="l" pos="1019484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Все как один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1"/>
          <p:cNvSpPr/>
          <p:nvPr/>
        </p:nvSpPr>
        <p:spPr>
          <a:xfrm>
            <a:off x="457200" y="92160"/>
            <a:ext cx="822960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c0504d"/>
                </a:solidFill>
                <a:latin typeface="Times New Roman"/>
                <a:ea typeface="msmincho"/>
              </a:rPr>
              <a:t>Найдите соответствие фразеологизма и синонимичного выражения. ОТВЕТЫ</a:t>
            </a:r>
            <a:br>
              <a:rPr sz="2800"/>
            </a:br>
            <a:r>
              <a:rPr b="0" lang="ru-RU" sz="37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1000080" y="2214720"/>
            <a:ext cx="6696000" cy="914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-3     2-7    3-1   4-5    5-2    6-4    7-8   8-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" descr="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428400" cy="3857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3"/>
          <a:stretch/>
        </p:blipFill>
        <p:spPr>
          <a:xfrm>
            <a:off x="6786720" y="528624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mincho"/>
              </a:rPr>
              <a:t>Домашняя работ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msmincho"/>
              </a:rPr>
              <a:t>Маршрут № 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Выйти на сай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msmincho"/>
              </a:rPr>
              <a:t>gramota.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 и подготовить информацию о типах словарей.  (Какие бывают словар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msmincho"/>
              </a:rPr>
              <a:t>Маршрут № 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Выйти на сайт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msmincho"/>
              </a:rPr>
              <a:t>slovari.ru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mincho"/>
              </a:rPr>
              <a:t> и подготовить информацию о строении словарной статьи в новом словаре иностранных слов Захаренко Е.Н.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142920" y="0"/>
            <a:ext cx="900108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571680" y="2143080"/>
            <a:ext cx="428400" cy="3857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6786720" y="528624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msmincho"/>
              </a:rPr>
              <a:t>Информ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msmincho"/>
              </a:rPr>
              <a:t>Яндекс спеллер – сервер проверки правописания, который помогает находить и исправлять орфографические ошибки. РАБОТА СЕРВИСА ОСНОВАНА НА ИСПОЛЬЗОВАНИИ ОРФОГРАФИЧЕСКОГО СЛОВАРЯ            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API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.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YANDEX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.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RU</a:t>
            </a:r>
            <a:r>
              <a:rPr b="1" lang="ru-RU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/</a:t>
            </a:r>
            <a:r>
              <a:rPr b="1" lang="en-US" sz="2900" spc="-1" strike="noStrike" u="sng">
                <a:solidFill>
                  <a:srgbClr val="ff0000"/>
                </a:solidFill>
                <a:uFillTx/>
                <a:latin typeface="Times New Roman"/>
                <a:ea typeface="msmincho"/>
              </a:rPr>
              <a:t>SPELLER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476280" y="-109440"/>
            <a:ext cx="8167680" cy="706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1487520" y="517680"/>
            <a:ext cx="6381720" cy="525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4"/>
          <a:stretch/>
        </p:blipFill>
        <p:spPr>
          <a:xfrm>
            <a:off x="1560600" y="1731960"/>
            <a:ext cx="5883120" cy="530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5"/>
          <a:stretch/>
        </p:blipFill>
        <p:spPr>
          <a:xfrm>
            <a:off x="1560600" y="2951280"/>
            <a:ext cx="5883120" cy="523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6"/>
          <a:stretch/>
        </p:blipFill>
        <p:spPr>
          <a:xfrm>
            <a:off x="847800" y="5376960"/>
            <a:ext cx="7448400" cy="523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7"/>
          <a:stretch/>
        </p:blipFill>
        <p:spPr>
          <a:xfrm>
            <a:off x="414360" y="4091040"/>
            <a:ext cx="8169120" cy="5238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500040" y="1000080"/>
            <a:ext cx="2703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однозначные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148360" y="1000080"/>
            <a:ext cx="2995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многозначные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79280" y="2214720"/>
            <a:ext cx="2963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исконно русские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5715000" y="2214720"/>
            <a:ext cx="2960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заимствованные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0" y="3429000"/>
            <a:ext cx="4140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общеупотребительные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4716360" y="3429000"/>
            <a:ext cx="44276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необщеупотребительные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0" y="4572000"/>
            <a:ext cx="314316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лексика активного запаса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5857920" y="4572000"/>
            <a:ext cx="32860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лексика пассивного запаса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5"/>
          <p:cNvSpPr/>
          <p:nvPr/>
        </p:nvSpPr>
        <p:spPr>
          <a:xfrm>
            <a:off x="179280" y="5857920"/>
            <a:ext cx="2808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нейтральная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6516720" y="5857920"/>
            <a:ext cx="2484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разговорная </a:t>
            </a: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3214800" y="5857920"/>
            <a:ext cx="2786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книж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Wingdings 2"/>
                <a:ea typeface="Wingdings 2"/>
              </a:rPr>
              <a:t>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8"/>
          <p:cNvSpPr/>
          <p:nvPr/>
        </p:nvSpPr>
        <p:spPr>
          <a:xfrm>
            <a:off x="285840" y="1428840"/>
            <a:ext cx="3071880" cy="5713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е одно зна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5000760" y="1428840"/>
            <a:ext cx="3786120" cy="5713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меющие несколько знач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20"/>
          <p:cNvSpPr/>
          <p:nvPr/>
        </p:nvSpPr>
        <p:spPr>
          <a:xfrm>
            <a:off x="1646280" y="2421000"/>
            <a:ext cx="3286080" cy="12859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доевропейские, общеславянские слова,   восточнославянские,  собственно  рус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-227160" y="3419640"/>
            <a:ext cx="3286440" cy="1285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а, пришедшие из других языков, в том числе и из старославян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22"/>
          <p:cNvSpPr/>
          <p:nvPr/>
        </p:nvSpPr>
        <p:spPr>
          <a:xfrm>
            <a:off x="179280" y="2997360"/>
            <a:ext cx="3286080" cy="1285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ова, использование которых свободно, ничем не ограниче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23"/>
          <p:cNvSpPr/>
          <p:nvPr/>
        </p:nvSpPr>
        <p:spPr>
          <a:xfrm>
            <a:off x="5580000" y="3357720"/>
            <a:ext cx="3286080" cy="1285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ектизмы, жаргонизмы, профессионализмы, просторечная лекс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24"/>
          <p:cNvSpPr/>
          <p:nvPr/>
        </p:nvSpPr>
        <p:spPr>
          <a:xfrm>
            <a:off x="1144440" y="4221000"/>
            <a:ext cx="3571920" cy="12859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седневно используемые слова, значение которых понятно всем носителям язы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25"/>
          <p:cNvSpPr/>
          <p:nvPr/>
        </p:nvSpPr>
        <p:spPr>
          <a:xfrm>
            <a:off x="5572080" y="5300640"/>
            <a:ext cx="3571920" cy="12859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аревш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сторизмы, архаизмы)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в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еологизм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26"/>
          <p:cNvSpPr/>
          <p:nvPr/>
        </p:nvSpPr>
        <p:spPr>
          <a:xfrm>
            <a:off x="179280" y="4797360"/>
            <a:ext cx="2857680" cy="10000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употребительная для всех ст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27"/>
          <p:cNvSpPr/>
          <p:nvPr/>
        </p:nvSpPr>
        <p:spPr>
          <a:xfrm>
            <a:off x="2987640" y="4869000"/>
            <a:ext cx="2857680" cy="10000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реплённая за одним из книжных сти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4954680" y="4734000"/>
            <a:ext cx="2857320" cy="10000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фициальная, экспрессив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29">
            <a:hlinkClick r:id="rId8" action="ppaction://hlinksldjump"/>
          </p:cNvPr>
          <p:cNvSpPr/>
          <p:nvPr/>
        </p:nvSpPr>
        <p:spPr>
          <a:xfrm>
            <a:off x="8429760" y="635796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15423" y="3837"/>
                </a:moveTo>
                <a:lnTo>
                  <a:pt x="17999" y="6448"/>
                </a:ln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lnTo>
                  <a:pt x="22386" y="10800"/>
                </a:lnTo>
                <a:lnTo>
                  <a:pt x="20732" y="10800"/>
                </a:lnTo>
                <a:lnTo>
                  <a:pt x="20732" y="17989"/>
                </a:lnTo>
                <a:lnTo>
                  <a:pt x="10114" y="17989"/>
                </a:lnTo>
                <a:lnTo>
                  <a:pt x="10114" y="10800"/>
                </a:lnTo>
                <a:lnTo>
                  <a:pt x="8460" y="10800"/>
                </a:lnTo>
                <a:close/>
              </a:path>
              <a:path fill="darkenLess" w="30846" h="21600">
                <a:moveTo>
                  <a:pt x="17999" y="6448"/>
                </a:move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close/>
              </a:path>
              <a:path fill="darkenLess" w="30846" h="21600">
                <a:moveTo>
                  <a:pt x="14500" y="14299"/>
                </a:moveTo>
                <a:lnTo>
                  <a:pt x="16346" y="14299"/>
                </a:lnTo>
                <a:lnTo>
                  <a:pt x="16346" y="17989"/>
                </a:lnTo>
                <a:lnTo>
                  <a:pt x="20732" y="17989"/>
                </a:lnTo>
                <a:lnTo>
                  <a:pt x="20732" y="10800"/>
                </a:lnTo>
                <a:lnTo>
                  <a:pt x="10114" y="10800"/>
                </a:lnTo>
                <a:lnTo>
                  <a:pt x="10114" y="17989"/>
                </a:lnTo>
                <a:lnTo>
                  <a:pt x="14500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par>
              <p:cTn id="2" nodeType="interactiveSeq" fill="hold">
                <p:childTnLst>
                  <p:par>
                    <p:cTn id="3" fill="hold"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6" nodeType="interactiveSeq" fill="hold">
                <p:childTnLst>
                  <p:par>
                    <p:cTn id="17" fill="hold"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30" nodeType="interactiveSeq" fill="hold">
                <p:childTnLst>
                  <p:par>
                    <p:cTn id="31" fill="hold"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44" nodeType="interactiveSeq" fill="hold">
                <p:childTnLst>
                  <p:par>
                    <p:cTn id="45" fill="hold"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indefinite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58" nodeType="interactiveSeq" fill="hold">
                <p:childTnLst>
                  <p:par>
                    <p:cTn id="59" fill="hold"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72" nodeType="interactiveSeq" fill="hold">
                <p:childTnLst>
                  <p:par>
                    <p:cTn id="73" fill="hold"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86" nodeType="interactiveSeq" fill="hold">
                <p:childTnLst>
                  <p:par>
                    <p:cTn id="87" fill="hold"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00" nodeType="interactiveSeq" fill="hold">
                <p:childTnLst>
                  <p:par>
                    <p:cTn id="101" fill="hold"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indefinite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14" nodeType="interactiveSeq" fill="hold">
                <p:childTnLst>
                  <p:par>
                    <p:cTn id="115" fill="hold"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indefinite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28" nodeType="interactiveSeq" fill="hold">
                <p:childTnLst>
                  <p:par>
                    <p:cTn id="129" fill="hold"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indefinite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  <p:par>
              <p:cTn id="142" nodeType="interactiveSeq" fill="hold">
                <p:childTnLst>
                  <p:par>
                    <p:cTn id="143" fill="hold"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</p:par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msmincho"/>
              </a:rPr>
              <a:t>Терминологический диктан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1434960" y="1447920"/>
            <a:ext cx="74995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а) Какой раздел науки о языке изучает словарный состав язык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б)соотнесенность слова с определенным понятием, явлением действительности, это то, что обозначает данное звукосочетание (в устной речи) или буквосочетание (в письменной речи) это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в) на какие группы делятся слова по происхождению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г) эти слова имеют единственное лексическое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д) эти слова, близкие или одинаковые по значению и относящиеся к одной части речи, но различные по своему звучанию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е) это названия понятий определенных сфер деятельности и производства, орудий и предметов труда, свойственных какой-либо профессии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ё) эти слова обозначают предметы или явления, которые существуют в современной жизни, но имеют другие названия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ж) это созданные слова, служащие для обозначения новых предметов и явлений и уже существующих понятий, явлений писателями и поэтам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msmincho"/>
              </a:rPr>
              <a:t>з) Это слова, заимствованные русским языком, но употребляемые в том же значении в других языках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msmincho"/>
              </a:rPr>
              <a:t>Ответ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1434960" y="1447920"/>
            <a:ext cx="749952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а) лекси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б)лексическое значение сло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в) исконно русские и заимствованные сло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г) однозначные слов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д)антони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е) профессионализ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ё) архаиз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ж)неологиз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msmincho"/>
              </a:rPr>
              <a:t>з) интернационализм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"/>
          <p:cNvSpPr/>
          <p:nvPr/>
        </p:nvSpPr>
        <p:spPr>
          <a:xfrm>
            <a:off x="1434960" y="204840"/>
            <a:ext cx="74995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msmincho"/>
              </a:rPr>
              <a:t> 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msmincho"/>
              </a:rPr>
              <a:t>Взаимопроверка (оценивание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нет ошибок – «5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1-2 ошибки – «4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3-4 ошибки – «3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" charset="2"/>
              <a:buChar char="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msmincho"/>
              </a:rPr>
              <a:t>5 и более – «2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1"/>
          <p:cNvSpPr/>
          <p:nvPr/>
        </p:nvSpPr>
        <p:spPr>
          <a:xfrm>
            <a:off x="214200" y="495360"/>
            <a:ext cx="8715600" cy="591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Распределите устаревшие слова на 2 группы (архаизмы, историзмы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Ланиты, выя, кольчуга, десница, шуйца, пищаль, дабы, забрало, редут, челобитчик, царь, пагуба, воевода, стольни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"/>
          <p:cNvSpPr/>
          <p:nvPr/>
        </p:nvSpPr>
        <p:spPr>
          <a:xfrm>
            <a:off x="357120" y="1765080"/>
            <a:ext cx="4357800" cy="4358160"/>
          </a:xfrm>
          <a:custGeom>
            <a:avLst/>
            <a:gdLst>
              <a:gd name="textAreaLeft" fmla="*/ 212400 w 4357800"/>
              <a:gd name="textAreaRight" fmla="*/ 4145400 w 4357800"/>
              <a:gd name="textAreaTop" fmla="*/ 212400 h 4358160"/>
              <a:gd name="textAreaBottom" fmla="*/ 4145760 h 4358160"/>
            </a:gdLst>
            <a:ahLst/>
            <a:rect l="textAreaLeft" t="textAreaTop" r="textAreaRight" b="textAreaBottom"/>
            <a:pathLst>
              <a:path w="21600" h="21602">
                <a:moveTo>
                  <a:pt x="3600" y="0"/>
                </a:moveTo>
                <a:arcTo wR="3600" hR="3600" stAng="16200000" swAng="-5400000"/>
                <a:lnTo>
                  <a:pt x="0" y="18002"/>
                </a:lnTo>
                <a:arcTo wR="3600" hR="3600" stAng="10800000" swAng="-5400000"/>
                <a:lnTo>
                  <a:pt x="18000" y="216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Архаизмы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ани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сн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шуй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б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гу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572000" y="2071800"/>
            <a:ext cx="4000680" cy="39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Историзм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ьчу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ища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ра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д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обитч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ар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ев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оль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357120" y="857160"/>
            <a:ext cx="8358120" cy="928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Провер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5">
            <a:hlinkClick r:id="rId2" action="ppaction://hlinksldjump"/>
          </p:cNvPr>
          <p:cNvSpPr/>
          <p:nvPr/>
        </p:nvSpPr>
        <p:spPr>
          <a:xfrm>
            <a:off x="8429760" y="635796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15423" y="3837"/>
                </a:moveTo>
                <a:lnTo>
                  <a:pt x="17999" y="6448"/>
                </a:ln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lnTo>
                  <a:pt x="22386" y="10800"/>
                </a:lnTo>
                <a:lnTo>
                  <a:pt x="20732" y="10800"/>
                </a:lnTo>
                <a:lnTo>
                  <a:pt x="20732" y="17989"/>
                </a:lnTo>
                <a:lnTo>
                  <a:pt x="10114" y="17989"/>
                </a:lnTo>
                <a:lnTo>
                  <a:pt x="10114" y="10800"/>
                </a:lnTo>
                <a:lnTo>
                  <a:pt x="8460" y="10800"/>
                </a:lnTo>
                <a:close/>
              </a:path>
              <a:path fill="darkenLess" w="30846" h="21600">
                <a:moveTo>
                  <a:pt x="17999" y="6448"/>
                </a:move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close/>
              </a:path>
              <a:path fill="darkenLess" w="30846" h="21600">
                <a:moveTo>
                  <a:pt x="14500" y="14299"/>
                </a:moveTo>
                <a:lnTo>
                  <a:pt x="16346" y="14299"/>
                </a:lnTo>
                <a:lnTo>
                  <a:pt x="16346" y="17989"/>
                </a:lnTo>
                <a:lnTo>
                  <a:pt x="20732" y="17989"/>
                </a:lnTo>
                <a:lnTo>
                  <a:pt x="20732" y="10800"/>
                </a:lnTo>
                <a:lnTo>
                  <a:pt x="10114" y="10800"/>
                </a:lnTo>
                <a:lnTo>
                  <a:pt x="10114" y="17989"/>
                </a:lnTo>
                <a:lnTo>
                  <a:pt x="14500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1"/>
          <p:cNvSpPr/>
          <p:nvPr/>
        </p:nvSpPr>
        <p:spPr>
          <a:xfrm>
            <a:off x="142920" y="285840"/>
            <a:ext cx="8858160" cy="576720"/>
          </a:xfrm>
          <a:prstGeom prst="pie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ите линиями синонимы из разных колоно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139680" y="1352520"/>
            <a:ext cx="8864640" cy="4627440"/>
          </a:xfrm>
          <a:prstGeom prst="rect">
            <a:avLst/>
          </a:prstGeom>
          <a:ln w="0">
            <a:noFill/>
          </a:ln>
        </p:spPr>
      </p:pic>
      <p:sp>
        <p:nvSpPr>
          <p:cNvPr id="126" name="Line 3"/>
          <p:cNvSpPr/>
          <p:nvPr/>
        </p:nvSpPr>
        <p:spPr>
          <a:xfrm>
            <a:off x="2071800" y="1857240"/>
            <a:ext cx="2928960" cy="18576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 flipV="1">
            <a:off x="1571760" y="1855440"/>
            <a:ext cx="3500280" cy="64620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1714680" y="3071880"/>
            <a:ext cx="3500280" cy="18572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3714840" y="3786120"/>
            <a:ext cx="1500120" cy="5716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2286000" y="4357800"/>
            <a:ext cx="3000240" cy="12142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 flipV="1">
            <a:off x="1785960" y="2426760"/>
            <a:ext cx="3357720" cy="257508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 flipV="1">
            <a:off x="1643040" y="3141720"/>
            <a:ext cx="3357720" cy="2503440"/>
          </a:xfrm>
          <a:prstGeom prst="line">
            <a:avLst/>
          </a:prstGeom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0">
            <a:hlinkClick r:id="rId3" action="ppaction://hlinksldjump"/>
          </p:cNvPr>
          <p:cNvSpPr/>
          <p:nvPr/>
        </p:nvSpPr>
        <p:spPr>
          <a:xfrm>
            <a:off x="8501040" y="63579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357120" y="274680"/>
            <a:ext cx="8429760" cy="28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Calibri"/>
              </a:rPr>
              <a:t>Запишите антонимы групп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d19a7"/>
                </a:solidFill>
                <a:latin typeface="Times New Roman"/>
                <a:ea typeface="Calibri"/>
              </a:rPr>
              <a:t>Смешной, традиции, мизерный, печальный, активный, эгоист, пессимист, пассивный, новаторство, гигантский, отсталый, альтруист, оригинальный, прогрессивный, банальны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42920" y="4519440"/>
            <a:ext cx="87868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Смешной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ечальный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традиции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новаторство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мизерный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гигантский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активный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ассивный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эгоист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альтруист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пессимист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оптимист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отсталый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огрессивный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, оригинальный –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Calibri"/>
              </a:rPr>
              <a:t>банальный</a:t>
            </a:r>
            <a:r>
              <a:rPr b="1" lang="ru-RU" sz="2800" spc="-1" strike="noStrike">
                <a:solidFill>
                  <a:srgbClr val="0042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">
            <a:hlinkClick r:id="rId2" action="ppaction://hlinksldjump"/>
          </p:cNvPr>
          <p:cNvSpPr/>
          <p:nvPr/>
        </p:nvSpPr>
        <p:spPr>
          <a:xfrm>
            <a:off x="8429760" y="6357960"/>
            <a:ext cx="714240" cy="500040"/>
          </a:xfrm>
          <a:custGeom>
            <a:avLst/>
            <a:gdLst>
              <a:gd name="textAreaLeft" fmla="*/ 32400 w 714240"/>
              <a:gd name="textAreaRight" fmla="*/ 681840 w 71424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30846" h="21600">
                <a:moveTo>
                  <a:pt x="0" y="0"/>
                </a:moveTo>
                <a:lnTo>
                  <a:pt x="30846" y="0"/>
                </a:lnTo>
                <a:lnTo>
                  <a:pt x="30846" y="21600"/>
                </a:lnTo>
                <a:lnTo>
                  <a:pt x="0" y="21600"/>
                </a:lnTo>
                <a:close/>
              </a:path>
              <a:path fill="lightenLess" w="30846" h="21600">
                <a:moveTo>
                  <a:pt x="0" y="0"/>
                </a:moveTo>
                <a:lnTo>
                  <a:pt x="30846" y="0"/>
                </a:lnTo>
                <a:lnTo>
                  <a:pt x="29446" y="1400"/>
                </a:lnTo>
                <a:lnTo>
                  <a:pt x="1400" y="1400"/>
                </a:lnTo>
                <a:close/>
              </a:path>
              <a:path fill="darken" w="30846" h="21600">
                <a:moveTo>
                  <a:pt x="30846" y="0"/>
                </a:moveTo>
                <a:lnTo>
                  <a:pt x="30846" y="21600"/>
                </a:lnTo>
                <a:lnTo>
                  <a:pt x="29446" y="20200"/>
                </a:lnTo>
                <a:lnTo>
                  <a:pt x="29446" y="1400"/>
                </a:lnTo>
                <a:close/>
              </a:path>
              <a:path fill="darkenLess" w="30846" h="21600">
                <a:moveTo>
                  <a:pt x="30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6" y="20200"/>
                </a:lnTo>
                <a:close/>
              </a:path>
              <a:path fill="lighten" w="30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6" h="21600">
                <a:moveTo>
                  <a:pt x="15423" y="3837"/>
                </a:moveTo>
                <a:lnTo>
                  <a:pt x="17999" y="6448"/>
                </a:ln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lnTo>
                  <a:pt x="22386" y="10800"/>
                </a:lnTo>
                <a:lnTo>
                  <a:pt x="20732" y="10800"/>
                </a:lnTo>
                <a:lnTo>
                  <a:pt x="20732" y="17989"/>
                </a:lnTo>
                <a:lnTo>
                  <a:pt x="10114" y="17989"/>
                </a:lnTo>
                <a:lnTo>
                  <a:pt x="10114" y="10800"/>
                </a:lnTo>
                <a:lnTo>
                  <a:pt x="8460" y="10800"/>
                </a:lnTo>
                <a:close/>
              </a:path>
              <a:path fill="darkenLess" w="30846" h="21600">
                <a:moveTo>
                  <a:pt x="17999" y="6448"/>
                </a:moveTo>
                <a:lnTo>
                  <a:pt x="17999" y="4707"/>
                </a:lnTo>
                <a:lnTo>
                  <a:pt x="19775" y="4707"/>
                </a:lnTo>
                <a:lnTo>
                  <a:pt x="19775" y="8224"/>
                </a:lnTo>
                <a:close/>
              </a:path>
              <a:path fill="darkenLess" w="30846" h="21600">
                <a:moveTo>
                  <a:pt x="14500" y="14299"/>
                </a:moveTo>
                <a:lnTo>
                  <a:pt x="16346" y="14299"/>
                </a:lnTo>
                <a:lnTo>
                  <a:pt x="16346" y="17989"/>
                </a:lnTo>
                <a:lnTo>
                  <a:pt x="20732" y="17989"/>
                </a:lnTo>
                <a:lnTo>
                  <a:pt x="20732" y="10800"/>
                </a:lnTo>
                <a:lnTo>
                  <a:pt x="10114" y="10800"/>
                </a:lnTo>
                <a:lnTo>
                  <a:pt x="10114" y="17989"/>
                </a:lnTo>
                <a:lnTo>
                  <a:pt x="14500" y="17989"/>
                </a:lnTo>
                <a:close/>
              </a:path>
            </a:pathLst>
          </a:custGeom>
          <a:solidFill>
            <a:srgbClr val="4f6228"/>
          </a:solidFill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1566720" y="3114720"/>
            <a:ext cx="5724720" cy="19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07:10:47Z</dcterms:created>
  <dc:creator>Nik</dc:creator>
  <dc:description/>
  <dc:language>en-US</dc:language>
  <cp:lastModifiedBy>User</cp:lastModifiedBy>
  <dcterms:modified xsi:type="dcterms:W3CDTF">2015-02-12T18:30:52Z</dcterms:modified>
  <cp:revision>34</cp:revision>
  <dc:subject/>
  <dc:title>Слайд 1</dc:title>
</cp:coreProperties>
</file>