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7.gif" ContentType="image/gi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5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4575-5BD0-42FD-B335-CD4B1FBD76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C445-6D9E-4138-B56F-B9D2E177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C21F-C271-4380-804B-E5DF272D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4446-D6A2-4162-97A3-F55C47F26F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529E-CB96-46CF-8658-C771F302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8EEE-40B6-4140-AF4E-B7F9AF26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77382-EC39-4114-8957-5A9C5440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C0EA-FFA5-451A-A815-90EBA44F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FBF36-8F47-4089-9106-DAB077E5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583A0-FC4B-4CA8-8DBF-776EFCA4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CACB-C712-4B58-86CF-CA755EA3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AE80-D5B9-4571-A461-82F20B69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B468EC-49E8-4662-BF8B-A379C2799E32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42228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</a:rPr>
              <a:t>                                                                                                                            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</a:rPr>
              <a:t>ПРИЛОЖЕНИЕ №2</a:t>
            </a:r>
            <a:br>
              <a:rPr sz="1400"/>
            </a:br>
            <a:br>
              <a:rPr sz="5400"/>
            </a:br>
            <a:r>
              <a:rPr b="1" i="1" lang="ru-RU" sz="6000" spc="-1" strike="noStrike">
                <a:solidFill>
                  <a:srgbClr val="572314"/>
                </a:solidFill>
                <a:latin typeface="Times New Roman"/>
              </a:rPr>
              <a:t>Презентация </a:t>
            </a:r>
            <a:br>
              <a:rPr sz="6000"/>
            </a:br>
            <a:r>
              <a:rPr b="1" i="1" lang="ru-RU" sz="6000" spc="-1" strike="noStrike">
                <a:solidFill>
                  <a:srgbClr val="572314"/>
                </a:solidFill>
                <a:latin typeface="Times New Roman"/>
              </a:rPr>
              <a:t>к уроку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1434960" y="4000680"/>
            <a:ext cx="749808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696744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7643880" y="4786200"/>
            <a:ext cx="1500120" cy="2071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1071720" cy="1000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1285920" y="1285920"/>
            <a:ext cx="7286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mincho"/>
              </a:rPr>
              <a:t>Русская фразеолог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11120" y="971640"/>
            <a:ext cx="82296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ea typeface="msmincho"/>
              </a:rPr>
              <a:t>Фразеология как раздел науки о язы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Фразеологизм и его призна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Источники происхождения фразеологиз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                              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  <a:ea typeface="msmincho"/>
              </a:rPr>
              <a:t>Фразеолог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Фразис –                 Логос –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«выражение»                                «учение»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 </a:t>
            </a:r>
            <a:r>
              <a:rPr b="0" i="1" lang="ru-RU" sz="2900" spc="-1" strike="noStrike" u="sng">
                <a:solidFill>
                  <a:srgbClr val="ff9900"/>
                </a:solidFill>
                <a:uFillTx/>
                <a:latin typeface="Times New Roman"/>
                <a:ea typeface="msmincho"/>
              </a:rPr>
              <a:t>Фразеология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-  состав фразеологических сочетаний в языке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 </a:t>
            </a:r>
            <a:r>
              <a:rPr b="0" i="1" lang="ru-RU" sz="2900" spc="-1" strike="noStrike">
                <a:solidFill>
                  <a:srgbClr val="ff9900"/>
                </a:solidFill>
                <a:latin typeface="Times New Roman"/>
                <a:ea typeface="msmincho"/>
              </a:rPr>
              <a:t>Фразеологизмы</a:t>
            </a: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i="1" lang="ru-RU" sz="2900" spc="-1" strike="noStrike">
                <a:solidFill>
                  <a:srgbClr val="ff9900"/>
                </a:solidFill>
                <a:latin typeface="Times New Roman"/>
                <a:ea typeface="msmincho"/>
              </a:rPr>
              <a:t>или фразеологические обороты</a:t>
            </a: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– устойчивые сочетания слов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"/>
          <p:cNvSpPr/>
          <p:nvPr/>
        </p:nvSpPr>
        <p:spPr>
          <a:xfrm flipH="1">
            <a:off x="3057120" y="907920"/>
            <a:ext cx="10112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5148360" y="907920"/>
            <a:ext cx="718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468360" y="-326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Фразеологизм и его призна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50920" y="620640"/>
          <a:ext cx="8715240" cy="5931000"/>
        </p:xfrm>
        <a:graphic>
          <a:graphicData uri="http://schemas.openxmlformats.org/drawingml/2006/table">
            <a:tbl>
              <a:tblPr/>
              <a:tblGrid>
                <a:gridCol w="4359240"/>
                <a:gridCol w="4356000"/>
              </a:tblGrid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Признаки свободных словосочета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Признаки фразеологизм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юбое из слов 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можно заменить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другими словам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В их составе 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нельзя заменять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ова по своему желанию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Слова 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охраняют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вою смысловую самостоятельность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Слова 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теряют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вою смысловую самостоятельность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оздаются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в процессе речи, не 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требуют запомина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Не создаются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в речи, а, как и слова, 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используются готовыми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требуют запомина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0" y="2574720"/>
            <a:ext cx="528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«Тянуть кота за хвос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надолго затягивать какое-либо решение или де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5429160" y="142920"/>
            <a:ext cx="3467160" cy="47721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4857840" y="500220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«Не разлей вода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дружные ребя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3"/>
          <a:stretch/>
        </p:blipFill>
        <p:spPr>
          <a:xfrm>
            <a:off x="428760" y="3714840"/>
            <a:ext cx="4214520" cy="24289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285840" y="621504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«Витать в облаках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— мечт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42920" y="3000240"/>
            <a:ext cx="492912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3143160" y="6215040"/>
            <a:ext cx="1714680" cy="428760"/>
          </a:xfrm>
          <a:prstGeom prst="rect">
            <a:avLst/>
          </a:prstGeom>
          <a:solidFill>
            <a:srgbClr val="e6e0e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5929200" y="5357880"/>
            <a:ext cx="1928880" cy="642960"/>
          </a:xfrm>
          <a:prstGeom prst="rect">
            <a:avLst/>
          </a:prstGeom>
          <a:solidFill>
            <a:srgbClr val="e6e0e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-142920" y="277812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msmincho"/>
              </a:rPr>
              <a:t>«Плясать под чужую дудку»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msmincho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smincho"/>
              </a:rPr>
              <a:t>— беспрекословно выполнять волю другого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5000760" y="0"/>
            <a:ext cx="3876480" cy="5643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5357880" y="579960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msmincho"/>
              </a:rPr>
              <a:t>«Сесть на шею»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msmincho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smincho"/>
              </a:rPr>
              <a:t>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smincho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smincho"/>
              </a:rPr>
              <a:t>быть обузой для другого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428760" y="328608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0" y="62611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msmincho"/>
              </a:rPr>
              <a:t>«Водить за нос»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msmincho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smincho"/>
              </a:rPr>
              <a:t>— обманы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5286240" y="5715000"/>
            <a:ext cx="3643560" cy="1000080"/>
          </a:xfrm>
          <a:prstGeom prst="rect">
            <a:avLst/>
          </a:prstGeom>
          <a:solidFill>
            <a:srgbClr val="f2dc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571680" y="6286680"/>
            <a:ext cx="4000320" cy="357120"/>
          </a:xfrm>
          <a:prstGeom prst="rect">
            <a:avLst/>
          </a:prstGeom>
          <a:solidFill>
            <a:srgbClr val="f2dc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285840" y="2714760"/>
            <a:ext cx="4357440" cy="785520"/>
          </a:xfrm>
          <a:prstGeom prst="rect">
            <a:avLst/>
          </a:prstGeom>
          <a:solidFill>
            <a:srgbClr val="f2dc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214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0" y="457488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«Море по колено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ничто не страш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6143760" y="142920"/>
            <a:ext cx="2743200" cy="3000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4357800" y="307188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«Мухи не обиди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— кроткий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3"/>
          <a:stretch/>
        </p:blipFill>
        <p:spPr>
          <a:xfrm>
            <a:off x="2643120" y="3429000"/>
            <a:ext cx="3633840" cy="2786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2071800" y="621504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«Как две капли воды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— очень похожи друг на дру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357120" y="4000680"/>
            <a:ext cx="2500560" cy="2143080"/>
          </a:xfrm>
          <a:prstGeom prst="smileyFace">
            <a:avLst>
              <a:gd name="adj" fmla="val 9282"/>
            </a:avLst>
          </a:prstGeom>
          <a:solidFill>
            <a:srgbClr val="dbeef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214720" y="5857920"/>
            <a:ext cx="6286320" cy="1000080"/>
          </a:xfrm>
          <a:prstGeom prst="smileyFace">
            <a:avLst>
              <a:gd name="adj" fmla="val 9282"/>
            </a:avLst>
          </a:prstGeom>
          <a:solidFill>
            <a:srgbClr val="dbeef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286160" y="2928960"/>
            <a:ext cx="4857840" cy="1143000"/>
          </a:xfrm>
          <a:prstGeom prst="smileyFace">
            <a:avLst>
              <a:gd name="adj" fmla="val 9282"/>
            </a:avLst>
          </a:prstGeom>
          <a:solidFill>
            <a:srgbClr val="dbeef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696744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7500960" y="5429160"/>
            <a:ext cx="1643040" cy="1428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1071720" cy="10000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285920" y="1428840"/>
            <a:ext cx="65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Фразеологизм и его источники происхож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mincho"/>
              </a:rPr>
              <a:t>Классификация фразеологизмов по происхожде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торические события и фак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заговоры и заклин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традиции и обряды русского челове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профессиональная деятельность челове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усская литерату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миф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усские народные сказки, былины и их персонаж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традиции русского алфавита и книжного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наблюдения за животным миром и окружающей средо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ассоциации человека, называемые им при объяснении непонятных для него явл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досуг русского человека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571680" y="2143080"/>
            <a:ext cx="428400" cy="3857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6786720" y="528624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457200" y="274680"/>
            <a:ext cx="822960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msmincho"/>
              </a:rPr>
              <a:t>Закреплени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.С. Тургене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322800" y="1800360"/>
            <a:ext cx="3157200" cy="431928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457200" y="-33480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c0504d"/>
                </a:solidFill>
                <a:latin typeface="Times New Roman"/>
                <a:ea typeface="msmincho"/>
              </a:rPr>
              <a:t>Какие из сочетаний слов являются устойчивыми, неделимыми оборотами речи, а какие по смыслу делятся на отдельные слова?</a:t>
            </a:r>
            <a:br>
              <a:rPr sz="37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«А теперь, </a:t>
            </a:r>
            <a:r>
              <a:rPr b="1" lang="ru-RU" sz="2900" spc="-1" strike="noStrike">
                <a:solidFill>
                  <a:srgbClr val="4d10bc"/>
                </a:solidFill>
                <a:latin typeface="Times New Roman"/>
                <a:ea typeface="msmincho"/>
              </a:rPr>
              <a:t>не разгибая спины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, поднимите руки вверх», - сказал тренер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Ребята трудились </a:t>
            </a:r>
            <a:r>
              <a:rPr b="1" lang="ru-RU" sz="2900" spc="-1" strike="noStrike">
                <a:solidFill>
                  <a:srgbClr val="4d10bc"/>
                </a:solidFill>
                <a:latin typeface="Times New Roman"/>
                <a:ea typeface="msmincho"/>
              </a:rPr>
              <a:t>не разгибая</a:t>
            </a:r>
            <a:r>
              <a:rPr b="0" lang="ru-RU" sz="2900" spc="-1" strike="noStrike">
                <a:solidFill>
                  <a:srgbClr val="4d10bc"/>
                </a:solidFill>
                <a:latin typeface="Times New Roman"/>
                <a:ea typeface="msmincho"/>
              </a:rPr>
              <a:t> </a:t>
            </a:r>
            <a:r>
              <a:rPr b="1" lang="ru-RU" sz="2900" spc="-1" strike="noStrike">
                <a:solidFill>
                  <a:srgbClr val="4d10bc"/>
                </a:solidFill>
                <a:latin typeface="Times New Roman"/>
                <a:ea typeface="msmincho"/>
              </a:rPr>
              <a:t>спины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до самого вечер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Витя упал, а старший брат поднял его и </a:t>
            </a:r>
            <a:r>
              <a:rPr b="1" lang="ru-RU" sz="2900" spc="-1" strike="noStrike">
                <a:solidFill>
                  <a:srgbClr val="4d10bc"/>
                </a:solidFill>
                <a:latin typeface="Times New Roman"/>
                <a:ea typeface="msmincho"/>
              </a:rPr>
              <a:t>поставил на ног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Родител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1" lang="ru-RU" sz="2900" spc="-1" strike="noStrike">
                <a:solidFill>
                  <a:srgbClr val="4d10bc"/>
                </a:solidFill>
                <a:latin typeface="Times New Roman"/>
                <a:ea typeface="msmincho"/>
              </a:rPr>
              <a:t>поставили на ног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сын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6732720" y="5157720"/>
            <a:ext cx="2143080" cy="14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457200" y="92160"/>
            <a:ext cx="82296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Times New Roman"/>
                <a:ea typeface="msmincho"/>
              </a:rPr>
              <a:t>Найдите соответствие фразеологизма и синонимичного выражения.</a:t>
            </a:r>
            <a:br>
              <a:rPr sz="2800"/>
            </a:b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31040" cy="3767040"/>
        </p:xfrm>
        <a:graphic>
          <a:graphicData uri="http://schemas.openxmlformats.org/drawingml/2006/table">
            <a:tbl>
              <a:tblPr/>
              <a:tblGrid>
                <a:gridCol w="4116240"/>
                <a:gridCol w="4114800"/>
              </a:tblGrid>
              <a:tr h="47160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Не зги не вид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Не жалея сил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Обводить вокруг пальц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Яблоку негде упа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Работать засучив рука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Хоть глаз выко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В одно мгнов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Не успел оглянуть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Как сельдь в боч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И след просты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Как ветром сду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Сломя голов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От мала до вел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Водить за н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Со всех н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Все как од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457200" y="92160"/>
            <a:ext cx="82296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Times New Roman"/>
                <a:ea typeface="msmincho"/>
              </a:rPr>
              <a:t>Найдите соответствие фразеологизма и синонимичного выражения. ОТВЕТЫ</a:t>
            </a:r>
            <a:br>
              <a:rPr sz="2800"/>
            </a:b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000080" y="2214720"/>
            <a:ext cx="66960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3     2-7    3-1   4-5    5-2    6-4    7-8   8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571680" y="2143080"/>
            <a:ext cx="428400" cy="3857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3"/>
          <a:stretch/>
        </p:blipFill>
        <p:spPr>
          <a:xfrm>
            <a:off x="6786720" y="528624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mincho"/>
              </a:rPr>
              <a:t>Домашняя раб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msmincho"/>
              </a:rPr>
              <a:t>Маршрут № 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Выйти на сай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msmincho"/>
              </a:rPr>
              <a:t>gramota.r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 и подготовить информацию о типах словарей.  (Какие бывают словар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msmincho"/>
              </a:rPr>
              <a:t>Маршрут № 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Выйти на сай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msmincho"/>
              </a:rPr>
              <a:t>slovari.r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 и подготовить информацию о строении словарной статьи в новом словаре иностранных слов Захаренко Е.Н.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571680" y="2143080"/>
            <a:ext cx="428400" cy="3857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6786720" y="528624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msmincho"/>
              </a:rPr>
              <a:t>Информ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Яндекс спеллер – сервер проверки правописания, который помогает находить и исправлять орфографические ошибки. РАБОТА СЕРВИСА ОСНОВАНА НА ИСПОЛЬЗОВАНИИ ОРФОГРАФИЧЕСКОГО СЛОВАРЯ            </a:t>
            </a: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msmincho"/>
              </a:rPr>
              <a:t>API</a:t>
            </a:r>
            <a:r>
              <a:rPr b="1" lang="ru-RU" sz="2900" spc="-1" strike="noStrike" u="sng">
                <a:solidFill>
                  <a:srgbClr val="ff0000"/>
                </a:solidFill>
                <a:uFillTx/>
                <a:latin typeface="Times New Roman"/>
                <a:ea typeface="msmincho"/>
              </a:rPr>
              <a:t>.</a:t>
            </a: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msmincho"/>
              </a:rPr>
              <a:t>YANDEX</a:t>
            </a:r>
            <a:r>
              <a:rPr b="1" lang="ru-RU" sz="2900" spc="-1" strike="noStrike" u="sng">
                <a:solidFill>
                  <a:srgbClr val="ff0000"/>
                </a:solidFill>
                <a:uFillTx/>
                <a:latin typeface="Times New Roman"/>
                <a:ea typeface="msmincho"/>
              </a:rPr>
              <a:t>.</a:t>
            </a: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msmincho"/>
              </a:rPr>
              <a:t>RU</a:t>
            </a:r>
            <a:r>
              <a:rPr b="1" lang="ru-RU" sz="2900" spc="-1" strike="noStrike" u="sng">
                <a:solidFill>
                  <a:srgbClr val="ff0000"/>
                </a:solidFill>
                <a:uFillTx/>
                <a:latin typeface="Times New Roman"/>
                <a:ea typeface="msmincho"/>
              </a:rPr>
              <a:t>/</a:t>
            </a: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msmincho"/>
              </a:rPr>
              <a:t>SPELLE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476280" y="-109440"/>
            <a:ext cx="8167680" cy="706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1487520" y="517680"/>
            <a:ext cx="6381720" cy="525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1560600" y="1731960"/>
            <a:ext cx="5883120" cy="530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5"/>
          <a:stretch/>
        </p:blipFill>
        <p:spPr>
          <a:xfrm>
            <a:off x="1560600" y="2951280"/>
            <a:ext cx="5883120" cy="523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6"/>
          <a:stretch/>
        </p:blipFill>
        <p:spPr>
          <a:xfrm>
            <a:off x="847800" y="5376960"/>
            <a:ext cx="7448400" cy="523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7"/>
          <a:stretch/>
        </p:blipFill>
        <p:spPr>
          <a:xfrm>
            <a:off x="414360" y="4091040"/>
            <a:ext cx="8169120" cy="5238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500040" y="1000080"/>
            <a:ext cx="2703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однозначные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148360" y="1000080"/>
            <a:ext cx="2995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многозначные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79280" y="2214720"/>
            <a:ext cx="2963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исконно русские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5715000" y="2214720"/>
            <a:ext cx="2960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заимствованные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0" y="3429000"/>
            <a:ext cx="414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общеупотребительные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4716360" y="3429000"/>
            <a:ext cx="4427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необщеупотребительные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0" y="4572000"/>
            <a:ext cx="31431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лексика активного запаса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5857920" y="4572000"/>
            <a:ext cx="32860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лексика пассивного запаса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179280" y="5857920"/>
            <a:ext cx="2808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нейтральная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6516720" y="5857920"/>
            <a:ext cx="248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разговорная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3214800" y="5857920"/>
            <a:ext cx="2786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книж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285840" y="1428840"/>
            <a:ext cx="3071880" cy="5713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е одно зна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5000760" y="1428840"/>
            <a:ext cx="3786120" cy="5713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е несколько знач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20"/>
          <p:cNvSpPr/>
          <p:nvPr/>
        </p:nvSpPr>
        <p:spPr>
          <a:xfrm>
            <a:off x="1646280" y="2421000"/>
            <a:ext cx="3286080" cy="12859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доевропейские, общеславянские слова,   восточнославянские,  собственно  рус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21"/>
          <p:cNvSpPr/>
          <p:nvPr/>
        </p:nvSpPr>
        <p:spPr>
          <a:xfrm>
            <a:off x="-227160" y="3419640"/>
            <a:ext cx="3286440" cy="12855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а, пришедшие из других языков, в том числе и из старославян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22"/>
          <p:cNvSpPr/>
          <p:nvPr/>
        </p:nvSpPr>
        <p:spPr>
          <a:xfrm>
            <a:off x="179280" y="2997360"/>
            <a:ext cx="3286080" cy="12855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а, использование которых свободно, ничем не ограниче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23"/>
          <p:cNvSpPr/>
          <p:nvPr/>
        </p:nvSpPr>
        <p:spPr>
          <a:xfrm>
            <a:off x="5580000" y="3357720"/>
            <a:ext cx="3286080" cy="12855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ектизмы, жаргонизмы, профессионализмы, просторечная лекс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24"/>
          <p:cNvSpPr/>
          <p:nvPr/>
        </p:nvSpPr>
        <p:spPr>
          <a:xfrm>
            <a:off x="1144440" y="4221000"/>
            <a:ext cx="3571920" cy="12859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седневно используемые слова, значение которых понятно всем носителям язы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5"/>
          <p:cNvSpPr/>
          <p:nvPr/>
        </p:nvSpPr>
        <p:spPr>
          <a:xfrm>
            <a:off x="5572080" y="5300640"/>
            <a:ext cx="3571920" cy="12859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аревш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сторизмы, архаизмы)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в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ологизм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26"/>
          <p:cNvSpPr/>
          <p:nvPr/>
        </p:nvSpPr>
        <p:spPr>
          <a:xfrm>
            <a:off x="179280" y="4797360"/>
            <a:ext cx="2857680" cy="10000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употребительная для всех сти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27"/>
          <p:cNvSpPr/>
          <p:nvPr/>
        </p:nvSpPr>
        <p:spPr>
          <a:xfrm>
            <a:off x="2987640" y="4869000"/>
            <a:ext cx="2857680" cy="10000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реплённая за одним из книжных сти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4954680" y="4734000"/>
            <a:ext cx="2857320" cy="10000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фициальная, экспрессив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29">
            <a:hlinkClick r:id="rId8" action="ppaction://hlinksldjump"/>
          </p:cNvPr>
          <p:cNvSpPr/>
          <p:nvPr/>
        </p:nvSpPr>
        <p:spPr>
          <a:xfrm>
            <a:off x="8429760" y="635796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15423" y="3837"/>
                </a:moveTo>
                <a:lnTo>
                  <a:pt x="17999" y="6448"/>
                </a:ln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lnTo>
                  <a:pt x="22386" y="10800"/>
                </a:lnTo>
                <a:lnTo>
                  <a:pt x="20732" y="10800"/>
                </a:lnTo>
                <a:lnTo>
                  <a:pt x="20732" y="17989"/>
                </a:lnTo>
                <a:lnTo>
                  <a:pt x="10114" y="17989"/>
                </a:lnTo>
                <a:lnTo>
                  <a:pt x="10114" y="10800"/>
                </a:lnTo>
                <a:lnTo>
                  <a:pt x="8460" y="10800"/>
                </a:lnTo>
                <a:close/>
              </a:path>
              <a:path fill="darkenLess" w="30846" h="21600">
                <a:moveTo>
                  <a:pt x="17999" y="6448"/>
                </a:move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close/>
              </a:path>
              <a:path fill="darkenLess" w="30846" h="21600">
                <a:moveTo>
                  <a:pt x="14500" y="14299"/>
                </a:moveTo>
                <a:lnTo>
                  <a:pt x="16346" y="14299"/>
                </a:lnTo>
                <a:lnTo>
                  <a:pt x="16346" y="17989"/>
                </a:lnTo>
                <a:lnTo>
                  <a:pt x="20732" y="17989"/>
                </a:lnTo>
                <a:lnTo>
                  <a:pt x="20732" y="10800"/>
                </a:lnTo>
                <a:lnTo>
                  <a:pt x="10114" y="10800"/>
                </a:lnTo>
                <a:lnTo>
                  <a:pt x="10114" y="17989"/>
                </a:lnTo>
                <a:lnTo>
                  <a:pt x="14500" y="17989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par>
              <p:cTn id="2" nodeType="interactiveSeq" fill="hold">
                <p:childTnLst>
                  <p:par>
                    <p:cTn id="3" fill="hold"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6" nodeType="interactiveSeq" fill="hold">
                <p:childTnLst>
                  <p:par>
                    <p:cTn id="17" fill="hold"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30" nodeType="interactiveSeq" fill="hold">
                <p:childTnLst>
                  <p:par>
                    <p:cTn id="31" fill="hold"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44" nodeType="interactiveSeq" fill="hold">
                <p:childTnLst>
                  <p:par>
                    <p:cTn id="45" fill="hold"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58" nodeType="interactiveSeq" fill="hold">
                <p:childTnLst>
                  <p:par>
                    <p:cTn id="59" fill="hold"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72" nodeType="interactiveSeq" fill="hold">
                <p:childTnLst>
                  <p:par>
                    <p:cTn id="73" fill="hold"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86" nodeType="interactiveSeq" fill="hold">
                <p:childTnLst>
                  <p:par>
                    <p:cTn id="87" fill="hold"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00" nodeType="interactiveSeq" fill="hold">
                <p:childTnLst>
                  <p:par>
                    <p:cTn id="101" fill="hold"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14" nodeType="interactiveSeq" fill="hold">
                <p:childTnLst>
                  <p:par>
                    <p:cTn id="115" fill="hold"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28" nodeType="interactiveSeq" fill="hold">
                <p:childTnLst>
                  <p:par>
                    <p:cTn id="129" fill="hold"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42" nodeType="interactiveSeq" fill="hold">
                <p:childTnLst>
                  <p:par>
                    <p:cTn id="143" fill="hold"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mincho"/>
              </a:rPr>
              <a:t>Терминологический дикта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1434960" y="1447920"/>
            <a:ext cx="74995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а) Какой раздел науки о языке изучает словарный состав язы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б)соотнесенность слова с определенным понятием, явлением действительности, это то, что обозначает данное звукосочетание (в устной речи) или буквосочетание (в письменной речи) эт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в) на какие группы делятся слова по происхождению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г) эти слова имеют единственное лексическо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д) эти слова, близкие или одинаковые по значению и относящиеся к одной части речи, но различные по своему звучанию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е) это названия понятий определенных сфер деятельности и производства, орудий и предметов труда, свойственных какой-либо профессии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ё) эти слова обозначают предметы или явления, которые существуют в современной жизни, но имеют другие названия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ж) это созданные слова, служащие для обозначения новых предметов и явлений и уже существующих понятий, явлений писателями и поэтам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з) Это слова, заимствованные русским языком, но употребляемые в том же значении в других языках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msmincho"/>
              </a:rPr>
              <a:t>Ответ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434960" y="1447920"/>
            <a:ext cx="74995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а) лекси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б)лексическое значение сло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в) исконно русские и заимствованные сло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г) однозначные слов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д)антони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е) профессионализ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ё) архаиз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ж)неологиз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з) интернационализ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1434960" y="204840"/>
            <a:ext cx="7499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msmincho"/>
              </a:rPr>
              <a:t>Взаимопроверка (оценивание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нет ошибок – «5»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1-2 ошибки – «4»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3-4 ошибки – «3»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5 и более – «2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1"/>
          <p:cNvSpPr/>
          <p:nvPr/>
        </p:nvSpPr>
        <p:spPr>
          <a:xfrm>
            <a:off x="214200" y="495360"/>
            <a:ext cx="8715600" cy="5912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Распределите устаревшие слова на 2 группы (архаизмы, историзмы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Ланиты, выя, кольчуга, десница, шуйца, пищаль, дабы, забрало, редут, челобитчик, царь, пагуба, воевода, стольни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"/>
          <p:cNvSpPr/>
          <p:nvPr/>
        </p:nvSpPr>
        <p:spPr>
          <a:xfrm>
            <a:off x="357120" y="1765080"/>
            <a:ext cx="4357800" cy="435816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4358160"/>
              <a:gd name="textAreaBottom" fmla="*/ 4145760 h 4358160"/>
            </a:gdLst>
            <a:ahLst/>
            <a:rect l="textAreaLeft" t="textAreaTop" r="textAreaRight" b="textAreaBottom"/>
            <a:pathLst>
              <a:path w="21600" h="21602">
                <a:moveTo>
                  <a:pt x="3600" y="0"/>
                </a:moveTo>
                <a:arcTo wR="3600" hR="3600" stAng="16200000" swAng="-5400000"/>
                <a:lnTo>
                  <a:pt x="0" y="18002"/>
                </a:lnTo>
                <a:arcTo wR="3600" hR="3600" stAng="10800000" swAng="-5400000"/>
                <a:lnTo>
                  <a:pt x="18000" y="21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Архаизмы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ани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шуй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гу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572000" y="2071800"/>
            <a:ext cx="4000680" cy="39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Историзм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ьчу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ща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р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д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лобитч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ар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е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57120" y="857160"/>
            <a:ext cx="835812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Провер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5">
            <a:hlinkClick r:id="rId2" action="ppaction://hlinksldjump"/>
          </p:cNvPr>
          <p:cNvSpPr/>
          <p:nvPr/>
        </p:nvSpPr>
        <p:spPr>
          <a:xfrm>
            <a:off x="8429760" y="635796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15423" y="3837"/>
                </a:moveTo>
                <a:lnTo>
                  <a:pt x="17999" y="6448"/>
                </a:ln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lnTo>
                  <a:pt x="22386" y="10800"/>
                </a:lnTo>
                <a:lnTo>
                  <a:pt x="20732" y="10800"/>
                </a:lnTo>
                <a:lnTo>
                  <a:pt x="20732" y="17989"/>
                </a:lnTo>
                <a:lnTo>
                  <a:pt x="10114" y="17989"/>
                </a:lnTo>
                <a:lnTo>
                  <a:pt x="10114" y="10800"/>
                </a:lnTo>
                <a:lnTo>
                  <a:pt x="8460" y="10800"/>
                </a:lnTo>
                <a:close/>
              </a:path>
              <a:path fill="darkenLess" w="30846" h="21600">
                <a:moveTo>
                  <a:pt x="17999" y="6448"/>
                </a:move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close/>
              </a:path>
              <a:path fill="darkenLess" w="30846" h="21600">
                <a:moveTo>
                  <a:pt x="14500" y="14299"/>
                </a:moveTo>
                <a:lnTo>
                  <a:pt x="16346" y="14299"/>
                </a:lnTo>
                <a:lnTo>
                  <a:pt x="16346" y="17989"/>
                </a:lnTo>
                <a:lnTo>
                  <a:pt x="20732" y="17989"/>
                </a:lnTo>
                <a:lnTo>
                  <a:pt x="20732" y="10800"/>
                </a:lnTo>
                <a:lnTo>
                  <a:pt x="10114" y="10800"/>
                </a:lnTo>
                <a:lnTo>
                  <a:pt x="10114" y="17989"/>
                </a:lnTo>
                <a:lnTo>
                  <a:pt x="14500" y="17989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1"/>
          <p:cNvSpPr/>
          <p:nvPr/>
        </p:nvSpPr>
        <p:spPr>
          <a:xfrm>
            <a:off x="142920" y="285840"/>
            <a:ext cx="8858160" cy="576720"/>
          </a:xfrm>
          <a:prstGeom prst="pie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те линиями синонимы из разных колоно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139680" y="1352520"/>
            <a:ext cx="8864640" cy="4627440"/>
          </a:xfrm>
          <a:prstGeom prst="rect">
            <a:avLst/>
          </a:prstGeom>
          <a:ln w="0">
            <a:noFill/>
          </a:ln>
        </p:spPr>
      </p:pic>
      <p:sp>
        <p:nvSpPr>
          <p:cNvPr id="126" name="Line 3"/>
          <p:cNvSpPr/>
          <p:nvPr/>
        </p:nvSpPr>
        <p:spPr>
          <a:xfrm>
            <a:off x="2071800" y="1857240"/>
            <a:ext cx="2928960" cy="18576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V="1">
            <a:off x="1571760" y="1855440"/>
            <a:ext cx="3500280" cy="6462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1714680" y="3071880"/>
            <a:ext cx="3500280" cy="18572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3714840" y="3786120"/>
            <a:ext cx="1500120" cy="5716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2286000" y="4357800"/>
            <a:ext cx="3000240" cy="12142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V="1">
            <a:off x="1785960" y="2426760"/>
            <a:ext cx="3357720" cy="25750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 flipV="1">
            <a:off x="1643040" y="3141720"/>
            <a:ext cx="3357720" cy="25034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0">
            <a:hlinkClick r:id="rId3" action="ppaction://hlinksldjump"/>
          </p:cNvPr>
          <p:cNvSpPr/>
          <p:nvPr/>
        </p:nvSpPr>
        <p:spPr>
          <a:xfrm>
            <a:off x="850104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357120" y="274680"/>
            <a:ext cx="8429760" cy="28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Calibri"/>
              </a:rPr>
              <a:t>Запишите антонимы групп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d19a7"/>
                </a:solidFill>
                <a:latin typeface="Times New Roman"/>
                <a:ea typeface="Calibri"/>
              </a:rPr>
              <a:t>Смешной, традиции, мизерный, печальный, активный, эгоист, пессимист, пассивный, новаторство, гигантский, отсталый, альтруист, оригинальный, прогрессивный, бана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42920" y="4519440"/>
            <a:ext cx="87868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Смешной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ечальный</a:t>
            </a: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, традиции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оваторство</a:t>
            </a: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, мизерный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гигантский</a:t>
            </a: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, активный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ассивный</a:t>
            </a: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, эгоист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альтруист</a:t>
            </a: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, пессимист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оптимист</a:t>
            </a: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, отсталый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грессивный</a:t>
            </a: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, оригинальный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банальный</a:t>
            </a: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3">
            <a:hlinkClick r:id="rId2" action="ppaction://hlinksldjump"/>
          </p:cNvPr>
          <p:cNvSpPr/>
          <p:nvPr/>
        </p:nvSpPr>
        <p:spPr>
          <a:xfrm>
            <a:off x="8429760" y="635796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15423" y="3837"/>
                </a:moveTo>
                <a:lnTo>
                  <a:pt x="17999" y="6448"/>
                </a:ln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lnTo>
                  <a:pt x="22386" y="10800"/>
                </a:lnTo>
                <a:lnTo>
                  <a:pt x="20732" y="10800"/>
                </a:lnTo>
                <a:lnTo>
                  <a:pt x="20732" y="17989"/>
                </a:lnTo>
                <a:lnTo>
                  <a:pt x="10114" y="17989"/>
                </a:lnTo>
                <a:lnTo>
                  <a:pt x="10114" y="10800"/>
                </a:lnTo>
                <a:lnTo>
                  <a:pt x="8460" y="10800"/>
                </a:lnTo>
                <a:close/>
              </a:path>
              <a:path fill="darkenLess" w="30846" h="21600">
                <a:moveTo>
                  <a:pt x="17999" y="6448"/>
                </a:move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close/>
              </a:path>
              <a:path fill="darkenLess" w="30846" h="21600">
                <a:moveTo>
                  <a:pt x="14500" y="14299"/>
                </a:moveTo>
                <a:lnTo>
                  <a:pt x="16346" y="14299"/>
                </a:lnTo>
                <a:lnTo>
                  <a:pt x="16346" y="17989"/>
                </a:lnTo>
                <a:lnTo>
                  <a:pt x="20732" y="17989"/>
                </a:lnTo>
                <a:lnTo>
                  <a:pt x="20732" y="10800"/>
                </a:lnTo>
                <a:lnTo>
                  <a:pt x="10114" y="10800"/>
                </a:lnTo>
                <a:lnTo>
                  <a:pt x="10114" y="17989"/>
                </a:lnTo>
                <a:lnTo>
                  <a:pt x="14500" y="17989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1566720" y="3114720"/>
            <a:ext cx="5724720" cy="19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07:10:47Z</dcterms:created>
  <dc:creator>Nik</dc:creator>
  <dc:description/>
  <dc:language>en-US</dc:language>
  <cp:lastModifiedBy>User</cp:lastModifiedBy>
  <dcterms:modified xsi:type="dcterms:W3CDTF">2015-02-12T18:30:52Z</dcterms:modified>
  <cp:revision>34</cp:revision>
  <dc:subject/>
  <dc:title>Слайд 1</dc:title>
</cp:coreProperties>
</file>