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1.jpeg" ContentType="image/jpeg"/>
  <Override PartName="/ppt/media/image2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E65-1338-43AB-9FB2-26EA48A95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2A38-5F15-424C-A1EE-7FA7D090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247-3169-4F37-9946-D9D2FB95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037-46DB-44B1-904E-86F27B1C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A160-7D6D-40AC-8F09-129A2280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04FD-8089-49B2-9034-6F186819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6434-18B7-40EC-9E13-BF643259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79E5-3BCC-44D0-AB0C-B76E1957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4E1C-A1E3-404B-9C58-C1C4C6D0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6126-52E3-4396-BDAF-E7BB5AE9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B3BB-EE84-4CD1-BCFE-7178A434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5E6A-4431-4D21-893C-72E357C9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EB6B2-8A9D-484A-BBDD-3C1AB8B0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BBD5-A615-484E-BDF6-C2880421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25EE-AA74-4849-AF8F-7180A278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0D48-A5BE-40C6-87C9-C39C4BC5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EAEC-E3B1-479A-B451-31A447A7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CF1-60BC-4EF2-BD69-86196DD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CA5-5DE7-49A4-B3D5-9CF821BA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3B68-5EB1-4005-8F98-7D2FAEA0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D6A0-83EC-4F97-9C84-F7F1A311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CDC-95BE-496D-824D-22BC7A37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C87-2140-4D4F-BB08-29167D3F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88A-AACB-4ACE-BA86-096C875A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0A2A-F40F-4BF1-A1CA-6D86873AC13A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E615-A2DE-4C86-ADA0-6680D6868852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26920" y="0"/>
            <a:ext cx="83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КПОУ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овокузнец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нотранспортный коллед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1916280"/>
            <a:ext cx="77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ДАЮЩИЙСЯ ЧЕЛОВЕ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ОРОДА НОВОКУЗНЕЦ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ВАСИЛЬЕВИЧ ПУШНИ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476360" y="54450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Авторы: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Шамякова Василина, Сазонова Софь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студенты гр.ТРК-14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Руководитель: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Arial"/>
              </a:rPr>
              <a:t> Мильяшенко Ольга Никола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38200" y="176868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ами «Лучший менеджер по качеству»,      Санкт-Петербург (1995 и 1998 гг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воено звание Заслуженный металлург РФ(1993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ям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За доблестный труд» (1970 г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«За трудовую доблесть» (1971 г.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деном «Трудового Красного Знамени» (1986 г.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 знакам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ауреат ВВЦ (1995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ауреат ЗСМК (1998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ауреат премии Кузбасса (200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Рисунок 2" descr=""/>
          <p:cNvPicPr/>
          <p:nvPr/>
        </p:nvPicPr>
        <p:blipFill>
          <a:blip r:embed="rId2"/>
          <a:stretch/>
        </p:blipFill>
        <p:spPr>
          <a:xfrm>
            <a:off x="6588000" y="4797360"/>
            <a:ext cx="231948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3" descr=""/>
          <p:cNvPicPr/>
          <p:nvPr/>
        </p:nvPicPr>
        <p:blipFill>
          <a:blip r:embed="rId2"/>
          <a:stretch/>
        </p:blipFill>
        <p:spPr>
          <a:xfrm>
            <a:off x="1619280" y="1916280"/>
            <a:ext cx="4680000" cy="3514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35280" y="566892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 правления и аудито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ых общественных организац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качеств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&amp;Kcy;&amp;acy;&amp;rcy;&amp;tcy;&amp;icy;&amp;ncy;&amp;kcy;&amp;icy; &amp;pcy;&amp;ocy; &amp;zcy;&amp;acy;&amp;pcy;&amp;rcy;&amp;ocy;&amp;scy;&amp;ucy; &amp;Pcy;&amp;rcy;&amp;acy;&amp;vcy;&amp;icy;&amp;tcy;&amp;iecy;&amp;lcy;&amp;softcy;&amp;scy;&amp;tcy;&amp;vcy;&amp;acy; &amp;Rcy;&amp;ocy;&amp;scy;&amp;scy;&amp;icy;&amp;icy; &amp;pcy;&amp;ocy; &amp;kcy;&amp;acy;&amp;chcy;&amp;iecy;&amp;scy;&amp;tcy;&amp;vcy;&amp;ucy;"/>
          <p:cNvPicPr/>
          <p:nvPr/>
        </p:nvPicPr>
        <p:blipFill>
          <a:blip r:embed="rId3"/>
          <a:stretch/>
        </p:blipFill>
        <p:spPr>
          <a:xfrm>
            <a:off x="6443640" y="3565440"/>
            <a:ext cx="252108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22160" y="1986840"/>
            <a:ext cx="59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слуги в области качества отмечен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ом Трудового Красного Знамен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 «За заслуги в стандартизации»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ыми грамотами и благодарностя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&amp;Kcy;&amp;acy;&amp;rcy;&amp;tcy;&amp;icy;&amp;ncy;&amp;kcy;&amp;icy; &amp;pcy;&amp;ocy; &amp;zcy;&amp;acy;&amp;pcy;&amp;rcy;&amp;ocy;&amp;scy;&amp;ucy; &amp;ocy;&amp;rcy;&amp;dcy;&amp;iecy;&amp;ncy;&amp;ocy;&amp;mcy; &amp;Tcy;&amp;rcy;&amp;ucy;&amp;dcy;&amp;ocy;&amp;vcy;&amp;ocy;&amp;gcy;&amp;ocy; &amp;Kcy;&amp;rcy;&amp;acy;&amp;scy;&amp;ncy;&amp;ocy;&amp;gcy;&amp;ocy; &amp;Zcy;&amp;ncy;&amp;acy;&amp;mcy;&amp;iecy;&amp;ncy;&amp;icy;"/>
          <p:cNvPicPr/>
          <p:nvPr/>
        </p:nvPicPr>
        <p:blipFill>
          <a:blip r:embed="rId2"/>
          <a:stretch/>
        </p:blipFill>
        <p:spPr>
          <a:xfrm>
            <a:off x="4211640" y="4653000"/>
            <a:ext cx="1428840" cy="17334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&amp;Kcy;&amp;acy;&amp;rcy;&amp;tcy;&amp;icy;&amp;ncy;&amp;kcy;&amp;icy; &amp;pcy;&amp;ocy; &amp;zcy;&amp;acy;&amp;pcy;&amp;rcy;&amp;ocy;&amp;scy;&amp;ucy; &amp;zcy;&amp;ncy;&amp;acy;&amp;kcy;&amp;ocy;&amp;mcy; «&amp;Zcy;&amp;acy; &amp;zcy;&amp;acy;&amp;scy;&amp;lcy;&amp;ucy;&amp;gcy;&amp;icy; &amp;vcy; &amp;scy;&amp;tcy;&amp;acy;&amp;ncy;&amp;dcy;&amp;acy;&amp;rcy;&amp;tcy;&amp;icy;&amp;zcy;&amp;acy;&amp;tscy;&amp;icy;&amp;icy;"/>
          <p:cNvPicPr/>
          <p:nvPr/>
        </p:nvPicPr>
        <p:blipFill>
          <a:blip r:embed="rId3"/>
          <a:stretch/>
        </p:blipFill>
        <p:spPr>
          <a:xfrm>
            <a:off x="1763640" y="4365720"/>
            <a:ext cx="1274760" cy="2276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6877080" y="3500280"/>
            <a:ext cx="2106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47640" y="1804320"/>
            <a:ext cx="736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л и возглави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кузнецкое городское отде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российской общественной организ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сероссийская организация качества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&amp;Kcy;&amp;acy;&amp;rcy;&amp;tcy;&amp;icy;&amp;ncy;&amp;kcy;&amp;icy; &amp;pcy;&amp;ocy; &amp;zcy;&amp;acy;&amp;pcy;&amp;rcy;&amp;ocy;&amp;scy;&amp;ucy; «&amp;Vcy;&amp;scy;&amp;iecy;&amp;rcy;&amp;ocy;&amp;scy;&amp;scy;&amp;icy;&amp;jcy;&amp;scy;&amp;kcy;&amp;acy;&amp;yacy; &amp;ocy;&amp;rcy;&amp;gcy;&amp;acy;&amp;ncy;&amp;icy;&amp;zcy;&amp;acy;&amp;tscy;&amp;icy;&amp;yacy; &amp;kcy;&amp;acy;&amp;chcy;&amp;iecy;&amp;scy;&amp;tcy;&amp;vcy;&amp;acy;»"/>
          <p:cNvPicPr/>
          <p:nvPr/>
        </p:nvPicPr>
        <p:blipFill>
          <a:blip r:embed="rId2"/>
          <a:stretch/>
        </p:blipFill>
        <p:spPr>
          <a:xfrm>
            <a:off x="4572000" y="3357720"/>
            <a:ext cx="1084320" cy="1083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619280" y="4508640"/>
            <a:ext cx="7272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4507200"/>
            <a:ext cx="4406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хрина О.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технических на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фесс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федры металлургии черных металл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ации и сертифик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бГи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6084720" y="1628640"/>
            <a:ext cx="2163960" cy="288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219640" y="4437000"/>
            <a:ext cx="39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ихина И.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технических нау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фесс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федры металлургии черных металл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ации и сертифик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бГи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2144520" cy="2880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692360" y="16092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лле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я Васильевича  Пушницы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692360" y="1879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10520" y="763560"/>
            <a:ext cx="681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оположник и родоначаль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и «Стандартизация и сертификация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&amp;Kcy;&amp;acy;&amp;rcy;&amp;tcy;&amp;icy;&amp;ncy;&amp;kcy;&amp;icy; &amp;pcy;&amp;ocy; &amp;zcy;&amp;acy;&amp;pcy;&amp;rcy;&amp;ocy;&amp;scy;&amp;ucy; &amp;Ncy;&amp;ocy;&amp;vcy;&amp;ocy;&amp;kcy;&amp;ucy;&amp;zcy;&amp;ncy;&amp;iecy;&amp;tscy;&amp;kcy;&amp;ocy;&amp;mcy; &amp;gcy;&amp;ocy;&amp;rcy;&amp;ncy;&amp;ocy;&amp;tcy;&amp;rcy;&amp;acy;&amp;ncy;&amp;scy;&amp;pcy;&amp;ocy;&amp;rcy;&amp;tcy;&amp;ncy;&amp;ocy;&amp;mcy; &amp;kcy;&amp;ocy;&amp;lcy;&amp;lcy;&amp;iecy;&amp;dcy;&amp;zhcy;&amp;iecy;"/>
          <p:cNvPicPr/>
          <p:nvPr/>
        </p:nvPicPr>
        <p:blipFill>
          <a:blip r:embed="rId2"/>
          <a:stretch/>
        </p:blipFill>
        <p:spPr>
          <a:xfrm>
            <a:off x="5003640" y="1916280"/>
            <a:ext cx="3961080" cy="2627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4643280" y="4149720"/>
            <a:ext cx="1630440" cy="244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1547640" y="1916280"/>
            <a:ext cx="1849680" cy="2516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411280" y="3860640"/>
            <a:ext cx="1819440" cy="2446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76720" y="198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ченко С.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6308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льяшенко О.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6237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лова О.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03280" y="1915200"/>
            <a:ext cx="774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ных лиц в России мног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, кто край родной любя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л Державу строг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жалел в трудах себ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эскадру вёл отважно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солдат, тот славный княз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 узор вплетали важны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сторическую вяз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42920" y="2997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6633"/>
                </a:solidFill>
                <a:latin typeface="Arial"/>
              </a:rPr>
              <a:t>Благодарим 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2"/>
          <a:stretch/>
        </p:blipFill>
        <p:spPr>
          <a:xfrm>
            <a:off x="1692360" y="1844640"/>
            <a:ext cx="3051000" cy="5013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409480" y="403920"/>
            <a:ext cx="61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клад в историю Новокузнец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894280" y="1989000"/>
            <a:ext cx="2665440" cy="36007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435640" y="580392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Васильеви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ушниц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&amp;Kcy;&amp;acy;&amp;rcy;&amp;tcy;&amp;icy;&amp;ncy;&amp;kcy;&amp;icy; &amp;pcy;&amp;ocy; &amp;zcy;&amp;acy;&amp;pcy;&amp;rcy;&amp;ocy;&amp;scy;&amp;ucy; &amp;scy;&amp;icy;&amp;bcy;&amp;gcy;&amp;icy;&amp;ucy; &amp;ncy;&amp;ocy;&amp;vcy;&amp;ocy;&amp;kcy;&amp;ucy;&amp;zcy;&amp;ncy;&amp;iecy;&amp;tscy;&amp;kcy;"/>
          <p:cNvPicPr/>
          <p:nvPr/>
        </p:nvPicPr>
        <p:blipFill>
          <a:blip r:embed="rId2"/>
          <a:stretch/>
        </p:blipFill>
        <p:spPr>
          <a:xfrm>
            <a:off x="1692360" y="1916280"/>
            <a:ext cx="3671640" cy="2757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94880" y="4722840"/>
            <a:ext cx="71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профессором СибГИ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ьности «Стандартизация и сертификаци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6516720" y="1989000"/>
            <a:ext cx="222876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&amp;Kcy;&amp;acy;&amp;rcy;&amp;tcy;&amp;icy;&amp;ncy;&amp;kcy;&amp;icy; &amp;pcy;&amp;ocy; &amp;zcy;&amp;acy;&amp;pcy;&amp;rcy;&amp;ocy;&amp;scy;&amp;ucy; &amp;Ucy;&amp;rcy;&amp;acy;&amp;lcy;&amp;softcy;&amp;scy;&amp;kcy;&amp;icy;&amp;jcy; &amp;pcy;&amp;ocy;&amp;lcy;&amp;icy;&amp;tcy;&amp;iecy;&amp;khcy;&amp;ncy;&amp;icy;&amp;chcy;&amp;iecy;&amp;scy;&amp;kcy;&amp;icy;&amp;jcy; &amp;icy;&amp;ncy;&amp;scy;&amp;tcy;&amp;icy;&amp;tcy;&amp;ucy;&amp;tcy;"/>
          <p:cNvPicPr/>
          <p:nvPr/>
        </p:nvPicPr>
        <p:blipFill>
          <a:blip r:embed="rId2"/>
          <a:stretch/>
        </p:blipFill>
        <p:spPr>
          <a:xfrm>
            <a:off x="1619280" y="2060640"/>
            <a:ext cx="3456000" cy="2300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151960" y="2059200"/>
            <a:ext cx="375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ль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ехнический институ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&amp;Kcy;&amp;acy;&amp;rcy;&amp;tcy;&amp;icy;&amp;ncy;&amp;kcy;&amp;icy; &amp;pcy;&amp;ocy; &amp;zcy;&amp;acy;&amp;pcy;&amp;rcy;&amp;ocy;&amp;scy;&amp;ucy; &amp;Ncy;&amp;icy;&amp;zhcy;&amp;ncy;&amp;iecy;&amp;tcy;&amp;acy;&amp;gcy;&amp;icy;&amp;lcy;&amp;softcy;&amp;scy;&amp;kcy;&amp;ocy;&amp;mcy; &amp;mcy;&amp;iecy;&amp;tcy;&amp;acy;&amp;lcy;&amp;lcy;&amp;ucy;&amp;rcy;&amp;gcy;&amp;icy;&amp;chcy;&amp;iecy;&amp;scy;&amp;kcy;&amp;ocy;&amp;mcy; &amp;kcy;&amp;ocy;&amp;mcy;&amp;bcy;&amp;icy;&amp;ncy;&amp;acy;&amp;tcy;&amp;iecy;"/>
          <p:cNvPicPr/>
          <p:nvPr/>
        </p:nvPicPr>
        <p:blipFill>
          <a:blip r:embed="rId3"/>
          <a:stretch/>
        </p:blipFill>
        <p:spPr>
          <a:xfrm>
            <a:off x="5148360" y="3789360"/>
            <a:ext cx="3816360" cy="2867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260720" y="5588280"/>
            <a:ext cx="38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нетагильски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ургический комбин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&amp;Kcy;&amp;acy;&amp;rcy;&amp;tcy;&amp;icy;&amp;ncy;&amp;kcy;&amp;icy; &amp;pcy;&amp;ocy; &amp;zcy;&amp;acy;&amp;pcy;&amp;rcy;&amp;ocy;&amp;scy;&amp;ucy; &amp;Zcy;&amp;acy;&amp;pcy;&amp;acy;&amp;dcy;&amp;ncy;&amp;ocy;-&amp;Scy;&amp;icy;&amp;bcy;&amp;icy;&amp;rcy;&amp;scy;&amp;kcy;&amp;ocy;&amp;mcy; &amp;mcy;&amp;iecy;&amp;tcy;&amp;acy;&amp;lcy;&amp;lcy;&amp;ucy;&amp;rcy;&amp;gcy;&amp;icy;&amp;chcy;&amp;iecy;&amp;scy;&amp;kcy;&amp;ocy;&amp;mcy; &amp;kcy;&amp;ocy;&amp;mcy;&amp;bcy;&amp;icy;&amp;ncy;&amp;acy;&amp;tcy;&amp;iecy; "/>
          <p:cNvPicPr/>
          <p:nvPr/>
        </p:nvPicPr>
        <p:blipFill>
          <a:blip r:embed="rId2"/>
          <a:stretch/>
        </p:blipFill>
        <p:spPr>
          <a:xfrm>
            <a:off x="1908000" y="1989000"/>
            <a:ext cx="3240360" cy="22575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19280" y="616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дно-Сибирский металлургический комбина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&amp;Kcy;&amp;acy;&amp;rcy;&amp;tcy;&amp;icy;&amp;ncy;&amp;kcy;&amp;icy; &amp;pcy;&amp;ocy; &amp;zcy;&amp;acy;&amp;pcy;&amp;rcy;&amp;ocy;&amp;scy;&amp;ucy; &amp;vcy;&amp;ycy;&amp;pcy;&amp;lcy;&amp;acy;&amp;vcy;&amp;kcy;&amp;icy; &amp;scy;&amp;tcy;&amp;acy;&amp;lcy;&amp;icy;, &amp;pcy;&amp;ocy;&amp;vcy;&amp;ycy;&amp;shcy;&amp;iecy;&amp;ncy;&amp;icy;&amp;icy; &amp;scy;&amp;tcy;&amp;ocy;&amp;jcy;&amp;kcy;&amp;ocy;&amp;scy;&amp;tcy;&amp;icy; &amp;fcy;&amp;ucy;&amp;tcy;&amp;iecy;&amp;rcy;&amp;ocy;&amp;vcy;&amp;kcy;&amp;icy; &amp;kcy;&amp;ocy;&amp;ncy;&amp;vcy;&amp;iecy;&amp;rcy;&amp;tcy;&amp;ocy;&amp;rcy;&amp;ocy;&amp;vcy; &amp;Zcy;&amp;Scy;&amp;Mcy;&amp;Kcy;"/>
          <p:cNvPicPr/>
          <p:nvPr/>
        </p:nvPicPr>
        <p:blipFill>
          <a:blip r:embed="rId3"/>
          <a:stretch/>
        </p:blipFill>
        <p:spPr>
          <a:xfrm>
            <a:off x="4067280" y="4437000"/>
            <a:ext cx="2421000" cy="17780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4"/>
          <a:stretch/>
        </p:blipFill>
        <p:spPr>
          <a:xfrm>
            <a:off x="5364000" y="1989000"/>
            <a:ext cx="35290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&amp;Kcy;&amp;acy;&amp;rcy;&amp;tcy;&amp;icy;&amp;ncy;&amp;kcy;&amp;icy; &amp;pcy;&amp;ocy; &amp;zcy;&amp;acy;&amp;pcy;&amp;rcy;&amp;ocy;&amp;scy;&amp;ucy; &amp;Mcy;&amp;iecy;&amp;tcy;&amp;acy;&amp;lcy;&amp;lcy;&amp;ucy;&amp;rcy;&amp;gcy;&amp;icy;&amp;chcy;&amp;iecy;&amp;scy;&amp;kcy;&amp;ocy;&amp;mcy; &amp;zcy;&amp;acy;&amp;vcy;&amp;ocy;&amp;dcy;&amp;iecy; &amp;icy;&amp;mcy;. &amp;Kcy;&amp;icy;&amp;mcy; &amp;CHcy;&amp;acy;&amp;kcy;&amp;acy;"/>
          <p:cNvPicPr/>
          <p:nvPr/>
        </p:nvPicPr>
        <p:blipFill>
          <a:blip r:embed="rId2"/>
          <a:stretch/>
        </p:blipFill>
        <p:spPr>
          <a:xfrm>
            <a:off x="5580000" y="1989000"/>
            <a:ext cx="3375000" cy="308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65800" y="2419560"/>
            <a:ext cx="35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лургический заво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. Ким Ч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&amp;Pcy;&amp;ocy;&amp;khcy;&amp;ocy;&amp;zhcy;&amp;iecy;&amp;iecy; &amp;icy;&amp;zcy;&amp;ocy;&amp;bcy;&amp;rcy;&amp;acy;&amp;zhcy;&amp;iecy;&amp;ncy;&amp;icy;&amp;iecy;"/>
          <p:cNvPicPr/>
          <p:nvPr/>
        </p:nvPicPr>
        <p:blipFill>
          <a:blip r:embed="rId3"/>
          <a:stretch/>
        </p:blipFill>
        <p:spPr>
          <a:xfrm>
            <a:off x="1547640" y="4076640"/>
            <a:ext cx="381636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&amp;Kcy;&amp;acy;&amp;rcy;&amp;tcy;&amp;icy;&amp;ncy;&amp;kcy;&amp;icy; &amp;pcy;&amp;ocy; &amp;zcy;&amp;acy;&amp;pcy;&amp;rcy;&amp;ocy;&amp;scy;&amp;ucy; &amp;mcy;&amp;iecy;&amp;ncy;&amp;iecy;&amp;dcy;&amp;zhcy;&amp;mcy;&amp;iecy;&amp;ncy;&amp;tcy;&amp;acy; &amp;kcy;&amp;acy;&amp;chcy;&amp;iecy;&amp;scy;&amp;tcy;&amp;vcy;&amp;acy; &amp;ncy;&amp;acy; &amp;Zcy;&amp;Scy;&amp;Mcy;&amp;Kcy;"/>
          <p:cNvPicPr/>
          <p:nvPr/>
        </p:nvPicPr>
        <p:blipFill>
          <a:blip r:embed="rId2"/>
          <a:stretch/>
        </p:blipFill>
        <p:spPr>
          <a:xfrm>
            <a:off x="1619280" y="2349360"/>
            <a:ext cx="3457440" cy="2213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97080" y="1843560"/>
            <a:ext cx="566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неджмента качества на ЗСМ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&amp;Kcy;&amp;acy;&amp;rcy;&amp;tcy;&amp;icy;&amp;ncy;&amp;kcy;&amp;icy; &amp;pcy;&amp;ocy; &amp;zcy;&amp;acy;&amp;pcy;&amp;rcy;&amp;ocy;&amp;scy;&amp;ucy; &amp;Scy;&amp;Mcy;&amp;Kcy; &amp;ncy;&amp;acy; &amp;Zcy;&amp;Scy;&amp;Mcy;&amp;Kcy;"/>
          <p:cNvPicPr/>
          <p:nvPr/>
        </p:nvPicPr>
        <p:blipFill>
          <a:blip r:embed="rId3"/>
          <a:stretch/>
        </p:blipFill>
        <p:spPr>
          <a:xfrm>
            <a:off x="5219640" y="2349360"/>
            <a:ext cx="3760920" cy="2116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987640" y="4017960"/>
            <a:ext cx="3859200" cy="2840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76360" y="1051920"/>
            <a:ext cx="76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бота, которую трудно было не замети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&amp;Kcy;&amp;acy;&amp;rcy;&amp;tcy;&amp;icy;&amp;ncy;&amp;kcy;&amp;icy; &amp;pcy;&amp;ocy; &amp;zcy;&amp;acy;&amp;pcy;&amp;rcy;&amp;ocy;&amp;scy;&amp;ucy; &amp;Mcy;&amp;Ocy;&amp;Ocy; «&amp;Mcy;&amp;Acy;&amp;Kcy;-&amp;Scy;&amp;ocy;&amp;vcy;&amp;Acy;&amp;scy;&amp;Kcy;»"/>
          <p:cNvPicPr/>
          <p:nvPr/>
        </p:nvPicPr>
        <p:blipFill>
          <a:blip r:embed="rId2"/>
          <a:stretch/>
        </p:blipFill>
        <p:spPr>
          <a:xfrm>
            <a:off x="3059280" y="3213000"/>
            <a:ext cx="3887640" cy="32562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68680" y="1914480"/>
            <a:ext cx="678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основате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ой Ассоциации качеств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лся членом Правления МОО «МАК-СовАсК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92360" y="4752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иколай  Васильевич  Пушниц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2911680" cy="417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5435640" y="2133720"/>
            <a:ext cx="27860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5:33:45Z</dcterms:created>
  <dc:creator>Перескокова</dc:creator>
  <dc:description/>
  <dc:language>en-US</dc:language>
  <cp:lastModifiedBy>User</cp:lastModifiedBy>
  <dcterms:modified xsi:type="dcterms:W3CDTF">2016-11-23T13:02:54Z</dcterms:modified>
  <cp:revision>114</cp:revision>
  <dc:subject/>
  <dc:title>Презентация PowerPoint</dc:title>
</cp:coreProperties>
</file>