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24.jpeg" ContentType="image/jpeg"/>
  <Override PartName="/ppt/media/image23.jpeg" ContentType="image/jpeg"/>
  <Override PartName="/ppt/media/image22.jpeg" ContentType="image/jpeg"/>
  <Override PartName="/ppt/media/image8.jpeg" ContentType="image/jpeg"/>
  <Override PartName="/ppt/media/image10.jpeg" ContentType="image/jpeg"/>
  <Override PartName="/ppt/media/image30.png" ContentType="image/png"/>
  <Override PartName="/ppt/media/image9.jpeg" ContentType="image/jpeg"/>
  <Override PartName="/ppt/media/image11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32.jpeg" ContentType="image/jpeg"/>
  <Override PartName="/ppt/media/image28.jpeg" ContentType="image/jpeg"/>
  <Override PartName="/ppt/media/image7.jpeg" ContentType="image/jpeg"/>
  <Override PartName="/ppt/media/image34.jpeg" ContentType="image/jpeg"/>
  <Override PartName="/ppt/media/image31.jpeg" ContentType="image/jpeg"/>
  <Override PartName="/ppt/media/image2.png" ContentType="image/png"/>
  <Override PartName="/ppt/media/image13.jpeg" ContentType="image/jpeg"/>
  <Override PartName="/ppt/media/image12.jpeg" ContentType="image/jpeg"/>
  <Override PartName="/ppt/media/image4.png" ContentType="image/png"/>
  <Override PartName="/ppt/media/image33.jpeg" ContentType="image/jpeg"/>
  <Override PartName="/ppt/media/image27.png" ContentType="image/png"/>
  <Override PartName="/ppt/media/image3.png" ContentType="image/png"/>
  <Override PartName="/ppt/media/image17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25.png" ContentType="image/png"/>
  <Override PartName="/ppt/media/image19.jpeg" ContentType="image/jpeg"/>
  <Override PartName="/ppt/media/image2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0AAF8-846A-44E2-B210-C9E0B016F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6FA70-A7DF-446B-9A37-0101B5463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B2F92-C8B3-4A65-91DE-15E27D6DE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05828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63696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47960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405828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63696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6566F-2C35-4819-98D5-1839FE3F1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8EF0F-18D3-4D7F-92ED-ABF0105CF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7AE70-EB66-4E99-A2B6-1B2AD5571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50D05-8E93-41F1-874B-46B971B0B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978E5-2902-4877-B6E3-C4474773D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E17AD-78F1-49FF-8588-911FEF580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1528920" y="304560"/>
            <a:ext cx="7564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0E162-9788-49FF-945D-42C8022F0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5B66C-CC77-417E-979F-ABE419238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CC408-6590-48D2-95F6-745369CCA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663D1-F6B2-4A59-80D9-395205295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7EE00-6508-412C-926D-2BBFD0950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2D0A3-8411-48B0-8E27-729722D81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01961-098D-49B0-8290-11F398C28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05828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63696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147960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405828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663696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D4C34-B42F-4C7B-A18E-82530D8EE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B4FE1-2D98-4916-86FB-251510780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38313-2EF8-4C2C-8DD4-44F035AF5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17377-A27B-43BF-AFA4-22253DEB1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528920" y="304560"/>
            <a:ext cx="7564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6EBF7-DC19-4794-9B99-8746D7C49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833CC-9FEF-4083-9F61-5B36C5A0D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CEA3D-5207-46FA-B8DC-B3A39C39E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82089-9C87-4BE7-89BF-2A7644500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1469880" cy="6856560"/>
              <a:chOff x="0" y="0"/>
              <a:chExt cx="1469880" cy="685656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1465200" cy="685656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9360" y="49320"/>
                <a:ext cx="1460520" cy="1498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" name=""/>
              <p:cNvSpPr/>
              <p:nvPr/>
            </p:nvSpPr>
            <p:spPr>
              <a:xfrm>
                <a:off x="9360" y="1623960"/>
                <a:ext cx="1413000" cy="1454040"/>
              </a:xfrm>
              <a:custGeom>
                <a:avLst/>
                <a:gdLst/>
                <a:ahLst/>
                <a:rect l="l" t="t" r="r" b="b"/>
                <a:pathLst>
                  <a:path w="890" h="916">
                    <a:moveTo>
                      <a:pt x="279" y="334"/>
                    </a:moveTo>
                    <a:lnTo>
                      <a:pt x="292" y="312"/>
                    </a:lnTo>
                    <a:lnTo>
                      <a:pt x="307" y="292"/>
                    </a:lnTo>
                    <a:lnTo>
                      <a:pt x="324" y="276"/>
                    </a:lnTo>
                    <a:lnTo>
                      <a:pt x="313" y="255"/>
                    </a:lnTo>
                    <a:lnTo>
                      <a:pt x="307" y="234"/>
                    </a:lnTo>
                    <a:lnTo>
                      <a:pt x="288" y="202"/>
                    </a:lnTo>
                    <a:lnTo>
                      <a:pt x="274" y="181"/>
                    </a:lnTo>
                    <a:lnTo>
                      <a:pt x="261" y="159"/>
                    </a:lnTo>
                    <a:lnTo>
                      <a:pt x="256" y="139"/>
                    </a:lnTo>
                    <a:lnTo>
                      <a:pt x="256" y="118"/>
                    </a:lnTo>
                    <a:lnTo>
                      <a:pt x="247" y="91"/>
                    </a:lnTo>
                    <a:lnTo>
                      <a:pt x="237" y="70"/>
                    </a:lnTo>
                    <a:lnTo>
                      <a:pt x="226" y="46"/>
                    </a:lnTo>
                    <a:lnTo>
                      <a:pt x="225" y="24"/>
                    </a:lnTo>
                    <a:lnTo>
                      <a:pt x="232" y="10"/>
                    </a:lnTo>
                    <a:lnTo>
                      <a:pt x="247" y="9"/>
                    </a:lnTo>
                    <a:lnTo>
                      <a:pt x="259" y="21"/>
                    </a:lnTo>
                    <a:lnTo>
                      <a:pt x="270" y="46"/>
                    </a:lnTo>
                    <a:lnTo>
                      <a:pt x="280" y="61"/>
                    </a:lnTo>
                    <a:lnTo>
                      <a:pt x="298" y="82"/>
                    </a:lnTo>
                    <a:lnTo>
                      <a:pt x="309" y="88"/>
                    </a:lnTo>
                    <a:lnTo>
                      <a:pt x="315" y="99"/>
                    </a:lnTo>
                    <a:lnTo>
                      <a:pt x="322" y="118"/>
                    </a:lnTo>
                    <a:lnTo>
                      <a:pt x="330" y="141"/>
                    </a:lnTo>
                    <a:lnTo>
                      <a:pt x="339" y="160"/>
                    </a:lnTo>
                    <a:lnTo>
                      <a:pt x="358" y="180"/>
                    </a:lnTo>
                    <a:lnTo>
                      <a:pt x="379" y="205"/>
                    </a:lnTo>
                    <a:lnTo>
                      <a:pt x="399" y="225"/>
                    </a:lnTo>
                    <a:lnTo>
                      <a:pt x="406" y="240"/>
                    </a:lnTo>
                    <a:lnTo>
                      <a:pt x="474" y="241"/>
                    </a:lnTo>
                    <a:lnTo>
                      <a:pt x="495" y="208"/>
                    </a:lnTo>
                    <a:lnTo>
                      <a:pt x="505" y="184"/>
                    </a:lnTo>
                    <a:lnTo>
                      <a:pt x="507" y="160"/>
                    </a:lnTo>
                    <a:lnTo>
                      <a:pt x="510" y="141"/>
                    </a:lnTo>
                    <a:lnTo>
                      <a:pt x="514" y="118"/>
                    </a:lnTo>
                    <a:lnTo>
                      <a:pt x="529" y="94"/>
                    </a:lnTo>
                    <a:lnTo>
                      <a:pt x="540" y="85"/>
                    </a:lnTo>
                    <a:lnTo>
                      <a:pt x="552" y="69"/>
                    </a:lnTo>
                    <a:lnTo>
                      <a:pt x="561" y="45"/>
                    </a:lnTo>
                    <a:lnTo>
                      <a:pt x="571" y="27"/>
                    </a:lnTo>
                    <a:lnTo>
                      <a:pt x="589" y="13"/>
                    </a:lnTo>
                    <a:lnTo>
                      <a:pt x="604" y="0"/>
                    </a:lnTo>
                    <a:lnTo>
                      <a:pt x="613" y="6"/>
                    </a:lnTo>
                    <a:lnTo>
                      <a:pt x="615" y="16"/>
                    </a:lnTo>
                    <a:lnTo>
                      <a:pt x="606" y="27"/>
                    </a:lnTo>
                    <a:lnTo>
                      <a:pt x="603" y="34"/>
                    </a:lnTo>
                    <a:lnTo>
                      <a:pt x="600" y="49"/>
                    </a:lnTo>
                    <a:lnTo>
                      <a:pt x="600" y="79"/>
                    </a:lnTo>
                    <a:lnTo>
                      <a:pt x="600" y="103"/>
                    </a:lnTo>
                    <a:lnTo>
                      <a:pt x="592" y="124"/>
                    </a:lnTo>
                    <a:lnTo>
                      <a:pt x="583" y="145"/>
                    </a:lnTo>
                    <a:lnTo>
                      <a:pt x="576" y="162"/>
                    </a:lnTo>
                    <a:lnTo>
                      <a:pt x="574" y="186"/>
                    </a:lnTo>
                    <a:lnTo>
                      <a:pt x="574" y="216"/>
                    </a:lnTo>
                    <a:lnTo>
                      <a:pt x="568" y="244"/>
                    </a:lnTo>
                    <a:lnTo>
                      <a:pt x="568" y="282"/>
                    </a:lnTo>
                    <a:lnTo>
                      <a:pt x="588" y="300"/>
                    </a:lnTo>
                    <a:lnTo>
                      <a:pt x="607" y="325"/>
                    </a:lnTo>
                    <a:lnTo>
                      <a:pt x="645" y="325"/>
                    </a:lnTo>
                    <a:lnTo>
                      <a:pt x="678" y="312"/>
                    </a:lnTo>
                    <a:lnTo>
                      <a:pt x="697" y="292"/>
                    </a:lnTo>
                    <a:lnTo>
                      <a:pt x="720" y="277"/>
                    </a:lnTo>
                    <a:lnTo>
                      <a:pt x="777" y="274"/>
                    </a:lnTo>
                    <a:lnTo>
                      <a:pt x="801" y="265"/>
                    </a:lnTo>
                    <a:lnTo>
                      <a:pt x="816" y="253"/>
                    </a:lnTo>
                    <a:lnTo>
                      <a:pt x="859" y="252"/>
                    </a:lnTo>
                    <a:lnTo>
                      <a:pt x="865" y="265"/>
                    </a:lnTo>
                    <a:lnTo>
                      <a:pt x="861" y="279"/>
                    </a:lnTo>
                    <a:lnTo>
                      <a:pt x="843" y="288"/>
                    </a:lnTo>
                    <a:lnTo>
                      <a:pt x="819" y="300"/>
                    </a:lnTo>
                    <a:lnTo>
                      <a:pt x="796" y="324"/>
                    </a:lnTo>
                    <a:lnTo>
                      <a:pt x="786" y="334"/>
                    </a:lnTo>
                    <a:lnTo>
                      <a:pt x="765" y="343"/>
                    </a:lnTo>
                    <a:lnTo>
                      <a:pt x="735" y="352"/>
                    </a:lnTo>
                    <a:lnTo>
                      <a:pt x="714" y="367"/>
                    </a:lnTo>
                    <a:lnTo>
                      <a:pt x="687" y="390"/>
                    </a:lnTo>
                    <a:lnTo>
                      <a:pt x="669" y="409"/>
                    </a:lnTo>
                    <a:lnTo>
                      <a:pt x="649" y="420"/>
                    </a:lnTo>
                    <a:lnTo>
                      <a:pt x="648" y="481"/>
                    </a:lnTo>
                    <a:lnTo>
                      <a:pt x="673" y="510"/>
                    </a:lnTo>
                    <a:lnTo>
                      <a:pt x="703" y="526"/>
                    </a:lnTo>
                    <a:lnTo>
                      <a:pt x="730" y="531"/>
                    </a:lnTo>
                    <a:lnTo>
                      <a:pt x="751" y="535"/>
                    </a:lnTo>
                    <a:lnTo>
                      <a:pt x="777" y="549"/>
                    </a:lnTo>
                    <a:lnTo>
                      <a:pt x="795" y="567"/>
                    </a:lnTo>
                    <a:lnTo>
                      <a:pt x="819" y="577"/>
                    </a:lnTo>
                    <a:lnTo>
                      <a:pt x="846" y="583"/>
                    </a:lnTo>
                    <a:lnTo>
                      <a:pt x="861" y="592"/>
                    </a:lnTo>
                    <a:lnTo>
                      <a:pt x="874" y="606"/>
                    </a:lnTo>
                    <a:lnTo>
                      <a:pt x="889" y="621"/>
                    </a:lnTo>
                    <a:lnTo>
                      <a:pt x="888" y="634"/>
                    </a:lnTo>
                    <a:lnTo>
                      <a:pt x="867" y="637"/>
                    </a:lnTo>
                    <a:lnTo>
                      <a:pt x="853" y="631"/>
                    </a:lnTo>
                    <a:lnTo>
                      <a:pt x="832" y="618"/>
                    </a:lnTo>
                    <a:lnTo>
                      <a:pt x="807" y="618"/>
                    </a:lnTo>
                    <a:lnTo>
                      <a:pt x="780" y="618"/>
                    </a:lnTo>
                    <a:lnTo>
                      <a:pt x="759" y="615"/>
                    </a:lnTo>
                    <a:lnTo>
                      <a:pt x="736" y="592"/>
                    </a:lnTo>
                    <a:lnTo>
                      <a:pt x="718" y="588"/>
                    </a:lnTo>
                    <a:lnTo>
                      <a:pt x="684" y="588"/>
                    </a:lnTo>
                    <a:lnTo>
                      <a:pt x="615" y="588"/>
                    </a:lnTo>
                    <a:lnTo>
                      <a:pt x="604" y="606"/>
                    </a:lnTo>
                    <a:lnTo>
                      <a:pt x="589" y="621"/>
                    </a:lnTo>
                    <a:lnTo>
                      <a:pt x="576" y="628"/>
                    </a:lnTo>
                    <a:lnTo>
                      <a:pt x="580" y="666"/>
                    </a:lnTo>
                    <a:lnTo>
                      <a:pt x="600" y="702"/>
                    </a:lnTo>
                    <a:lnTo>
                      <a:pt x="618" y="723"/>
                    </a:lnTo>
                    <a:lnTo>
                      <a:pt x="630" y="753"/>
                    </a:lnTo>
                    <a:lnTo>
                      <a:pt x="631" y="787"/>
                    </a:lnTo>
                    <a:lnTo>
                      <a:pt x="640" y="807"/>
                    </a:lnTo>
                    <a:lnTo>
                      <a:pt x="654" y="838"/>
                    </a:lnTo>
                    <a:lnTo>
                      <a:pt x="664" y="862"/>
                    </a:lnTo>
                    <a:lnTo>
                      <a:pt x="664" y="889"/>
                    </a:lnTo>
                    <a:lnTo>
                      <a:pt x="654" y="898"/>
                    </a:lnTo>
                    <a:lnTo>
                      <a:pt x="642" y="898"/>
                    </a:lnTo>
                    <a:lnTo>
                      <a:pt x="624" y="870"/>
                    </a:lnTo>
                    <a:lnTo>
                      <a:pt x="612" y="837"/>
                    </a:lnTo>
                    <a:lnTo>
                      <a:pt x="583" y="808"/>
                    </a:lnTo>
                    <a:lnTo>
                      <a:pt x="568" y="789"/>
                    </a:lnTo>
                    <a:lnTo>
                      <a:pt x="556" y="760"/>
                    </a:lnTo>
                    <a:lnTo>
                      <a:pt x="549" y="738"/>
                    </a:lnTo>
                    <a:lnTo>
                      <a:pt x="513" y="708"/>
                    </a:lnTo>
                    <a:lnTo>
                      <a:pt x="489" y="682"/>
                    </a:lnTo>
                    <a:lnTo>
                      <a:pt x="415" y="684"/>
                    </a:lnTo>
                    <a:lnTo>
                      <a:pt x="390" y="730"/>
                    </a:lnTo>
                    <a:lnTo>
                      <a:pt x="372" y="759"/>
                    </a:lnTo>
                    <a:lnTo>
                      <a:pt x="361" y="798"/>
                    </a:lnTo>
                    <a:lnTo>
                      <a:pt x="339" y="838"/>
                    </a:lnTo>
                    <a:lnTo>
                      <a:pt x="316" y="874"/>
                    </a:lnTo>
                    <a:lnTo>
                      <a:pt x="294" y="907"/>
                    </a:lnTo>
                    <a:lnTo>
                      <a:pt x="285" y="915"/>
                    </a:lnTo>
                    <a:lnTo>
                      <a:pt x="268" y="909"/>
                    </a:lnTo>
                    <a:lnTo>
                      <a:pt x="268" y="894"/>
                    </a:lnTo>
                    <a:lnTo>
                      <a:pt x="276" y="867"/>
                    </a:lnTo>
                    <a:lnTo>
                      <a:pt x="291" y="837"/>
                    </a:lnTo>
                    <a:lnTo>
                      <a:pt x="294" y="790"/>
                    </a:lnTo>
                    <a:lnTo>
                      <a:pt x="298" y="766"/>
                    </a:lnTo>
                    <a:lnTo>
                      <a:pt x="313" y="744"/>
                    </a:lnTo>
                    <a:lnTo>
                      <a:pt x="319" y="699"/>
                    </a:lnTo>
                    <a:lnTo>
                      <a:pt x="324" y="664"/>
                    </a:lnTo>
                    <a:lnTo>
                      <a:pt x="336" y="637"/>
                    </a:lnTo>
                    <a:lnTo>
                      <a:pt x="309" y="609"/>
                    </a:lnTo>
                    <a:lnTo>
                      <a:pt x="283" y="583"/>
                    </a:lnTo>
                    <a:lnTo>
                      <a:pt x="271" y="577"/>
                    </a:lnTo>
                    <a:lnTo>
                      <a:pt x="231" y="601"/>
                    </a:lnTo>
                    <a:lnTo>
                      <a:pt x="201" y="619"/>
                    </a:lnTo>
                    <a:lnTo>
                      <a:pt x="162" y="633"/>
                    </a:lnTo>
                    <a:lnTo>
                      <a:pt x="118" y="640"/>
                    </a:lnTo>
                    <a:lnTo>
                      <a:pt x="88" y="655"/>
                    </a:lnTo>
                    <a:lnTo>
                      <a:pt x="63" y="666"/>
                    </a:lnTo>
                    <a:lnTo>
                      <a:pt x="27" y="666"/>
                    </a:lnTo>
                    <a:lnTo>
                      <a:pt x="16" y="655"/>
                    </a:lnTo>
                    <a:lnTo>
                      <a:pt x="30" y="642"/>
                    </a:lnTo>
                    <a:lnTo>
                      <a:pt x="67" y="628"/>
                    </a:lnTo>
                    <a:lnTo>
                      <a:pt x="94" y="606"/>
                    </a:lnTo>
                    <a:lnTo>
                      <a:pt x="120" y="588"/>
                    </a:lnTo>
                    <a:lnTo>
                      <a:pt x="136" y="576"/>
                    </a:lnTo>
                    <a:lnTo>
                      <a:pt x="162" y="567"/>
                    </a:lnTo>
                    <a:lnTo>
                      <a:pt x="204" y="531"/>
                    </a:lnTo>
                    <a:lnTo>
                      <a:pt x="231" y="510"/>
                    </a:lnTo>
                    <a:lnTo>
                      <a:pt x="247" y="504"/>
                    </a:lnTo>
                    <a:lnTo>
                      <a:pt x="250" y="429"/>
                    </a:lnTo>
                    <a:lnTo>
                      <a:pt x="204" y="396"/>
                    </a:lnTo>
                    <a:lnTo>
                      <a:pt x="190" y="390"/>
                    </a:lnTo>
                    <a:lnTo>
                      <a:pt x="129" y="385"/>
                    </a:lnTo>
                    <a:lnTo>
                      <a:pt x="105" y="369"/>
                    </a:lnTo>
                    <a:lnTo>
                      <a:pt x="81" y="355"/>
                    </a:lnTo>
                    <a:lnTo>
                      <a:pt x="63" y="345"/>
                    </a:lnTo>
                    <a:lnTo>
                      <a:pt x="34" y="339"/>
                    </a:lnTo>
                    <a:lnTo>
                      <a:pt x="3" y="307"/>
                    </a:lnTo>
                    <a:lnTo>
                      <a:pt x="0" y="291"/>
                    </a:lnTo>
                    <a:lnTo>
                      <a:pt x="9" y="285"/>
                    </a:lnTo>
                    <a:lnTo>
                      <a:pt x="39" y="286"/>
                    </a:lnTo>
                    <a:lnTo>
                      <a:pt x="67" y="301"/>
                    </a:lnTo>
                    <a:lnTo>
                      <a:pt x="85" y="304"/>
                    </a:lnTo>
                    <a:lnTo>
                      <a:pt x="115" y="306"/>
                    </a:lnTo>
                    <a:lnTo>
                      <a:pt x="148" y="318"/>
                    </a:lnTo>
                    <a:lnTo>
                      <a:pt x="165" y="324"/>
                    </a:lnTo>
                    <a:lnTo>
                      <a:pt x="226" y="327"/>
                    </a:lnTo>
                    <a:lnTo>
                      <a:pt x="258" y="334"/>
                    </a:lnTo>
                    <a:lnTo>
                      <a:pt x="279" y="334"/>
                    </a:lnTo>
                  </a:path>
                </a:pathLst>
              </a:cu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9360" y="3313080"/>
                <a:ext cx="1413000" cy="1454040"/>
              </a:xfrm>
              <a:custGeom>
                <a:avLst/>
                <a:gdLst/>
                <a:ahLst/>
                <a:rect l="l" t="t" r="r" b="b"/>
                <a:pathLst>
                  <a:path w="890" h="916">
                    <a:moveTo>
                      <a:pt x="279" y="334"/>
                    </a:moveTo>
                    <a:lnTo>
                      <a:pt x="292" y="312"/>
                    </a:lnTo>
                    <a:lnTo>
                      <a:pt x="307" y="292"/>
                    </a:lnTo>
                    <a:lnTo>
                      <a:pt x="324" y="276"/>
                    </a:lnTo>
                    <a:lnTo>
                      <a:pt x="313" y="255"/>
                    </a:lnTo>
                    <a:lnTo>
                      <a:pt x="307" y="234"/>
                    </a:lnTo>
                    <a:lnTo>
                      <a:pt x="288" y="202"/>
                    </a:lnTo>
                    <a:lnTo>
                      <a:pt x="274" y="181"/>
                    </a:lnTo>
                    <a:lnTo>
                      <a:pt x="261" y="159"/>
                    </a:lnTo>
                    <a:lnTo>
                      <a:pt x="256" y="139"/>
                    </a:lnTo>
                    <a:lnTo>
                      <a:pt x="256" y="118"/>
                    </a:lnTo>
                    <a:lnTo>
                      <a:pt x="247" y="91"/>
                    </a:lnTo>
                    <a:lnTo>
                      <a:pt x="237" y="70"/>
                    </a:lnTo>
                    <a:lnTo>
                      <a:pt x="226" y="46"/>
                    </a:lnTo>
                    <a:lnTo>
                      <a:pt x="225" y="24"/>
                    </a:lnTo>
                    <a:lnTo>
                      <a:pt x="232" y="10"/>
                    </a:lnTo>
                    <a:lnTo>
                      <a:pt x="247" y="9"/>
                    </a:lnTo>
                    <a:lnTo>
                      <a:pt x="259" y="21"/>
                    </a:lnTo>
                    <a:lnTo>
                      <a:pt x="270" y="46"/>
                    </a:lnTo>
                    <a:lnTo>
                      <a:pt x="280" y="61"/>
                    </a:lnTo>
                    <a:lnTo>
                      <a:pt x="298" y="82"/>
                    </a:lnTo>
                    <a:lnTo>
                      <a:pt x="309" y="88"/>
                    </a:lnTo>
                    <a:lnTo>
                      <a:pt x="315" y="99"/>
                    </a:lnTo>
                    <a:lnTo>
                      <a:pt x="322" y="118"/>
                    </a:lnTo>
                    <a:lnTo>
                      <a:pt x="330" y="141"/>
                    </a:lnTo>
                    <a:lnTo>
                      <a:pt x="339" y="160"/>
                    </a:lnTo>
                    <a:lnTo>
                      <a:pt x="358" y="180"/>
                    </a:lnTo>
                    <a:lnTo>
                      <a:pt x="379" y="205"/>
                    </a:lnTo>
                    <a:lnTo>
                      <a:pt x="399" y="225"/>
                    </a:lnTo>
                    <a:lnTo>
                      <a:pt x="406" y="240"/>
                    </a:lnTo>
                    <a:lnTo>
                      <a:pt x="474" y="241"/>
                    </a:lnTo>
                    <a:lnTo>
                      <a:pt x="495" y="208"/>
                    </a:lnTo>
                    <a:lnTo>
                      <a:pt x="505" y="184"/>
                    </a:lnTo>
                    <a:lnTo>
                      <a:pt x="507" y="160"/>
                    </a:lnTo>
                    <a:lnTo>
                      <a:pt x="510" y="141"/>
                    </a:lnTo>
                    <a:lnTo>
                      <a:pt x="514" y="118"/>
                    </a:lnTo>
                    <a:lnTo>
                      <a:pt x="529" y="94"/>
                    </a:lnTo>
                    <a:lnTo>
                      <a:pt x="540" y="85"/>
                    </a:lnTo>
                    <a:lnTo>
                      <a:pt x="552" y="69"/>
                    </a:lnTo>
                    <a:lnTo>
                      <a:pt x="561" y="45"/>
                    </a:lnTo>
                    <a:lnTo>
                      <a:pt x="571" y="27"/>
                    </a:lnTo>
                    <a:lnTo>
                      <a:pt x="589" y="13"/>
                    </a:lnTo>
                    <a:lnTo>
                      <a:pt x="604" y="0"/>
                    </a:lnTo>
                    <a:lnTo>
                      <a:pt x="613" y="6"/>
                    </a:lnTo>
                    <a:lnTo>
                      <a:pt x="615" y="16"/>
                    </a:lnTo>
                    <a:lnTo>
                      <a:pt x="606" y="27"/>
                    </a:lnTo>
                    <a:lnTo>
                      <a:pt x="603" y="34"/>
                    </a:lnTo>
                    <a:lnTo>
                      <a:pt x="600" y="49"/>
                    </a:lnTo>
                    <a:lnTo>
                      <a:pt x="600" y="79"/>
                    </a:lnTo>
                    <a:lnTo>
                      <a:pt x="600" y="103"/>
                    </a:lnTo>
                    <a:lnTo>
                      <a:pt x="592" y="124"/>
                    </a:lnTo>
                    <a:lnTo>
                      <a:pt x="583" y="145"/>
                    </a:lnTo>
                    <a:lnTo>
                      <a:pt x="576" y="162"/>
                    </a:lnTo>
                    <a:lnTo>
                      <a:pt x="574" y="186"/>
                    </a:lnTo>
                    <a:lnTo>
                      <a:pt x="574" y="216"/>
                    </a:lnTo>
                    <a:lnTo>
                      <a:pt x="568" y="244"/>
                    </a:lnTo>
                    <a:lnTo>
                      <a:pt x="568" y="282"/>
                    </a:lnTo>
                    <a:lnTo>
                      <a:pt x="588" y="300"/>
                    </a:lnTo>
                    <a:lnTo>
                      <a:pt x="607" y="325"/>
                    </a:lnTo>
                    <a:lnTo>
                      <a:pt x="645" y="325"/>
                    </a:lnTo>
                    <a:lnTo>
                      <a:pt x="678" y="312"/>
                    </a:lnTo>
                    <a:lnTo>
                      <a:pt x="697" y="292"/>
                    </a:lnTo>
                    <a:lnTo>
                      <a:pt x="720" y="277"/>
                    </a:lnTo>
                    <a:lnTo>
                      <a:pt x="777" y="274"/>
                    </a:lnTo>
                    <a:lnTo>
                      <a:pt x="801" y="265"/>
                    </a:lnTo>
                    <a:lnTo>
                      <a:pt x="816" y="253"/>
                    </a:lnTo>
                    <a:lnTo>
                      <a:pt x="859" y="252"/>
                    </a:lnTo>
                    <a:lnTo>
                      <a:pt x="865" y="265"/>
                    </a:lnTo>
                    <a:lnTo>
                      <a:pt x="861" y="279"/>
                    </a:lnTo>
                    <a:lnTo>
                      <a:pt x="843" y="288"/>
                    </a:lnTo>
                    <a:lnTo>
                      <a:pt x="819" y="300"/>
                    </a:lnTo>
                    <a:lnTo>
                      <a:pt x="796" y="324"/>
                    </a:lnTo>
                    <a:lnTo>
                      <a:pt x="786" y="334"/>
                    </a:lnTo>
                    <a:lnTo>
                      <a:pt x="765" y="343"/>
                    </a:lnTo>
                    <a:lnTo>
                      <a:pt x="735" y="352"/>
                    </a:lnTo>
                    <a:lnTo>
                      <a:pt x="714" y="367"/>
                    </a:lnTo>
                    <a:lnTo>
                      <a:pt x="687" y="390"/>
                    </a:lnTo>
                    <a:lnTo>
                      <a:pt x="669" y="409"/>
                    </a:lnTo>
                    <a:lnTo>
                      <a:pt x="649" y="420"/>
                    </a:lnTo>
                    <a:lnTo>
                      <a:pt x="648" y="481"/>
                    </a:lnTo>
                    <a:lnTo>
                      <a:pt x="673" y="510"/>
                    </a:lnTo>
                    <a:lnTo>
                      <a:pt x="703" y="526"/>
                    </a:lnTo>
                    <a:lnTo>
                      <a:pt x="730" y="531"/>
                    </a:lnTo>
                    <a:lnTo>
                      <a:pt x="751" y="535"/>
                    </a:lnTo>
                    <a:lnTo>
                      <a:pt x="777" y="549"/>
                    </a:lnTo>
                    <a:lnTo>
                      <a:pt x="795" y="567"/>
                    </a:lnTo>
                    <a:lnTo>
                      <a:pt x="819" y="577"/>
                    </a:lnTo>
                    <a:lnTo>
                      <a:pt x="846" y="583"/>
                    </a:lnTo>
                    <a:lnTo>
                      <a:pt x="861" y="592"/>
                    </a:lnTo>
                    <a:lnTo>
                      <a:pt x="874" y="606"/>
                    </a:lnTo>
                    <a:lnTo>
                      <a:pt x="889" y="621"/>
                    </a:lnTo>
                    <a:lnTo>
                      <a:pt x="888" y="634"/>
                    </a:lnTo>
                    <a:lnTo>
                      <a:pt x="867" y="637"/>
                    </a:lnTo>
                    <a:lnTo>
                      <a:pt x="853" y="631"/>
                    </a:lnTo>
                    <a:lnTo>
                      <a:pt x="832" y="618"/>
                    </a:lnTo>
                    <a:lnTo>
                      <a:pt x="807" y="618"/>
                    </a:lnTo>
                    <a:lnTo>
                      <a:pt x="780" y="618"/>
                    </a:lnTo>
                    <a:lnTo>
                      <a:pt x="759" y="615"/>
                    </a:lnTo>
                    <a:lnTo>
                      <a:pt x="736" y="592"/>
                    </a:lnTo>
                    <a:lnTo>
                      <a:pt x="718" y="588"/>
                    </a:lnTo>
                    <a:lnTo>
                      <a:pt x="684" y="588"/>
                    </a:lnTo>
                    <a:lnTo>
                      <a:pt x="615" y="588"/>
                    </a:lnTo>
                    <a:lnTo>
                      <a:pt x="604" y="606"/>
                    </a:lnTo>
                    <a:lnTo>
                      <a:pt x="589" y="621"/>
                    </a:lnTo>
                    <a:lnTo>
                      <a:pt x="576" y="628"/>
                    </a:lnTo>
                    <a:lnTo>
                      <a:pt x="580" y="666"/>
                    </a:lnTo>
                    <a:lnTo>
                      <a:pt x="600" y="702"/>
                    </a:lnTo>
                    <a:lnTo>
                      <a:pt x="618" y="723"/>
                    </a:lnTo>
                    <a:lnTo>
                      <a:pt x="630" y="753"/>
                    </a:lnTo>
                    <a:lnTo>
                      <a:pt x="631" y="787"/>
                    </a:lnTo>
                    <a:lnTo>
                      <a:pt x="640" y="807"/>
                    </a:lnTo>
                    <a:lnTo>
                      <a:pt x="654" y="838"/>
                    </a:lnTo>
                    <a:lnTo>
                      <a:pt x="664" y="862"/>
                    </a:lnTo>
                    <a:lnTo>
                      <a:pt x="664" y="889"/>
                    </a:lnTo>
                    <a:lnTo>
                      <a:pt x="654" y="898"/>
                    </a:lnTo>
                    <a:lnTo>
                      <a:pt x="642" y="898"/>
                    </a:lnTo>
                    <a:lnTo>
                      <a:pt x="624" y="870"/>
                    </a:lnTo>
                    <a:lnTo>
                      <a:pt x="612" y="837"/>
                    </a:lnTo>
                    <a:lnTo>
                      <a:pt x="583" y="808"/>
                    </a:lnTo>
                    <a:lnTo>
                      <a:pt x="568" y="789"/>
                    </a:lnTo>
                    <a:lnTo>
                      <a:pt x="556" y="760"/>
                    </a:lnTo>
                    <a:lnTo>
                      <a:pt x="549" y="738"/>
                    </a:lnTo>
                    <a:lnTo>
                      <a:pt x="513" y="708"/>
                    </a:lnTo>
                    <a:lnTo>
                      <a:pt x="489" y="682"/>
                    </a:lnTo>
                    <a:lnTo>
                      <a:pt x="415" y="684"/>
                    </a:lnTo>
                    <a:lnTo>
                      <a:pt x="390" y="730"/>
                    </a:lnTo>
                    <a:lnTo>
                      <a:pt x="372" y="759"/>
                    </a:lnTo>
                    <a:lnTo>
                      <a:pt x="361" y="798"/>
                    </a:lnTo>
                    <a:lnTo>
                      <a:pt x="339" y="838"/>
                    </a:lnTo>
                    <a:lnTo>
                      <a:pt x="316" y="874"/>
                    </a:lnTo>
                    <a:lnTo>
                      <a:pt x="294" y="907"/>
                    </a:lnTo>
                    <a:lnTo>
                      <a:pt x="285" y="915"/>
                    </a:lnTo>
                    <a:lnTo>
                      <a:pt x="268" y="909"/>
                    </a:lnTo>
                    <a:lnTo>
                      <a:pt x="268" y="894"/>
                    </a:lnTo>
                    <a:lnTo>
                      <a:pt x="276" y="867"/>
                    </a:lnTo>
                    <a:lnTo>
                      <a:pt x="291" y="837"/>
                    </a:lnTo>
                    <a:lnTo>
                      <a:pt x="294" y="790"/>
                    </a:lnTo>
                    <a:lnTo>
                      <a:pt x="298" y="766"/>
                    </a:lnTo>
                    <a:lnTo>
                      <a:pt x="313" y="744"/>
                    </a:lnTo>
                    <a:lnTo>
                      <a:pt x="319" y="699"/>
                    </a:lnTo>
                    <a:lnTo>
                      <a:pt x="324" y="664"/>
                    </a:lnTo>
                    <a:lnTo>
                      <a:pt x="336" y="637"/>
                    </a:lnTo>
                    <a:lnTo>
                      <a:pt x="309" y="609"/>
                    </a:lnTo>
                    <a:lnTo>
                      <a:pt x="283" y="583"/>
                    </a:lnTo>
                    <a:lnTo>
                      <a:pt x="271" y="577"/>
                    </a:lnTo>
                    <a:lnTo>
                      <a:pt x="231" y="601"/>
                    </a:lnTo>
                    <a:lnTo>
                      <a:pt x="201" y="619"/>
                    </a:lnTo>
                    <a:lnTo>
                      <a:pt x="162" y="633"/>
                    </a:lnTo>
                    <a:lnTo>
                      <a:pt x="118" y="640"/>
                    </a:lnTo>
                    <a:lnTo>
                      <a:pt x="88" y="655"/>
                    </a:lnTo>
                    <a:lnTo>
                      <a:pt x="63" y="666"/>
                    </a:lnTo>
                    <a:lnTo>
                      <a:pt x="27" y="666"/>
                    </a:lnTo>
                    <a:lnTo>
                      <a:pt x="16" y="655"/>
                    </a:lnTo>
                    <a:lnTo>
                      <a:pt x="30" y="642"/>
                    </a:lnTo>
                    <a:lnTo>
                      <a:pt x="67" y="628"/>
                    </a:lnTo>
                    <a:lnTo>
                      <a:pt x="94" y="606"/>
                    </a:lnTo>
                    <a:lnTo>
                      <a:pt x="120" y="588"/>
                    </a:lnTo>
                    <a:lnTo>
                      <a:pt x="136" y="576"/>
                    </a:lnTo>
                    <a:lnTo>
                      <a:pt x="162" y="567"/>
                    </a:lnTo>
                    <a:lnTo>
                      <a:pt x="204" y="531"/>
                    </a:lnTo>
                    <a:lnTo>
                      <a:pt x="231" y="510"/>
                    </a:lnTo>
                    <a:lnTo>
                      <a:pt x="247" y="504"/>
                    </a:lnTo>
                    <a:lnTo>
                      <a:pt x="250" y="429"/>
                    </a:lnTo>
                    <a:lnTo>
                      <a:pt x="204" y="396"/>
                    </a:lnTo>
                    <a:lnTo>
                      <a:pt x="190" y="390"/>
                    </a:lnTo>
                    <a:lnTo>
                      <a:pt x="129" y="385"/>
                    </a:lnTo>
                    <a:lnTo>
                      <a:pt x="105" y="369"/>
                    </a:lnTo>
                    <a:lnTo>
                      <a:pt x="81" y="355"/>
                    </a:lnTo>
                    <a:lnTo>
                      <a:pt x="63" y="345"/>
                    </a:lnTo>
                    <a:lnTo>
                      <a:pt x="34" y="339"/>
                    </a:lnTo>
                    <a:lnTo>
                      <a:pt x="3" y="307"/>
                    </a:lnTo>
                    <a:lnTo>
                      <a:pt x="0" y="291"/>
                    </a:lnTo>
                    <a:lnTo>
                      <a:pt x="9" y="285"/>
                    </a:lnTo>
                    <a:lnTo>
                      <a:pt x="39" y="286"/>
                    </a:lnTo>
                    <a:lnTo>
                      <a:pt x="67" y="301"/>
                    </a:lnTo>
                    <a:lnTo>
                      <a:pt x="85" y="304"/>
                    </a:lnTo>
                    <a:lnTo>
                      <a:pt x="115" y="306"/>
                    </a:lnTo>
                    <a:lnTo>
                      <a:pt x="148" y="318"/>
                    </a:lnTo>
                    <a:lnTo>
                      <a:pt x="165" y="324"/>
                    </a:lnTo>
                    <a:lnTo>
                      <a:pt x="226" y="327"/>
                    </a:lnTo>
                    <a:lnTo>
                      <a:pt x="258" y="334"/>
                    </a:lnTo>
                    <a:lnTo>
                      <a:pt x="279" y="334"/>
                    </a:lnTo>
                  </a:path>
                </a:pathLst>
              </a:cu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360" y="5016600"/>
                <a:ext cx="1413000" cy="1454040"/>
              </a:xfrm>
              <a:custGeom>
                <a:avLst/>
                <a:gdLst/>
                <a:ahLst/>
                <a:rect l="l" t="t" r="r" b="b"/>
                <a:pathLst>
                  <a:path w="890" h="916">
                    <a:moveTo>
                      <a:pt x="279" y="334"/>
                    </a:moveTo>
                    <a:lnTo>
                      <a:pt x="292" y="312"/>
                    </a:lnTo>
                    <a:lnTo>
                      <a:pt x="307" y="292"/>
                    </a:lnTo>
                    <a:lnTo>
                      <a:pt x="324" y="276"/>
                    </a:lnTo>
                    <a:lnTo>
                      <a:pt x="313" y="255"/>
                    </a:lnTo>
                    <a:lnTo>
                      <a:pt x="307" y="234"/>
                    </a:lnTo>
                    <a:lnTo>
                      <a:pt x="288" y="202"/>
                    </a:lnTo>
                    <a:lnTo>
                      <a:pt x="274" y="181"/>
                    </a:lnTo>
                    <a:lnTo>
                      <a:pt x="261" y="159"/>
                    </a:lnTo>
                    <a:lnTo>
                      <a:pt x="256" y="139"/>
                    </a:lnTo>
                    <a:lnTo>
                      <a:pt x="256" y="118"/>
                    </a:lnTo>
                    <a:lnTo>
                      <a:pt x="247" y="91"/>
                    </a:lnTo>
                    <a:lnTo>
                      <a:pt x="237" y="70"/>
                    </a:lnTo>
                    <a:lnTo>
                      <a:pt x="226" y="46"/>
                    </a:lnTo>
                    <a:lnTo>
                      <a:pt x="225" y="24"/>
                    </a:lnTo>
                    <a:lnTo>
                      <a:pt x="232" y="10"/>
                    </a:lnTo>
                    <a:lnTo>
                      <a:pt x="247" y="9"/>
                    </a:lnTo>
                    <a:lnTo>
                      <a:pt x="259" y="21"/>
                    </a:lnTo>
                    <a:lnTo>
                      <a:pt x="270" y="46"/>
                    </a:lnTo>
                    <a:lnTo>
                      <a:pt x="280" y="61"/>
                    </a:lnTo>
                    <a:lnTo>
                      <a:pt x="298" y="82"/>
                    </a:lnTo>
                    <a:lnTo>
                      <a:pt x="309" y="88"/>
                    </a:lnTo>
                    <a:lnTo>
                      <a:pt x="315" y="99"/>
                    </a:lnTo>
                    <a:lnTo>
                      <a:pt x="322" y="118"/>
                    </a:lnTo>
                    <a:lnTo>
                      <a:pt x="330" y="141"/>
                    </a:lnTo>
                    <a:lnTo>
                      <a:pt x="339" y="160"/>
                    </a:lnTo>
                    <a:lnTo>
                      <a:pt x="358" y="180"/>
                    </a:lnTo>
                    <a:lnTo>
                      <a:pt x="379" y="205"/>
                    </a:lnTo>
                    <a:lnTo>
                      <a:pt x="399" y="225"/>
                    </a:lnTo>
                    <a:lnTo>
                      <a:pt x="406" y="240"/>
                    </a:lnTo>
                    <a:lnTo>
                      <a:pt x="474" y="241"/>
                    </a:lnTo>
                    <a:lnTo>
                      <a:pt x="495" y="208"/>
                    </a:lnTo>
                    <a:lnTo>
                      <a:pt x="505" y="184"/>
                    </a:lnTo>
                    <a:lnTo>
                      <a:pt x="507" y="160"/>
                    </a:lnTo>
                    <a:lnTo>
                      <a:pt x="510" y="141"/>
                    </a:lnTo>
                    <a:lnTo>
                      <a:pt x="514" y="118"/>
                    </a:lnTo>
                    <a:lnTo>
                      <a:pt x="529" y="94"/>
                    </a:lnTo>
                    <a:lnTo>
                      <a:pt x="540" y="85"/>
                    </a:lnTo>
                    <a:lnTo>
                      <a:pt x="552" y="69"/>
                    </a:lnTo>
                    <a:lnTo>
                      <a:pt x="561" y="45"/>
                    </a:lnTo>
                    <a:lnTo>
                      <a:pt x="571" y="27"/>
                    </a:lnTo>
                    <a:lnTo>
                      <a:pt x="589" y="13"/>
                    </a:lnTo>
                    <a:lnTo>
                      <a:pt x="604" y="0"/>
                    </a:lnTo>
                    <a:lnTo>
                      <a:pt x="613" y="6"/>
                    </a:lnTo>
                    <a:lnTo>
                      <a:pt x="615" y="16"/>
                    </a:lnTo>
                    <a:lnTo>
                      <a:pt x="606" y="27"/>
                    </a:lnTo>
                    <a:lnTo>
                      <a:pt x="603" y="34"/>
                    </a:lnTo>
                    <a:lnTo>
                      <a:pt x="600" y="49"/>
                    </a:lnTo>
                    <a:lnTo>
                      <a:pt x="600" y="79"/>
                    </a:lnTo>
                    <a:lnTo>
                      <a:pt x="600" y="103"/>
                    </a:lnTo>
                    <a:lnTo>
                      <a:pt x="592" y="124"/>
                    </a:lnTo>
                    <a:lnTo>
                      <a:pt x="583" y="145"/>
                    </a:lnTo>
                    <a:lnTo>
                      <a:pt x="576" y="162"/>
                    </a:lnTo>
                    <a:lnTo>
                      <a:pt x="574" y="186"/>
                    </a:lnTo>
                    <a:lnTo>
                      <a:pt x="574" y="216"/>
                    </a:lnTo>
                    <a:lnTo>
                      <a:pt x="568" y="244"/>
                    </a:lnTo>
                    <a:lnTo>
                      <a:pt x="568" y="282"/>
                    </a:lnTo>
                    <a:lnTo>
                      <a:pt x="588" y="300"/>
                    </a:lnTo>
                    <a:lnTo>
                      <a:pt x="607" y="325"/>
                    </a:lnTo>
                    <a:lnTo>
                      <a:pt x="645" y="325"/>
                    </a:lnTo>
                    <a:lnTo>
                      <a:pt x="678" y="312"/>
                    </a:lnTo>
                    <a:lnTo>
                      <a:pt x="697" y="292"/>
                    </a:lnTo>
                    <a:lnTo>
                      <a:pt x="720" y="277"/>
                    </a:lnTo>
                    <a:lnTo>
                      <a:pt x="777" y="274"/>
                    </a:lnTo>
                    <a:lnTo>
                      <a:pt x="801" y="265"/>
                    </a:lnTo>
                    <a:lnTo>
                      <a:pt x="816" y="253"/>
                    </a:lnTo>
                    <a:lnTo>
                      <a:pt x="859" y="252"/>
                    </a:lnTo>
                    <a:lnTo>
                      <a:pt x="865" y="265"/>
                    </a:lnTo>
                    <a:lnTo>
                      <a:pt x="861" y="279"/>
                    </a:lnTo>
                    <a:lnTo>
                      <a:pt x="843" y="288"/>
                    </a:lnTo>
                    <a:lnTo>
                      <a:pt x="819" y="300"/>
                    </a:lnTo>
                    <a:lnTo>
                      <a:pt x="796" y="324"/>
                    </a:lnTo>
                    <a:lnTo>
                      <a:pt x="786" y="334"/>
                    </a:lnTo>
                    <a:lnTo>
                      <a:pt x="765" y="343"/>
                    </a:lnTo>
                    <a:lnTo>
                      <a:pt x="735" y="352"/>
                    </a:lnTo>
                    <a:lnTo>
                      <a:pt x="714" y="367"/>
                    </a:lnTo>
                    <a:lnTo>
                      <a:pt x="687" y="390"/>
                    </a:lnTo>
                    <a:lnTo>
                      <a:pt x="669" y="409"/>
                    </a:lnTo>
                    <a:lnTo>
                      <a:pt x="649" y="420"/>
                    </a:lnTo>
                    <a:lnTo>
                      <a:pt x="648" y="481"/>
                    </a:lnTo>
                    <a:lnTo>
                      <a:pt x="673" y="510"/>
                    </a:lnTo>
                    <a:lnTo>
                      <a:pt x="703" y="526"/>
                    </a:lnTo>
                    <a:lnTo>
                      <a:pt x="730" y="531"/>
                    </a:lnTo>
                    <a:lnTo>
                      <a:pt x="751" y="535"/>
                    </a:lnTo>
                    <a:lnTo>
                      <a:pt x="777" y="549"/>
                    </a:lnTo>
                    <a:lnTo>
                      <a:pt x="795" y="567"/>
                    </a:lnTo>
                    <a:lnTo>
                      <a:pt x="819" y="577"/>
                    </a:lnTo>
                    <a:lnTo>
                      <a:pt x="846" y="583"/>
                    </a:lnTo>
                    <a:lnTo>
                      <a:pt x="861" y="592"/>
                    </a:lnTo>
                    <a:lnTo>
                      <a:pt x="874" y="606"/>
                    </a:lnTo>
                    <a:lnTo>
                      <a:pt x="889" y="621"/>
                    </a:lnTo>
                    <a:lnTo>
                      <a:pt x="888" y="634"/>
                    </a:lnTo>
                    <a:lnTo>
                      <a:pt x="867" y="637"/>
                    </a:lnTo>
                    <a:lnTo>
                      <a:pt x="853" y="631"/>
                    </a:lnTo>
                    <a:lnTo>
                      <a:pt x="832" y="618"/>
                    </a:lnTo>
                    <a:lnTo>
                      <a:pt x="807" y="618"/>
                    </a:lnTo>
                    <a:lnTo>
                      <a:pt x="780" y="618"/>
                    </a:lnTo>
                    <a:lnTo>
                      <a:pt x="759" y="615"/>
                    </a:lnTo>
                    <a:lnTo>
                      <a:pt x="736" y="592"/>
                    </a:lnTo>
                    <a:lnTo>
                      <a:pt x="718" y="588"/>
                    </a:lnTo>
                    <a:lnTo>
                      <a:pt x="684" y="588"/>
                    </a:lnTo>
                    <a:lnTo>
                      <a:pt x="615" y="588"/>
                    </a:lnTo>
                    <a:lnTo>
                      <a:pt x="604" y="606"/>
                    </a:lnTo>
                    <a:lnTo>
                      <a:pt x="589" y="621"/>
                    </a:lnTo>
                    <a:lnTo>
                      <a:pt x="576" y="628"/>
                    </a:lnTo>
                    <a:lnTo>
                      <a:pt x="580" y="666"/>
                    </a:lnTo>
                    <a:lnTo>
                      <a:pt x="600" y="702"/>
                    </a:lnTo>
                    <a:lnTo>
                      <a:pt x="618" y="723"/>
                    </a:lnTo>
                    <a:lnTo>
                      <a:pt x="630" y="753"/>
                    </a:lnTo>
                    <a:lnTo>
                      <a:pt x="631" y="787"/>
                    </a:lnTo>
                    <a:lnTo>
                      <a:pt x="640" y="807"/>
                    </a:lnTo>
                    <a:lnTo>
                      <a:pt x="654" y="838"/>
                    </a:lnTo>
                    <a:lnTo>
                      <a:pt x="664" y="862"/>
                    </a:lnTo>
                    <a:lnTo>
                      <a:pt x="664" y="889"/>
                    </a:lnTo>
                    <a:lnTo>
                      <a:pt x="654" y="898"/>
                    </a:lnTo>
                    <a:lnTo>
                      <a:pt x="642" y="898"/>
                    </a:lnTo>
                    <a:lnTo>
                      <a:pt x="624" y="870"/>
                    </a:lnTo>
                    <a:lnTo>
                      <a:pt x="612" y="837"/>
                    </a:lnTo>
                    <a:lnTo>
                      <a:pt x="583" y="808"/>
                    </a:lnTo>
                    <a:lnTo>
                      <a:pt x="568" y="789"/>
                    </a:lnTo>
                    <a:lnTo>
                      <a:pt x="556" y="760"/>
                    </a:lnTo>
                    <a:lnTo>
                      <a:pt x="549" y="738"/>
                    </a:lnTo>
                    <a:lnTo>
                      <a:pt x="513" y="708"/>
                    </a:lnTo>
                    <a:lnTo>
                      <a:pt x="489" y="682"/>
                    </a:lnTo>
                    <a:lnTo>
                      <a:pt x="415" y="684"/>
                    </a:lnTo>
                    <a:lnTo>
                      <a:pt x="390" y="730"/>
                    </a:lnTo>
                    <a:lnTo>
                      <a:pt x="372" y="759"/>
                    </a:lnTo>
                    <a:lnTo>
                      <a:pt x="361" y="798"/>
                    </a:lnTo>
                    <a:lnTo>
                      <a:pt x="339" y="838"/>
                    </a:lnTo>
                    <a:lnTo>
                      <a:pt x="316" y="874"/>
                    </a:lnTo>
                    <a:lnTo>
                      <a:pt x="294" y="907"/>
                    </a:lnTo>
                    <a:lnTo>
                      <a:pt x="285" y="915"/>
                    </a:lnTo>
                    <a:lnTo>
                      <a:pt x="268" y="909"/>
                    </a:lnTo>
                    <a:lnTo>
                      <a:pt x="268" y="894"/>
                    </a:lnTo>
                    <a:lnTo>
                      <a:pt x="276" y="867"/>
                    </a:lnTo>
                    <a:lnTo>
                      <a:pt x="291" y="837"/>
                    </a:lnTo>
                    <a:lnTo>
                      <a:pt x="294" y="790"/>
                    </a:lnTo>
                    <a:lnTo>
                      <a:pt x="298" y="766"/>
                    </a:lnTo>
                    <a:lnTo>
                      <a:pt x="313" y="744"/>
                    </a:lnTo>
                    <a:lnTo>
                      <a:pt x="319" y="699"/>
                    </a:lnTo>
                    <a:lnTo>
                      <a:pt x="324" y="664"/>
                    </a:lnTo>
                    <a:lnTo>
                      <a:pt x="336" y="637"/>
                    </a:lnTo>
                    <a:lnTo>
                      <a:pt x="309" y="609"/>
                    </a:lnTo>
                    <a:lnTo>
                      <a:pt x="283" y="583"/>
                    </a:lnTo>
                    <a:lnTo>
                      <a:pt x="271" y="577"/>
                    </a:lnTo>
                    <a:lnTo>
                      <a:pt x="231" y="601"/>
                    </a:lnTo>
                    <a:lnTo>
                      <a:pt x="201" y="619"/>
                    </a:lnTo>
                    <a:lnTo>
                      <a:pt x="162" y="633"/>
                    </a:lnTo>
                    <a:lnTo>
                      <a:pt x="118" y="640"/>
                    </a:lnTo>
                    <a:lnTo>
                      <a:pt x="88" y="655"/>
                    </a:lnTo>
                    <a:lnTo>
                      <a:pt x="63" y="666"/>
                    </a:lnTo>
                    <a:lnTo>
                      <a:pt x="27" y="666"/>
                    </a:lnTo>
                    <a:lnTo>
                      <a:pt x="16" y="655"/>
                    </a:lnTo>
                    <a:lnTo>
                      <a:pt x="30" y="642"/>
                    </a:lnTo>
                    <a:lnTo>
                      <a:pt x="67" y="628"/>
                    </a:lnTo>
                    <a:lnTo>
                      <a:pt x="94" y="606"/>
                    </a:lnTo>
                    <a:lnTo>
                      <a:pt x="120" y="588"/>
                    </a:lnTo>
                    <a:lnTo>
                      <a:pt x="136" y="576"/>
                    </a:lnTo>
                    <a:lnTo>
                      <a:pt x="162" y="567"/>
                    </a:lnTo>
                    <a:lnTo>
                      <a:pt x="204" y="531"/>
                    </a:lnTo>
                    <a:lnTo>
                      <a:pt x="231" y="510"/>
                    </a:lnTo>
                    <a:lnTo>
                      <a:pt x="247" y="504"/>
                    </a:lnTo>
                    <a:lnTo>
                      <a:pt x="250" y="429"/>
                    </a:lnTo>
                    <a:lnTo>
                      <a:pt x="204" y="396"/>
                    </a:lnTo>
                    <a:lnTo>
                      <a:pt x="190" y="390"/>
                    </a:lnTo>
                    <a:lnTo>
                      <a:pt x="129" y="385"/>
                    </a:lnTo>
                    <a:lnTo>
                      <a:pt x="105" y="369"/>
                    </a:lnTo>
                    <a:lnTo>
                      <a:pt x="81" y="355"/>
                    </a:lnTo>
                    <a:lnTo>
                      <a:pt x="63" y="345"/>
                    </a:lnTo>
                    <a:lnTo>
                      <a:pt x="34" y="339"/>
                    </a:lnTo>
                    <a:lnTo>
                      <a:pt x="3" y="307"/>
                    </a:lnTo>
                    <a:lnTo>
                      <a:pt x="0" y="291"/>
                    </a:lnTo>
                    <a:lnTo>
                      <a:pt x="9" y="285"/>
                    </a:lnTo>
                    <a:lnTo>
                      <a:pt x="39" y="286"/>
                    </a:lnTo>
                    <a:lnTo>
                      <a:pt x="67" y="301"/>
                    </a:lnTo>
                    <a:lnTo>
                      <a:pt x="85" y="304"/>
                    </a:lnTo>
                    <a:lnTo>
                      <a:pt x="115" y="306"/>
                    </a:lnTo>
                    <a:lnTo>
                      <a:pt x="148" y="318"/>
                    </a:lnTo>
                    <a:lnTo>
                      <a:pt x="165" y="324"/>
                    </a:lnTo>
                    <a:lnTo>
                      <a:pt x="226" y="327"/>
                    </a:lnTo>
                    <a:lnTo>
                      <a:pt x="258" y="334"/>
                    </a:lnTo>
                    <a:lnTo>
                      <a:pt x="279" y="334"/>
                    </a:lnTo>
                  </a:path>
                </a:pathLst>
              </a:cu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1576440" y="1631880"/>
              <a:ext cx="7566120" cy="189000"/>
              <a:chOff x="1576440" y="1631880"/>
              <a:chExt cx="7566120" cy="189000"/>
            </a:xfrm>
          </p:grpSpPr>
          <p:sp>
            <p:nvSpPr>
              <p:cNvPr id="8" name=""/>
              <p:cNvSpPr/>
              <p:nvPr/>
            </p:nvSpPr>
            <p:spPr>
              <a:xfrm>
                <a:off x="1581120" y="1643040"/>
                <a:ext cx="7561440" cy="168120"/>
              </a:xfrm>
              <a:prstGeom prst="rect">
                <a:avLst/>
              </a:prstGeom>
              <a:gradFill rotWithShape="0">
                <a:gsLst>
                  <a:gs pos="0">
                    <a:srgbClr val="ffa800"/>
                  </a:gs>
                  <a:gs pos="100000">
                    <a:srgbClr val="8256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585800" y="181764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1585800" y="177948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585800" y="173196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1585800" y="167796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1576440" y="1631880"/>
                <a:ext cx="7564320" cy="189000"/>
              </a:xfrm>
              <a:custGeom>
                <a:avLst/>
                <a:gdLst/>
                <a:ahLst/>
                <a:rect l="l" t="t" r="r" b="b"/>
                <a:pathLst>
                  <a:path w="4765" h="119">
                    <a:moveTo>
                      <a:pt x="0" y="118"/>
                    </a:moveTo>
                    <a:lnTo>
                      <a:pt x="0" y="0"/>
                    </a:lnTo>
                    <a:lnTo>
                      <a:pt x="4764" y="0"/>
                    </a:lnTo>
                  </a:path>
                </a:pathLst>
              </a:custGeom>
              <a:noFill/>
              <a:ln cap="rnd" w="12600">
                <a:solidFill>
                  <a:srgbClr val="ffcc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body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dt" idx="1"/>
          </p:nvPr>
        </p:nvSpPr>
        <p:spPr>
          <a:xfrm>
            <a:off x="1481040" y="6248520"/>
            <a:ext cx="17827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9663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ftr" idx="2"/>
          </p:nvPr>
        </p:nvSpPr>
        <p:spPr>
          <a:xfrm>
            <a:off x="3796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9663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5"/>
          <p:cNvSpPr>
            <a:spLocks noGrp="1"/>
          </p:cNvSpPr>
          <p:nvPr>
            <p:ph type="sldNum" idx="3"/>
          </p:nvPr>
        </p:nvSpPr>
        <p:spPr>
          <a:xfrm>
            <a:off x="7226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9688F-70C3-400E-BF05-5F4D9542B9D6}" type="slidenum">
              <a:rPr b="0" lang="ru-RU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0" y="0"/>
            <a:ext cx="9093240" cy="6856560"/>
            <a:chOff x="0" y="0"/>
            <a:chExt cx="9093240" cy="6856560"/>
          </a:xfrm>
        </p:grpSpPr>
        <p:grpSp>
          <p:nvGrpSpPr>
            <p:cNvPr id="56" name=""/>
            <p:cNvGrpSpPr/>
            <p:nvPr/>
          </p:nvGrpSpPr>
          <p:grpSpPr>
            <a:xfrm>
              <a:off x="1527120" y="3090960"/>
              <a:ext cx="7566120" cy="188640"/>
              <a:chOff x="1527120" y="3090960"/>
              <a:chExt cx="7566120" cy="188640"/>
            </a:xfrm>
          </p:grpSpPr>
          <p:sp>
            <p:nvSpPr>
              <p:cNvPr id="57" name=""/>
              <p:cNvSpPr/>
              <p:nvPr/>
            </p:nvSpPr>
            <p:spPr>
              <a:xfrm>
                <a:off x="1531800" y="3101760"/>
                <a:ext cx="7561440" cy="167760"/>
              </a:xfrm>
              <a:prstGeom prst="rect">
                <a:avLst/>
              </a:prstGeom>
              <a:gradFill rotWithShape="0">
                <a:gsLst>
                  <a:gs pos="0">
                    <a:srgbClr val="ffa800"/>
                  </a:gs>
                  <a:gs pos="100000">
                    <a:srgbClr val="8256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536480" y="327636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536480" y="323820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536480" y="319068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536480" y="313668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527120" y="3090960"/>
                <a:ext cx="7564320" cy="188640"/>
              </a:xfrm>
              <a:custGeom>
                <a:avLst/>
                <a:gdLst/>
                <a:ahLst/>
                <a:rect l="l" t="t" r="r" b="b"/>
                <a:pathLst>
                  <a:path w="4765" h="119">
                    <a:moveTo>
                      <a:pt x="0" y="118"/>
                    </a:moveTo>
                    <a:lnTo>
                      <a:pt x="0" y="0"/>
                    </a:lnTo>
                    <a:lnTo>
                      <a:pt x="4764" y="0"/>
                    </a:lnTo>
                  </a:path>
                </a:pathLst>
              </a:custGeom>
              <a:noFill/>
              <a:ln cap="rnd" w="12600">
                <a:solidFill>
                  <a:srgbClr val="ffcc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" name=""/>
            <p:cNvGrpSpPr/>
            <p:nvPr/>
          </p:nvGrpSpPr>
          <p:grpSpPr>
            <a:xfrm>
              <a:off x="0" y="0"/>
              <a:ext cx="1473120" cy="6856560"/>
              <a:chOff x="0" y="0"/>
              <a:chExt cx="1473120" cy="6856560"/>
            </a:xfrm>
          </p:grpSpPr>
          <p:sp>
            <p:nvSpPr>
              <p:cNvPr id="64" name=""/>
              <p:cNvSpPr/>
              <p:nvPr/>
            </p:nvSpPr>
            <p:spPr>
              <a:xfrm>
                <a:off x="0" y="0"/>
                <a:ext cx="1465200" cy="685656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5" name=""/>
              <p:cNvGrpSpPr/>
              <p:nvPr/>
            </p:nvGrpSpPr>
            <p:grpSpPr>
              <a:xfrm>
                <a:off x="0" y="65160"/>
                <a:ext cx="1473120" cy="6405480"/>
                <a:chOff x="0" y="65160"/>
                <a:chExt cx="1473120" cy="6405480"/>
              </a:xfrm>
            </p:grpSpPr>
            <p:pic>
              <p:nvPicPr>
                <p:cNvPr id="66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0" y="1609560"/>
                  <a:ext cx="1460520" cy="1498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7" name=""/>
                <p:cNvSpPr/>
                <p:nvPr/>
              </p:nvSpPr>
              <p:spPr>
                <a:xfrm>
                  <a:off x="60480" y="65160"/>
                  <a:ext cx="1412640" cy="1454040"/>
                </a:xfrm>
                <a:custGeom>
                  <a:avLst/>
                  <a:gdLst/>
                  <a:ahLst/>
                  <a:rect l="l" t="t" r="r" b="b"/>
                  <a:pathLst>
                    <a:path w="890" h="916">
                      <a:moveTo>
                        <a:pt x="279" y="334"/>
                      </a:moveTo>
                      <a:lnTo>
                        <a:pt x="292" y="312"/>
                      </a:lnTo>
                      <a:lnTo>
                        <a:pt x="307" y="292"/>
                      </a:lnTo>
                      <a:lnTo>
                        <a:pt x="324" y="276"/>
                      </a:lnTo>
                      <a:lnTo>
                        <a:pt x="313" y="255"/>
                      </a:lnTo>
                      <a:lnTo>
                        <a:pt x="307" y="234"/>
                      </a:lnTo>
                      <a:lnTo>
                        <a:pt x="288" y="202"/>
                      </a:lnTo>
                      <a:lnTo>
                        <a:pt x="274" y="181"/>
                      </a:lnTo>
                      <a:lnTo>
                        <a:pt x="261" y="159"/>
                      </a:lnTo>
                      <a:lnTo>
                        <a:pt x="256" y="139"/>
                      </a:lnTo>
                      <a:lnTo>
                        <a:pt x="256" y="118"/>
                      </a:lnTo>
                      <a:lnTo>
                        <a:pt x="247" y="91"/>
                      </a:lnTo>
                      <a:lnTo>
                        <a:pt x="237" y="70"/>
                      </a:lnTo>
                      <a:lnTo>
                        <a:pt x="226" y="46"/>
                      </a:lnTo>
                      <a:lnTo>
                        <a:pt x="225" y="24"/>
                      </a:lnTo>
                      <a:lnTo>
                        <a:pt x="232" y="10"/>
                      </a:lnTo>
                      <a:lnTo>
                        <a:pt x="247" y="9"/>
                      </a:lnTo>
                      <a:lnTo>
                        <a:pt x="259" y="21"/>
                      </a:lnTo>
                      <a:lnTo>
                        <a:pt x="270" y="46"/>
                      </a:lnTo>
                      <a:lnTo>
                        <a:pt x="280" y="61"/>
                      </a:lnTo>
                      <a:lnTo>
                        <a:pt x="298" y="82"/>
                      </a:lnTo>
                      <a:lnTo>
                        <a:pt x="309" y="88"/>
                      </a:lnTo>
                      <a:lnTo>
                        <a:pt x="315" y="99"/>
                      </a:lnTo>
                      <a:lnTo>
                        <a:pt x="322" y="118"/>
                      </a:lnTo>
                      <a:lnTo>
                        <a:pt x="330" y="141"/>
                      </a:lnTo>
                      <a:lnTo>
                        <a:pt x="339" y="160"/>
                      </a:lnTo>
                      <a:lnTo>
                        <a:pt x="358" y="180"/>
                      </a:lnTo>
                      <a:lnTo>
                        <a:pt x="379" y="205"/>
                      </a:lnTo>
                      <a:lnTo>
                        <a:pt x="399" y="225"/>
                      </a:lnTo>
                      <a:lnTo>
                        <a:pt x="406" y="240"/>
                      </a:lnTo>
                      <a:lnTo>
                        <a:pt x="474" y="241"/>
                      </a:lnTo>
                      <a:lnTo>
                        <a:pt x="495" y="208"/>
                      </a:lnTo>
                      <a:lnTo>
                        <a:pt x="505" y="184"/>
                      </a:lnTo>
                      <a:lnTo>
                        <a:pt x="507" y="160"/>
                      </a:lnTo>
                      <a:lnTo>
                        <a:pt x="510" y="141"/>
                      </a:lnTo>
                      <a:lnTo>
                        <a:pt x="514" y="118"/>
                      </a:lnTo>
                      <a:lnTo>
                        <a:pt x="529" y="94"/>
                      </a:lnTo>
                      <a:lnTo>
                        <a:pt x="540" y="85"/>
                      </a:lnTo>
                      <a:lnTo>
                        <a:pt x="552" y="69"/>
                      </a:lnTo>
                      <a:lnTo>
                        <a:pt x="561" y="45"/>
                      </a:lnTo>
                      <a:lnTo>
                        <a:pt x="571" y="27"/>
                      </a:lnTo>
                      <a:lnTo>
                        <a:pt x="589" y="13"/>
                      </a:lnTo>
                      <a:lnTo>
                        <a:pt x="604" y="0"/>
                      </a:lnTo>
                      <a:lnTo>
                        <a:pt x="613" y="6"/>
                      </a:lnTo>
                      <a:lnTo>
                        <a:pt x="615" y="16"/>
                      </a:lnTo>
                      <a:lnTo>
                        <a:pt x="606" y="27"/>
                      </a:lnTo>
                      <a:lnTo>
                        <a:pt x="603" y="34"/>
                      </a:lnTo>
                      <a:lnTo>
                        <a:pt x="600" y="49"/>
                      </a:lnTo>
                      <a:lnTo>
                        <a:pt x="600" y="79"/>
                      </a:lnTo>
                      <a:lnTo>
                        <a:pt x="600" y="103"/>
                      </a:lnTo>
                      <a:lnTo>
                        <a:pt x="592" y="124"/>
                      </a:lnTo>
                      <a:lnTo>
                        <a:pt x="583" y="145"/>
                      </a:lnTo>
                      <a:lnTo>
                        <a:pt x="576" y="162"/>
                      </a:lnTo>
                      <a:lnTo>
                        <a:pt x="574" y="186"/>
                      </a:lnTo>
                      <a:lnTo>
                        <a:pt x="574" y="216"/>
                      </a:lnTo>
                      <a:lnTo>
                        <a:pt x="568" y="244"/>
                      </a:lnTo>
                      <a:lnTo>
                        <a:pt x="568" y="282"/>
                      </a:lnTo>
                      <a:lnTo>
                        <a:pt x="588" y="300"/>
                      </a:lnTo>
                      <a:lnTo>
                        <a:pt x="607" y="325"/>
                      </a:lnTo>
                      <a:lnTo>
                        <a:pt x="645" y="325"/>
                      </a:lnTo>
                      <a:lnTo>
                        <a:pt x="678" y="312"/>
                      </a:lnTo>
                      <a:lnTo>
                        <a:pt x="697" y="292"/>
                      </a:lnTo>
                      <a:lnTo>
                        <a:pt x="720" y="277"/>
                      </a:lnTo>
                      <a:lnTo>
                        <a:pt x="777" y="274"/>
                      </a:lnTo>
                      <a:lnTo>
                        <a:pt x="801" y="265"/>
                      </a:lnTo>
                      <a:lnTo>
                        <a:pt x="816" y="253"/>
                      </a:lnTo>
                      <a:lnTo>
                        <a:pt x="859" y="252"/>
                      </a:lnTo>
                      <a:lnTo>
                        <a:pt x="865" y="265"/>
                      </a:lnTo>
                      <a:lnTo>
                        <a:pt x="861" y="279"/>
                      </a:lnTo>
                      <a:lnTo>
                        <a:pt x="843" y="288"/>
                      </a:lnTo>
                      <a:lnTo>
                        <a:pt x="819" y="300"/>
                      </a:lnTo>
                      <a:lnTo>
                        <a:pt x="796" y="324"/>
                      </a:lnTo>
                      <a:lnTo>
                        <a:pt x="786" y="334"/>
                      </a:lnTo>
                      <a:lnTo>
                        <a:pt x="765" y="343"/>
                      </a:lnTo>
                      <a:lnTo>
                        <a:pt x="735" y="352"/>
                      </a:lnTo>
                      <a:lnTo>
                        <a:pt x="714" y="367"/>
                      </a:lnTo>
                      <a:lnTo>
                        <a:pt x="687" y="390"/>
                      </a:lnTo>
                      <a:lnTo>
                        <a:pt x="669" y="409"/>
                      </a:lnTo>
                      <a:lnTo>
                        <a:pt x="649" y="420"/>
                      </a:lnTo>
                      <a:lnTo>
                        <a:pt x="648" y="481"/>
                      </a:lnTo>
                      <a:lnTo>
                        <a:pt x="673" y="510"/>
                      </a:lnTo>
                      <a:lnTo>
                        <a:pt x="703" y="526"/>
                      </a:lnTo>
                      <a:lnTo>
                        <a:pt x="730" y="531"/>
                      </a:lnTo>
                      <a:lnTo>
                        <a:pt x="751" y="535"/>
                      </a:lnTo>
                      <a:lnTo>
                        <a:pt x="777" y="549"/>
                      </a:lnTo>
                      <a:lnTo>
                        <a:pt x="795" y="567"/>
                      </a:lnTo>
                      <a:lnTo>
                        <a:pt x="819" y="577"/>
                      </a:lnTo>
                      <a:lnTo>
                        <a:pt x="846" y="583"/>
                      </a:lnTo>
                      <a:lnTo>
                        <a:pt x="861" y="592"/>
                      </a:lnTo>
                      <a:lnTo>
                        <a:pt x="874" y="606"/>
                      </a:lnTo>
                      <a:lnTo>
                        <a:pt x="889" y="621"/>
                      </a:lnTo>
                      <a:lnTo>
                        <a:pt x="888" y="634"/>
                      </a:lnTo>
                      <a:lnTo>
                        <a:pt x="867" y="637"/>
                      </a:lnTo>
                      <a:lnTo>
                        <a:pt x="853" y="631"/>
                      </a:lnTo>
                      <a:lnTo>
                        <a:pt x="832" y="618"/>
                      </a:lnTo>
                      <a:lnTo>
                        <a:pt x="807" y="618"/>
                      </a:lnTo>
                      <a:lnTo>
                        <a:pt x="780" y="618"/>
                      </a:lnTo>
                      <a:lnTo>
                        <a:pt x="759" y="615"/>
                      </a:lnTo>
                      <a:lnTo>
                        <a:pt x="736" y="592"/>
                      </a:lnTo>
                      <a:lnTo>
                        <a:pt x="718" y="588"/>
                      </a:lnTo>
                      <a:lnTo>
                        <a:pt x="684" y="588"/>
                      </a:lnTo>
                      <a:lnTo>
                        <a:pt x="615" y="588"/>
                      </a:lnTo>
                      <a:lnTo>
                        <a:pt x="604" y="606"/>
                      </a:lnTo>
                      <a:lnTo>
                        <a:pt x="589" y="621"/>
                      </a:lnTo>
                      <a:lnTo>
                        <a:pt x="576" y="628"/>
                      </a:lnTo>
                      <a:lnTo>
                        <a:pt x="580" y="666"/>
                      </a:lnTo>
                      <a:lnTo>
                        <a:pt x="600" y="702"/>
                      </a:lnTo>
                      <a:lnTo>
                        <a:pt x="618" y="723"/>
                      </a:lnTo>
                      <a:lnTo>
                        <a:pt x="630" y="753"/>
                      </a:lnTo>
                      <a:lnTo>
                        <a:pt x="631" y="787"/>
                      </a:lnTo>
                      <a:lnTo>
                        <a:pt x="640" y="807"/>
                      </a:lnTo>
                      <a:lnTo>
                        <a:pt x="654" y="838"/>
                      </a:lnTo>
                      <a:lnTo>
                        <a:pt x="664" y="862"/>
                      </a:lnTo>
                      <a:lnTo>
                        <a:pt x="664" y="889"/>
                      </a:lnTo>
                      <a:lnTo>
                        <a:pt x="654" y="898"/>
                      </a:lnTo>
                      <a:lnTo>
                        <a:pt x="642" y="898"/>
                      </a:lnTo>
                      <a:lnTo>
                        <a:pt x="624" y="870"/>
                      </a:lnTo>
                      <a:lnTo>
                        <a:pt x="612" y="837"/>
                      </a:lnTo>
                      <a:lnTo>
                        <a:pt x="583" y="808"/>
                      </a:lnTo>
                      <a:lnTo>
                        <a:pt x="568" y="789"/>
                      </a:lnTo>
                      <a:lnTo>
                        <a:pt x="556" y="760"/>
                      </a:lnTo>
                      <a:lnTo>
                        <a:pt x="549" y="738"/>
                      </a:lnTo>
                      <a:lnTo>
                        <a:pt x="513" y="708"/>
                      </a:lnTo>
                      <a:lnTo>
                        <a:pt x="489" y="682"/>
                      </a:lnTo>
                      <a:lnTo>
                        <a:pt x="415" y="684"/>
                      </a:lnTo>
                      <a:lnTo>
                        <a:pt x="390" y="730"/>
                      </a:lnTo>
                      <a:lnTo>
                        <a:pt x="372" y="759"/>
                      </a:lnTo>
                      <a:lnTo>
                        <a:pt x="361" y="798"/>
                      </a:lnTo>
                      <a:lnTo>
                        <a:pt x="339" y="838"/>
                      </a:lnTo>
                      <a:lnTo>
                        <a:pt x="316" y="874"/>
                      </a:lnTo>
                      <a:lnTo>
                        <a:pt x="294" y="907"/>
                      </a:lnTo>
                      <a:lnTo>
                        <a:pt x="285" y="915"/>
                      </a:lnTo>
                      <a:lnTo>
                        <a:pt x="268" y="909"/>
                      </a:lnTo>
                      <a:lnTo>
                        <a:pt x="268" y="894"/>
                      </a:lnTo>
                      <a:lnTo>
                        <a:pt x="276" y="867"/>
                      </a:lnTo>
                      <a:lnTo>
                        <a:pt x="291" y="837"/>
                      </a:lnTo>
                      <a:lnTo>
                        <a:pt x="294" y="790"/>
                      </a:lnTo>
                      <a:lnTo>
                        <a:pt x="298" y="766"/>
                      </a:lnTo>
                      <a:lnTo>
                        <a:pt x="313" y="744"/>
                      </a:lnTo>
                      <a:lnTo>
                        <a:pt x="319" y="699"/>
                      </a:lnTo>
                      <a:lnTo>
                        <a:pt x="324" y="664"/>
                      </a:lnTo>
                      <a:lnTo>
                        <a:pt x="336" y="637"/>
                      </a:lnTo>
                      <a:lnTo>
                        <a:pt x="309" y="609"/>
                      </a:lnTo>
                      <a:lnTo>
                        <a:pt x="283" y="583"/>
                      </a:lnTo>
                      <a:lnTo>
                        <a:pt x="271" y="577"/>
                      </a:lnTo>
                      <a:lnTo>
                        <a:pt x="231" y="601"/>
                      </a:lnTo>
                      <a:lnTo>
                        <a:pt x="201" y="619"/>
                      </a:lnTo>
                      <a:lnTo>
                        <a:pt x="162" y="633"/>
                      </a:lnTo>
                      <a:lnTo>
                        <a:pt x="118" y="640"/>
                      </a:lnTo>
                      <a:lnTo>
                        <a:pt x="88" y="655"/>
                      </a:lnTo>
                      <a:lnTo>
                        <a:pt x="63" y="666"/>
                      </a:lnTo>
                      <a:lnTo>
                        <a:pt x="27" y="666"/>
                      </a:lnTo>
                      <a:lnTo>
                        <a:pt x="16" y="655"/>
                      </a:lnTo>
                      <a:lnTo>
                        <a:pt x="30" y="642"/>
                      </a:lnTo>
                      <a:lnTo>
                        <a:pt x="67" y="628"/>
                      </a:lnTo>
                      <a:lnTo>
                        <a:pt x="94" y="606"/>
                      </a:lnTo>
                      <a:lnTo>
                        <a:pt x="120" y="588"/>
                      </a:lnTo>
                      <a:lnTo>
                        <a:pt x="136" y="576"/>
                      </a:lnTo>
                      <a:lnTo>
                        <a:pt x="162" y="567"/>
                      </a:lnTo>
                      <a:lnTo>
                        <a:pt x="204" y="531"/>
                      </a:lnTo>
                      <a:lnTo>
                        <a:pt x="231" y="510"/>
                      </a:lnTo>
                      <a:lnTo>
                        <a:pt x="247" y="504"/>
                      </a:lnTo>
                      <a:lnTo>
                        <a:pt x="250" y="429"/>
                      </a:lnTo>
                      <a:lnTo>
                        <a:pt x="204" y="396"/>
                      </a:lnTo>
                      <a:lnTo>
                        <a:pt x="190" y="390"/>
                      </a:lnTo>
                      <a:lnTo>
                        <a:pt x="129" y="385"/>
                      </a:lnTo>
                      <a:lnTo>
                        <a:pt x="105" y="369"/>
                      </a:lnTo>
                      <a:lnTo>
                        <a:pt x="81" y="355"/>
                      </a:lnTo>
                      <a:lnTo>
                        <a:pt x="63" y="345"/>
                      </a:lnTo>
                      <a:lnTo>
                        <a:pt x="34" y="339"/>
                      </a:lnTo>
                      <a:lnTo>
                        <a:pt x="3" y="307"/>
                      </a:lnTo>
                      <a:lnTo>
                        <a:pt x="0" y="291"/>
                      </a:lnTo>
                      <a:lnTo>
                        <a:pt x="9" y="285"/>
                      </a:lnTo>
                      <a:lnTo>
                        <a:pt x="39" y="286"/>
                      </a:lnTo>
                      <a:lnTo>
                        <a:pt x="67" y="301"/>
                      </a:lnTo>
                      <a:lnTo>
                        <a:pt x="85" y="304"/>
                      </a:lnTo>
                      <a:lnTo>
                        <a:pt x="115" y="306"/>
                      </a:lnTo>
                      <a:lnTo>
                        <a:pt x="148" y="318"/>
                      </a:lnTo>
                      <a:lnTo>
                        <a:pt x="165" y="324"/>
                      </a:lnTo>
                      <a:lnTo>
                        <a:pt x="226" y="327"/>
                      </a:lnTo>
                      <a:lnTo>
                        <a:pt x="258" y="334"/>
                      </a:lnTo>
                      <a:lnTo>
                        <a:pt x="279" y="334"/>
                      </a:lnTo>
                    </a:path>
                  </a:pathLst>
                </a:custGeom>
                <a:solidFill>
                  <a:srgbClr val="cc99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>
                  <a:off x="9360" y="3313080"/>
                  <a:ext cx="1413000" cy="1454040"/>
                </a:xfrm>
                <a:custGeom>
                  <a:avLst/>
                  <a:gdLst/>
                  <a:ahLst/>
                  <a:rect l="l" t="t" r="r" b="b"/>
                  <a:pathLst>
                    <a:path w="890" h="916">
                      <a:moveTo>
                        <a:pt x="279" y="334"/>
                      </a:moveTo>
                      <a:lnTo>
                        <a:pt x="292" y="312"/>
                      </a:lnTo>
                      <a:lnTo>
                        <a:pt x="307" y="292"/>
                      </a:lnTo>
                      <a:lnTo>
                        <a:pt x="324" y="276"/>
                      </a:lnTo>
                      <a:lnTo>
                        <a:pt x="313" y="255"/>
                      </a:lnTo>
                      <a:lnTo>
                        <a:pt x="307" y="234"/>
                      </a:lnTo>
                      <a:lnTo>
                        <a:pt x="288" y="202"/>
                      </a:lnTo>
                      <a:lnTo>
                        <a:pt x="274" y="181"/>
                      </a:lnTo>
                      <a:lnTo>
                        <a:pt x="261" y="159"/>
                      </a:lnTo>
                      <a:lnTo>
                        <a:pt x="256" y="139"/>
                      </a:lnTo>
                      <a:lnTo>
                        <a:pt x="256" y="118"/>
                      </a:lnTo>
                      <a:lnTo>
                        <a:pt x="247" y="91"/>
                      </a:lnTo>
                      <a:lnTo>
                        <a:pt x="237" y="70"/>
                      </a:lnTo>
                      <a:lnTo>
                        <a:pt x="226" y="46"/>
                      </a:lnTo>
                      <a:lnTo>
                        <a:pt x="225" y="24"/>
                      </a:lnTo>
                      <a:lnTo>
                        <a:pt x="232" y="10"/>
                      </a:lnTo>
                      <a:lnTo>
                        <a:pt x="247" y="9"/>
                      </a:lnTo>
                      <a:lnTo>
                        <a:pt x="259" y="21"/>
                      </a:lnTo>
                      <a:lnTo>
                        <a:pt x="270" y="46"/>
                      </a:lnTo>
                      <a:lnTo>
                        <a:pt x="280" y="61"/>
                      </a:lnTo>
                      <a:lnTo>
                        <a:pt x="298" y="82"/>
                      </a:lnTo>
                      <a:lnTo>
                        <a:pt x="309" y="88"/>
                      </a:lnTo>
                      <a:lnTo>
                        <a:pt x="315" y="99"/>
                      </a:lnTo>
                      <a:lnTo>
                        <a:pt x="322" y="118"/>
                      </a:lnTo>
                      <a:lnTo>
                        <a:pt x="330" y="141"/>
                      </a:lnTo>
                      <a:lnTo>
                        <a:pt x="339" y="160"/>
                      </a:lnTo>
                      <a:lnTo>
                        <a:pt x="358" y="180"/>
                      </a:lnTo>
                      <a:lnTo>
                        <a:pt x="379" y="205"/>
                      </a:lnTo>
                      <a:lnTo>
                        <a:pt x="399" y="225"/>
                      </a:lnTo>
                      <a:lnTo>
                        <a:pt x="406" y="240"/>
                      </a:lnTo>
                      <a:lnTo>
                        <a:pt x="474" y="241"/>
                      </a:lnTo>
                      <a:lnTo>
                        <a:pt x="495" y="208"/>
                      </a:lnTo>
                      <a:lnTo>
                        <a:pt x="505" y="184"/>
                      </a:lnTo>
                      <a:lnTo>
                        <a:pt x="507" y="160"/>
                      </a:lnTo>
                      <a:lnTo>
                        <a:pt x="510" y="141"/>
                      </a:lnTo>
                      <a:lnTo>
                        <a:pt x="514" y="118"/>
                      </a:lnTo>
                      <a:lnTo>
                        <a:pt x="529" y="94"/>
                      </a:lnTo>
                      <a:lnTo>
                        <a:pt x="540" y="85"/>
                      </a:lnTo>
                      <a:lnTo>
                        <a:pt x="552" y="69"/>
                      </a:lnTo>
                      <a:lnTo>
                        <a:pt x="561" y="45"/>
                      </a:lnTo>
                      <a:lnTo>
                        <a:pt x="571" y="27"/>
                      </a:lnTo>
                      <a:lnTo>
                        <a:pt x="589" y="13"/>
                      </a:lnTo>
                      <a:lnTo>
                        <a:pt x="604" y="0"/>
                      </a:lnTo>
                      <a:lnTo>
                        <a:pt x="613" y="6"/>
                      </a:lnTo>
                      <a:lnTo>
                        <a:pt x="615" y="16"/>
                      </a:lnTo>
                      <a:lnTo>
                        <a:pt x="606" y="27"/>
                      </a:lnTo>
                      <a:lnTo>
                        <a:pt x="603" y="34"/>
                      </a:lnTo>
                      <a:lnTo>
                        <a:pt x="600" y="49"/>
                      </a:lnTo>
                      <a:lnTo>
                        <a:pt x="600" y="79"/>
                      </a:lnTo>
                      <a:lnTo>
                        <a:pt x="600" y="103"/>
                      </a:lnTo>
                      <a:lnTo>
                        <a:pt x="592" y="124"/>
                      </a:lnTo>
                      <a:lnTo>
                        <a:pt x="583" y="145"/>
                      </a:lnTo>
                      <a:lnTo>
                        <a:pt x="576" y="162"/>
                      </a:lnTo>
                      <a:lnTo>
                        <a:pt x="574" y="186"/>
                      </a:lnTo>
                      <a:lnTo>
                        <a:pt x="574" y="216"/>
                      </a:lnTo>
                      <a:lnTo>
                        <a:pt x="568" y="244"/>
                      </a:lnTo>
                      <a:lnTo>
                        <a:pt x="568" y="282"/>
                      </a:lnTo>
                      <a:lnTo>
                        <a:pt x="588" y="300"/>
                      </a:lnTo>
                      <a:lnTo>
                        <a:pt x="607" y="325"/>
                      </a:lnTo>
                      <a:lnTo>
                        <a:pt x="645" y="325"/>
                      </a:lnTo>
                      <a:lnTo>
                        <a:pt x="678" y="312"/>
                      </a:lnTo>
                      <a:lnTo>
                        <a:pt x="697" y="292"/>
                      </a:lnTo>
                      <a:lnTo>
                        <a:pt x="720" y="277"/>
                      </a:lnTo>
                      <a:lnTo>
                        <a:pt x="777" y="274"/>
                      </a:lnTo>
                      <a:lnTo>
                        <a:pt x="801" y="265"/>
                      </a:lnTo>
                      <a:lnTo>
                        <a:pt x="816" y="253"/>
                      </a:lnTo>
                      <a:lnTo>
                        <a:pt x="859" y="252"/>
                      </a:lnTo>
                      <a:lnTo>
                        <a:pt x="865" y="265"/>
                      </a:lnTo>
                      <a:lnTo>
                        <a:pt x="861" y="279"/>
                      </a:lnTo>
                      <a:lnTo>
                        <a:pt x="843" y="288"/>
                      </a:lnTo>
                      <a:lnTo>
                        <a:pt x="819" y="300"/>
                      </a:lnTo>
                      <a:lnTo>
                        <a:pt x="796" y="324"/>
                      </a:lnTo>
                      <a:lnTo>
                        <a:pt x="786" y="334"/>
                      </a:lnTo>
                      <a:lnTo>
                        <a:pt x="765" y="343"/>
                      </a:lnTo>
                      <a:lnTo>
                        <a:pt x="735" y="352"/>
                      </a:lnTo>
                      <a:lnTo>
                        <a:pt x="714" y="367"/>
                      </a:lnTo>
                      <a:lnTo>
                        <a:pt x="687" y="390"/>
                      </a:lnTo>
                      <a:lnTo>
                        <a:pt x="669" y="409"/>
                      </a:lnTo>
                      <a:lnTo>
                        <a:pt x="649" y="420"/>
                      </a:lnTo>
                      <a:lnTo>
                        <a:pt x="648" y="481"/>
                      </a:lnTo>
                      <a:lnTo>
                        <a:pt x="673" y="510"/>
                      </a:lnTo>
                      <a:lnTo>
                        <a:pt x="703" y="526"/>
                      </a:lnTo>
                      <a:lnTo>
                        <a:pt x="730" y="531"/>
                      </a:lnTo>
                      <a:lnTo>
                        <a:pt x="751" y="535"/>
                      </a:lnTo>
                      <a:lnTo>
                        <a:pt x="777" y="549"/>
                      </a:lnTo>
                      <a:lnTo>
                        <a:pt x="795" y="567"/>
                      </a:lnTo>
                      <a:lnTo>
                        <a:pt x="819" y="577"/>
                      </a:lnTo>
                      <a:lnTo>
                        <a:pt x="846" y="583"/>
                      </a:lnTo>
                      <a:lnTo>
                        <a:pt x="861" y="592"/>
                      </a:lnTo>
                      <a:lnTo>
                        <a:pt x="874" y="606"/>
                      </a:lnTo>
                      <a:lnTo>
                        <a:pt x="889" y="621"/>
                      </a:lnTo>
                      <a:lnTo>
                        <a:pt x="888" y="634"/>
                      </a:lnTo>
                      <a:lnTo>
                        <a:pt x="867" y="637"/>
                      </a:lnTo>
                      <a:lnTo>
                        <a:pt x="853" y="631"/>
                      </a:lnTo>
                      <a:lnTo>
                        <a:pt x="832" y="618"/>
                      </a:lnTo>
                      <a:lnTo>
                        <a:pt x="807" y="618"/>
                      </a:lnTo>
                      <a:lnTo>
                        <a:pt x="780" y="618"/>
                      </a:lnTo>
                      <a:lnTo>
                        <a:pt x="759" y="615"/>
                      </a:lnTo>
                      <a:lnTo>
                        <a:pt x="736" y="592"/>
                      </a:lnTo>
                      <a:lnTo>
                        <a:pt x="718" y="588"/>
                      </a:lnTo>
                      <a:lnTo>
                        <a:pt x="684" y="588"/>
                      </a:lnTo>
                      <a:lnTo>
                        <a:pt x="615" y="588"/>
                      </a:lnTo>
                      <a:lnTo>
                        <a:pt x="604" y="606"/>
                      </a:lnTo>
                      <a:lnTo>
                        <a:pt x="589" y="621"/>
                      </a:lnTo>
                      <a:lnTo>
                        <a:pt x="576" y="628"/>
                      </a:lnTo>
                      <a:lnTo>
                        <a:pt x="580" y="666"/>
                      </a:lnTo>
                      <a:lnTo>
                        <a:pt x="600" y="702"/>
                      </a:lnTo>
                      <a:lnTo>
                        <a:pt x="618" y="723"/>
                      </a:lnTo>
                      <a:lnTo>
                        <a:pt x="630" y="753"/>
                      </a:lnTo>
                      <a:lnTo>
                        <a:pt x="631" y="787"/>
                      </a:lnTo>
                      <a:lnTo>
                        <a:pt x="640" y="807"/>
                      </a:lnTo>
                      <a:lnTo>
                        <a:pt x="654" y="838"/>
                      </a:lnTo>
                      <a:lnTo>
                        <a:pt x="664" y="862"/>
                      </a:lnTo>
                      <a:lnTo>
                        <a:pt x="664" y="889"/>
                      </a:lnTo>
                      <a:lnTo>
                        <a:pt x="654" y="898"/>
                      </a:lnTo>
                      <a:lnTo>
                        <a:pt x="642" y="898"/>
                      </a:lnTo>
                      <a:lnTo>
                        <a:pt x="624" y="870"/>
                      </a:lnTo>
                      <a:lnTo>
                        <a:pt x="612" y="837"/>
                      </a:lnTo>
                      <a:lnTo>
                        <a:pt x="583" y="808"/>
                      </a:lnTo>
                      <a:lnTo>
                        <a:pt x="568" y="789"/>
                      </a:lnTo>
                      <a:lnTo>
                        <a:pt x="556" y="760"/>
                      </a:lnTo>
                      <a:lnTo>
                        <a:pt x="549" y="738"/>
                      </a:lnTo>
                      <a:lnTo>
                        <a:pt x="513" y="708"/>
                      </a:lnTo>
                      <a:lnTo>
                        <a:pt x="489" y="682"/>
                      </a:lnTo>
                      <a:lnTo>
                        <a:pt x="415" y="684"/>
                      </a:lnTo>
                      <a:lnTo>
                        <a:pt x="390" y="730"/>
                      </a:lnTo>
                      <a:lnTo>
                        <a:pt x="372" y="759"/>
                      </a:lnTo>
                      <a:lnTo>
                        <a:pt x="361" y="798"/>
                      </a:lnTo>
                      <a:lnTo>
                        <a:pt x="339" y="838"/>
                      </a:lnTo>
                      <a:lnTo>
                        <a:pt x="316" y="874"/>
                      </a:lnTo>
                      <a:lnTo>
                        <a:pt x="294" y="907"/>
                      </a:lnTo>
                      <a:lnTo>
                        <a:pt x="285" y="915"/>
                      </a:lnTo>
                      <a:lnTo>
                        <a:pt x="268" y="909"/>
                      </a:lnTo>
                      <a:lnTo>
                        <a:pt x="268" y="894"/>
                      </a:lnTo>
                      <a:lnTo>
                        <a:pt x="276" y="867"/>
                      </a:lnTo>
                      <a:lnTo>
                        <a:pt x="291" y="837"/>
                      </a:lnTo>
                      <a:lnTo>
                        <a:pt x="294" y="790"/>
                      </a:lnTo>
                      <a:lnTo>
                        <a:pt x="298" y="766"/>
                      </a:lnTo>
                      <a:lnTo>
                        <a:pt x="313" y="744"/>
                      </a:lnTo>
                      <a:lnTo>
                        <a:pt x="319" y="699"/>
                      </a:lnTo>
                      <a:lnTo>
                        <a:pt x="324" y="664"/>
                      </a:lnTo>
                      <a:lnTo>
                        <a:pt x="336" y="637"/>
                      </a:lnTo>
                      <a:lnTo>
                        <a:pt x="309" y="609"/>
                      </a:lnTo>
                      <a:lnTo>
                        <a:pt x="283" y="583"/>
                      </a:lnTo>
                      <a:lnTo>
                        <a:pt x="271" y="577"/>
                      </a:lnTo>
                      <a:lnTo>
                        <a:pt x="231" y="601"/>
                      </a:lnTo>
                      <a:lnTo>
                        <a:pt x="201" y="619"/>
                      </a:lnTo>
                      <a:lnTo>
                        <a:pt x="162" y="633"/>
                      </a:lnTo>
                      <a:lnTo>
                        <a:pt x="118" y="640"/>
                      </a:lnTo>
                      <a:lnTo>
                        <a:pt x="88" y="655"/>
                      </a:lnTo>
                      <a:lnTo>
                        <a:pt x="63" y="666"/>
                      </a:lnTo>
                      <a:lnTo>
                        <a:pt x="27" y="666"/>
                      </a:lnTo>
                      <a:lnTo>
                        <a:pt x="16" y="655"/>
                      </a:lnTo>
                      <a:lnTo>
                        <a:pt x="30" y="642"/>
                      </a:lnTo>
                      <a:lnTo>
                        <a:pt x="67" y="628"/>
                      </a:lnTo>
                      <a:lnTo>
                        <a:pt x="94" y="606"/>
                      </a:lnTo>
                      <a:lnTo>
                        <a:pt x="120" y="588"/>
                      </a:lnTo>
                      <a:lnTo>
                        <a:pt x="136" y="576"/>
                      </a:lnTo>
                      <a:lnTo>
                        <a:pt x="162" y="567"/>
                      </a:lnTo>
                      <a:lnTo>
                        <a:pt x="204" y="531"/>
                      </a:lnTo>
                      <a:lnTo>
                        <a:pt x="231" y="510"/>
                      </a:lnTo>
                      <a:lnTo>
                        <a:pt x="247" y="504"/>
                      </a:lnTo>
                      <a:lnTo>
                        <a:pt x="250" y="429"/>
                      </a:lnTo>
                      <a:lnTo>
                        <a:pt x="204" y="396"/>
                      </a:lnTo>
                      <a:lnTo>
                        <a:pt x="190" y="390"/>
                      </a:lnTo>
                      <a:lnTo>
                        <a:pt x="129" y="385"/>
                      </a:lnTo>
                      <a:lnTo>
                        <a:pt x="105" y="369"/>
                      </a:lnTo>
                      <a:lnTo>
                        <a:pt x="81" y="355"/>
                      </a:lnTo>
                      <a:lnTo>
                        <a:pt x="63" y="345"/>
                      </a:lnTo>
                      <a:lnTo>
                        <a:pt x="34" y="339"/>
                      </a:lnTo>
                      <a:lnTo>
                        <a:pt x="3" y="307"/>
                      </a:lnTo>
                      <a:lnTo>
                        <a:pt x="0" y="291"/>
                      </a:lnTo>
                      <a:lnTo>
                        <a:pt x="9" y="285"/>
                      </a:lnTo>
                      <a:lnTo>
                        <a:pt x="39" y="286"/>
                      </a:lnTo>
                      <a:lnTo>
                        <a:pt x="67" y="301"/>
                      </a:lnTo>
                      <a:lnTo>
                        <a:pt x="85" y="304"/>
                      </a:lnTo>
                      <a:lnTo>
                        <a:pt x="115" y="306"/>
                      </a:lnTo>
                      <a:lnTo>
                        <a:pt x="148" y="318"/>
                      </a:lnTo>
                      <a:lnTo>
                        <a:pt x="165" y="324"/>
                      </a:lnTo>
                      <a:lnTo>
                        <a:pt x="226" y="327"/>
                      </a:lnTo>
                      <a:lnTo>
                        <a:pt x="258" y="334"/>
                      </a:lnTo>
                      <a:lnTo>
                        <a:pt x="279" y="334"/>
                      </a:lnTo>
                    </a:path>
                  </a:pathLst>
                </a:custGeom>
                <a:solidFill>
                  <a:srgbClr val="cc99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9360" y="5016600"/>
                  <a:ext cx="1413000" cy="1454040"/>
                </a:xfrm>
                <a:custGeom>
                  <a:avLst/>
                  <a:gdLst/>
                  <a:ahLst/>
                  <a:rect l="l" t="t" r="r" b="b"/>
                  <a:pathLst>
                    <a:path w="890" h="916">
                      <a:moveTo>
                        <a:pt x="279" y="334"/>
                      </a:moveTo>
                      <a:lnTo>
                        <a:pt x="292" y="312"/>
                      </a:lnTo>
                      <a:lnTo>
                        <a:pt x="307" y="292"/>
                      </a:lnTo>
                      <a:lnTo>
                        <a:pt x="324" y="276"/>
                      </a:lnTo>
                      <a:lnTo>
                        <a:pt x="313" y="255"/>
                      </a:lnTo>
                      <a:lnTo>
                        <a:pt x="307" y="234"/>
                      </a:lnTo>
                      <a:lnTo>
                        <a:pt x="288" y="202"/>
                      </a:lnTo>
                      <a:lnTo>
                        <a:pt x="274" y="181"/>
                      </a:lnTo>
                      <a:lnTo>
                        <a:pt x="261" y="159"/>
                      </a:lnTo>
                      <a:lnTo>
                        <a:pt x="256" y="139"/>
                      </a:lnTo>
                      <a:lnTo>
                        <a:pt x="256" y="118"/>
                      </a:lnTo>
                      <a:lnTo>
                        <a:pt x="247" y="91"/>
                      </a:lnTo>
                      <a:lnTo>
                        <a:pt x="237" y="70"/>
                      </a:lnTo>
                      <a:lnTo>
                        <a:pt x="226" y="46"/>
                      </a:lnTo>
                      <a:lnTo>
                        <a:pt x="225" y="24"/>
                      </a:lnTo>
                      <a:lnTo>
                        <a:pt x="232" y="10"/>
                      </a:lnTo>
                      <a:lnTo>
                        <a:pt x="247" y="9"/>
                      </a:lnTo>
                      <a:lnTo>
                        <a:pt x="259" y="21"/>
                      </a:lnTo>
                      <a:lnTo>
                        <a:pt x="270" y="46"/>
                      </a:lnTo>
                      <a:lnTo>
                        <a:pt x="280" y="61"/>
                      </a:lnTo>
                      <a:lnTo>
                        <a:pt x="298" y="82"/>
                      </a:lnTo>
                      <a:lnTo>
                        <a:pt x="309" y="88"/>
                      </a:lnTo>
                      <a:lnTo>
                        <a:pt x="315" y="99"/>
                      </a:lnTo>
                      <a:lnTo>
                        <a:pt x="322" y="118"/>
                      </a:lnTo>
                      <a:lnTo>
                        <a:pt x="330" y="141"/>
                      </a:lnTo>
                      <a:lnTo>
                        <a:pt x="339" y="160"/>
                      </a:lnTo>
                      <a:lnTo>
                        <a:pt x="358" y="180"/>
                      </a:lnTo>
                      <a:lnTo>
                        <a:pt x="379" y="205"/>
                      </a:lnTo>
                      <a:lnTo>
                        <a:pt x="399" y="225"/>
                      </a:lnTo>
                      <a:lnTo>
                        <a:pt x="406" y="240"/>
                      </a:lnTo>
                      <a:lnTo>
                        <a:pt x="474" y="241"/>
                      </a:lnTo>
                      <a:lnTo>
                        <a:pt x="495" y="208"/>
                      </a:lnTo>
                      <a:lnTo>
                        <a:pt x="505" y="184"/>
                      </a:lnTo>
                      <a:lnTo>
                        <a:pt x="507" y="160"/>
                      </a:lnTo>
                      <a:lnTo>
                        <a:pt x="510" y="141"/>
                      </a:lnTo>
                      <a:lnTo>
                        <a:pt x="514" y="118"/>
                      </a:lnTo>
                      <a:lnTo>
                        <a:pt x="529" y="94"/>
                      </a:lnTo>
                      <a:lnTo>
                        <a:pt x="540" y="85"/>
                      </a:lnTo>
                      <a:lnTo>
                        <a:pt x="552" y="69"/>
                      </a:lnTo>
                      <a:lnTo>
                        <a:pt x="561" y="45"/>
                      </a:lnTo>
                      <a:lnTo>
                        <a:pt x="571" y="27"/>
                      </a:lnTo>
                      <a:lnTo>
                        <a:pt x="589" y="13"/>
                      </a:lnTo>
                      <a:lnTo>
                        <a:pt x="604" y="0"/>
                      </a:lnTo>
                      <a:lnTo>
                        <a:pt x="613" y="6"/>
                      </a:lnTo>
                      <a:lnTo>
                        <a:pt x="615" y="16"/>
                      </a:lnTo>
                      <a:lnTo>
                        <a:pt x="606" y="27"/>
                      </a:lnTo>
                      <a:lnTo>
                        <a:pt x="603" y="34"/>
                      </a:lnTo>
                      <a:lnTo>
                        <a:pt x="600" y="49"/>
                      </a:lnTo>
                      <a:lnTo>
                        <a:pt x="600" y="79"/>
                      </a:lnTo>
                      <a:lnTo>
                        <a:pt x="600" y="103"/>
                      </a:lnTo>
                      <a:lnTo>
                        <a:pt x="592" y="124"/>
                      </a:lnTo>
                      <a:lnTo>
                        <a:pt x="583" y="145"/>
                      </a:lnTo>
                      <a:lnTo>
                        <a:pt x="576" y="162"/>
                      </a:lnTo>
                      <a:lnTo>
                        <a:pt x="574" y="186"/>
                      </a:lnTo>
                      <a:lnTo>
                        <a:pt x="574" y="216"/>
                      </a:lnTo>
                      <a:lnTo>
                        <a:pt x="568" y="244"/>
                      </a:lnTo>
                      <a:lnTo>
                        <a:pt x="568" y="282"/>
                      </a:lnTo>
                      <a:lnTo>
                        <a:pt x="588" y="300"/>
                      </a:lnTo>
                      <a:lnTo>
                        <a:pt x="607" y="325"/>
                      </a:lnTo>
                      <a:lnTo>
                        <a:pt x="645" y="325"/>
                      </a:lnTo>
                      <a:lnTo>
                        <a:pt x="678" y="312"/>
                      </a:lnTo>
                      <a:lnTo>
                        <a:pt x="697" y="292"/>
                      </a:lnTo>
                      <a:lnTo>
                        <a:pt x="720" y="277"/>
                      </a:lnTo>
                      <a:lnTo>
                        <a:pt x="777" y="274"/>
                      </a:lnTo>
                      <a:lnTo>
                        <a:pt x="801" y="265"/>
                      </a:lnTo>
                      <a:lnTo>
                        <a:pt x="816" y="253"/>
                      </a:lnTo>
                      <a:lnTo>
                        <a:pt x="859" y="252"/>
                      </a:lnTo>
                      <a:lnTo>
                        <a:pt x="865" y="265"/>
                      </a:lnTo>
                      <a:lnTo>
                        <a:pt x="861" y="279"/>
                      </a:lnTo>
                      <a:lnTo>
                        <a:pt x="843" y="288"/>
                      </a:lnTo>
                      <a:lnTo>
                        <a:pt x="819" y="300"/>
                      </a:lnTo>
                      <a:lnTo>
                        <a:pt x="796" y="324"/>
                      </a:lnTo>
                      <a:lnTo>
                        <a:pt x="786" y="334"/>
                      </a:lnTo>
                      <a:lnTo>
                        <a:pt x="765" y="343"/>
                      </a:lnTo>
                      <a:lnTo>
                        <a:pt x="735" y="352"/>
                      </a:lnTo>
                      <a:lnTo>
                        <a:pt x="714" y="367"/>
                      </a:lnTo>
                      <a:lnTo>
                        <a:pt x="687" y="390"/>
                      </a:lnTo>
                      <a:lnTo>
                        <a:pt x="669" y="409"/>
                      </a:lnTo>
                      <a:lnTo>
                        <a:pt x="649" y="420"/>
                      </a:lnTo>
                      <a:lnTo>
                        <a:pt x="648" y="481"/>
                      </a:lnTo>
                      <a:lnTo>
                        <a:pt x="673" y="510"/>
                      </a:lnTo>
                      <a:lnTo>
                        <a:pt x="703" y="526"/>
                      </a:lnTo>
                      <a:lnTo>
                        <a:pt x="730" y="531"/>
                      </a:lnTo>
                      <a:lnTo>
                        <a:pt x="751" y="535"/>
                      </a:lnTo>
                      <a:lnTo>
                        <a:pt x="777" y="549"/>
                      </a:lnTo>
                      <a:lnTo>
                        <a:pt x="795" y="567"/>
                      </a:lnTo>
                      <a:lnTo>
                        <a:pt x="819" y="577"/>
                      </a:lnTo>
                      <a:lnTo>
                        <a:pt x="846" y="583"/>
                      </a:lnTo>
                      <a:lnTo>
                        <a:pt x="861" y="592"/>
                      </a:lnTo>
                      <a:lnTo>
                        <a:pt x="874" y="606"/>
                      </a:lnTo>
                      <a:lnTo>
                        <a:pt x="889" y="621"/>
                      </a:lnTo>
                      <a:lnTo>
                        <a:pt x="888" y="634"/>
                      </a:lnTo>
                      <a:lnTo>
                        <a:pt x="867" y="637"/>
                      </a:lnTo>
                      <a:lnTo>
                        <a:pt x="853" y="631"/>
                      </a:lnTo>
                      <a:lnTo>
                        <a:pt x="832" y="618"/>
                      </a:lnTo>
                      <a:lnTo>
                        <a:pt x="807" y="618"/>
                      </a:lnTo>
                      <a:lnTo>
                        <a:pt x="780" y="618"/>
                      </a:lnTo>
                      <a:lnTo>
                        <a:pt x="759" y="615"/>
                      </a:lnTo>
                      <a:lnTo>
                        <a:pt x="736" y="592"/>
                      </a:lnTo>
                      <a:lnTo>
                        <a:pt x="718" y="588"/>
                      </a:lnTo>
                      <a:lnTo>
                        <a:pt x="684" y="588"/>
                      </a:lnTo>
                      <a:lnTo>
                        <a:pt x="615" y="588"/>
                      </a:lnTo>
                      <a:lnTo>
                        <a:pt x="604" y="606"/>
                      </a:lnTo>
                      <a:lnTo>
                        <a:pt x="589" y="621"/>
                      </a:lnTo>
                      <a:lnTo>
                        <a:pt x="576" y="628"/>
                      </a:lnTo>
                      <a:lnTo>
                        <a:pt x="580" y="666"/>
                      </a:lnTo>
                      <a:lnTo>
                        <a:pt x="600" y="702"/>
                      </a:lnTo>
                      <a:lnTo>
                        <a:pt x="618" y="723"/>
                      </a:lnTo>
                      <a:lnTo>
                        <a:pt x="630" y="753"/>
                      </a:lnTo>
                      <a:lnTo>
                        <a:pt x="631" y="787"/>
                      </a:lnTo>
                      <a:lnTo>
                        <a:pt x="640" y="807"/>
                      </a:lnTo>
                      <a:lnTo>
                        <a:pt x="654" y="838"/>
                      </a:lnTo>
                      <a:lnTo>
                        <a:pt x="664" y="862"/>
                      </a:lnTo>
                      <a:lnTo>
                        <a:pt x="664" y="889"/>
                      </a:lnTo>
                      <a:lnTo>
                        <a:pt x="654" y="898"/>
                      </a:lnTo>
                      <a:lnTo>
                        <a:pt x="642" y="898"/>
                      </a:lnTo>
                      <a:lnTo>
                        <a:pt x="624" y="870"/>
                      </a:lnTo>
                      <a:lnTo>
                        <a:pt x="612" y="837"/>
                      </a:lnTo>
                      <a:lnTo>
                        <a:pt x="583" y="808"/>
                      </a:lnTo>
                      <a:lnTo>
                        <a:pt x="568" y="789"/>
                      </a:lnTo>
                      <a:lnTo>
                        <a:pt x="556" y="760"/>
                      </a:lnTo>
                      <a:lnTo>
                        <a:pt x="549" y="738"/>
                      </a:lnTo>
                      <a:lnTo>
                        <a:pt x="513" y="708"/>
                      </a:lnTo>
                      <a:lnTo>
                        <a:pt x="489" y="682"/>
                      </a:lnTo>
                      <a:lnTo>
                        <a:pt x="415" y="684"/>
                      </a:lnTo>
                      <a:lnTo>
                        <a:pt x="390" y="730"/>
                      </a:lnTo>
                      <a:lnTo>
                        <a:pt x="372" y="759"/>
                      </a:lnTo>
                      <a:lnTo>
                        <a:pt x="361" y="798"/>
                      </a:lnTo>
                      <a:lnTo>
                        <a:pt x="339" y="838"/>
                      </a:lnTo>
                      <a:lnTo>
                        <a:pt x="316" y="874"/>
                      </a:lnTo>
                      <a:lnTo>
                        <a:pt x="294" y="907"/>
                      </a:lnTo>
                      <a:lnTo>
                        <a:pt x="285" y="915"/>
                      </a:lnTo>
                      <a:lnTo>
                        <a:pt x="268" y="909"/>
                      </a:lnTo>
                      <a:lnTo>
                        <a:pt x="268" y="894"/>
                      </a:lnTo>
                      <a:lnTo>
                        <a:pt x="276" y="867"/>
                      </a:lnTo>
                      <a:lnTo>
                        <a:pt x="291" y="837"/>
                      </a:lnTo>
                      <a:lnTo>
                        <a:pt x="294" y="790"/>
                      </a:lnTo>
                      <a:lnTo>
                        <a:pt x="298" y="766"/>
                      </a:lnTo>
                      <a:lnTo>
                        <a:pt x="313" y="744"/>
                      </a:lnTo>
                      <a:lnTo>
                        <a:pt x="319" y="699"/>
                      </a:lnTo>
                      <a:lnTo>
                        <a:pt x="324" y="664"/>
                      </a:lnTo>
                      <a:lnTo>
                        <a:pt x="336" y="637"/>
                      </a:lnTo>
                      <a:lnTo>
                        <a:pt x="309" y="609"/>
                      </a:lnTo>
                      <a:lnTo>
                        <a:pt x="283" y="583"/>
                      </a:lnTo>
                      <a:lnTo>
                        <a:pt x="271" y="577"/>
                      </a:lnTo>
                      <a:lnTo>
                        <a:pt x="231" y="601"/>
                      </a:lnTo>
                      <a:lnTo>
                        <a:pt x="201" y="619"/>
                      </a:lnTo>
                      <a:lnTo>
                        <a:pt x="162" y="633"/>
                      </a:lnTo>
                      <a:lnTo>
                        <a:pt x="118" y="640"/>
                      </a:lnTo>
                      <a:lnTo>
                        <a:pt x="88" y="655"/>
                      </a:lnTo>
                      <a:lnTo>
                        <a:pt x="63" y="666"/>
                      </a:lnTo>
                      <a:lnTo>
                        <a:pt x="27" y="666"/>
                      </a:lnTo>
                      <a:lnTo>
                        <a:pt x="16" y="655"/>
                      </a:lnTo>
                      <a:lnTo>
                        <a:pt x="30" y="642"/>
                      </a:lnTo>
                      <a:lnTo>
                        <a:pt x="67" y="628"/>
                      </a:lnTo>
                      <a:lnTo>
                        <a:pt x="94" y="606"/>
                      </a:lnTo>
                      <a:lnTo>
                        <a:pt x="120" y="588"/>
                      </a:lnTo>
                      <a:lnTo>
                        <a:pt x="136" y="576"/>
                      </a:lnTo>
                      <a:lnTo>
                        <a:pt x="162" y="567"/>
                      </a:lnTo>
                      <a:lnTo>
                        <a:pt x="204" y="531"/>
                      </a:lnTo>
                      <a:lnTo>
                        <a:pt x="231" y="510"/>
                      </a:lnTo>
                      <a:lnTo>
                        <a:pt x="247" y="504"/>
                      </a:lnTo>
                      <a:lnTo>
                        <a:pt x="250" y="429"/>
                      </a:lnTo>
                      <a:lnTo>
                        <a:pt x="204" y="396"/>
                      </a:lnTo>
                      <a:lnTo>
                        <a:pt x="190" y="390"/>
                      </a:lnTo>
                      <a:lnTo>
                        <a:pt x="129" y="385"/>
                      </a:lnTo>
                      <a:lnTo>
                        <a:pt x="105" y="369"/>
                      </a:lnTo>
                      <a:lnTo>
                        <a:pt x="81" y="355"/>
                      </a:lnTo>
                      <a:lnTo>
                        <a:pt x="63" y="345"/>
                      </a:lnTo>
                      <a:lnTo>
                        <a:pt x="34" y="339"/>
                      </a:lnTo>
                      <a:lnTo>
                        <a:pt x="3" y="307"/>
                      </a:lnTo>
                      <a:lnTo>
                        <a:pt x="0" y="291"/>
                      </a:lnTo>
                      <a:lnTo>
                        <a:pt x="9" y="285"/>
                      </a:lnTo>
                      <a:lnTo>
                        <a:pt x="39" y="286"/>
                      </a:lnTo>
                      <a:lnTo>
                        <a:pt x="67" y="301"/>
                      </a:lnTo>
                      <a:lnTo>
                        <a:pt x="85" y="304"/>
                      </a:lnTo>
                      <a:lnTo>
                        <a:pt x="115" y="306"/>
                      </a:lnTo>
                      <a:lnTo>
                        <a:pt x="148" y="318"/>
                      </a:lnTo>
                      <a:lnTo>
                        <a:pt x="165" y="324"/>
                      </a:lnTo>
                      <a:lnTo>
                        <a:pt x="226" y="327"/>
                      </a:lnTo>
                      <a:lnTo>
                        <a:pt x="258" y="334"/>
                      </a:lnTo>
                      <a:lnTo>
                        <a:pt x="279" y="334"/>
                      </a:lnTo>
                    </a:path>
                  </a:pathLst>
                </a:custGeom>
                <a:solidFill>
                  <a:srgbClr val="cc99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52400" y="180612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dt" idx="4"/>
          </p:nvPr>
        </p:nvSpPr>
        <p:spPr>
          <a:xfrm>
            <a:off x="1523520" y="6350040"/>
            <a:ext cx="17240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9663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ftr" idx="5"/>
          </p:nvPr>
        </p:nvSpPr>
        <p:spPr>
          <a:xfrm>
            <a:off x="3642840" y="6350040"/>
            <a:ext cx="3449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9663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sldNum" idx="6"/>
          </p:nvPr>
        </p:nvSpPr>
        <p:spPr>
          <a:xfrm>
            <a:off x="7391160" y="6350040"/>
            <a:ext cx="17240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4975E-F482-44D4-9976-73EFDC4858D6}" type="slidenum">
              <a:rPr b="0" lang="ru-RU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4.jpeg"/><Relationship Id="rId3" Type="http://schemas.openxmlformats.org/officeDocument/2006/relationships/image" Target="../media/image25.pn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7.pn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image" Target="../media/image34.jpe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826920" y="0"/>
            <a:ext cx="8317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ГКПОУ </a:t>
            </a:r>
            <a:br>
              <a:rPr sz="3600"/>
            </a:br>
            <a:r>
              <a:rPr b="1" lang="ru-RU" sz="36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Новокузнецкий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горнотранспортный коллед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403280" y="1916280"/>
            <a:ext cx="7740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ВЫДАЮЩИЙСЯ ЧЕЛОВЕК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ГОРОДА НОВОКУЗНЕЦК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НИКОЛАЙ ВАСИЛЬЕВИЧ ПУШНИЦ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Прямоугольник 3"/>
          <p:cNvSpPr/>
          <p:nvPr/>
        </p:nvSpPr>
        <p:spPr>
          <a:xfrm>
            <a:off x="1476360" y="5445000"/>
            <a:ext cx="741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  <a:ea typeface="Arial"/>
              </a:rPr>
              <a:t>Авторы:</a:t>
            </a:r>
            <a:r>
              <a:rPr b="0" lang="ru-RU" sz="2400" spc="-1" strike="noStrike">
                <a:solidFill>
                  <a:srgbClr val="800000"/>
                </a:solidFill>
                <a:latin typeface="Times New Roman"/>
                <a:ea typeface="Arial"/>
              </a:rPr>
              <a:t> </a:t>
            </a:r>
            <a:r>
              <a:rPr b="0" lang="ru-RU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Шамякова Василина, Сазонова Софь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Times New Roman"/>
                <a:ea typeface="Arial"/>
              </a:rPr>
              <a:t>студенты гр.ТРК-14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  <a:ea typeface="Arial"/>
              </a:rPr>
              <a:t>Руководитель:</a:t>
            </a:r>
            <a:r>
              <a:rPr b="0" lang="ru-RU" sz="2400" spc="-1" strike="noStrike">
                <a:solidFill>
                  <a:srgbClr val="800000"/>
                </a:solidFill>
                <a:latin typeface="Times New Roman"/>
                <a:ea typeface="Arial"/>
              </a:rPr>
              <a:t> Мильяшенко Ольга Николаев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1692360" y="475200"/>
            <a:ext cx="72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Николай  Васильевич  Пушница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438200" y="1768680"/>
            <a:ext cx="7705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гражден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пломами «Лучший менеджер по качеству»,      Санкт-Петербург (1995 и 1998 гг.)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своено звание Заслуженный металлург РФ(1993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алями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«За доблестный труд» (1970 г.)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«За трудовую доблесть» (1971 г.)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рденом «Трудового Красного Знамени» (1986 г.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гражден знаками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Лауреат ВВЦ (1995)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Лауреат ЗСМК (1998)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Лауреат премии Кузбасса (2008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Рисунок 2" descr=""/>
          <p:cNvPicPr/>
          <p:nvPr/>
        </p:nvPicPr>
        <p:blipFill>
          <a:blip r:embed="rId2"/>
          <a:stretch/>
        </p:blipFill>
        <p:spPr>
          <a:xfrm>
            <a:off x="6588000" y="4797360"/>
            <a:ext cx="2319480" cy="183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Рисунок 3" descr=""/>
          <p:cNvPicPr/>
          <p:nvPr/>
        </p:nvPicPr>
        <p:blipFill>
          <a:blip r:embed="rId2"/>
          <a:stretch/>
        </p:blipFill>
        <p:spPr>
          <a:xfrm>
            <a:off x="1619280" y="1916280"/>
            <a:ext cx="4680000" cy="35146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1835280" y="5668920"/>
            <a:ext cx="691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лен правления и аудитор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дународных общественных организаций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качеству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692360" y="475200"/>
            <a:ext cx="72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Николай  Васильевич  Пушница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" descr="&amp;Kcy;&amp;acy;&amp;rcy;&amp;tcy;&amp;icy;&amp;ncy;&amp;kcy;&amp;icy; &amp;pcy;&amp;ocy; &amp;zcy;&amp;acy;&amp;pcy;&amp;rcy;&amp;ocy;&amp;scy;&amp;ucy; &amp;Pcy;&amp;rcy;&amp;acy;&amp;vcy;&amp;icy;&amp;tcy;&amp;iecy;&amp;lcy;&amp;softcy;&amp;scy;&amp;tcy;&amp;vcy;&amp;acy; &amp;Rcy;&amp;ocy;&amp;scy;&amp;scy;&amp;icy;&amp;icy; &amp;pcy;&amp;ocy; &amp;kcy;&amp;acy;&amp;chcy;&amp;iecy;&amp;scy;&amp;tcy;&amp;vcy;&amp;ucy;"/>
          <p:cNvPicPr/>
          <p:nvPr/>
        </p:nvPicPr>
        <p:blipFill>
          <a:blip r:embed="rId3"/>
          <a:stretch/>
        </p:blipFill>
        <p:spPr>
          <a:xfrm>
            <a:off x="6443640" y="3565440"/>
            <a:ext cx="2521080" cy="18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1692360" y="475200"/>
            <a:ext cx="72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Николай  Васильевич  Пушница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22160" y="1986840"/>
            <a:ext cx="5993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Заслуги в области качества отмечены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деном Трудового Красного Знамени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ком «За заслуги в стандартизации»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четными грамотами и благодарностями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" descr="&amp;Kcy;&amp;acy;&amp;rcy;&amp;tcy;&amp;icy;&amp;ncy;&amp;kcy;&amp;icy; &amp;pcy;&amp;ocy; &amp;zcy;&amp;acy;&amp;pcy;&amp;rcy;&amp;ocy;&amp;scy;&amp;ucy; &amp;ocy;&amp;rcy;&amp;dcy;&amp;iecy;&amp;ncy;&amp;ocy;&amp;mcy; &amp;Tcy;&amp;rcy;&amp;ucy;&amp;dcy;&amp;ocy;&amp;vcy;&amp;ocy;&amp;gcy;&amp;ocy; &amp;Kcy;&amp;rcy;&amp;acy;&amp;scy;&amp;ncy;&amp;ocy;&amp;gcy;&amp;ocy; &amp;Zcy;&amp;ncy;&amp;acy;&amp;mcy;&amp;iecy;&amp;ncy;&amp;icy;"/>
          <p:cNvPicPr/>
          <p:nvPr/>
        </p:nvPicPr>
        <p:blipFill>
          <a:blip r:embed="rId2"/>
          <a:stretch/>
        </p:blipFill>
        <p:spPr>
          <a:xfrm>
            <a:off x="4211640" y="4653000"/>
            <a:ext cx="1428840" cy="173340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&amp;Kcy;&amp;acy;&amp;rcy;&amp;tcy;&amp;icy;&amp;ncy;&amp;kcy;&amp;icy; &amp;pcy;&amp;ocy; &amp;zcy;&amp;acy;&amp;pcy;&amp;rcy;&amp;ocy;&amp;scy;&amp;ucy; &amp;zcy;&amp;ncy;&amp;acy;&amp;kcy;&amp;ocy;&amp;mcy; «&amp;Zcy;&amp;acy; &amp;zcy;&amp;acy;&amp;scy;&amp;lcy;&amp;ucy;&amp;gcy;&amp;icy; &amp;vcy; &amp;scy;&amp;tcy;&amp;acy;&amp;ncy;&amp;dcy;&amp;acy;&amp;rcy;&amp;tcy;&amp;icy;&amp;zcy;&amp;acy;&amp;tscy;&amp;icy;&amp;icy;"/>
          <p:cNvPicPr/>
          <p:nvPr/>
        </p:nvPicPr>
        <p:blipFill>
          <a:blip r:embed="rId3"/>
          <a:stretch/>
        </p:blipFill>
        <p:spPr>
          <a:xfrm>
            <a:off x="1763640" y="4365720"/>
            <a:ext cx="1274760" cy="227628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4"/>
          <a:stretch/>
        </p:blipFill>
        <p:spPr>
          <a:xfrm>
            <a:off x="6877080" y="3500280"/>
            <a:ext cx="210672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692360" y="475200"/>
            <a:ext cx="72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Николай  Васильевич  Пушница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547640" y="1804320"/>
            <a:ext cx="7363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л и возглавил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вокузнецкое городское отделени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ероссийской общественной организаци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Всероссийская организация качества»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" descr="&amp;Kcy;&amp;acy;&amp;rcy;&amp;tcy;&amp;icy;&amp;ncy;&amp;kcy;&amp;icy; &amp;pcy;&amp;ocy; &amp;zcy;&amp;acy;&amp;pcy;&amp;rcy;&amp;ocy;&amp;scy;&amp;ucy; «&amp;Vcy;&amp;scy;&amp;iecy;&amp;rcy;&amp;ocy;&amp;scy;&amp;scy;&amp;icy;&amp;jcy;&amp;scy;&amp;kcy;&amp;acy;&amp;yacy; &amp;ocy;&amp;rcy;&amp;gcy;&amp;acy;&amp;ncy;&amp;icy;&amp;zcy;&amp;acy;&amp;tscy;&amp;icy;&amp;yacy; &amp;kcy;&amp;acy;&amp;chcy;&amp;iecy;&amp;scy;&amp;tcy;&amp;vcy;&amp;acy;»"/>
          <p:cNvPicPr/>
          <p:nvPr/>
        </p:nvPicPr>
        <p:blipFill>
          <a:blip r:embed="rId2"/>
          <a:stretch/>
        </p:blipFill>
        <p:spPr>
          <a:xfrm>
            <a:off x="4572000" y="3357720"/>
            <a:ext cx="1084320" cy="108396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3"/>
          <a:stretch/>
        </p:blipFill>
        <p:spPr>
          <a:xfrm>
            <a:off x="1619280" y="4508640"/>
            <a:ext cx="7272360" cy="21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755640" y="4507200"/>
            <a:ext cx="44067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хрина О.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ктор технических наук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фессор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афедры металлургии черных металлов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ндартизации и сертификаци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бГи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6084720" y="1628640"/>
            <a:ext cx="2163960" cy="288000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219640" y="4437000"/>
            <a:ext cx="39243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жихина И.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ктор технических наук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фессор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афедры металлургии черных металлов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ндартизации и сертификаци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бГи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3"/>
          <a:stretch/>
        </p:blipFill>
        <p:spPr>
          <a:xfrm>
            <a:off x="1835280" y="1628640"/>
            <a:ext cx="2144520" cy="28800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1692360" y="160920"/>
            <a:ext cx="720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Коллег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Николая Васильевича  Пушницы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692360" y="187920"/>
            <a:ext cx="72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Николай  Васильевич  Пушница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910520" y="763560"/>
            <a:ext cx="6813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оположник и родоначальни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ьности «Стандартизация и сертификация»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" descr="&amp;Kcy;&amp;acy;&amp;rcy;&amp;tcy;&amp;icy;&amp;ncy;&amp;kcy;&amp;icy; &amp;pcy;&amp;ocy; &amp;zcy;&amp;acy;&amp;pcy;&amp;rcy;&amp;ocy;&amp;scy;&amp;ucy; &amp;Ncy;&amp;ocy;&amp;vcy;&amp;ocy;&amp;kcy;&amp;ucy;&amp;zcy;&amp;ncy;&amp;iecy;&amp;tscy;&amp;kcy;&amp;ocy;&amp;mcy; &amp;gcy;&amp;ocy;&amp;rcy;&amp;ncy;&amp;ocy;&amp;tcy;&amp;rcy;&amp;acy;&amp;ncy;&amp;scy;&amp;pcy;&amp;ocy;&amp;rcy;&amp;tcy;&amp;ncy;&amp;ocy;&amp;mcy; &amp;kcy;&amp;ocy;&amp;lcy;&amp;lcy;&amp;iecy;&amp;dcy;&amp;zhcy;&amp;iecy;"/>
          <p:cNvPicPr/>
          <p:nvPr/>
        </p:nvPicPr>
        <p:blipFill>
          <a:blip r:embed="rId2"/>
          <a:stretch/>
        </p:blipFill>
        <p:spPr>
          <a:xfrm>
            <a:off x="5003640" y="1916280"/>
            <a:ext cx="3961080" cy="262728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3"/>
          <a:stretch/>
        </p:blipFill>
        <p:spPr>
          <a:xfrm>
            <a:off x="4643280" y="4149720"/>
            <a:ext cx="1630440" cy="244800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4"/>
          <a:stretch/>
        </p:blipFill>
        <p:spPr>
          <a:xfrm>
            <a:off x="1547640" y="1916280"/>
            <a:ext cx="1849680" cy="251604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5"/>
          <a:stretch/>
        </p:blipFill>
        <p:spPr>
          <a:xfrm>
            <a:off x="2411280" y="3860640"/>
            <a:ext cx="1819440" cy="244656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3276720" y="198900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вченко С.В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268360" y="630864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льяшенко О.Н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156360" y="623736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злова О.Е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1692360" y="475200"/>
            <a:ext cx="72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Николай  Васильевич  Пушница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03280" y="1915200"/>
            <a:ext cx="77407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вных лиц в России много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х, кто край родной любя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реплял Державу строго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жалел в трудах себя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т эскадру вёл отважно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т солдат, тот славный князь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л узор вплетали важный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историческую вязь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1042920" y="2997360"/>
            <a:ext cx="838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996633"/>
                </a:solidFill>
                <a:latin typeface="Arial"/>
              </a:rPr>
              <a:t>Благодарим за внимание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&amp;Pcy;&amp;ocy;&amp;khcy;&amp;ocy;&amp;zhcy;&amp;iecy;&amp;iecy; &amp;icy;&amp;zcy;&amp;ocy;&amp;bcy;&amp;rcy;&amp;acy;&amp;zhcy;&amp;iecy;&amp;ncy;&amp;icy;&amp;iecy;"/>
          <p:cNvPicPr/>
          <p:nvPr/>
        </p:nvPicPr>
        <p:blipFill>
          <a:blip r:embed="rId2"/>
          <a:stretch/>
        </p:blipFill>
        <p:spPr>
          <a:xfrm>
            <a:off x="1692360" y="1844640"/>
            <a:ext cx="3051000" cy="50133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2409480" y="403920"/>
            <a:ext cx="618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Вклад в историю Новокузнецка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5894280" y="1989000"/>
            <a:ext cx="2665440" cy="36007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5435640" y="5803920"/>
            <a:ext cx="338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Николай Васильевич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Пушница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&amp;Kcy;&amp;acy;&amp;rcy;&amp;tcy;&amp;icy;&amp;ncy;&amp;kcy;&amp;icy; &amp;pcy;&amp;ocy; &amp;zcy;&amp;acy;&amp;pcy;&amp;rcy;&amp;ocy;&amp;scy;&amp;ucy; &amp;scy;&amp;icy;&amp;bcy;&amp;gcy;&amp;icy;&amp;ucy; &amp;ncy;&amp;ocy;&amp;vcy;&amp;ocy;&amp;kcy;&amp;ucy;&amp;zcy;&amp;ncy;&amp;iecy;&amp;tscy;&amp;kcy;"/>
          <p:cNvPicPr/>
          <p:nvPr/>
        </p:nvPicPr>
        <p:blipFill>
          <a:blip r:embed="rId2"/>
          <a:stretch/>
        </p:blipFill>
        <p:spPr>
          <a:xfrm>
            <a:off x="1692360" y="1916280"/>
            <a:ext cx="3671640" cy="275724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1692360" y="475200"/>
            <a:ext cx="72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Николай  Васильевич  Пушница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694880" y="4722840"/>
            <a:ext cx="712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ыл профессором СибГИУ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специальности «Стандартизация и сертификация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6516720" y="1989000"/>
            <a:ext cx="2228760" cy="26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&amp;Kcy;&amp;acy;&amp;rcy;&amp;tcy;&amp;icy;&amp;ncy;&amp;kcy;&amp;icy; &amp;pcy;&amp;ocy; &amp;zcy;&amp;acy;&amp;pcy;&amp;rcy;&amp;ocy;&amp;scy;&amp;ucy; &amp;Ucy;&amp;rcy;&amp;acy;&amp;lcy;&amp;softcy;&amp;scy;&amp;kcy;&amp;icy;&amp;jcy; &amp;pcy;&amp;ocy;&amp;lcy;&amp;icy;&amp;tcy;&amp;iecy;&amp;khcy;&amp;ncy;&amp;icy;&amp;chcy;&amp;iecy;&amp;scy;&amp;kcy;&amp;icy;&amp;jcy; &amp;icy;&amp;ncy;&amp;scy;&amp;tcy;&amp;icy;&amp;tcy;&amp;ucy;&amp;tcy;"/>
          <p:cNvPicPr/>
          <p:nvPr/>
        </p:nvPicPr>
        <p:blipFill>
          <a:blip r:embed="rId2"/>
          <a:stretch/>
        </p:blipFill>
        <p:spPr>
          <a:xfrm>
            <a:off x="1619280" y="2060640"/>
            <a:ext cx="3456000" cy="23004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5151960" y="2059200"/>
            <a:ext cx="3753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альский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итехнический институт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" descr="&amp;Kcy;&amp;acy;&amp;rcy;&amp;tcy;&amp;icy;&amp;ncy;&amp;kcy;&amp;icy; &amp;pcy;&amp;ocy; &amp;zcy;&amp;acy;&amp;pcy;&amp;rcy;&amp;ocy;&amp;scy;&amp;ucy; &amp;Ncy;&amp;icy;&amp;zhcy;&amp;ncy;&amp;iecy;&amp;tcy;&amp;acy;&amp;gcy;&amp;icy;&amp;lcy;&amp;softcy;&amp;scy;&amp;kcy;&amp;ocy;&amp;mcy; &amp;mcy;&amp;iecy;&amp;tcy;&amp;acy;&amp;lcy;&amp;lcy;&amp;ucy;&amp;rcy;&amp;gcy;&amp;icy;&amp;chcy;&amp;iecy;&amp;scy;&amp;kcy;&amp;ocy;&amp;mcy; &amp;kcy;&amp;ocy;&amp;mcy;&amp;bcy;&amp;icy;&amp;ncy;&amp;acy;&amp;tcy;&amp;iecy;"/>
          <p:cNvPicPr/>
          <p:nvPr/>
        </p:nvPicPr>
        <p:blipFill>
          <a:blip r:embed="rId3"/>
          <a:stretch/>
        </p:blipFill>
        <p:spPr>
          <a:xfrm>
            <a:off x="5148360" y="3789360"/>
            <a:ext cx="3816360" cy="286704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1260720" y="5588280"/>
            <a:ext cx="3894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жнетагильский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аллургический комбина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92360" y="475200"/>
            <a:ext cx="72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Николай  Васильевич  Пушница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692360" y="475200"/>
            <a:ext cx="72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Николай  Васильевич  Пушница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" descr="&amp;Kcy;&amp;acy;&amp;rcy;&amp;tcy;&amp;icy;&amp;ncy;&amp;kcy;&amp;icy; &amp;pcy;&amp;ocy; &amp;zcy;&amp;acy;&amp;pcy;&amp;rcy;&amp;ocy;&amp;scy;&amp;ucy; &amp;Zcy;&amp;acy;&amp;pcy;&amp;acy;&amp;dcy;&amp;ncy;&amp;ocy;-&amp;Scy;&amp;icy;&amp;bcy;&amp;icy;&amp;rcy;&amp;scy;&amp;kcy;&amp;ocy;&amp;mcy; &amp;mcy;&amp;iecy;&amp;tcy;&amp;acy;&amp;lcy;&amp;lcy;&amp;ucy;&amp;rcy;&amp;gcy;&amp;icy;&amp;chcy;&amp;iecy;&amp;scy;&amp;kcy;&amp;ocy;&amp;mcy; &amp;kcy;&amp;ocy;&amp;mcy;&amp;bcy;&amp;icy;&amp;ncy;&amp;acy;&amp;tcy;&amp;iecy; "/>
          <p:cNvPicPr/>
          <p:nvPr/>
        </p:nvPicPr>
        <p:blipFill>
          <a:blip r:embed="rId2"/>
          <a:stretch/>
        </p:blipFill>
        <p:spPr>
          <a:xfrm>
            <a:off x="1908000" y="1989000"/>
            <a:ext cx="3240360" cy="225756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1619280" y="6164640"/>
            <a:ext cx="734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адно-Сибирский металлургический комбина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" descr="&amp;Kcy;&amp;acy;&amp;rcy;&amp;tcy;&amp;icy;&amp;ncy;&amp;kcy;&amp;icy; &amp;pcy;&amp;ocy; &amp;zcy;&amp;acy;&amp;pcy;&amp;rcy;&amp;ocy;&amp;scy;&amp;ucy; &amp;vcy;&amp;ycy;&amp;pcy;&amp;lcy;&amp;acy;&amp;vcy;&amp;kcy;&amp;icy; &amp;scy;&amp;tcy;&amp;acy;&amp;lcy;&amp;icy;, &amp;pcy;&amp;ocy;&amp;vcy;&amp;ycy;&amp;shcy;&amp;iecy;&amp;ncy;&amp;icy;&amp;icy; &amp;scy;&amp;tcy;&amp;ocy;&amp;jcy;&amp;kcy;&amp;ocy;&amp;scy;&amp;tcy;&amp;icy; &amp;fcy;&amp;ucy;&amp;tcy;&amp;iecy;&amp;rcy;&amp;ocy;&amp;vcy;&amp;kcy;&amp;icy; &amp;kcy;&amp;ocy;&amp;ncy;&amp;vcy;&amp;iecy;&amp;rcy;&amp;tcy;&amp;ocy;&amp;rcy;&amp;ocy;&amp;vcy; &amp;Zcy;&amp;Scy;&amp;Mcy;&amp;Kcy;"/>
          <p:cNvPicPr/>
          <p:nvPr/>
        </p:nvPicPr>
        <p:blipFill>
          <a:blip r:embed="rId3"/>
          <a:stretch/>
        </p:blipFill>
        <p:spPr>
          <a:xfrm>
            <a:off x="4067280" y="4437000"/>
            <a:ext cx="2421000" cy="177804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&amp;Pcy;&amp;ocy;&amp;khcy;&amp;ocy;&amp;zhcy;&amp;iecy;&amp;iecy; &amp;icy;&amp;zcy;&amp;ocy;&amp;bcy;&amp;rcy;&amp;acy;&amp;zhcy;&amp;iecy;&amp;ncy;&amp;icy;&amp;iecy;"/>
          <p:cNvPicPr/>
          <p:nvPr/>
        </p:nvPicPr>
        <p:blipFill>
          <a:blip r:embed="rId4"/>
          <a:stretch/>
        </p:blipFill>
        <p:spPr>
          <a:xfrm>
            <a:off x="5364000" y="1989000"/>
            <a:ext cx="3529080" cy="225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692360" y="475200"/>
            <a:ext cx="72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Николай  Васильевич  Пушница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" descr="&amp;Kcy;&amp;acy;&amp;rcy;&amp;tcy;&amp;icy;&amp;ncy;&amp;kcy;&amp;icy; &amp;pcy;&amp;ocy; &amp;zcy;&amp;acy;&amp;pcy;&amp;rcy;&amp;ocy;&amp;scy;&amp;ucy; &amp;Mcy;&amp;iecy;&amp;tcy;&amp;acy;&amp;lcy;&amp;lcy;&amp;ucy;&amp;rcy;&amp;gcy;&amp;icy;&amp;chcy;&amp;iecy;&amp;scy;&amp;kcy;&amp;ocy;&amp;mcy; &amp;zcy;&amp;acy;&amp;vcy;&amp;ocy;&amp;dcy;&amp;iecy; &amp;icy;&amp;mcy;. &amp;Kcy;&amp;icy;&amp;mcy; &amp;CHcy;&amp;acy;&amp;kcy;&amp;acy;"/>
          <p:cNvPicPr/>
          <p:nvPr/>
        </p:nvPicPr>
        <p:blipFill>
          <a:blip r:embed="rId2"/>
          <a:stretch/>
        </p:blipFill>
        <p:spPr>
          <a:xfrm>
            <a:off x="5580000" y="1989000"/>
            <a:ext cx="3375000" cy="308448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765800" y="2419560"/>
            <a:ext cx="351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аллургический завод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. Ким Чак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&amp;Pcy;&amp;ocy;&amp;khcy;&amp;ocy;&amp;zhcy;&amp;iecy;&amp;iecy; &amp;icy;&amp;zcy;&amp;ocy;&amp;bcy;&amp;rcy;&amp;acy;&amp;zhcy;&amp;iecy;&amp;ncy;&amp;icy;&amp;iecy;"/>
          <p:cNvPicPr/>
          <p:nvPr/>
        </p:nvPicPr>
        <p:blipFill>
          <a:blip r:embed="rId3"/>
          <a:stretch/>
        </p:blipFill>
        <p:spPr>
          <a:xfrm>
            <a:off x="1547640" y="4076640"/>
            <a:ext cx="3816360" cy="257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692360" y="475200"/>
            <a:ext cx="72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Николай  Васильевич  Пушница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&amp;Kcy;&amp;acy;&amp;rcy;&amp;tcy;&amp;icy;&amp;ncy;&amp;kcy;&amp;icy; &amp;pcy;&amp;ocy; &amp;zcy;&amp;acy;&amp;pcy;&amp;rcy;&amp;ocy;&amp;scy;&amp;ucy; &amp;mcy;&amp;iecy;&amp;ncy;&amp;iecy;&amp;dcy;&amp;zhcy;&amp;mcy;&amp;iecy;&amp;ncy;&amp;tcy;&amp;acy; &amp;kcy;&amp;acy;&amp;chcy;&amp;iecy;&amp;scy;&amp;tcy;&amp;vcy;&amp;acy; &amp;ncy;&amp;acy; &amp;Zcy;&amp;Scy;&amp;Mcy;&amp;Kcy;"/>
          <p:cNvPicPr/>
          <p:nvPr/>
        </p:nvPicPr>
        <p:blipFill>
          <a:blip r:embed="rId2"/>
          <a:stretch/>
        </p:blipFill>
        <p:spPr>
          <a:xfrm>
            <a:off x="1619280" y="2349360"/>
            <a:ext cx="3457440" cy="221328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2197080" y="1843560"/>
            <a:ext cx="566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а менеджмента качества на ЗСМК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" descr="&amp;Kcy;&amp;acy;&amp;rcy;&amp;tcy;&amp;icy;&amp;ncy;&amp;kcy;&amp;icy; &amp;pcy;&amp;ocy; &amp;zcy;&amp;acy;&amp;pcy;&amp;rcy;&amp;ocy;&amp;scy;&amp;ucy; &amp;Scy;&amp;Mcy;&amp;Kcy; &amp;ncy;&amp;acy; &amp;Zcy;&amp;Scy;&amp;Mcy;&amp;Kcy;"/>
          <p:cNvPicPr/>
          <p:nvPr/>
        </p:nvPicPr>
        <p:blipFill>
          <a:blip r:embed="rId3"/>
          <a:stretch/>
        </p:blipFill>
        <p:spPr>
          <a:xfrm>
            <a:off x="5219640" y="2349360"/>
            <a:ext cx="3760920" cy="211644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4"/>
          <a:stretch/>
        </p:blipFill>
        <p:spPr>
          <a:xfrm>
            <a:off x="2987640" y="4017960"/>
            <a:ext cx="3859200" cy="284004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1476360" y="1051920"/>
            <a:ext cx="76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Работа, которую трудно было не заметит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692360" y="475200"/>
            <a:ext cx="72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Николай  Васильевич  Пушница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" descr="&amp;Kcy;&amp;acy;&amp;rcy;&amp;tcy;&amp;icy;&amp;ncy;&amp;kcy;&amp;icy; &amp;pcy;&amp;ocy; &amp;zcy;&amp;acy;&amp;pcy;&amp;rcy;&amp;ocy;&amp;scy;&amp;ucy; &amp;Mcy;&amp;Ocy;&amp;Ocy; «&amp;Mcy;&amp;Acy;&amp;Kcy;-&amp;Scy;&amp;ocy;&amp;vcy;&amp;Acy;&amp;scy;&amp;Kcy;»"/>
          <p:cNvPicPr/>
          <p:nvPr/>
        </p:nvPicPr>
        <p:blipFill>
          <a:blip r:embed="rId2"/>
          <a:stretch/>
        </p:blipFill>
        <p:spPr>
          <a:xfrm>
            <a:off x="3059280" y="3213000"/>
            <a:ext cx="3887640" cy="325620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1768680" y="1914480"/>
            <a:ext cx="6788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ин из основателей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етской Ассоциации качества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влялся членом Правления МОО «МАК-СовАсК»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1692360" y="475200"/>
            <a:ext cx="72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Николай  Васильевич  Пушница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1763640" y="2060640"/>
            <a:ext cx="2911680" cy="417492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>
            <a:off x="5435640" y="2133720"/>
            <a:ext cx="2786040" cy="39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4T05:33:45Z</dcterms:created>
  <dc:creator>Перескокова</dc:creator>
  <dc:description/>
  <dc:language>en-US</dc:language>
  <cp:lastModifiedBy>User</cp:lastModifiedBy>
  <dcterms:modified xsi:type="dcterms:W3CDTF">2016-11-23T13:02:54Z</dcterms:modified>
  <cp:revision>114</cp:revision>
  <dc:subject/>
  <dc:title>Презентация PowerPoint</dc:title>
</cp:coreProperties>
</file>