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5EA-017E-4DBF-86FD-F178D74A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E2B-287A-4341-AE7A-93D818CC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3D0-13B9-4A55-98C3-07F882F0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729-B953-4E5A-8C97-803874BC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4AD-8EC5-4C2D-BDCF-3A5AE560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96F-51DB-4C47-8034-2D095584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4ED-7D9F-40DE-9BC4-24637951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B48-6D77-4640-BD38-B8AA7850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AA6-98E8-4936-BF56-EA39957C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272-2E87-4BEB-B36B-46FC736E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2D1-3408-4F48-8735-50A54364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406-D8B7-4BFF-9CA8-38F99066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EBD4-9E7C-43CC-A7A5-9336E1841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865080" y="-208080"/>
            <a:ext cx="724860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http://www.727373-info.ru/files/1/800/4576.jpg"/>
          <p:cNvPicPr/>
          <p:nvPr/>
        </p:nvPicPr>
        <p:blipFill>
          <a:blip r:embed="rId2"/>
          <a:stretch/>
        </p:blipFill>
        <p:spPr>
          <a:xfrm>
            <a:off x="1619280" y="1844640"/>
            <a:ext cx="58197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im 2a"/>
          <p:cNvPicPr/>
          <p:nvPr/>
        </p:nvPicPr>
        <p:blipFill>
          <a:blip r:embed="rId1"/>
          <a:stretch/>
        </p:blipFill>
        <p:spPr>
          <a:xfrm>
            <a:off x="1547640" y="1197000"/>
            <a:ext cx="5832720" cy="4491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im 3"/>
          <p:cNvPicPr/>
          <p:nvPr/>
        </p:nvPicPr>
        <p:blipFill>
          <a:blip r:embed="rId1"/>
          <a:stretch/>
        </p:blipFill>
        <p:spPr>
          <a:xfrm>
            <a:off x="1619280" y="1125360"/>
            <a:ext cx="5749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im 4"/>
          <p:cNvPicPr/>
          <p:nvPr/>
        </p:nvPicPr>
        <p:blipFill>
          <a:blip r:embed="rId1"/>
          <a:stretch/>
        </p:blipFill>
        <p:spPr>
          <a:xfrm>
            <a:off x="1403280" y="1268280"/>
            <a:ext cx="600876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im 5"/>
          <p:cNvPicPr/>
          <p:nvPr/>
        </p:nvPicPr>
        <p:blipFill>
          <a:blip r:embed="rId1"/>
          <a:stretch/>
        </p:blipFill>
        <p:spPr>
          <a:xfrm>
            <a:off x="1562040" y="1125360"/>
            <a:ext cx="5818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1914480" y="0"/>
            <a:ext cx="5181480" cy="3608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magazinsharikov.ru/static/img/0000/0002/1120/21120222.1o57ilxvrg.png?1"/>
          <p:cNvPicPr/>
          <p:nvPr/>
        </p:nvPicPr>
        <p:blipFill>
          <a:blip r:embed="rId2"/>
          <a:stretch/>
        </p:blipFill>
        <p:spPr>
          <a:xfrm>
            <a:off x="2771640" y="3213000"/>
            <a:ext cx="33768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каз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8480" y="1714680"/>
            <a:ext cx="578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ество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ычно народно-поэтическое, произведение о вымышленных лицах и событиях, преимущественно с участием волшебных, фантастических си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928880" y="404640"/>
            <a:ext cx="5286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ло заменить решили, пышную пену быстро взбили. Как подули, посмотри:  полетели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аро"/>
          <p:cNvPicPr/>
          <p:nvPr/>
        </p:nvPicPr>
        <p:blipFill>
          <a:blip r:embed="rId1"/>
          <a:stretch/>
        </p:blipFill>
        <p:spPr>
          <a:xfrm>
            <a:off x="1835280" y="333360"/>
            <a:ext cx="262404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л"/>
          <p:cNvPicPr/>
          <p:nvPr/>
        </p:nvPicPr>
        <p:blipFill>
          <a:blip r:embed="rId2"/>
          <a:stretch/>
        </p:blipFill>
        <p:spPr>
          <a:xfrm>
            <a:off x="1619280" y="3789360"/>
            <a:ext cx="304632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о"/>
          <p:cNvPicPr/>
          <p:nvPr/>
        </p:nvPicPr>
        <p:blipFill>
          <a:blip r:embed="rId3"/>
          <a:stretch/>
        </p:blipFill>
        <p:spPr>
          <a:xfrm>
            <a:off x="4284720" y="1773360"/>
            <a:ext cx="33843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619280" y="1268280"/>
            <a:ext cx="5689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оры плели галошки и одевали их на ножки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Объект 3"/>
          <p:cNvGraphicFramePr/>
          <p:nvPr/>
        </p:nvGraphicFramePr>
        <p:xfrm>
          <a:off x="1692360" y="907920"/>
          <a:ext cx="523548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07920"/>
                    <a:ext cx="523548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619280" y="620280"/>
            <a:ext cx="5616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в полюшке росла - колос к солнышку несла, а как только пожелтела, ей нашлось другое дело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аеп"/>
          <p:cNvPicPr/>
          <p:nvPr/>
        </p:nvPicPr>
        <p:blipFill>
          <a:blip r:embed="rId1"/>
          <a:stretch/>
        </p:blipFill>
        <p:spPr>
          <a:xfrm>
            <a:off x="1619280" y="4192560"/>
            <a:ext cx="3240000" cy="224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варимт"/>
          <p:cNvPicPr/>
          <p:nvPr/>
        </p:nvPicPr>
        <p:blipFill>
          <a:blip r:embed="rId2"/>
          <a:stretch/>
        </p:blipFill>
        <p:spPr>
          <a:xfrm>
            <a:off x="1619280" y="264960"/>
            <a:ext cx="2808360" cy="214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мсит"/>
          <p:cNvPicPr/>
          <p:nvPr/>
        </p:nvPicPr>
        <p:blipFill>
          <a:blip r:embed="rId3"/>
          <a:stretch/>
        </p:blipFill>
        <p:spPr>
          <a:xfrm>
            <a:off x="4211640" y="2205000"/>
            <a:ext cx="337644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im 1a"/>
          <p:cNvPicPr/>
          <p:nvPr/>
        </p:nvPicPr>
        <p:blipFill>
          <a:blip r:embed="rId1"/>
          <a:stretch/>
        </p:blipFill>
        <p:spPr>
          <a:xfrm>
            <a:off x="1619280" y="1125360"/>
            <a:ext cx="57736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09:28Z</dcterms:created>
  <dc:creator>пузанова светлана юр</dc:creator>
  <dc:description/>
  <dc:language>en-US</dc:language>
  <cp:lastModifiedBy>Nikolai</cp:lastModifiedBy>
  <dcterms:modified xsi:type="dcterms:W3CDTF">2016-03-21T15:36:41Z</dcterms:modified>
  <cp:revision>13</cp:revision>
  <dc:subject/>
  <dc:title>Мыло заменить решили, пышную пену быстро взбили. Как подули, посмотри:  полетели …</dc:title>
</cp:coreProperties>
</file>