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Click to move the slide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B75A-1CFB-450F-9B05-77F28F60E4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E8CE-42C5-4C2F-9548-AF14EF2E2F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2B8E-87CB-4D73-9FA5-70B8CC55219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BC5A-AB88-46C0-8408-C76FD74C3D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5EFC-35D7-4036-A1C3-0B8CEC0E4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2B48-7A97-4860-A50A-E5F3F674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BD4C-8498-4444-AA89-5A00BBF3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32A2-6246-4CBB-ABEF-40C75649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972E-F768-4C59-A052-35751629A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B59D-51E9-4635-A4E9-E02D1130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E2D6-10F5-427E-A516-49269DDB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78E0-88B9-441B-B349-2431C897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7306-28E3-4AC5-B3E9-3FF82D4D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9DF0-D67B-41DA-8A8F-074880F4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5731-D9CB-4CDF-914D-29BAF72F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1011-1AE4-41CA-919D-A5AE96BA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87AED-4938-4F13-9341-E8EF2FEB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17EB-7551-4A52-87B2-6812CF23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5121-9F39-44D1-8A25-21BD0F3E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8922-EAB8-4A6B-A628-9E59444FF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6312-93A3-4E3E-A9FD-29DB38BC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382A-698A-42BC-AAE8-46FE9E9E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109C-A229-4309-9FBB-28DC4463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7A62-7376-4934-AABC-7D3B4057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065B-E7A8-452E-AA50-A68D0998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469A-848C-4750-9A5C-2CF2E7E8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A569-DF1B-4E99-8688-86CF82CB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1526-FC3F-41C9-84A2-F9A582A6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Click to edit the title text format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8CAD-5229-40C5-BCF7-5CA584A7A3C3}" type="slidenum">
              <a:rPr b="0" lang="ru-RU" sz="1200" spc="-1" strike="noStrike">
                <a:solidFill>
                  <a:srgbClr val="00206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a"/>
                </a:solidFill>
                <a:latin typeface="Franklin Gothic Medium"/>
              </a:rPr>
              <a:t>Click to edit the title text format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32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83226"/>
              </a:solidFill>
              <a:latin typeface="Franklin Gothic 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BE97-3BF8-4E4B-BA1B-465DCEA9CCAC}" type="slidenum">
              <a:rPr b="0" lang="ru-RU" sz="1200" spc="-1" strike="noStrike">
                <a:solidFill>
                  <a:srgbClr val="00206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ru/4/49/&#1050;&#1086;&#1083;&#1086;&#1073;&#1086;&#1082;_Astrel.gif" TargetMode="Externa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1142640"/>
            <a:ext cx="7858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a"/>
                </a:solidFill>
                <a:latin typeface="Arial"/>
              </a:rPr>
              <a:t>Речевая</a:t>
            </a:r>
            <a:br>
              <a:rPr sz="4400"/>
            </a:br>
            <a:r>
              <a:rPr b="1" lang="ru-RU" sz="4400" spc="-1" strike="noStrike">
                <a:solidFill>
                  <a:srgbClr val="00339a"/>
                </a:solidFill>
                <a:latin typeface="Arial"/>
              </a:rPr>
              <a:t> готовность к школе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4000" y="3715920"/>
            <a:ext cx="8001000" cy="13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a"/>
                </a:solidFill>
                <a:latin typeface="Arial"/>
              </a:rPr>
              <a:t>Учитель-логопед: Глаголева Ольга Алексеевна.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5364000" y="1557360"/>
            <a:ext cx="3600720" cy="31827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a"/>
                </a:solidFill>
                <a:latin typeface="Franklin Gothic Medium"/>
              </a:rPr>
              <a:t>Речевая коммуникация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Ребёнок должен быть достаточно активен в общении,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уметь слушать и понимать речь,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строить общение с учетом ситуации,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легко входить в контакт с детьми и взрослыми,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ясно и последовательно выражать свои мысли,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пользоваться формами речевого этикета.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019160" y="69228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21187200">
            <a:off x="190080" y="1017360"/>
            <a:ext cx="4226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ечевая готовность к школе</a:t>
            </a:r>
            <a:endParaRPr b="1" lang="en-US" sz="36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250920" y="981000"/>
            <a:ext cx="41767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95280" y="2492280"/>
            <a:ext cx="3816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лист"/>
          <p:cNvPicPr/>
          <p:nvPr/>
        </p:nvPicPr>
        <p:blipFill>
          <a:blip r:embed="rId2"/>
          <a:stretch/>
        </p:blipFill>
        <p:spPr>
          <a:xfrm>
            <a:off x="2916360" y="537372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8"/>
          <p:cNvSpPr/>
          <p:nvPr/>
        </p:nvSpPr>
        <p:spPr>
          <a:xfrm>
            <a:off x="5148360" y="672840"/>
            <a:ext cx="3527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f2c1f"/>
                </a:solidFill>
                <a:latin typeface="Arial"/>
              </a:rPr>
              <a:t>Наша речь</a:t>
            </a:r>
            <a:r>
              <a:rPr b="0" lang="ru-RU" sz="2000" spc="-1" strike="noStrike">
                <a:solidFill>
                  <a:srgbClr val="00339a"/>
                </a:solidFill>
                <a:latin typeface="Arial"/>
              </a:rPr>
              <a:t> – процесс общения, поэтому готовность или неготовность к обучению в школе во многом определяется уровнем  речевого развития. Ведь именно, при помощи речи устной и письменной ребенку предстоит усвоить всю систему знаний. Чем лучше у него будет развита речь до поступления в школу, тем быстрее ученик овладеет чтением и письм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a"/>
                </a:solidFill>
                <a:latin typeface="Franklin Gothic Medium"/>
              </a:rPr>
              <a:t>Родителям в первую очередь следует обратить внимание на:</a:t>
            </a:r>
            <a:r>
              <a:rPr b="1" lang="ru-RU" sz="4000" spc="-1" strike="noStrike">
                <a:solidFill>
                  <a:srgbClr val="00339a"/>
                </a:solidFill>
                <a:latin typeface="Franklin Gothic Medium"/>
              </a:rPr>
              <a:t> </a:t>
            </a:r>
            <a:endParaRPr b="1" lang="en-US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6588000" y="836640"/>
            <a:ext cx="2254320" cy="3227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0643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Правильное произношение всех звуков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Умение различать звуки речи на слух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Владение навыками звукового анализа и синтеза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Словарный запас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Сформированность грамматического строя речи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Связную речь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Речевую коммуникацию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2700360" y="3890880"/>
            <a:ext cx="3024000" cy="26161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a"/>
                </a:solidFill>
                <a:latin typeface="Franklin Gothic Medium"/>
              </a:rPr>
              <a:t>  </a:t>
            </a:r>
            <a:r>
              <a:rPr b="1" lang="ru-RU" sz="4000" spc="-1" strike="noStrike">
                <a:solidFill>
                  <a:srgbClr val="00339a"/>
                </a:solidFill>
                <a:latin typeface="Franklin Gothic Medium"/>
              </a:rPr>
              <a:t>Звукопроизношение и    фонематический слух:  </a:t>
            </a:r>
            <a:endParaRPr b="1" lang="en-US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   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   </a:t>
            </a:r>
            <a:r>
              <a:rPr b="0" lang="ru-RU" sz="2800" spc="-1" strike="noStrike">
                <a:solidFill>
                  <a:srgbClr val="483226"/>
                </a:solidFill>
                <a:latin typeface="Franklin Gothic Book"/>
              </a:rPr>
              <a:t>в норме вся звуковая сторона речи должна быть усвоена ребёнком полностью к 5 – 6 годам. К этому возрасту ребёнок должен уметь различать звуки на слух и в произношении. Приходя в школу, он должен отчётливо произносить звуки в различных словах, во фразовой речи, не должен их пропускать, искажать, заменять другими.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712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a"/>
                </a:solidFill>
                <a:latin typeface="Franklin Gothic Medium"/>
              </a:rPr>
              <a:t>Владение навыками звукового анализа и синтеза:</a:t>
            </a:r>
            <a:endParaRPr b="1" lang="en-US" sz="3600" spc="-1" strike="noStrike">
              <a:solidFill>
                <a:srgbClr val="00339a"/>
              </a:solidFill>
              <a:latin typeface="Franklin Gothic Medium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6192720" y="2852640"/>
            <a:ext cx="2664000" cy="35514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умение выделять звук на фоне слова; 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слышать и выделять первый и последний звук в слове;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определять позицию звука в слове (начало, середина, конец);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определять количество и последовательность звуков в слове, место звука в слове по отношению к другим;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называть слова с заданным звуком;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уметь составлять слова из звуков;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83226"/>
                </a:solidFill>
                <a:latin typeface="Franklin Gothic Book"/>
              </a:rPr>
              <a:t>дети должны знать и правильно употреблять термины «звук», «слог», «слово», «предложение».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600200"/>
            <a:ext cx="8507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83226"/>
                </a:solidFill>
                <a:latin typeface="Franklin Gothic Book"/>
              </a:rPr>
              <a:t>Ребенку 6 -7 лет доступны слова сложной слоговой структуры (аквариум, библиотекарь, баскетболист, милиционер, аквалангист, часовщик, универмаг, пингвин, натюрморт, галерея). Он произносит их в быстром темпе, не переставляет, не выкидывает, не добавляет звуки и слоги. </a:t>
            </a:r>
            <a:endParaRPr b="0" lang="en-US" sz="2000" spc="-1" strike="noStrike">
              <a:solidFill>
                <a:srgbClr val="483226"/>
              </a:solidFill>
              <a:latin typeface="Franklin Gothic Book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3132000" y="3933720"/>
            <a:ext cx="3559320" cy="2352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3"/>
          <a:stretch/>
        </p:blipFill>
        <p:spPr>
          <a:xfrm>
            <a:off x="684360" y="3500280"/>
            <a:ext cx="2303280" cy="2916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4"/>
          <a:stretch/>
        </p:blipFill>
        <p:spPr>
          <a:xfrm>
            <a:off x="6665760" y="2997360"/>
            <a:ext cx="247824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2" descr=""/>
          <p:cNvPicPr/>
          <p:nvPr/>
        </p:nvPicPr>
        <p:blipFill>
          <a:blip r:embed="rId1"/>
          <a:stretch/>
        </p:blipFill>
        <p:spPr>
          <a:xfrm>
            <a:off x="3287880" y="4138560"/>
            <a:ext cx="2923920" cy="2273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"/>
          <p:cNvPicPr/>
          <p:nvPr/>
        </p:nvPicPr>
        <p:blipFill>
          <a:blip r:embed="rId2"/>
          <a:stretch/>
        </p:blipFill>
        <p:spPr>
          <a:xfrm>
            <a:off x="6416640" y="2984400"/>
            <a:ext cx="2692440" cy="1943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"/>
          <p:cNvPicPr/>
          <p:nvPr/>
        </p:nvPicPr>
        <p:blipFill>
          <a:blip r:embed="rId3"/>
          <a:stretch/>
        </p:blipFill>
        <p:spPr>
          <a:xfrm>
            <a:off x="5724360" y="298440"/>
            <a:ext cx="2374920" cy="19191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 rot="21187200">
            <a:off x="115560" y="596520"/>
            <a:ext cx="415908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9a"/>
                </a:solidFill>
                <a:latin typeface="Franklin Gothic Medium"/>
              </a:rPr>
              <a:t>Словарный запас</a:t>
            </a:r>
            <a:endParaRPr b="1" lang="en-US" sz="40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395280" y="1989000"/>
            <a:ext cx="309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395280" y="1844640"/>
            <a:ext cx="828036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1316b"/>
                </a:solidFill>
                <a:latin typeface="Arial"/>
              </a:rPr>
              <a:t>К 7 годам у ребёнка должен быть достаточно большой словарный запас </a:t>
            </a:r>
            <a:r>
              <a:rPr b="0" lang="ru-RU" sz="1400" spc="-1" strike="noStrike">
                <a:solidFill>
                  <a:srgbClr val="01316b"/>
                </a:solidFill>
                <a:latin typeface="Arial"/>
              </a:rPr>
              <a:t>(около  2000  слов)</a:t>
            </a:r>
            <a:r>
              <a:rPr b="0" lang="ru-RU" sz="1800" spc="-1" strike="noStrike">
                <a:solidFill>
                  <a:srgbClr val="01316b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1316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316b"/>
                </a:solidFill>
                <a:latin typeface="Arial"/>
              </a:rPr>
              <a:t>В своей речи он должен активно использовать все части речи (существительные, прилагательные, глаголы, наречия, антонимы, синонимы, числительные), пони мать переносное значение слов, подбирать обобщающие понятия для группы предметов. </a:t>
            </a:r>
            <a:r>
              <a:rPr b="0" lang="ru-RU" sz="2000" spc="-1" strike="noStrike">
                <a:solidFill>
                  <a:srgbClr val="48322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5148360" y="3365640"/>
            <a:ext cx="3527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"/>
          <p:cNvPicPr/>
          <p:nvPr/>
        </p:nvPicPr>
        <p:blipFill>
          <a:blip r:embed="rId4"/>
          <a:stretch/>
        </p:blipFill>
        <p:spPr>
          <a:xfrm>
            <a:off x="949320" y="4713120"/>
            <a:ext cx="210996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a"/>
                </a:solidFill>
                <a:latin typeface="Franklin Gothic Medium"/>
              </a:rPr>
              <a:t>Сформированность грамматического строя речи: </a:t>
            </a:r>
            <a:endParaRPr b="1" lang="en-US" sz="36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316b"/>
                </a:solidFill>
                <a:latin typeface="Franklin Gothic Book"/>
              </a:rPr>
              <a:t>Ребенок должен уметь пользоваться разными способами словообразования и словоизменения (правильно употреблять слова с уменьшительно-ласкательными суффиксами, образовывать слова в нужной форме, образовывать прилагательные от существительных, изменять существительные по числам, падежам, глаголы по видам, понимать и употреблять предлоги, согласовывать числительные и прилагательные с существительными).</a:t>
            </a: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Изображение:Колобок Astrel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76280"/>
            <a:ext cx="2286000" cy="300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9a"/>
                </a:solidFill>
                <a:latin typeface="Franklin Gothic Medium"/>
              </a:rPr>
              <a:t>Связная речь</a:t>
            </a:r>
            <a:endParaRPr b="1" lang="en-US" sz="4400" spc="-1" strike="noStrike">
              <a:solidFill>
                <a:srgbClr val="00339a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416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316b"/>
                </a:solidFill>
                <a:latin typeface="Franklin Gothic Book"/>
              </a:rPr>
              <a:t>    </a:t>
            </a:r>
            <a:r>
              <a:rPr b="1" lang="ru-RU" sz="2400" spc="-1" strike="noStrike">
                <a:solidFill>
                  <a:srgbClr val="01316b"/>
                </a:solidFill>
                <a:latin typeface="Franklin Gothic Book"/>
              </a:rPr>
              <a:t>К 7 годам ребёнок должен уметь: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131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316b"/>
                </a:solidFill>
                <a:latin typeface="Franklin Gothic Book"/>
              </a:rPr>
              <a:t>пересказывать небольшие по объёму рассказы и сказки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131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316b"/>
                </a:solidFill>
                <a:latin typeface="Franklin Gothic Book"/>
              </a:rPr>
              <a:t>составлять рассказ по картинке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131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316b"/>
                </a:solidFill>
                <a:latin typeface="Franklin Gothic Book"/>
              </a:rPr>
              <a:t>составлять рассказ по серии картин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1316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1316b"/>
                </a:solidFill>
                <a:latin typeface="Franklin Gothic Book"/>
              </a:rPr>
              <a:t>отвечать на вопросы по тексту</a:t>
            </a:r>
            <a:endParaRPr b="0" lang="en-US" sz="2400" spc="-1" strike="noStrike">
              <a:solidFill>
                <a:srgbClr val="483226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7-01-15T16:40:47Z</dcterms:modified>
  <cp:revision>5</cp:revision>
  <dc:subject/>
  <dc:title>Логопедическая готовность к школ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626459990</vt:lpwstr>
  </property>
</Properties>
</file>