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1FC8-0E3F-44A4-9F63-021CED1D92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A901-414A-4EEF-8CDA-3B9DD388B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9F24-5A9F-4407-9691-605E449A2F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B394-9C24-441E-B538-DE1705F86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BA8-D266-407A-98B7-0C362DD3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2B8-AC2E-4B0C-9497-1240760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319-4C61-4E70-A4C0-FFE7E4E0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F7D-C3A1-4810-AA6C-CB5B97FA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9889-335B-4AE2-B047-D7D9228C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6592-FC68-4F47-BAB1-831C5F73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3E59-8560-4DF8-88B5-3593D9B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6DD4-52EE-42A8-B833-F139C7E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008-6620-40A0-8FB3-2C75944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8D7-1399-48D6-B2BA-6F234BA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DCC2-0D35-4AB3-AC92-CF9C334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F3C-9E57-4072-9114-81BDADDA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C79B-01BE-4097-961A-F04B477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595A-36F9-4DAF-BF94-7DC2B19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D625-FE48-49C0-BB60-408B329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48B-15B2-4498-838D-0B109B8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328-47E3-491F-959B-44BF58DC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F65-32C2-4748-973B-3D00C797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B7B-DB79-4924-AA54-E15B46BD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91B-C11A-4ACB-B44E-EF5AA750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F09-5D20-4B49-8520-195950C0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F71-5B02-4CCE-8819-A5A4A02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A7D-6078-432C-BB37-5CCC32A6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4FE1-D1CC-4DE9-8FCA-525BDF6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FC7-C8B8-4A4A-8335-6300F30DDF0E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5C2-2AAD-4C56-A7E1-B65D297177BD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9/&#1050;&#1086;&#1083;&#1086;&#1073;&#1086;&#1082;_Astrel.gif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Речевая</a:t>
            </a:r>
            <a:br>
              <a:rPr sz="4400"/>
            </a:b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 готовность к школ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3715920"/>
            <a:ext cx="800100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Учитель-логопед: Глаголева Ольга Алексеевна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600720" cy="318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Речевая коммуникац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бёнок должен быть достаточно активен в общени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ть слушать и понимать речь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троить общение с учетом ситуации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легко входить в контакт с детьми и взрослым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ясно и последовательно выражать свои мысл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ользоваться формами речевого этикет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21187200">
            <a:off x="190080" y="1017360"/>
            <a:ext cx="4226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чевая готовность к школе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50920" y="981000"/>
            <a:ext cx="417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492280"/>
            <a:ext cx="3816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лист"/>
          <p:cNvPicPr/>
          <p:nvPr/>
        </p:nvPicPr>
        <p:blipFill>
          <a:blip r:embed="rId2"/>
          <a:stretch/>
        </p:blipFill>
        <p:spPr>
          <a:xfrm>
            <a:off x="2916360" y="5373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148360" y="672840"/>
            <a:ext cx="352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f2c1f"/>
                </a:solidFill>
                <a:latin typeface="Arial"/>
              </a:rPr>
              <a:t>Наша речь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2254320" cy="322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64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ладение навыками звукового анализа и синтеза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ловарный запас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формированность грамматического строя речи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язную реч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чевую коммуникацию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700360" y="3890880"/>
            <a:ext cx="3024000" cy="2616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Звукопроизношение и    фонематический слух: 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712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навыками звукового анализа и синте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192720" y="2852640"/>
            <a:ext cx="2664000" cy="3551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место звука в слове по отношению к други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с заданным звуко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ть составлять слова из звук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Ребенку 6 -7 лет доступны слова сложной слоговой структуры (аквариум, библиотекарь, баскетболист, милиционер, аквалангист, часовщик, универмаг, пингвин, натюрморт, галерея). Он произносит их в быстром темпе, не переставляет, не выкидывает, не добавляет звуки и слоги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559320" cy="235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303280" cy="29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6665760" y="2997360"/>
            <a:ext cx="24782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2" descr=""/>
          <p:cNvPicPr/>
          <p:nvPr/>
        </p:nvPicPr>
        <p:blipFill>
          <a:blip r:embed="rId1"/>
          <a:stretch/>
        </p:blipFill>
        <p:spPr>
          <a:xfrm>
            <a:off x="3287880" y="4138560"/>
            <a:ext cx="2923920" cy="227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6416640" y="2984400"/>
            <a:ext cx="269244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5724360" y="298440"/>
            <a:ext cx="2374920" cy="1919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21187200">
            <a:off x="11556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95280" y="1844640"/>
            <a:ext cx="82803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2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все части речи (существительные, прилагательные, глаголы, наречия, антонимы, синонимы, числительные), пони мать переносное значение слов, подбирать обобщающие понятия для группы предметов. 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949320" y="4713120"/>
            <a:ext cx="2109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Сформированность грамматического строя речи: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316b"/>
                </a:solidFill>
                <a:latin typeface="Franklin Gothic Book"/>
              </a:rPr>
              <a:t>Ребенок должен уметь пользоваться разными способами словообразования и словоизменения (правильно употреблять слова с уменьшительно-ласкательными суффиксами, образовывать слова в нужной форме, образовывать прилагательные от существительных, изменять существительные по числам, падежам, глаголы по видам, понимать и употреблять предлоги, согласовывать числительные и прилагательные с существительными)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Изображение:Колобок Astre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76280"/>
            <a:ext cx="2286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вязная речь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416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К 7 годам ребёнок должен уметь: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ересказывать небольшие по объёму рассказы и сказки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составлять рассказ по картинке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составлять рассказ по серии картин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отвечать на вопросы по тексту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1-15T16:40:47Z</dcterms:modified>
  <cp:revision>5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