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68E10-65F5-484C-A27F-20AB6C889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28F6D-0AE1-4D2C-9EEC-5CD1056A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816C7-5B17-4B5B-B5D9-883EC7782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32117-AC1B-45B7-B4B9-B5477452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17170-F29E-4593-AD88-4C69BEC62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2994E-5DA1-46D4-9DC8-2270F58F5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C5EEB-4D8F-47F2-8281-6049B3952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B8C56-2D73-4BF4-8FD3-F81C73896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B82FA-C574-4B45-8ABE-ACD63B536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61F3F-29AE-403F-A692-F3D961FF1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B198E-4DAF-4B71-8F51-704A477CF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50926-55BF-43C3-8115-191D144B6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F9CFC-CC70-454D-8C99-4C2097E7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78715-9D74-4745-9ED4-42FB05F4A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EF7E4-6FBB-466A-9F58-9BAA55C6D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C4FA9-8F0E-4CB2-A9CF-F99C7850D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B0C25-0DAC-47E2-ACC1-8A23CE26C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409A-968A-47A3-8AF6-A72A5740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1FF14-0AD3-4BF1-A19F-F7DDCBA0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4C564-C9C8-4111-81FB-E66CB15EE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04F6-7052-4371-8132-77ECE7AB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BAA0-9A51-446C-BF7D-BE87F9C89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FDFA3-98C8-4E3F-AC82-16BB00E3D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62AF-8E2E-4FA1-9B07-0CCCDC9A4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1560" indent="-22716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98760" indent="-22716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5960" indent="-22716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CAFC-86D3-468A-8713-40B7942783F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1560" indent="-22716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98760" indent="-22716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5960" indent="-22716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10D6-E87A-4C5D-825B-A3014136CCB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hyperlink" Target="&#1074;&#1099;&#1089;&#1090;&#1091;&#1087;&#1083;&#1077;&#1085;&#1080;&#1077; &#1087;&#1086; &#1080;&#1085;&#1090;&#1077;&#1075;&#1088;. &#1091;&#1088;&#1086;&#1082;&#1091; 2003.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1040;. &#1070;&#1088;&#1080;&#1085;&#1072; &#1051;&#1080;&#1085;&#1077;&#1081;&#1085;&#1072;&#1103; &#1092;&#1091;&#1085;&#1082;&#1094;&#1080;&#1103; &#1080; &#1084;&#1077;&#1093;&#1072;&#1085;&#1080;&#1095;&#1077;&#1089;&#1082;&#1086;&#1077; &#1076;&#1074;&#1080;&#1078;&#1077;&#1085;&#1080;&#1077;.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484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Роль интегрированных уроков в обучении математике</a:t>
            </a:r>
            <a:endParaRPr b="0" lang="en-US" sz="3200" spc="-1" strike="noStrike">
              <a:solidFill>
                <a:srgbClr val="ccecff"/>
              </a:solidFill>
              <a:latin typeface="Arial"/>
            </a:endParaRPr>
          </a:p>
        </p:txBody>
      </p:sp>
      <p:sp>
        <p:nvSpPr>
          <p:cNvPr id="212" name="PlaceHolder 2"/>
          <p:cNvSpPr>
            <a:spLocks noGrp="1"/>
          </p:cNvSpPr>
          <p:nvPr>
            <p:ph/>
          </p:nvPr>
        </p:nvSpPr>
        <p:spPr>
          <a:xfrm>
            <a:off x="457200" y="2997000"/>
            <a:ext cx="8229600" cy="3128760"/>
          </a:xfrm>
          <a:prstGeom prst="rect">
            <a:avLst/>
          </a:prstGeom>
          <a:noFill/>
          <a:ln w="0">
            <a:noFill/>
          </a:ln>
        </p:spPr>
        <p:txBody>
          <a:bodyPr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пустина Светлана  Анатольевна,</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математики </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У СОШ № 10 г. Рыбинс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Математика + физика, 11 класс._x000b_Тема: «Применение производной к решению задач»</a:t>
            </a:r>
            <a:endParaRPr b="0" lang="en-US" sz="2800" spc="-1" strike="noStrike">
              <a:solidFill>
                <a:srgbClr val="ccecff"/>
              </a:solidFill>
              <a:latin typeface="Arial"/>
            </a:endParaRPr>
          </a:p>
        </p:txBody>
      </p:sp>
      <p:sp>
        <p:nvSpPr>
          <p:cNvPr id="229" name=""/>
          <p:cNvSpPr txBox="1"/>
          <p:nvPr/>
        </p:nvSpPr>
        <p:spPr>
          <a:xfrm>
            <a:off x="395280" y="1628640"/>
            <a:ext cx="8445600" cy="4680000"/>
          </a:xfrm>
          <a:prstGeom prst="rect">
            <a:avLst/>
          </a:prstGeom>
          <a:noFill/>
          <a:ln w="0">
            <a:noFill/>
          </a:ln>
        </p:spPr>
        <p:txBody>
          <a:bodyPr anchor="t">
            <a:normAutofit fontScale="98000"/>
          </a:bodyPr>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Цель урока</a:t>
            </a:r>
            <a:r>
              <a:rPr b="0" lang="ru-RU" sz="2000" spc="-1" strike="noStrike">
                <a:solidFill>
                  <a:srgbClr val="ffffff"/>
                </a:solidFill>
                <a:latin typeface="Arial"/>
              </a:rPr>
              <a:t>: сформировать представление о приложениях производной в математике и физик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Повторить</a:t>
            </a:r>
            <a:r>
              <a:rPr b="0" lang="ru-RU" sz="2000" spc="-1" strike="noStrike">
                <a:solidFill>
                  <a:srgbClr val="ffffff"/>
                </a:solidFill>
                <a:latin typeface="Arial"/>
              </a:rPr>
              <a:t>: - определение сложной функции;</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производной сложной функции;  </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понятие второй производной;</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в чём состоит физический смысл первой и второй       производных.</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асс делится на группы, каждая из которых  представляет собой сотрудников  НИИ и получает конкретное задание с последующим обсуждением на заседании учёного совета.</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a:t>
            </a:r>
            <a:r>
              <a:rPr b="1" lang="ru-RU" sz="2000" spc="-1" strike="noStrike" u="sng">
                <a:solidFill>
                  <a:srgbClr val="ffffff"/>
                </a:solidFill>
                <a:uFillTx/>
                <a:latin typeface="Arial"/>
              </a:rPr>
              <a:t>1</a:t>
            </a:r>
            <a:r>
              <a:rPr b="0" lang="ru-RU" sz="2000" spc="-1" strike="noStrike">
                <a:solidFill>
                  <a:srgbClr val="ffffff"/>
                </a:solidFill>
                <a:latin typeface="Arial"/>
              </a:rPr>
              <a:t> </a:t>
            </a:r>
            <a:r>
              <a:rPr b="0" i="1" lang="ru-RU" sz="2000" spc="-1" strike="noStrike">
                <a:solidFill>
                  <a:srgbClr val="ffffff"/>
                </a:solidFill>
                <a:latin typeface="Arial"/>
              </a:rPr>
              <a:t>Конденсатору идеального колебательного контура с ёмкостью 2 мкФ и индуктивностью  3 мГн сообщён заряд. Через какое минимальное время после этого энергия электрического поля будет равна энергии  магнитного  пол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остановка проблемы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дной из важнейших проблем, на мой взгляд, является заметное снижение интереса учащихся к обучению, что во многом обусловлено сложностью программ. К тому же, вызывает неудовлетворённость недостаточная продуманность и разработанность действующих учебников для общеобразовательных школ, в которых недостаточно рассматривается практическая направленность матема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a:t>
            </a:r>
            <a:r>
              <a:rPr b="0" lang="en-US" sz="4000" spc="-1" strike="noStrike">
                <a:solidFill>
                  <a:srgbClr val="ccecff"/>
                </a:solidFill>
                <a:latin typeface="Arial"/>
              </a:rPr>
              <a:t>ринципы интегрированного обучения </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интезированность знаний.</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Целостное, синтезированное, систематизированное восприятие изучаемых по той или иной теме вопросов способствует развитию широты мышления.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глублённость изучения.</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ее глубокое проникновение в суть изучаемой темы способствует развитию глубины мыш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75640" y="-963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35" name="PlaceHolder 2"/>
          <p:cNvSpPr>
            <a:spLocks noGrp="1"/>
          </p:cNvSpPr>
          <p:nvPr>
            <p:ph/>
          </p:nvPr>
        </p:nvSpPr>
        <p:spPr>
          <a:xfrm>
            <a:off x="684360" y="620640"/>
            <a:ext cx="8229600" cy="4525920"/>
          </a:xfrm>
          <a:prstGeom prst="rect">
            <a:avLst/>
          </a:prstGeom>
          <a:noFill/>
          <a:ln w="0">
            <a:noFill/>
          </a:ln>
        </p:spPr>
        <p:txBody>
          <a:bodyPr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ктуальность проблемы, или практическая значимость проблемы.</a:t>
            </a:r>
            <a:r>
              <a:rPr b="0" lang="ru-RU"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язательная реализация рассматриваемой проблемы в какой-то практической ситуации усиливает практическую направленность обучения.</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Альтернативность решения.</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овые подходы к известной ситуации, нестандартные способы решения проблемы, возможность выбора решения данной проблемы способствуют развитию гибкости мышления, развивают оригинальность мышлени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и планировании и организации таких уроков учителю важно учитывать следующие условия</a:t>
            </a:r>
            <a:r>
              <a:rPr b="0" lang="ru-RU" sz="3200" spc="-1" strike="noStrike">
                <a:solidFill>
                  <a:srgbClr val="ccecff"/>
                </a:solidFill>
                <a:latin typeface="Arial"/>
              </a:rPr>
              <a:t>:</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форме интегрированных уроков целесообразно проводить обобщающие уроки, на которых будут раскрыты проблемы, наиболее важные для двух или нескольких предметов, но интегрированным уроком может быть любой урок со своей структурой, если для его проведения привлекаются знания, умения и результаты анализа изучаемого материала методами других наук, других учебных предметов.</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интегрированном уроке из нескольких предметов один является ведущим.</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Чаще всего, интегрированные уроки являются спаренными и проводятся учителями совместно. Возможна разнообразная интеграция учебных предмет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труктура интегрированных уроков отличается от обычных уроков следующими особенностями:</a:t>
            </a:r>
            <a:endParaRPr b="0" lang="en-US" sz="32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дельной четкостью, компактностью, сжатостью учебного материа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огической взаимообусловленностью, взаимообязанностью материала интегрируемых предметов на каждом этапе урок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Большой информативной ёмкостью учебного материала, используемого на урок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еимущества интеграции на уроке</a:t>
            </a:r>
            <a:endParaRPr b="0" lang="en-US" sz="4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Мир, окружающий детей, познается ими в многообразии и единстве, а зачастую предметы школьного цикла, направленные на изучение отдельных явлений этого единства, не дают представления о целом явлении, дробя его на разрозненные фрагменты.</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Интегрированные уроки развивают потенциал самих учащихся, побуждают к активному познанию окружающей действительности, к осмыслению и нахождению причинно-следственных связей, к развитию логики, мышления, коммуникативных способностей. В большей степени, чем обычные, они способствуют развитию речи, формированию умения сравнивать, обобщать, делать вывод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 Форма проведения интегрированных уроков нестандартна, увлекательна.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Использование различных видов работы поддерживает внимание учеников на высоком уровне, что позволяет говорить о развивающей эффективности таких</a:t>
            </a:r>
            <a:br>
              <a:rPr sz="2400"/>
            </a:br>
            <a:r>
              <a:rPr b="0" lang="ru-RU" sz="2400" spc="-1" strike="noStrike">
                <a:solidFill>
                  <a:srgbClr val="ffffff"/>
                </a:solidFill>
                <a:latin typeface="Arial"/>
              </a:rPr>
              <a:t>уроков.</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Они снимают утомляемость, перенапряжение учащихся за счет</a:t>
            </a:r>
            <a:br>
              <a:rPr sz="2400"/>
            </a:br>
            <a:r>
              <a:rPr b="0" lang="ru-RU" sz="2400" spc="-1" strike="noStrike">
                <a:solidFill>
                  <a:srgbClr val="ffffff"/>
                </a:solidFill>
                <a:latin typeface="Arial"/>
              </a:rPr>
              <a:t>переключений на разнообразные виды деятельности, резко повышают</a:t>
            </a:r>
            <a:br>
              <a:rPr sz="2400"/>
            </a:br>
            <a:r>
              <a:rPr b="0" lang="ru-RU" sz="2400" spc="-1" strike="noStrike">
                <a:solidFill>
                  <a:srgbClr val="ffffff"/>
                </a:solidFill>
                <a:latin typeface="Arial"/>
              </a:rPr>
              <a:t>познавательный интерес, служат развитию воображения, внимания, мышления, речи и памяти школьни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68360" y="155736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4</a:t>
            </a:r>
            <a:r>
              <a:rPr b="0" lang="ru-RU" sz="2400" spc="-1" strike="noStrike">
                <a:solidFill>
                  <a:srgbClr val="ffffff"/>
                </a:solidFill>
                <a:latin typeface="Arial"/>
              </a:rPr>
              <a:t>.   Интеграция дает возможность для самореализации, самовыражения,</a:t>
            </a:r>
            <a:br>
              <a:rPr sz="2400"/>
            </a:br>
            <a:r>
              <a:rPr b="0" lang="ru-RU" sz="2400" spc="-1" strike="noStrike">
                <a:solidFill>
                  <a:srgbClr val="ffffff"/>
                </a:solidFill>
                <a:latin typeface="Arial"/>
              </a:rPr>
              <a:t>творчества учителя, способствует раскрытию способностей его учеников.</a:t>
            </a:r>
            <a:br>
              <a:rPr sz="2400"/>
            </a:br>
            <a:r>
              <a:rPr b="0" lang="ru-RU" sz="2400" spc="-1" strike="noStrike">
                <a:solidFill>
                  <a:srgbClr val="ffffff"/>
                </a:solidFill>
                <a:latin typeface="Arial"/>
              </a:rPr>
              <a:t>Интеграция является источником нахождения новых фактов, которые</a:t>
            </a:r>
            <a:br>
              <a:rPr sz="2400"/>
            </a:br>
            <a:r>
              <a:rPr b="0" lang="ru-RU" sz="2400" spc="-1" strike="noStrike">
                <a:solidFill>
                  <a:srgbClr val="ffffff"/>
                </a:solidFill>
                <a:latin typeface="Arial"/>
              </a:rPr>
              <a:t>подтверждают или углубляют определенные выводы, наблюдения учащихся в</a:t>
            </a:r>
            <a:br>
              <a:rPr sz="2400"/>
            </a:br>
            <a:r>
              <a:rPr b="0" lang="ru-RU" sz="2400" spc="-1" strike="noStrike">
                <a:solidFill>
                  <a:srgbClr val="ffffff"/>
                </a:solidFill>
                <a:latin typeface="Arial"/>
              </a:rPr>
              <a:t>различных предметах.</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нтегрированные уроки дают ученику достаточно широкое и яркое представление о мире, в котором он живет, о взаимопомощи, о существовании многообразного мира материальной и художественн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ecff"/>
                </a:solidFill>
                <a:latin typeface="Arial"/>
              </a:rPr>
              <a:t>Результаты интегрированного обучения и его значение </a:t>
            </a:r>
            <a:br>
              <a:rPr sz="3600"/>
            </a:br>
            <a:endParaRPr b="0" lang="en-US" sz="36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пособствует развитию научного стиля мышления учащихс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даёт возможность широкого применения учащимися научного  метода познани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формирует комплексный подход к учебным предметам;</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повышает качество знаний учащихс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5) повышает и развивает интерес учащихся к математике.</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549000"/>
            <a:ext cx="7772400" cy="3384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Интегрированный урок- учебное занятие, на котором обозначенная тема  рассматривается с различных точек зрения, средствами нескольких предметов. </a:t>
            </a:r>
            <a:br>
              <a:rPr sz="2400"/>
            </a:br>
            <a:r>
              <a:rPr b="1" lang="ru-RU" sz="2400" spc="-1" strike="noStrike">
                <a:solidFill>
                  <a:srgbClr val="ccecff"/>
                </a:solidFill>
                <a:latin typeface="Arial"/>
              </a:rPr>
              <a:t>Основная цель:  формирование у учащихся единой научной картины мира, целостного представления о нём, гуманистического мировоззрения  и диалектического мышления.</a:t>
            </a:r>
            <a:br>
              <a:rPr sz="2400"/>
            </a:br>
            <a:br>
              <a:rPr sz="1600"/>
            </a:br>
            <a:endParaRPr b="0" lang="en-US" sz="2400" spc="-1" strike="noStrike">
              <a:solidFill>
                <a:srgbClr val="ccecff"/>
              </a:solidFill>
              <a:latin typeface="Arial"/>
            </a:endParaRPr>
          </a:p>
        </p:txBody>
      </p:sp>
      <p:sp>
        <p:nvSpPr>
          <p:cNvPr id="214" name="PlaceHolder 2"/>
          <p:cNvSpPr>
            <a:spLocks noGrp="1"/>
          </p:cNvSpPr>
          <p:nvPr>
            <p:ph type="subTitle"/>
          </p:nvPr>
        </p:nvSpPr>
        <p:spPr>
          <a:xfrm>
            <a:off x="1042560" y="3789000"/>
            <a:ext cx="6761160" cy="2879640"/>
          </a:xfrm>
          <a:prstGeom prst="rect">
            <a:avLst/>
          </a:prstGeom>
          <a:noFill/>
          <a:ln w="0">
            <a:noFill/>
          </a:ln>
        </p:spPr>
        <p:txBody>
          <a:bodyPr anchor="t">
            <a:noAutofit/>
          </a:bodyPr>
          <a:p>
            <a:pPr indent="0" algn="ctr">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600" spc="-1" strike="noStrike">
                <a:solidFill>
                  <a:srgbClr val="ffffff"/>
                </a:solidFill>
                <a:latin typeface="Arial"/>
              </a:rPr>
              <a:t>Интегрированный урок - одно из новшеств современной методики. Эта технология смело вторгается в непоколебимые школьные программы и связывает на первый взгляд несовместимые предметы. Не является исключением и  математика.  Напротив, по своей сути, школьный предмет математика  является интегрированным. Он весь пронизан  межпредметными   связями и предлагает учащимся знания многих областей  науки, искусства, культуры, а также реальной повседневной жизн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ерспективы развития интегрированного обучения </a:t>
            </a:r>
            <a:br>
              <a:rPr sz="3200"/>
            </a:br>
            <a:endParaRPr b="0" lang="en-US" sz="32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актика работы показала плодотворность интеграции и выявила перспективы дальнейшего развития и совершенствования такого подхода к обучению.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теграция — необходимое условие современного учебного процесса, её возможна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реализация в рамках какой-либо школы была бы переходом этой школы на новый уровень ее развития.</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теграция – это объедение в целое разрозненных частей, глубокое взаимопроникновение, слияние в одном учебном материале обобщенных знаний в той или иной обла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0"/>
          <p:cNvSpPr/>
          <p:nvPr/>
        </p:nvSpPr>
        <p:spPr>
          <a:xfrm>
            <a:off x="1258920" y="0"/>
            <a:ext cx="6867360" cy="907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нтеграция</a:t>
            </a:r>
            <a:endParaRPr b="0" lang="en-US" sz="4400" spc="-1" strike="noStrike">
              <a:solidFill>
                <a:srgbClr val="ffffff"/>
              </a:solidFill>
              <a:latin typeface="Arial"/>
            </a:endParaRPr>
          </a:p>
        </p:txBody>
      </p:sp>
      <p:pic>
        <p:nvPicPr>
          <p:cNvPr id="217" name="Схема 3" descr=""/>
          <p:cNvPicPr/>
          <p:nvPr/>
        </p:nvPicPr>
        <p:blipFill>
          <a:blip r:embed="rId1"/>
          <a:stretch/>
        </p:blipFill>
        <p:spPr>
          <a:xfrm>
            <a:off x="171360" y="1047600"/>
            <a:ext cx="8655120" cy="562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Наша древняя столица._x000b_Математическая тема: действия с десятичными дробями.</a:t>
            </a:r>
            <a:endParaRPr b="0" lang="en-US" sz="2800" spc="-1" strike="noStrike">
              <a:solidFill>
                <a:srgbClr val="ccecff"/>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2000" spc="-1" strike="noStrike">
                <a:solidFill>
                  <a:srgbClr val="ffffff"/>
                </a:solidFill>
                <a:latin typeface="Arial"/>
              </a:rPr>
              <a:t>. Кремль, построенный при Юрии Долгоруком, имел площадь 9 га, а при Иване Калите – на 10,9 га больше. Вычислите площадь Кремля, возведённого при Иване Калите.</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Белокаменный Кремль, возведённый при Дмитрии Донском, имел стены длиной 1,979 км. Современный Кремль имеет стены на 0,256 км длиннее. Вычислите длину стен современного Кремля.</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Спасская башня и её  стрельница  в плане являются квадратами со сторонами  соответственно 14,2 и 13,46 м. Вычислите площадь башни и её стрельницы.</a:t>
            </a:r>
            <a:endParaRPr b="0" lang="en-US" sz="2000" spc="-1" strike="noStrike">
              <a:solidFill>
                <a:srgbClr val="ffffff"/>
              </a:solidFill>
              <a:latin typeface="Arial"/>
            </a:endParaRPr>
          </a:p>
          <a:p>
            <a:pPr marL="341280" indent="-3412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рок сопровождается иллюстрациями с достопримечате</a:t>
            </a:r>
            <a:r>
              <a:rPr b="0" lang="ru-RU" sz="1800" spc="-1" strike="noStrike">
                <a:solidFill>
                  <a:srgbClr val="ffffff"/>
                </a:solidFill>
                <a:latin typeface="Arial"/>
              </a:rPr>
              <a:t>льностями  Москв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Математика + музыка._x000b_</a:t>
            </a:r>
            <a:r>
              <a:rPr b="0" lang="ru-RU" sz="2800" spc="-1" strike="noStrike" u="sng">
                <a:solidFill>
                  <a:srgbClr val="99ff99"/>
                </a:solidFill>
                <a:uFillTx/>
                <a:latin typeface="Arial"/>
                <a:hlinkClick r:id="rId2"/>
              </a:rPr>
              <a:t>Тема:  «Доли и дроби. Длительность звуков».</a:t>
            </a:r>
            <a:endParaRPr b="0" lang="en-US" sz="2800" spc="-1" strike="noStrike">
              <a:solidFill>
                <a:srgbClr val="ccecff"/>
              </a:solidFill>
              <a:latin typeface="Arial"/>
            </a:endParaRPr>
          </a:p>
        </p:txBody>
      </p:sp>
      <p:sp>
        <p:nvSpPr>
          <p:cNvPr id="221" name=""/>
          <p:cNvSpPr txBox="1"/>
          <p:nvPr/>
        </p:nvSpPr>
        <p:spPr>
          <a:xfrm>
            <a:off x="457200" y="1341360"/>
            <a:ext cx="8229600" cy="5516640"/>
          </a:xfrm>
          <a:prstGeom prst="rect">
            <a:avLst/>
          </a:prstGeom>
          <a:noFill/>
          <a:ln w="0">
            <a:noFill/>
          </a:ln>
        </p:spPr>
        <p:txBody>
          <a:bodyPr anchor="t">
            <a:normAutofit/>
          </a:bodyPr>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Arial"/>
              </a:rPr>
              <a:t>Цель:    </a:t>
            </a:r>
            <a:r>
              <a:rPr b="0" lang="ru-RU" sz="2000" spc="-1" strike="noStrike">
                <a:solidFill>
                  <a:srgbClr val="ffffff"/>
                </a:solidFill>
                <a:latin typeface="Arial"/>
              </a:rPr>
              <a:t>обобщение и систематизация знаний по теме «Доли.    Обыкновенные дроби», установление связи математики с музыкой.</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Оборудование:</a:t>
            </a:r>
            <a:r>
              <a:rPr b="0" lang="ru-RU" sz="2000" spc="-1" strike="noStrike">
                <a:solidFill>
                  <a:srgbClr val="ffffff"/>
                </a:solidFill>
                <a:latin typeface="Arial"/>
              </a:rPr>
              <a:t>  доска, проектор, синтезатор, цветные таблицы соответствия  длительностей и  дробей, слайды.</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2d050"/>
                </a:solidFill>
                <a:latin typeface="Arial"/>
              </a:rPr>
              <a:t>« Музыка есть арифметические упражнения души, которые исчисляют себя, не зная об этом»        </a:t>
            </a:r>
            <a:r>
              <a:rPr b="0" lang="ru-RU" sz="2000" spc="-1" strike="noStrike">
                <a:solidFill>
                  <a:srgbClr val="ffffff"/>
                </a:solidFill>
                <a:latin typeface="Arial"/>
              </a:rPr>
              <a:t>Лейбниц.</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ащиеся с помощью наводящих вопросов учителей музыки и математики и таблицы устанавливают связь  между длительностью звучания нот и дробями.</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Итог урока</a:t>
            </a:r>
            <a:r>
              <a:rPr b="0" lang="ru-RU" sz="2000" spc="-1" strike="noStrike">
                <a:solidFill>
                  <a:srgbClr val="ffffff"/>
                </a:solidFill>
                <a:latin typeface="Arial"/>
              </a:rPr>
              <a:t>: математическому анализу подлежат не только длительность звуков и размер, о чём мы говорили сегодня, а также тембр, лад, гармония. Английский математик  Сильвестр называл музыку математикой чувств, а математику– музыкой разум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Тема: «Арифметические действия с положительными и отрицательными числами»</a:t>
            </a:r>
            <a:endParaRPr b="0" lang="en-US" sz="2800" spc="-1" strike="noStrike">
              <a:solidFill>
                <a:srgbClr val="ccecff"/>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fontScale="99000"/>
          </a:bodyPr>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   закрепить навыки выполнения действий с положительными и отрицательными числами с использованием основных правил  стихосложения.</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фья Васильевна Ковалевская говорила о математике так </a:t>
            </a:r>
            <a:r>
              <a:rPr b="0" lang="ru-RU" sz="2000" spc="-1" strike="noStrike">
                <a:solidFill>
                  <a:srgbClr val="ffff00"/>
                </a:solidFill>
                <a:latin typeface="Arial"/>
              </a:rPr>
              <a:t>«Нельзя быть математиком, не будучи в тоже время поэтом в душе»</a:t>
            </a:r>
            <a:endParaRPr b="0" lang="en-US" sz="20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ласс разделён на три группы. Каждая группа получает рифмованные правила из курса математики.</a:t>
            </a:r>
            <a:endParaRPr b="0" lang="en-US" sz="1600" spc="-1" strike="noStrike">
              <a:solidFill>
                <a:srgbClr val="ffffff"/>
              </a:solidFill>
              <a:latin typeface="Arial"/>
            </a:endParaRPr>
          </a:p>
          <a:p>
            <a:pPr marL="337680" indent="-3376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тивоположные числа.  </a:t>
            </a:r>
            <a:endParaRPr b="0" lang="en-US" sz="18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a:t>
            </a:r>
            <a:r>
              <a:rPr b="0" i="1" lang="ru-RU" sz="2000" spc="-1" strike="noStrike">
                <a:solidFill>
                  <a:srgbClr val="7030a0"/>
                </a:solidFill>
                <a:latin typeface="Arial"/>
              </a:rPr>
              <a:t>Плюс пять и минус пять</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Всем нам нужно отличать.</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Они совсем не сложные , </a:t>
            </a:r>
            <a:endParaRPr b="0" lang="en-US" sz="20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А противоположные». </a:t>
            </a:r>
            <a:r>
              <a:rPr b="0" i="1" lang="ru-RU" sz="2000" spc="-1" strike="noStrike">
                <a:solidFill>
                  <a:srgbClr val="ffffff"/>
                </a:solidFill>
                <a:latin typeface="Arial"/>
              </a:rPr>
              <a:t> </a:t>
            </a:r>
            <a:r>
              <a:rPr b="0" i="1" lang="ru-RU" sz="1600" spc="-1" strike="noStrike">
                <a:solidFill>
                  <a:srgbClr val="ffffff"/>
                </a:solidFill>
                <a:latin typeface="Arial"/>
              </a:rPr>
              <a:t>О чём это стихотворение? Есть ли ритм? Определите вид рифмы? ( Парная)</a:t>
            </a:r>
            <a:endParaRPr b="0" lang="en-US" sz="16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атематика + химия, 9 класс</a:t>
            </a:r>
            <a:br>
              <a:rPr sz="2800"/>
            </a:br>
            <a:r>
              <a:rPr b="0" lang="ru-RU" sz="2800" spc="-1" strike="noStrike">
                <a:solidFill>
                  <a:srgbClr val="ccecff"/>
                </a:solidFill>
                <a:latin typeface="Arial"/>
              </a:rPr>
              <a:t>Решение задач по теме « Смеси, растворы, сплавы»</a:t>
            </a:r>
            <a:endParaRPr b="0" lang="en-US" sz="2800" spc="-1" strike="noStrike">
              <a:solidFill>
                <a:srgbClr val="ccecff"/>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fontScale="98000"/>
          </a:bodyPr>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Цель урока</a:t>
            </a:r>
            <a:r>
              <a:rPr b="0" lang="ru-RU" sz="2000" spc="-1" strike="noStrike">
                <a:solidFill>
                  <a:srgbClr val="ffffff"/>
                </a:solidFill>
                <a:latin typeface="Arial"/>
              </a:rPr>
              <a:t>:  рассмотреть алгоритм решения задач на сплавы, смеси и растворы: познакомиться с приёмами решения задач в математике и химии, рассмотреть биологическое значение воды как универсального растворителя, изучить виды сплавов, рассмотреть их практическое значени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Сообщение « Сплавы, используемые в изготовлении монет»</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дача.   Определите содержание олова в сплаве, полученном при сплавлении 300г  20% сплава и  200г  40% сплава.</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i="1" lang="ru-RU" sz="2000" spc="-1" strike="noStrike">
                <a:solidFill>
                  <a:srgbClr val="ffffff"/>
                </a:solidFill>
                <a:latin typeface="Arial"/>
              </a:rPr>
              <a:t>Сообщение ученика «Растворы на кухне и в домашней аптечк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дача.  При   смешивании 40% раствора соли с 10% раствором получили 800г раствора с концентрацией соли 21,25%. Сколько граммов каждого раствора было для этого взят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Тема: « Линейная функция и механическое движение»</a:t>
            </a:r>
            <a:endParaRPr b="0" lang="en-US" sz="2800" spc="-1" strike="noStrike">
              <a:solidFill>
                <a:srgbClr val="ccecff"/>
              </a:solidFill>
              <a:latin typeface="Arial"/>
            </a:endParaRPr>
          </a:p>
        </p:txBody>
      </p:sp>
      <p:pic>
        <p:nvPicPr>
          <p:cNvPr id="227" name="Содержимое 2" descr=""/>
          <p:cNvPicPr/>
          <p:nvPr/>
        </p:nvPicPr>
        <p:blipFill>
          <a:blip r:embed="rId2"/>
          <a:stretch/>
        </p:blipFill>
        <p:spPr>
          <a:xfrm>
            <a:off x="450720" y="1566720"/>
            <a:ext cx="8369280" cy="456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7:13:38Z</dcterms:created>
  <dc:creator>User</dc:creator>
  <dc:description/>
  <dc:language>en-US</dc:language>
  <cp:lastModifiedBy>Alex</cp:lastModifiedBy>
  <dcterms:modified xsi:type="dcterms:W3CDTF">2011-02-25T17:24:07Z</dcterms:modified>
  <cp:revision>64</cp:revision>
  <dc:subject/>
  <dc:title>Интегрированный урок- </dc:title>
</cp:coreProperties>
</file>