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5A3CE-BC91-4029-9A1E-0F6B5075275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38500-392C-43FB-8D94-7611123606AB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8D01-5D71-42C8-BBC0-2B56B25C3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A1BB-FD93-43C1-B5D4-A4A143245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5FCF-D030-48EC-BF72-DDF469A33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73CC-0C6B-4F0F-BA44-7BA1B6819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87929-C008-4A1B-AC79-41ABEADE7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5F71F-2491-459B-A19F-5CEDDF92A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C1C2B-38EA-4437-BA39-614EAC96E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BAE87-3B67-4CDB-94AC-538CA01EA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FD3CB-B1E5-4267-885C-98710417C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61541-7A5B-48D3-8E57-A94625D30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3E622-7A60-4595-B07C-D1341D08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81C4-3542-4F50-B75B-CA6048665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6A646-167A-4598-A953-DA862396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A35E2-63C5-457F-B8EA-6B0569FE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0A14C-C73F-42AD-AA37-BEA346D2C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0817F-288D-476D-9436-F5E2557B6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2D563-ABC4-4710-83D5-03E1216B1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C238ED-52DC-490F-89AA-7193A2D2A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815BCB-C4D6-4573-A6D0-A99E68DEE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1A024F-09CE-4330-BFF6-A9EBF242C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83127C-7D1A-4A03-A10C-00263546E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73D6D1-21A5-4AAE-ADC9-B77CF928E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1A00-0906-485F-8ED6-36D212A07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01C8FD-8C87-4F3D-87EF-67E9DA453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6A2D07-7916-4381-9E5E-178658C7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E3656A-3D1F-4C68-8598-3FD232C3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250897-7D16-4D29-9898-106D9589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DB53CC-A4F2-4CF8-90B8-C7149E16C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38A947-449C-4375-BC4C-9281DBF98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0B615B-EE60-48BF-A67C-AE63792B1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6801B-324F-49E3-9F86-B98B83D05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037B3-C4A2-40DC-BF1E-4629EE62B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029E5-3B47-45F1-8178-A1DF138AC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F029-4037-4DD2-891B-4B7E1109C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8D8A4-F360-4F69-895D-DFC7C3094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ED88E-A7BD-4F3F-AF9B-B0140E22B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AB122-726A-4B15-B8FE-A96FD4725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535E1-36B7-4640-A43B-ED9171E1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835F4-364B-4410-987A-8445124E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4EBB3-00C2-4496-B558-808B5D3A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BD66A-7FA0-44C5-A64B-D8CD22DBA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496B0-497B-480E-B4A1-1AA42EF5E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E8DBE-D434-4B50-8CB7-5960CCC06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B9F0-1D1E-467E-A1F3-239FEB855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4B3B-9F3D-4C79-A63F-21632E22C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3BB1-7366-4FE4-849A-C78AE80C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82E7-EAA6-4F84-81AD-9EF2EDE2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B36C-5910-4426-94C1-AD7E3604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6880B-6E96-454C-AEC4-7A4BA6844349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59DDE-F20C-4D3C-8EC7-37C6DCFE03A5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E223D-5795-40C7-838B-53AA67A831D3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77F36-DDA4-4278-9B6B-E288DB57C211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9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Заголовок 1"/>
          <p:cNvGrpSpPr/>
          <p:nvPr/>
        </p:nvGrpSpPr>
        <p:grpSpPr>
          <a:xfrm>
            <a:off x="420840" y="1109520"/>
            <a:ext cx="8302320" cy="4413240"/>
            <a:chOff x="420840" y="1109520"/>
            <a:chExt cx="8302320" cy="4413240"/>
          </a:xfrm>
        </p:grpSpPr>
        <p:pic>
          <p:nvPicPr>
            <p:cNvPr id="222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20840" y="1109520"/>
              <a:ext cx="8302320" cy="441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7200" y="1143000"/>
              <a:ext cx="8229600" cy="434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424456"/>
                  </a:solidFill>
                  <a:latin typeface="Times New Roman"/>
                  <a:ea typeface="Times New Roman"/>
                </a:rPr>
                <a:t>Международные отношения накануне Второй мировой войны.</a:t>
              </a:r>
              <a:endParaRPr b="0" lang="en-US" sz="6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Прямоугольник 1" descr=""/>
          <p:cNvPicPr/>
          <p:nvPr/>
        </p:nvPicPr>
        <p:blipFill>
          <a:blip r:embed="rId1"/>
          <a:stretch/>
        </p:blipFill>
        <p:spPr>
          <a:xfrm>
            <a:off x="212760" y="579600"/>
            <a:ext cx="8570880" cy="5913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Цель урока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Прямоугольник 3"/>
          <p:cNvSpPr/>
          <p:nvPr/>
        </p:nvSpPr>
        <p:spPr>
          <a:xfrm>
            <a:off x="685800" y="2690640"/>
            <a:ext cx="7238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яснить политическую ситуацию в СССР накануне Второй мировой войны.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Подвести учащихся к пониманию причин изменения внешней политики нашей страны в 30-е год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50"/>
                </a:solidFill>
                <a:latin typeface="Trebuchet MS"/>
              </a:rPr>
              <a:t>Задание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80520" y="1599840"/>
            <a:ext cx="3886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1 групп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15000"/>
              </a:lnSpc>
              <a:spcBef>
                <a:spcPts val="300"/>
              </a:spcBef>
              <a:spcAft>
                <a:spcPts val="675"/>
              </a:spcAft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кова была главная цель советской внешней политики в 30-е г.г.?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15000"/>
              </a:lnSpc>
              <a:spcBef>
                <a:spcPts val="300"/>
              </a:spcBef>
              <a:spcAft>
                <a:spcPts val="675"/>
              </a:spcAft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чем суть предложенной СССР системы коллективной безопасности?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15000"/>
              </a:lnSpc>
              <a:spcBef>
                <a:spcPts val="300"/>
              </a:spcBef>
              <a:spcAft>
                <a:spcPts val="675"/>
              </a:spcAft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чему демократические державы Запада не поддержали СССР в его борьбе за создание системы коллективной безопасности? В чем причины неудач?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64832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2 групп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15000"/>
              </a:lnSpc>
              <a:spcBef>
                <a:spcPts val="300"/>
              </a:spcBef>
              <a:spcAft>
                <a:spcPts val="675"/>
              </a:spcAft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ково было содержание Мюнхенского соглашения?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15000"/>
              </a:lnSpc>
              <a:spcBef>
                <a:spcPts val="300"/>
              </a:spcBef>
              <a:spcAft>
                <a:spcPts val="675"/>
              </a:spcAft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ково было отношение СССР к результатам договора, заключенного в Мюнхене?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15000"/>
              </a:lnSpc>
              <a:spcBef>
                <a:spcPts val="300"/>
              </a:spcBef>
              <a:spcAft>
                <a:spcPts val="675"/>
              </a:spcAft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к решался восточный вопрос СССР в 1939 г.?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wipe dir="l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5"/>
          <p:cNvSpPr/>
          <p:nvPr/>
        </p:nvSpPr>
        <p:spPr>
          <a:xfrm>
            <a:off x="1476360" y="274680"/>
            <a:ext cx="7210440" cy="1143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Monotype Corsiva"/>
              </a:rPr>
              <a:t>Политика коллективной безопасност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1403280" y="1916280"/>
            <a:ext cx="7453440" cy="468144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Monotype Corsiva"/>
                <a:ea typeface="Times New Roman"/>
              </a:rPr>
              <a:t>в 1934 году СССР был принят в Лигу наций в качестве члена ее Совет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Monotype Corsiva"/>
                <a:ea typeface="Times New Roman"/>
              </a:rPr>
              <a:t>в 1935 году был подписан советско-французский договор о взаимопомощ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Monotype Corsiva"/>
                <a:ea typeface="Times New Roman"/>
              </a:rPr>
              <a:t>в 1936 году подписан договор с Чехословакие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Monotype Corsiva"/>
                <a:ea typeface="Times New Roman"/>
              </a:rPr>
              <a:t>в 1935 году VII конгресс Коминтерна взял курс на развертывание антифашистской борьбы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5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Советско-англо-французские переговор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1884240" cy="282240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6"/>
          <p:cNvSpPr/>
          <p:nvPr/>
        </p:nvSpPr>
        <p:spPr>
          <a:xfrm>
            <a:off x="551520" y="3508200"/>
            <a:ext cx="1389240" cy="131364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Премьер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минист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Франц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Деладь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2"/>
          <a:stretch/>
        </p:blipFill>
        <p:spPr>
          <a:xfrm>
            <a:off x="2538360" y="2087640"/>
            <a:ext cx="1811520" cy="272556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10"/>
          <p:cNvSpPr/>
          <p:nvPr/>
        </p:nvSpPr>
        <p:spPr>
          <a:xfrm>
            <a:off x="2643480" y="5181480"/>
            <a:ext cx="1600920" cy="131364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Премьер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минист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Англ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Чемберле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4724280" y="487440"/>
            <a:ext cx="4105440" cy="633708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Times New Roman"/>
              </a:rPr>
              <a:t>После Мюнхенской конференции Англия и Франция провозгласил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99"/>
                </a:solidFill>
                <a:latin typeface="Times New Roman"/>
              </a:rPr>
              <a:t>наступление «эры мира». В марте 1939 г.Гитлер ввел войска в Прагу и лишил Чехословакию независимости, а затем захватил Мемельскую область принадлежавшую Литве. В апреле Италия захватила Албанию и Англия и Франция пошли на переговоры с СССР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Times New Roman"/>
              </a:rPr>
              <a:t>12 августа иностранные делегации прибыли в Москву. Но они не обладали никакими полномочиями. Советская сторона представила план совместных действи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5"/>
          <p:cNvSpPr/>
          <p:nvPr/>
        </p:nvSpPr>
        <p:spPr>
          <a:xfrm>
            <a:off x="1019160" y="304920"/>
            <a:ext cx="7667640" cy="6206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Политика «умиротворения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1247760" y="1295280"/>
            <a:ext cx="7210440" cy="492948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1937-1938-агрессия Японии в Китае и на Дальнем Востоке. Помощь только СССР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1938, март-аншлюс Австр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1938 , сентябрь– Мюнхенское соглашение – согласие Англии и Франции на отторжение от Чехословакии Судетской области и присоединение к Германи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1939, март-оккупация всей Чехословакии. Чехия превратилась в германский протекторат Богем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1939, май «Стальной пакт» Германии и Италии, направленный против стран Запад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5"/>
          <p:cNvSpPr/>
          <p:nvPr/>
        </p:nvSpPr>
        <p:spPr>
          <a:xfrm>
            <a:off x="1066680" y="3808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Мюнхенское соглашени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0" name="Picture 10" descr="Рисунок6"/>
          <p:cNvPicPr/>
          <p:nvPr/>
        </p:nvPicPr>
        <p:blipFill>
          <a:blip r:embed="rId1"/>
          <a:stretch/>
        </p:blipFill>
        <p:spPr>
          <a:xfrm>
            <a:off x="2838600" y="844560"/>
            <a:ext cx="4032000" cy="25956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241" name="Rectangle 3"/>
          <p:cNvSpPr/>
          <p:nvPr/>
        </p:nvSpPr>
        <p:spPr>
          <a:xfrm>
            <a:off x="311040" y="3200400"/>
            <a:ext cx="8537760" cy="342900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 1936 г.состоялся аншлюс Австрии. В 1938 .Германия потребовала передать ей Судетскую область Чехословакии, где компактно проживали немцы. На конференции в Мюнхене  руководители Англии и Франции согласились с требованием Гитлера. Ни Чехословакия, ни СССР до участия в конференции не были допущены.СССР готов был оказать Чехословакии помощь, но ее руководство на захотело обратиться в Совет Лиги наций. Вскоре Германия, Англия и Франция подписали ряд деклараций и стало ясно, что создать систему коллективной безопасности не удастс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1"/>
          <p:cNvSpPr/>
          <p:nvPr/>
        </p:nvSpPr>
        <p:spPr>
          <a:xfrm>
            <a:off x="609480" y="990720"/>
            <a:ext cx="7620120" cy="45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2 ЗАДАНИЕ для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-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I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групп.(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группа плюсы этого договора.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I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 группа минусы договора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я текст учебника, документы, ответьте на вопросы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ожно ли считать, что со стороны СССР договор с Германией был вынужденной мерой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чему Гитлер пошел на подписание договора с СССР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кие выгоды получили Германия и СССР от заключения этого договора?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чем вы видите плюсы и минусы этого договора?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главный вопрос в отношениях между Германией и Советским Союзом решал секретный протокол?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а и территории, которые вошли в сферу интересов СССР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5" descr=""/>
          <p:cNvPicPr/>
          <p:nvPr/>
        </p:nvPicPr>
        <p:blipFill>
          <a:blip r:embed="rId1"/>
          <a:stretch/>
        </p:blipFill>
        <p:spPr>
          <a:xfrm>
            <a:off x="412920" y="533520"/>
            <a:ext cx="8280360" cy="482436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7"/>
          <p:cNvSpPr/>
          <p:nvPr/>
        </p:nvSpPr>
        <p:spPr>
          <a:xfrm>
            <a:off x="395280" y="5702400"/>
            <a:ext cx="8280360" cy="792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станавливалась линия разграничения между немецким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советскими войскам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 Польше. Эстония, Латвия, Финляндия и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ссарабия относились к сфере влияния ССС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ндрей</cp:lastModifiedBy>
  <dcterms:modified xsi:type="dcterms:W3CDTF">2017-01-15T16:40:51Z</dcterms:modified>
  <cp:revision>8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