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F38-F987-4CF8-BB6D-E33F30F8BF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2D5C-F39E-4D9F-A052-756AB8A10D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379-563E-482A-BDDC-C0F6C2B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C54-059D-4237-AC82-BAE14C3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708-29BB-4072-9D61-277C71AD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9FB-90E3-4541-920B-C224A6A0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82A-E5EA-49F9-B639-6DE06D7A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F173-8326-474B-99AE-B38E90EA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4B92-B7EF-42D2-A9C8-DB4F46D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98D2-2E57-4E3B-9417-22B20B4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7C62-8F2A-4422-BA58-757A51E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71F-3899-4F24-9BF3-33097C22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125E-2797-404F-9CF1-BE467ED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6F0-920E-49C7-A4B0-7B29F50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6354-EA7F-4AF2-84E8-7407D347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0A6F-3AFC-41BD-8CFF-65D0C8E4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7C8F-5B47-4436-8931-BA7604AD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57C-15A3-4279-9DED-498F2657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ED9-19F5-4215-AC2F-CF9AC0E1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29562-00A6-4540-BF31-6D9FAB64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142AC-8034-4A58-94F8-DA5D91EC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B8D75-90F0-435D-907B-1D6017B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DB2F7-BB8F-4520-8EA1-4EA80BE3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EA7A9-1551-446C-A000-DB907C57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68A-8579-4B89-9AB9-99152323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4AF9D-8620-40E4-9DEC-A7644854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BA606-0242-4887-A50F-5B63713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EDE7D-C11E-473C-B0A6-CFCD0B5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EA0EC-60EA-4DF1-AAB1-F066F75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681C-0F19-4B8E-8704-07275F68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8EF5F-B214-4FB4-8EE5-8E3C2438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233F6-4606-4AB2-A6CA-65D8F7F8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90367-0EFC-4DE2-A35B-F22BB23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1D68-108E-4DE4-980C-7B95FAEB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2E98-6010-48E5-A04D-274512F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2B0-5BAB-4DEF-9854-0474B39F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214CC-3967-4427-BB4F-00EFCC1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3D9E-03E2-431D-B461-2630DBA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EF55-C09A-4406-886C-76069E80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C6B4-5237-440A-8648-288F5DE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CD2C-CFF8-42F6-BFC1-7D99D8F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D93C-68F3-49A3-80E9-D9E0037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CADB-AD35-4CF4-B449-19AF341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8055-EB45-437A-B7D8-4D110720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41DF-5D05-43FF-B238-7974F276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D42-C0EC-4E92-9F6D-4EC4763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5B7-0A38-4B5F-8025-A74ECA1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571-7812-46A3-9F9B-BF84FD0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0DA-954C-41FF-B70F-6A2DBFF8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AE8-D428-4208-90E4-7693862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4F2E-BE86-4619-8CCD-FB191D88D9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20C-1059-4D2B-8545-766F29D8E5F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85CC-97DB-491E-B934-BDE87A11A86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CEF-DF14-4877-BE94-DE1909CFFB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Заголовок 1"/>
          <p:cNvGrpSpPr/>
          <p:nvPr/>
        </p:nvGrpSpPr>
        <p:grpSpPr>
          <a:xfrm>
            <a:off x="420840" y="1109520"/>
            <a:ext cx="8302320" cy="4413240"/>
            <a:chOff x="420840" y="1109520"/>
            <a:chExt cx="8302320" cy="4413240"/>
          </a:xfrm>
        </p:grpSpPr>
        <p:pic>
          <p:nvPicPr>
            <p:cNvPr id="2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1109520"/>
              <a:ext cx="8302320" cy="44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7200" y="1143000"/>
              <a:ext cx="82296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424456"/>
                  </a:solidFill>
                  <a:latin typeface="Times New Roman"/>
                  <a:ea typeface="Times New Roman"/>
                </a:rPr>
                <a:t>Международные отношения накануне Второй мировой войны.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579600"/>
            <a:ext cx="8570880" cy="59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685800" y="269064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ить политическую ситуацию в СССР накануне Второй мировой войны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вести учащихся к пониманию причин изменения внешней политики нашей страны в 30-е г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груп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а была главная цель советской внешней политики в 30-е г.г.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чем суть предложенной СССР системы коллективной безопасност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демократические державы Запада не поддержали СССР в его борьбе за создание системы коллективной безопасности? В чем причины неудач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груп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о было содержание Мюнхенского соглашения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о было отношение СССР к результатам договора, заключенного в Мюнхене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решался восточный вопрос СССР в 1939 г.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Политика коллективной безопасн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403280" y="1916280"/>
            <a:ext cx="7453440" cy="4681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4 году СССР был принят в Лигу наций в качестве члена ее Сов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5 году был подписан советско-французский договор о взаимо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6 году подписан договор с Чехословаки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5 году VII конгресс Коминтерна взял курс на развертывание антифашистской борьб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оветско-англо-французские перегово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884240" cy="282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51520" y="3508200"/>
            <a:ext cx="13892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Фран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еладь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38360" y="2087640"/>
            <a:ext cx="1811520" cy="2725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2643480" y="5181480"/>
            <a:ext cx="16009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нгл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мберл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724280" y="487440"/>
            <a:ext cx="4105440" cy="6337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После Мюнхенской конференции Англия и Франция провозгласи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наступление «эры мира». В марте 1939 г.Гитлер ввел войска в Прагу и лишил Чехословакию независимости, а затем захватил Мемельскую область принадлежавшую Литве. В апреле Италия захватила Албанию и Англия и Франция пошли на переговоры с ССС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12 августа иностранные делегации прибыли в Москву. Но они не обладали никакими полномочиями. Советская сторона представила план совместных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1019160" y="304920"/>
            <a:ext cx="7667640" cy="6206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литика «умиротвор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247760" y="1295280"/>
            <a:ext cx="7210440" cy="49294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7-1938-агрессия Японии в Китае и на Дальнем Востоке. Помощь только ССС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8, март-аншлюс Авст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8 , сентябрь– Мюнхенское соглашение – согласие Англии и Франции на отторжение от Чехословакии Судетской области и присоединение к Герма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9, март-оккупация всей Чехословакии. Чехия превратилась в германский протекторат Богем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9, май «Стальной пакт» Германии и Италии, направленный против стран Запа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66680" y="3808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юнхенское соглаш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10" descr="Рисунок6"/>
          <p:cNvPicPr/>
          <p:nvPr/>
        </p:nvPicPr>
        <p:blipFill>
          <a:blip r:embed="rId1"/>
          <a:stretch/>
        </p:blipFill>
        <p:spPr>
          <a:xfrm>
            <a:off x="2838600" y="844560"/>
            <a:ext cx="4032000" cy="2595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1" name="Rectangle 3"/>
          <p:cNvSpPr/>
          <p:nvPr/>
        </p:nvSpPr>
        <p:spPr>
          <a:xfrm>
            <a:off x="311040" y="3200400"/>
            <a:ext cx="8537760" cy="3429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36 г.состоялся аншлюс Австрии. В 1938 .Германия потребовала передать ей Судетскую область Чехословакии, где компактно проживали немцы. На конференции в Мюнхене  руководители Англии и Франции согласились с требованием Гитлера. Ни Чехословакия, ни СССР до участия в конференции не были допущены.СССР готов был оказать Чехословакии помощь, но ее руководство на захотело обратиться в Совет Лиги наций. Вскоре Германия, Англия и Франция подписали ряд деклараций и стало ясно, что создать систему коллективной безопасности не удас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609480" y="990720"/>
            <a:ext cx="76201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 ЗАДАНИЕ для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.(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а плюсы этого договора.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группа минусы договор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текст учебника, документы, ответьте на вопрос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жно ли считать, что со стороны СССР договор с Германией был вынужденной меро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Гитлер пошел на подписание договора с СССР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выгоды получили Германия и СССР от заключения этого договор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чем вы видите плюсы и минусы этого договора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лавный вопрос в отношениях между Германией и Советским Союзом решал секретный протокол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и территории, которые вошли в сферу интересов СС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412920" y="53352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395280" y="5702400"/>
            <a:ext cx="8280360" cy="79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авливалась линия разграничения между немецки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оветскими войск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ольше. Эстония, Латвия, Финлянди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сарабия относились к сфере влияния ССС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7-01-15T16:40:5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