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9CB-25ED-430C-9C4F-743DDAEB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C53-6F2D-4DA5-9C78-8C6245E2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8DE-04A4-4533-A01C-6608E94D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A74-6056-48E6-ABC2-20CF62C1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2104-9CF4-4214-B225-A4712247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04DC-3DA6-4B19-B70F-051E488C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A3BF-6962-4629-8740-7FC4775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904F-A6DC-47A0-BB52-8F94C4A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B6A3-9B3E-41AE-A8F7-37BC716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482D-B0DF-4476-85CC-BD07156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87F-57E3-4D88-9445-46C4BCD5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482-FC0C-4999-97B4-8A78AD25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8BDE-6AA6-4FE7-AC99-9CECFB0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BED-B4E1-4835-9C06-11B1894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CF58-B697-4579-B386-7272D7B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8F79-68DA-48A3-BC61-D3B873DD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88C-540A-4BC7-A1EC-DB082B9A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3B8-3103-455A-9D53-94CBD735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AF9-4FC1-4F0E-B2EA-15CCED49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A33-E6E3-4BC9-9282-9FC6BA8A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07A-5D28-4D1A-BC3E-4BD1FC3D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D1F-6DB6-4209-BC50-6F7E89C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A24-BF34-4D60-8A3B-17DD3DD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D89-F734-4309-8DA9-A7A8F41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E40-D89E-49CB-8FA2-81476F9101E5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675-E10C-41AE-A505-FDE6B0512A0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6"/>
          <p:cNvSpPr/>
          <p:nvPr/>
        </p:nvSpPr>
        <p:spPr>
          <a:xfrm>
            <a:off x="1697040" y="2680560"/>
            <a:ext cx="693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Создание УМ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учебной и производственн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рак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0"/>
            <a:ext cx="75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ГОУ СП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овокузнец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оргово-экономический технику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692360" y="549360"/>
            <a:ext cx="74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476360" y="26794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7667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/>
          <p:cNvSpPr/>
          <p:nvPr/>
        </p:nvSpPr>
        <p:spPr>
          <a:xfrm>
            <a:off x="1258920" y="1989000"/>
            <a:ext cx="7489800" cy="2880000"/>
          </a:xfrm>
          <a:prstGeom prst="wedgeEllipseCallout">
            <a:avLst>
              <a:gd name="adj1" fmla="val -53814"/>
              <a:gd name="adj2" fmla="val 115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Удачи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Успехов 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Достижений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55640" y="47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1403280" y="2708280"/>
            <a:ext cx="2448000" cy="172728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бования ФГ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 7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3708360" y="2637000"/>
            <a:ext cx="5435640" cy="338436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ка является обязате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ом ОПО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представляет собой вид учебных занят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ющих практико-ориентированн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ку обучающих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050920" y="1916280"/>
            <a:ext cx="6481800" cy="720720"/>
          </a:xfrm>
          <a:custGeom>
            <a:avLst/>
            <a:gdLst>
              <a:gd name="textAreaLeft" fmla="*/ 1157760 w 6481800"/>
              <a:gd name="textAreaRight" fmla="*/ 4867920 w 64818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16" hR="21600" stAng="10800000" swAng="5400000"/>
                <a:lnTo>
                  <a:pt x="12364" y="0"/>
                </a:lnTo>
                <a:arcTo wR="7716" hR="21600" stAng="-5400000" swAng="1549918"/>
                <a:lnTo>
                  <a:pt x="20093" y="8775"/>
                </a:lnTo>
                <a:lnTo>
                  <a:pt x="17756" y="21600"/>
                </a:lnTo>
                <a:lnTo>
                  <a:pt x="12405" y="8775"/>
                </a:lnTo>
                <a:lnTo>
                  <a:pt x="13925" y="8775"/>
                </a:lnTo>
                <a:arcTo wR="7716" hR="21600" stAng="-3850082" swAng="-1163663"/>
                <a:lnTo>
                  <a:pt x="10040" y="1003"/>
                </a:lnTo>
                <a:arcTo wR="7716" hR="21600" stAng="-5786255" swAng="-5013745"/>
                <a:close/>
              </a:path>
              <a:path fill="darkenLess" w="21600" h="21600">
                <a:moveTo>
                  <a:pt x="0" y="21600"/>
                </a:moveTo>
                <a:arcTo wR="7716" hR="21600" stAng="10800000" swAng="5400000"/>
                <a:lnTo>
                  <a:pt x="7716" y="0"/>
                </a:lnTo>
                <a:arcTo wR="7716" hR="21600" stAng="-5400000" swAng="386255"/>
                <a:lnTo>
                  <a:pt x="10040" y="1003"/>
                </a:lnTo>
                <a:arcTo wR="7716" hR="21600" stAng="-5786255" swAng="-501374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3333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рактика – неотъемлемая часть процесс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1547640" y="21600"/>
            <a:ext cx="759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УТВЕРЖДЕНИИ ПО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 ПРОИЗВОДСТВЕННОЙ (ПРОФЕССИОНАЛЬНОЙ) ПРАК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УДЕНТОВ, КУРСАНТОВ ОБРАЗОВАТЕЛЬ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332000" y="177048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актики студентов, осваивающих ОПОП являю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ая практика и производственная прак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ая практика включает этап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а по профилю специальности и преддипломная прак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2" descr="DSCN3516"/>
          <p:cNvPicPr/>
          <p:nvPr/>
        </p:nvPicPr>
        <p:blipFill>
          <a:blip r:embed="rId2"/>
          <a:stretch/>
        </p:blipFill>
        <p:spPr>
          <a:xfrm>
            <a:off x="6012000" y="4508640"/>
            <a:ext cx="2892240" cy="2168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PC053626"/>
          <p:cNvPicPr/>
          <p:nvPr/>
        </p:nvPicPr>
        <p:blipFill>
          <a:blip r:embed="rId3"/>
          <a:stretch/>
        </p:blipFill>
        <p:spPr>
          <a:xfrm>
            <a:off x="539640" y="3573360"/>
            <a:ext cx="2266920" cy="30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1547640" y="21600"/>
            <a:ext cx="759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УТВЕРЖДЕНИИ ПО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 ПРОИЗВОДСТВЕННОЙ (ПРОФЕССИОНАЛЬНОЙ) ПРАК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УДЕНТОВ, КУРСАНТОВ ОБРАЗОВАТЕЛЬ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916360" y="1844640"/>
            <a:ext cx="4392360" cy="792360"/>
          </a:xfrm>
          <a:prstGeom prst="hexagon">
            <a:avLst>
              <a:gd name="adj" fmla="val 138585"/>
              <a:gd name="vf" fmla="val 115470"/>
            </a:avLst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ю прак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476360" y="299736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877080" y="2997360"/>
            <a:ext cx="2089080" cy="720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одствен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135960" y="29966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лексное осво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427640" y="3573360"/>
            <a:ext cx="1511280" cy="57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427640" y="429264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427640" y="501336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427640" y="573408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2916360" y="2421000"/>
            <a:ext cx="50328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6732720" y="2421000"/>
            <a:ext cx="57600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2987640" y="3573360"/>
            <a:ext cx="1440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2987640" y="357336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2987640" y="3573360"/>
            <a:ext cx="1440000" cy="14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2987640" y="3573360"/>
            <a:ext cx="1440000" cy="216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9"/>
          <p:cNvSpPr/>
          <p:nvPr/>
        </p:nvSpPr>
        <p:spPr>
          <a:xfrm flipH="1" flipV="1">
            <a:off x="5940360" y="3573000"/>
            <a:ext cx="9367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5940360" y="3716280"/>
            <a:ext cx="1008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5940360" y="3716280"/>
            <a:ext cx="1008000" cy="12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1032"/>
          <p:cNvSpPr/>
          <p:nvPr/>
        </p:nvSpPr>
        <p:spPr>
          <a:xfrm flipH="1">
            <a:off x="3564000" y="2924280"/>
            <a:ext cx="287280" cy="21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34"/>
          <p:cNvSpPr/>
          <p:nvPr/>
        </p:nvSpPr>
        <p:spPr>
          <a:xfrm flipH="1">
            <a:off x="2484000" y="2997360"/>
            <a:ext cx="107964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35"/>
          <p:cNvSpPr/>
          <p:nvPr/>
        </p:nvSpPr>
        <p:spPr>
          <a:xfrm flipH="1">
            <a:off x="2987280" y="2997360"/>
            <a:ext cx="792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37"/>
          <p:cNvSpPr/>
          <p:nvPr/>
        </p:nvSpPr>
        <p:spPr>
          <a:xfrm flipH="1">
            <a:off x="2627280" y="3141720"/>
            <a:ext cx="144000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8"/>
          <p:cNvSpPr/>
          <p:nvPr/>
        </p:nvSpPr>
        <p:spPr>
          <a:xfrm>
            <a:off x="1619280" y="1989000"/>
            <a:ext cx="3887640" cy="16574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оответствие профи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сновной деяте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рганизации специа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учения студ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42"/>
          <p:cNvSpPr/>
          <p:nvPr/>
        </p:nvSpPr>
        <p:spPr>
          <a:xfrm>
            <a:off x="1619280" y="189000"/>
            <a:ext cx="7524720" cy="1009440"/>
          </a:xfrm>
          <a:prstGeom prst="hexagon">
            <a:avLst>
              <a:gd name="adj" fmla="val 186359"/>
              <a:gd name="vf" fmla="val 115470"/>
            </a:avLst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ритерии при выборе баз прак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46"/>
          <p:cNvSpPr/>
          <p:nvPr/>
        </p:nvSpPr>
        <p:spPr>
          <a:xfrm>
            <a:off x="4572000" y="3860640"/>
            <a:ext cx="0" cy="187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65"/>
          <p:cNvSpPr/>
          <p:nvPr/>
        </p:nvSpPr>
        <p:spPr>
          <a:xfrm>
            <a:off x="4284720" y="3500280"/>
            <a:ext cx="4680000" cy="863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учение квалифицирован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пециалист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66"/>
          <p:cNvSpPr/>
          <p:nvPr/>
        </p:nvSpPr>
        <p:spPr>
          <a:xfrm>
            <a:off x="1763640" y="4365720"/>
            <a:ext cx="4032360" cy="100800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снащенность орган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овременным оборудов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7"/>
          <p:cNvSpPr/>
          <p:nvPr/>
        </p:nvSpPr>
        <p:spPr>
          <a:xfrm>
            <a:off x="1835280" y="5516640"/>
            <a:ext cx="7129440" cy="1152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личие условий для приобретения навыков раб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 специальности и пол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валификационных разря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826920" y="5589720"/>
            <a:ext cx="760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 flipH="1">
            <a:off x="3564000" y="2924280"/>
            <a:ext cx="287280" cy="21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"/>
          <p:cNvSpPr/>
          <p:nvPr/>
        </p:nvSpPr>
        <p:spPr>
          <a:xfrm flipH="1">
            <a:off x="2484000" y="2997360"/>
            <a:ext cx="107964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2987280" y="2997360"/>
            <a:ext cx="792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2627280" y="3141720"/>
            <a:ext cx="144000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572000" y="3860640"/>
            <a:ext cx="0" cy="187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619280" y="189000"/>
            <a:ext cx="7129440" cy="1152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личие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словий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для приобретения навыков раб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 специальности и пол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валификационных разря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7451640" y="692280"/>
            <a:ext cx="14400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1692360" y="2060640"/>
            <a:ext cx="5689440" cy="1655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рок прохождения практики (1 недел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 ПО, 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692360" y="3860640"/>
            <a:ext cx="6624720" cy="2808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ой бухгалте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ого агентства недвиж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ебного магазина и скл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ребования ФГОС, прохождение прак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476360" y="26794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547640" y="1844640"/>
            <a:ext cx="31687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редприят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796000" y="1844640"/>
            <a:ext cx="31687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У СПО НТЭ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96000" y="2492280"/>
            <a:ext cx="316872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Учебная бухгалте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Агентство недвиж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Мастер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476360" y="2492280"/>
            <a:ext cx="3382920" cy="165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Климат Контрол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Торговый дизай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Буржуа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ОМС - Новокузнецк» 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348000" y="5084640"/>
            <a:ext cx="374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ый  спос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203640" y="6093000"/>
            <a:ext cx="410364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 + ГОУ СПО НТЭ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059280" y="22766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7451640" y="220500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619280" y="40464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лассификация практики по месту прохожд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692360" y="549360"/>
            <a:ext cx="74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476360" y="26794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676600" y="0"/>
            <a:ext cx="482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619280" y="1197000"/>
            <a:ext cx="7524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5:33:45Z</dcterms:created>
  <dc:creator>Перескокова</dc:creator>
  <dc:description/>
  <dc:language>en-US</dc:language>
  <cp:lastModifiedBy>User</cp:lastModifiedBy>
  <dcterms:modified xsi:type="dcterms:W3CDTF">2014-02-04T11:16:31Z</dcterms:modified>
  <cp:revision>72</cp:revision>
  <dc:subject/>
  <dc:title>Презентация PowerPoint</dc:title>
</cp:coreProperties>
</file>