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9824-1215-4E1C-99FF-EA067874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3EB-8EC3-4144-87AC-2E6B902C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90D9-28EC-4F9A-9C8B-ABAFEB93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CA37-4649-4D0B-A548-42CC6F79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6CE6-8DFD-45C9-8154-3CA51F850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DB5F-AA02-4EED-8C95-D2BA7C97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F7A1-901C-4BA8-A884-1AA0941D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39FC-C84E-4670-8760-D5CF112C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57E-5147-4DF0-9119-357F2DEA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C57D-0544-492C-B9E7-E2647544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B0C6-6E25-4B51-B5E7-7ED4DBD1B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B6F-925E-4032-ADBF-F8FD86602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213-C2CE-4C2C-8067-2585E5D7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35CDB-63CF-4078-89C9-1D58DAB7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B2E-956B-4901-BD87-86D0C1D3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470E-E6E7-4EE2-84E1-A749D2CB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C489-3ED4-480D-9069-7FFBD987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90D-C5DE-4F3C-B907-28F33DCE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27CB-23C5-43B2-BB7D-7BC26BA8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888-C306-44C6-816C-E4466065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8291-A449-46C2-ABF2-D23C54EB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998-6196-4CA0-AF74-4E28D57C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A84-7DF5-45DC-B037-8A100B4E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D490-6CCF-4E6E-9DEF-8B386D58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4A79-3CF9-44FE-9426-13431E96572E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CAE8-14DE-4929-9B49-081550B4239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6"/>
          <p:cNvSpPr/>
          <p:nvPr/>
        </p:nvSpPr>
        <p:spPr>
          <a:xfrm>
            <a:off x="1697040" y="2680560"/>
            <a:ext cx="693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Создание УМ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учебной и производственной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ракти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19280" y="0"/>
            <a:ext cx="75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ГОУ СП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Новокузнец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торгово-экономический технику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69236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766764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5"/>
          <p:cNvSpPr/>
          <p:nvPr/>
        </p:nvSpPr>
        <p:spPr>
          <a:xfrm>
            <a:off x="1258920" y="1989000"/>
            <a:ext cx="7489800" cy="2880000"/>
          </a:xfrm>
          <a:prstGeom prst="wedgeEllipseCallout">
            <a:avLst>
              <a:gd name="adj1" fmla="val -53814"/>
              <a:gd name="adj2" fmla="val 11598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Удачи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Успехов 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   </a:t>
            </a:r>
            <a:r>
              <a:rPr b="0" i="1" lang="ru-RU" sz="4800" spc="-1" strike="noStrike">
                <a:solidFill>
                  <a:srgbClr val="800000"/>
                </a:solidFill>
                <a:latin typeface="Times New Roman"/>
              </a:rPr>
              <a:t>Достижений 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755640" y="47628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Oval 2"/>
          <p:cNvSpPr/>
          <p:nvPr/>
        </p:nvSpPr>
        <p:spPr>
          <a:xfrm>
            <a:off x="1403280" y="2708280"/>
            <a:ext cx="2448000" cy="172728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ебования ФГ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 7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3708360" y="2637000"/>
            <a:ext cx="5435640" cy="338436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ка является обязательны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делом ОПО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а представляет собой вид учебных заняти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еспечивающих практико-ориентированну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ку обучающихс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2050920" y="1916280"/>
            <a:ext cx="6481800" cy="720720"/>
          </a:xfrm>
          <a:custGeom>
            <a:avLst/>
            <a:gdLst>
              <a:gd name="textAreaLeft" fmla="*/ 1157760 w 6481800"/>
              <a:gd name="textAreaRight" fmla="*/ 4867920 w 6481800"/>
              <a:gd name="textAreaTop" fmla="*/ 96480 h 720720"/>
              <a:gd name="textAreaBottom" fmla="*/ 624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16" hR="21600" stAng="10800000" swAng="5400000"/>
                <a:lnTo>
                  <a:pt x="12364" y="0"/>
                </a:lnTo>
                <a:arcTo wR="7716" hR="21600" stAng="-5400000" swAng="1549918"/>
                <a:lnTo>
                  <a:pt x="20093" y="8775"/>
                </a:lnTo>
                <a:lnTo>
                  <a:pt x="17756" y="21600"/>
                </a:lnTo>
                <a:lnTo>
                  <a:pt x="12405" y="8775"/>
                </a:lnTo>
                <a:lnTo>
                  <a:pt x="13925" y="8775"/>
                </a:lnTo>
                <a:arcTo wR="7716" hR="21600" stAng="-3850082" swAng="-1163663"/>
                <a:lnTo>
                  <a:pt x="10040" y="1003"/>
                </a:lnTo>
                <a:arcTo wR="7716" hR="21600" stAng="-5786255" swAng="-5013745"/>
                <a:close/>
              </a:path>
              <a:path fill="darkenLess" w="21600" h="21600">
                <a:moveTo>
                  <a:pt x="0" y="21600"/>
                </a:moveTo>
                <a:arcTo wR="7716" hR="21600" stAng="10800000" swAng="5400000"/>
                <a:lnTo>
                  <a:pt x="7716" y="0"/>
                </a:lnTo>
                <a:arcTo wR="7716" hR="21600" stAng="-5400000" swAng="386255"/>
                <a:lnTo>
                  <a:pt x="10040" y="1003"/>
                </a:lnTo>
                <a:arcTo wR="7716" hR="21600" stAng="-5786255" swAng="-501374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33336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Практика – неотъемлемая часть процесса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1547640" y="21600"/>
            <a:ext cx="759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УТВЕРЖДЕНИИ 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 ПРОИЗВОДСТВЕННОЙ (ПРОФЕССИОНАЛЬНОЙ) ПРАК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УДЕНТОВ, КУРСАНТОВ 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1332000" y="1770480"/>
            <a:ext cx="781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актики студентов, осваивающих ОПОП являются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ая практика и производственная пр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зводственная практика включает этапы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ктика по профилю специальности и преддипломная практ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12" descr="DSCN3516"/>
          <p:cNvPicPr/>
          <p:nvPr/>
        </p:nvPicPr>
        <p:blipFill>
          <a:blip r:embed="rId2"/>
          <a:stretch/>
        </p:blipFill>
        <p:spPr>
          <a:xfrm>
            <a:off x="6012000" y="4508640"/>
            <a:ext cx="2892240" cy="2168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PC053626"/>
          <p:cNvPicPr/>
          <p:nvPr/>
        </p:nvPicPr>
        <p:blipFill>
          <a:blip r:embed="rId3"/>
          <a:stretch/>
        </p:blipFill>
        <p:spPr>
          <a:xfrm>
            <a:off x="539640" y="3573360"/>
            <a:ext cx="2266920" cy="302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3"/>
          <p:cNvSpPr/>
          <p:nvPr/>
        </p:nvSpPr>
        <p:spPr>
          <a:xfrm>
            <a:off x="1547640" y="21600"/>
            <a:ext cx="7596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ОССИЙСКОЙ ФЕДЕР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 УТВЕРЖДЕНИИ ПО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 ПРОИЗВОДСТВЕННОЙ (ПРОФЕССИОНАЛЬНОЙ) ПРАК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УДЕНТОВ, КУРСАНТОВ ОБРАЗОВАТЕЛЬНЫХ УЧРЕЖД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РЕДНЕГО ПРОФЕССИОН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2916360" y="1844640"/>
            <a:ext cx="4392360" cy="792360"/>
          </a:xfrm>
          <a:prstGeom prst="hexagon">
            <a:avLst>
              <a:gd name="adj" fmla="val 138585"/>
              <a:gd name="vf" fmla="val 115470"/>
            </a:avLst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лью прак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476360" y="299736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б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6877080" y="2997360"/>
            <a:ext cx="2089080" cy="7207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енн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135960" y="29966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плексное освое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427640" y="3573360"/>
            <a:ext cx="1511280" cy="57492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427640" y="429264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427640" y="501336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4427640" y="5734080"/>
            <a:ext cx="1511280" cy="5745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H="1">
            <a:off x="2916360" y="2421000"/>
            <a:ext cx="50328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6732720" y="2421000"/>
            <a:ext cx="576000" cy="503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5"/>
          <p:cNvSpPr/>
          <p:nvPr/>
        </p:nvSpPr>
        <p:spPr>
          <a:xfrm>
            <a:off x="2987640" y="3573360"/>
            <a:ext cx="144000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2987640" y="3573360"/>
            <a:ext cx="1440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2987640" y="3573360"/>
            <a:ext cx="1440000" cy="14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8"/>
          <p:cNvSpPr/>
          <p:nvPr/>
        </p:nvSpPr>
        <p:spPr>
          <a:xfrm>
            <a:off x="2987640" y="3573360"/>
            <a:ext cx="1440000" cy="216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9"/>
          <p:cNvSpPr/>
          <p:nvPr/>
        </p:nvSpPr>
        <p:spPr>
          <a:xfrm flipH="1" flipV="1">
            <a:off x="5940360" y="3573000"/>
            <a:ext cx="9367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5940360" y="3716280"/>
            <a:ext cx="1008000" cy="576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1"/>
          <p:cNvSpPr/>
          <p:nvPr/>
        </p:nvSpPr>
        <p:spPr>
          <a:xfrm flipH="1">
            <a:off x="5940360" y="3716280"/>
            <a:ext cx="1008000" cy="1225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Line 1032"/>
          <p:cNvSpPr/>
          <p:nvPr/>
        </p:nvSpPr>
        <p:spPr>
          <a:xfrm flipH="1">
            <a:off x="3564000" y="2924280"/>
            <a:ext cx="287280" cy="21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034"/>
          <p:cNvSpPr/>
          <p:nvPr/>
        </p:nvSpPr>
        <p:spPr>
          <a:xfrm flipH="1">
            <a:off x="2484000" y="2997360"/>
            <a:ext cx="107964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035"/>
          <p:cNvSpPr/>
          <p:nvPr/>
        </p:nvSpPr>
        <p:spPr>
          <a:xfrm flipH="1">
            <a:off x="2987280" y="2997360"/>
            <a:ext cx="792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37"/>
          <p:cNvSpPr/>
          <p:nvPr/>
        </p:nvSpPr>
        <p:spPr>
          <a:xfrm flipH="1">
            <a:off x="2627280" y="3141720"/>
            <a:ext cx="144000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038"/>
          <p:cNvSpPr/>
          <p:nvPr/>
        </p:nvSpPr>
        <p:spPr>
          <a:xfrm>
            <a:off x="1619280" y="1989000"/>
            <a:ext cx="3887640" cy="16574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оответствие профи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сновной деяте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рганизации специаль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учения студен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42"/>
          <p:cNvSpPr/>
          <p:nvPr/>
        </p:nvSpPr>
        <p:spPr>
          <a:xfrm>
            <a:off x="1619280" y="189000"/>
            <a:ext cx="7524720" cy="1009440"/>
          </a:xfrm>
          <a:prstGeom prst="hexagon">
            <a:avLst>
              <a:gd name="adj" fmla="val 186359"/>
              <a:gd name="vf" fmla="val 115470"/>
            </a:avLst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итерии при выборе баз прак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46"/>
          <p:cNvSpPr/>
          <p:nvPr/>
        </p:nvSpPr>
        <p:spPr>
          <a:xfrm>
            <a:off x="4572000" y="3860640"/>
            <a:ext cx="0" cy="187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065"/>
          <p:cNvSpPr/>
          <p:nvPr/>
        </p:nvSpPr>
        <p:spPr>
          <a:xfrm>
            <a:off x="4284720" y="3500280"/>
            <a:ext cx="4680000" cy="863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бучение квалифицированны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пециалистам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066"/>
          <p:cNvSpPr/>
          <p:nvPr/>
        </p:nvSpPr>
        <p:spPr>
          <a:xfrm>
            <a:off x="1763640" y="4365720"/>
            <a:ext cx="4032360" cy="100800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оснащенность организа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современным оборудов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067"/>
          <p:cNvSpPr/>
          <p:nvPr/>
        </p:nvSpPr>
        <p:spPr>
          <a:xfrm>
            <a:off x="1835280" y="5516640"/>
            <a:ext cx="7129440" cy="1152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личие условий для приобретения навыков раб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 специальности и пол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валификационных разря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826920" y="5589720"/>
            <a:ext cx="7606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aphicFrame>
        <p:nvGraphicFramePr>
          <p:cNvPr id="158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 flipH="1">
            <a:off x="3564000" y="2924280"/>
            <a:ext cx="287280" cy="21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3"/>
          <p:cNvSpPr/>
          <p:nvPr/>
        </p:nvSpPr>
        <p:spPr>
          <a:xfrm flipH="1">
            <a:off x="2484000" y="2997360"/>
            <a:ext cx="107964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4"/>
          <p:cNvSpPr/>
          <p:nvPr/>
        </p:nvSpPr>
        <p:spPr>
          <a:xfrm flipH="1">
            <a:off x="2987280" y="2997360"/>
            <a:ext cx="792360" cy="1152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5"/>
          <p:cNvSpPr/>
          <p:nvPr/>
        </p:nvSpPr>
        <p:spPr>
          <a:xfrm flipH="1">
            <a:off x="2627280" y="3141720"/>
            <a:ext cx="144000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4572000" y="3860640"/>
            <a:ext cx="0" cy="1873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619280" y="189000"/>
            <a:ext cx="7129440" cy="1152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аличие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словий</a:t>
            </a: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 для приобретения навыков раб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по специальности и получ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квалификационных разряд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8"/>
          <p:cNvSpPr txBox="1"/>
          <p:nvPr/>
        </p:nvSpPr>
        <p:spPr>
          <a:xfrm>
            <a:off x="7451640" y="692280"/>
            <a:ext cx="1440000" cy="17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6505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!!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7" name="Rectangle 15"/>
          <p:cNvSpPr/>
          <p:nvPr/>
        </p:nvSpPr>
        <p:spPr>
          <a:xfrm>
            <a:off x="1692360" y="2060640"/>
            <a:ext cx="5689440" cy="165564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обл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Срок прохождения практики (1 недел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формирование  ПО, 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1692360" y="3860640"/>
            <a:ext cx="6624720" cy="2808360"/>
          </a:xfrm>
          <a:prstGeom prst="rect">
            <a:avLst/>
          </a:prstGeom>
          <a:solidFill>
            <a:srgbClr val="ffcc66"/>
          </a:solidFill>
          <a:ln cap="sq" w="12600">
            <a:solidFill>
              <a:srgbClr val="cc6600"/>
            </a:solidFill>
            <a:miter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й бухгалте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ебного агентства недвижем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ебного магазина и скл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ребования ФГОС, прохождение практ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547640" y="1844640"/>
            <a:ext cx="3168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предприятия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796000" y="1844640"/>
            <a:ext cx="3168720" cy="4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ГОУ СПО НТЭ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5796000" y="2492280"/>
            <a:ext cx="316872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Учебная бухгалтер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Агентство недвижим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Мастерск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1476360" y="2492280"/>
            <a:ext cx="3382920" cy="1657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Климат Контрол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Торговый дизайн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Буржуа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ООО «ОМС - Новокузнецк»  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3348000" y="5084640"/>
            <a:ext cx="3745080" cy="576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бинированный  спос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203640" y="6093000"/>
            <a:ext cx="4103640" cy="43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я + ГОУ СПО НТЭ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5219640" y="5661000"/>
            <a:ext cx="0" cy="43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059280" y="227664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7451640" y="2205000"/>
            <a:ext cx="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1"/>
          <p:cNvSpPr/>
          <p:nvPr/>
        </p:nvSpPr>
        <p:spPr>
          <a:xfrm>
            <a:off x="1619280" y="404640"/>
            <a:ext cx="75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лассификация практики по месту прохожде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1692360" y="549360"/>
            <a:ext cx="745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476360" y="267948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676600" y="0"/>
            <a:ext cx="482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8"/>
          <p:cNvGraphicFramePr/>
          <p:nvPr/>
        </p:nvGraphicFramePr>
        <p:xfrm>
          <a:off x="0" y="0"/>
          <a:ext cx="1646280" cy="177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646280" cy="17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1619280" y="1197000"/>
            <a:ext cx="7524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4T05:33:45Z</dcterms:created>
  <dc:creator>Перескокова</dc:creator>
  <dc:description/>
  <dc:language>en-US</dc:language>
  <cp:lastModifiedBy>User</cp:lastModifiedBy>
  <dcterms:modified xsi:type="dcterms:W3CDTF">2014-02-04T11:16:31Z</dcterms:modified>
  <cp:revision>72</cp:revision>
  <dc:subject/>
  <dc:title>Презентация PowerPoint</dc:title>
</cp:coreProperties>
</file>